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743-852C-4ED0-9ADC-FC8010F9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342-C22F-462D-B24C-922DA3DD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15A56-3B58-48FE-9147-E88D660C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7A4D7-C2AF-4884-984A-8F2F60BA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D3D96-1B01-4698-A8A3-C44C536C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9AD1E-9597-4F23-8DDF-C353102E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AF0A5-77F8-480A-AA8A-25638EE5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EC1BC-52FD-4E33-9B67-2248783B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F43B8-E0C7-40FE-A752-D4CE04A1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F295F-AA26-490A-846A-4181B03D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A47AB-2210-41A4-B1EC-2C6DF8EB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AC7DC-44E0-442D-BEB6-55FE42C7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D33-87AB-44A2-9DCD-45491DBC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487AF-0E80-49F3-8847-8B3ACFCA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90283-DF30-4529-A227-6CD9041E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CCC75-C2DF-4067-A697-0CEEF510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DE413-B514-4F6E-AE7A-1974C37E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CF980-254B-4D7F-B44C-8058476F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6CF6A-A17E-4213-B539-DF4735F1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DDE9C-B634-41EE-816D-2FF8896F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41FEF-8C0C-4F08-8E6C-7F5B14DA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4630A-F390-40F9-A823-350895E6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36327-4608-46E2-8F1F-7F310BCA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F40-505C-42E8-B756-FA024C49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B59A9-7369-4257-A1DF-46072582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470DB-89D4-4BB7-8754-6BFAAD5A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E4F58-7DD2-4F06-AAEB-9D7A6443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3C867-E9CB-4A5D-9EDB-ED119E16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8B04F-873E-49F6-916C-665B19B3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91278-37FE-43C5-BD24-6C124A64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046DB-7AB7-455A-B463-A8490310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829BE-345E-4539-AABD-FF50647D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440F7-B26B-405D-B3BC-EC486CBD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87D65-D047-4CAE-8767-D51700DC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FB10-CAD1-4EAD-A8B1-6BF34F9B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9C19B-25F7-4EAD-82F5-15A056C5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76648-F897-483D-978E-4BADDF2A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B2CF3-749A-4EB2-BDCA-25E3953F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58B43-9D2E-481D-B208-BF093ED4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0324B-80A1-4AE0-9E01-D08EB65B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06CF1-D337-47C8-BD41-ABE9E5CF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8C777-4BFB-4672-ADF3-F9C6528D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73080-E081-4A71-9655-C4D88084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33A9B-E05E-483B-9690-642ABA4E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12F90-5B7C-4E96-91B6-797CCAF0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1CE8-EA44-44B6-9D0C-D5BD9261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79955-51E7-429C-96AD-F4E0FBB2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34763-0F47-4873-AACC-EB7B2D8F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381FC6-7229-4C1F-85A6-FA86F49A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C2C3E-DC17-4899-9BF1-2F60E70E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3E540-EB7C-4131-B970-CEDF5382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77CBA-B8EB-4EE1-998D-84C0E256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EC725-D177-42FC-8B4A-7DE15ED7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EE62E-3BA4-49EC-8A2A-2C4A35E5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03859-53FC-4CAE-B4C5-23E41ED8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699E1-BCD3-4C09-B2F6-67ED0E9B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8355-F635-423E-BE3D-5D57CAB4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E182E-701A-48EF-9116-9E86F6F9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AA820-3F85-4BD1-B5EF-537556CD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411503-957D-4E36-ABF7-EEA77E04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9F967-0EBA-432F-8748-408AEB5C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E2F86-C0A5-438A-8E53-DCD1F09A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2C207-A2A8-4816-85E9-616D1736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C0567-E01D-434C-AC7E-60C86AEE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5481B6-B096-497D-903C-C9C5A44C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9F0F7B-29BD-4344-B8F1-98EA770C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A6DF3-F562-4736-8306-297D4FFE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149F-4147-4485-A180-D1BB79AA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D0E3FF-ED39-4225-8B61-5C279E72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6E5682-0CD6-4D86-8C7D-EDE23BF4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A8D653-5F8C-436A-8F37-1037C01E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FF909-BB53-4854-A919-B5E12F16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5EFC3-CB57-4ADF-91A6-C108FBA6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D4466-D4C5-4CAF-8325-A2C4FA04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ECDEDE-1C98-42EF-9FEA-651E2810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B9566-A47B-47DC-BCCE-E3A4090A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11206-BEE9-4335-BD78-FE7646BA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76490-86F8-4C45-9BFD-B5D3C0AC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3EEB-7C71-4937-8B61-B4316DFA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0CCB81-4FB2-4954-82AA-53E57919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842EB-CDE4-4FFE-9F05-F91F43F7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5BF717-D795-46CE-AF04-3F58E02C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2F7240-90A1-4CC4-BE4E-10956BA8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6003A9-E237-43E7-B0DC-3B960ACA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AF6A2B-77FC-4EB9-8F22-4D0924B1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B6DF9-034D-4A6F-8091-54C6A0B1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F35B85-7DE5-4AA3-A71E-3141D2D8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3A8062-FE3A-4D35-9EC5-FCBFCEFB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3EDA2-BA95-467A-A1CF-0DE09325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4535-B8D1-4458-A19E-C8179904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77E7DF-1A42-42FA-8027-958BF531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A8A7-38CE-40B1-A693-1F7002B9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C1F-584E-4889-951D-C0A08792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051B-3C47-44CA-AA8B-13753257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FD71-20AC-4A7C-BF78-6325AB76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186A-EB3D-4643-9FBF-231CDA21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897E-EAE9-48E7-8FBC-22F84E30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EC7A-A584-4DA0-B5DE-8E3073D0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914DC-D6E4-498D-8397-CA242E8B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EDC62-B20C-4805-9A19-1BE45408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32FB-A64B-43B5-88A5-B6ECC454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1F68C-06C8-46DF-BD3F-396A6231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7627-FF7B-400D-8A8F-3A74B787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0D7-AFD9-47F3-99B3-89301E52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E5589-556F-464C-89BC-C6C69810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E94A5-F580-4481-B360-2116C448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9999D-1BEF-4AAD-AB57-5B743100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35AB2-3349-4A89-B6A2-80EE925E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07A9-125F-47F6-9DD4-DA146EA7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440E8-243A-4A7E-90DC-5186079B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875F3-FA06-46DB-AE4C-CAD4E92E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6D676-A804-48E0-8FE6-5438B001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40C3F-E140-4308-9581-7669397D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75A02-F917-4B2C-9A0E-07709820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0929-A25D-4976-A1D2-36B8A274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58C8B-FE83-4EBF-8EEB-4CF21D5D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270A0-B781-470C-9D96-34F3D636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B039C-0F54-41C1-854E-3F6F39C9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E2646-033F-431C-9983-8B8E87FE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53B36-D4D1-4A6E-85CD-B33B5A07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C4C21-0813-49D8-8347-9539B8B3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B1665-A4B2-4741-AB89-D6E95A8F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F74B8-C6ED-4634-B2C6-FD4D8FEC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E1FD4-127F-4548-A0A0-A82F06B7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1FD9A-C606-40CC-9B69-47E144A9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2FE-E5DE-4142-97BB-5E5605AD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29868-5C6E-45A6-9F25-85A973D1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ADA35-4978-4F17-926E-C6E062B4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1D963-5BB2-417E-B053-F3ADF0A2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BEE33-42BA-494C-A1ED-B2444C86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B5C67-47E7-48FB-B4FB-7766DFC7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0B78D-00ED-48DA-A9A3-59191719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3AE5C-562C-45EC-8E32-B67CD8D8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04EA5-FC82-47C8-8A62-6CF134D0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70CC6-D0AC-4641-A6E4-9A38D421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06940-6D35-4244-BEF2-64996835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D65-73A3-411B-8844-09CEDCC9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AC2A9-379A-4A5D-AF94-E47EB237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B1BB9-615E-4F06-8C5E-3EDF946C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C4088-4DF7-4620-A6E4-3ACEB392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14BC4-D10B-4DD0-90FC-46B3CC9C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A5A77-0A71-49E4-A3F1-C89EFE5E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47F54-6E40-46A4-9140-62EE466F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FFAFF-A932-4BCB-9B87-54C9BA24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A5C2A-041B-4F67-84E3-D563BFDD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03FFD-FF87-4C72-B36F-A459925A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48321-1EA5-4293-ACC9-67945167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618B-5DF1-4B0E-A556-1D8AE8DF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DB64C-365E-4CCB-924D-F98C0366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83A0C-6A51-4DC2-8C9A-F98EA333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D5453-D6F3-4863-A401-8A9F7CCC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B0CE6-0F18-4899-8C59-B05BE9F9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93517-CDE5-46D0-80E1-2BA41837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EB237-A337-42B0-91A9-FF4826FB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85F06-AD50-4D58-9855-007E5884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11553-FAA2-4364-A87F-CABDF72D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4DB4D-9883-4B96-9B5E-DB4B0F77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1BB35-E557-4006-A3E0-221F65AD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FE8-F939-4134-9B51-2C99F883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90FE5-D443-4412-9174-D3969ADD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30FF1-A065-41FF-AFA6-39B1EF47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1943A-71C4-42A2-8412-AC7B3755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B2E00-458A-4938-B05F-F37A7EDE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47FCE-8C9C-4CD2-9C89-918B22F0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3C7FB-5C4A-40A9-91E5-66E512CF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65ED2-9980-465F-8389-818AC0AD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BB64E-418C-484B-B04A-878D51A8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D1F63-918C-42B3-87AB-1ABB55C2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3838B-86FF-4139-A2B8-1228074A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EE6B-3AD2-4AFC-B09F-0C5CF128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AA71B-E13A-4729-9BF3-86DAAF3A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023CA-A514-4EC6-B982-FEDD9104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52E33-0CCE-4E36-A195-1A31FB8C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883BF-65EB-40B5-AD6C-B17907BB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248D4-9AE8-46C7-AC9C-FBFA21E0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227C4-720B-4DAD-8486-D7E358F3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7980A-7B33-4512-B054-0821B32E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1BF17-1FD6-4B58-9B79-8AA7F382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DD1E4-6082-4A94-B276-66F812CC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B0FFA-6296-44D8-A4E4-1D366D9F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D6BD-5376-4FD9-B63E-0EBE1274A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3AD4-B7E4-448E-86E5-51E9FCD9A2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9083-667D-4FD7-820D-64C2055A20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BA61-96D4-4F39-9E27-048B2BD6F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592B-6203-4130-BBAC-58D7F634A6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2342-A9D7-40D2-A3DE-1925102B7B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1487-A510-4635-9209-A2B5D324E3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48DE-2348-48D8-83EA-F5EBB22AC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68CE-4FD0-4946-9D14-01855E1A94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1D19-0452-48C3-8806-E2EC98CA56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6369-8123-4EBD-8465-DEDB713EA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404A-7DE8-4EFE-AAC2-4BCAE6163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8946-9AA1-43F7-A72C-39AABCBCF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EC00-4604-4659-9204-5C1C94557C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d6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A350-5154-433D-99E8-4CCE508698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униципальное автономное образовательное учреждение Дополнительно образования                                                                         «Детско-юношеская спортивная школа» Еравнинского района                                                                          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Исследователь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«</a:t>
            </a:r>
            <a:r>
              <a:rPr b="1" lang="ru-RU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ОЦЕНКА ФИЗИЧЕСКОЙ ПОДГОТОВЛЕННОСТИ УЧАЩИХСЯ</a:t>
            </a:r>
            <a:r>
              <a:rPr b="1" lang="ru-RU" sz="3200" spc="-1" strike="noStrike">
                <a:solidFill>
                  <a:srgbClr val="9900cc"/>
                </a:solidFill>
                <a:latin typeface="Monotype Corsiv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Monotype Corsiva"/>
              </a:rPr>
              <a:t>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Monotype Corsiva"/>
              </a:rPr>
              <a:t>                                               </a:t>
            </a: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Выполнила: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                                                                                         </a:t>
            </a: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Цыбикова Аяна  11 «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                                                                             </a:t>
            </a: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Руководитель: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                                                                              </a:t>
            </a: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Цыбикова В.А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Monotype Corsiva"/>
              </a:rPr>
              <a:t>с. Сосново-Озёрское                                                                                              2020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-4294080" y="-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8" name="Picture 9" descr="PE00555_"/>
          <p:cNvPicPr/>
          <p:nvPr/>
        </p:nvPicPr>
        <p:blipFill>
          <a:blip r:embed="rId1"/>
          <a:stretch/>
        </p:blipFill>
        <p:spPr>
          <a:xfrm>
            <a:off x="520560" y="4005360"/>
            <a:ext cx="2592360" cy="23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79280" y="55080"/>
            <a:ext cx="3276720" cy="1816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центный показатель учащихся 8-9 лет, занимающихся в группе аэробики, получившие определённые уровни двигательной подготовленности по всем физическим качествам.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0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149400" y="1622520"/>
          <a:ext cx="3384360" cy="1574640"/>
        </p:xfrm>
        <a:graphic>
          <a:graphicData uri="http://schemas.openxmlformats.org/drawingml/2006/table">
            <a:tbl>
              <a:tblPr/>
              <a:tblGrid>
                <a:gridCol w="528480"/>
                <a:gridCol w="536400"/>
                <a:gridCol w="625680"/>
                <a:gridCol w="542880"/>
                <a:gridCol w="582480"/>
                <a:gridCol w="568440"/>
              </a:tblGrid>
              <a:tr h="734760">
                <a:tc gridSpan="6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ровни двигательной подготовленности по всем физическим каче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нтябрь 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Апрель 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451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1560" marR="615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sp>
        <p:nvSpPr>
          <p:cNvPr id="703" name="Прямоугольник 1"/>
          <p:cNvSpPr/>
          <p:nvPr/>
        </p:nvSpPr>
        <p:spPr>
          <a:xfrm>
            <a:off x="149400" y="3284640"/>
            <a:ext cx="3097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центный показатель учащихся 8-9 лет, занимающихся в группе аэробики, получившие определённые уровни двигательной подготовленности по всем физическим качествам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704" name="Object 3"/>
          <p:cNvGraphicFramePr/>
          <p:nvPr/>
        </p:nvGraphicFramePr>
        <p:xfrm>
          <a:off x="-209520" y="4621320"/>
          <a:ext cx="4562280" cy="234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9520" y="4621320"/>
                    <a:ext cx="4562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Rectangle 2"/>
          <p:cNvSpPr/>
          <p:nvPr/>
        </p:nvSpPr>
        <p:spPr>
          <a:xfrm>
            <a:off x="4356000" y="104760"/>
            <a:ext cx="421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веденное тестирование физических качеств позволило мне сделать следующие выводы: 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7" name="Прямоугольник 2"/>
          <p:cNvSpPr/>
          <p:nvPr/>
        </p:nvSpPr>
        <p:spPr>
          <a:xfrm>
            <a:off x="4356000" y="1052640"/>
            <a:ext cx="4572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нализ полученных данных показал, что у девочек показатели тестирования физических качеств увеличиваются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2. Рост показателей тестирования физических качеств обусловлен тем, что:                                                                                                                                       1. Девочки занимались в группе аэробики регулярно 3 раза в неделю по 2 часа.                                                                                                                                                        2. Выполняли все упражнения по общей физической подготовке.                                                  3. Выполняли упражнения строго дозировано.                                                                                         4. На период исследования придерживались режима дня.                                                    5. Правильно питались. В рацион питания входили овощи, фрукты, молочные продукты, орехи, мёд.                                                                                                                          6. Принимали поливитамины «Ревит», «Алфавит».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Моя гипотеза подтвердилась. Действительно, занимаясь регулярно аэробикой, улучшились показатели тестирования физических качеств, следовательно, улучшилась физическая подготовленность девочек,</a:t>
            </a: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улучшилась техника упражнений,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ысился качественный показатель результативности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918216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меня 2 спортивный разряд по фитнес-аэробике, 1 спортивный разряд по спортивной аэробике. Золотой значок ГТО 4, Золотой значок 5 ступени.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Чемпионы Республики Бурятия, СФО г.Красноярск, ДФО Приморского края г.Владивосток, Забайкальского края г. Чита  по спортивной аэробике 2017, 2018, 2019 год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77360" y="5823000"/>
            <a:ext cx="22575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ат СФО г.Красноярск 2017 год 3 мес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одзаголовок 2"/>
          <p:cNvSpPr/>
          <p:nvPr/>
        </p:nvSpPr>
        <p:spPr>
          <a:xfrm>
            <a:off x="652320" y="3079800"/>
            <a:ext cx="199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танцевальная гимнастика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1" name="Рисунок 6" descr=""/>
          <p:cNvPicPr/>
          <p:nvPr/>
        </p:nvPicPr>
        <p:blipFill>
          <a:blip r:embed="rId1"/>
          <a:stretch/>
        </p:blipFill>
        <p:spPr>
          <a:xfrm>
            <a:off x="3274920" y="1155600"/>
            <a:ext cx="2414520" cy="1768680"/>
          </a:xfrm>
          <a:prstGeom prst="rect">
            <a:avLst/>
          </a:prstGeom>
          <a:ln w="0">
            <a:noFill/>
          </a:ln>
        </p:spPr>
      </p:pic>
      <p:sp>
        <p:nvSpPr>
          <p:cNvPr id="712" name="Подзаголовок 2"/>
          <p:cNvSpPr/>
          <p:nvPr/>
        </p:nvSpPr>
        <p:spPr>
          <a:xfrm>
            <a:off x="3246480" y="3067200"/>
            <a:ext cx="25430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ат Республики Бурятия г.Улан-Удэ 2017 год. 1 место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3" name="Рисунок 8" descr=""/>
          <p:cNvPicPr/>
          <p:nvPr/>
        </p:nvPicPr>
        <p:blipFill>
          <a:blip r:embed="rId2"/>
          <a:stretch/>
        </p:blipFill>
        <p:spPr>
          <a:xfrm>
            <a:off x="6270480" y="1160640"/>
            <a:ext cx="2603520" cy="19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4" name="Подзаголовок 2"/>
          <p:cNvSpPr/>
          <p:nvPr/>
        </p:nvSpPr>
        <p:spPr>
          <a:xfrm>
            <a:off x="6381720" y="3124080"/>
            <a:ext cx="2500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ат Республики Бурятия г.Улан-Удэ 2017-2019 год. 1 место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5" name="Рисунок 12" descr=""/>
          <p:cNvPicPr/>
          <p:nvPr/>
        </p:nvPicPr>
        <p:blipFill>
          <a:blip r:embed="rId3"/>
          <a:stretch/>
        </p:blipFill>
        <p:spPr>
          <a:xfrm>
            <a:off x="3241800" y="3794040"/>
            <a:ext cx="2697120" cy="202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6" name="Прямоугольник 14"/>
          <p:cNvSpPr/>
          <p:nvPr/>
        </p:nvSpPr>
        <p:spPr>
          <a:xfrm>
            <a:off x="3635280" y="5935680"/>
            <a:ext cx="246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ат ДФО                                           г. Владивосток 2019 год. 1 место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7" name="Рисунок 15" descr=""/>
          <p:cNvPicPr/>
          <p:nvPr/>
        </p:nvPicPr>
        <p:blipFill>
          <a:blip r:embed="rId4"/>
          <a:stretch/>
        </p:blipFill>
        <p:spPr>
          <a:xfrm>
            <a:off x="7175520" y="3670200"/>
            <a:ext cx="1679400" cy="21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8" name="Прямоугольник 16"/>
          <p:cNvSpPr/>
          <p:nvPr/>
        </p:nvSpPr>
        <p:spPr>
          <a:xfrm>
            <a:off x="6673680" y="5864400"/>
            <a:ext cx="268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ат Забайкальского края               г. Чита 2019 год. 1 место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19" name="Рисунок 2" descr=""/>
          <p:cNvPicPr/>
          <p:nvPr/>
        </p:nvPicPr>
        <p:blipFill>
          <a:blip r:embed="rId5"/>
          <a:stretch/>
        </p:blipFill>
        <p:spPr>
          <a:xfrm>
            <a:off x="687240" y="3859200"/>
            <a:ext cx="1652760" cy="18241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720" name="Рисунок 7" descr=""/>
          <p:cNvPicPr/>
          <p:nvPr/>
        </p:nvPicPr>
        <p:blipFill>
          <a:blip r:embed="rId6"/>
          <a:stretch/>
        </p:blipFill>
        <p:spPr>
          <a:xfrm>
            <a:off x="324000" y="1155600"/>
            <a:ext cx="2732040" cy="17845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2d050">
                <a:alpha val="70196"/>
              </a:srgbClr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5"/>
          <p:cNvSpPr/>
          <p:nvPr/>
        </p:nvSpPr>
        <p:spPr>
          <a:xfrm>
            <a:off x="1200240" y="-341280"/>
            <a:ext cx="561960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16000" y="2205000"/>
          <a:ext cx="8785080" cy="4572000"/>
        </p:xfrm>
        <a:graphic>
          <a:graphicData uri="http://schemas.openxmlformats.org/drawingml/2006/table">
            <a:tbl>
              <a:tblPr/>
              <a:tblGrid>
                <a:gridCol w="1557360"/>
                <a:gridCol w="722772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СТЬ 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словлена тем, что проблема физической подготовленности детей школьного возраста является одной из самых актуальных в условиях недостаточной двигательной актив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ь физическую подготовленность девочек 8-9 лет занимающихся в группе аэроб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ь уровень физической подготовленности.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анализировать состояние двигательной подготовленности в динами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лать выв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ПРЕДМЕТ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качества девочек 8-9 лет.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сс спортивной трениров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ЕЗА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девочки занимаются регулярно в группе аэробики, то у них повышаются показатели физической подготовлен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1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Изучение и анализ литературы: 1. Возрастные особенности двигательной подготовленности. 2. Физические качества младшего школьного возраста                                          2. Тестирование физической подготовленности: 1. Силовые способности (отжимания). 2. Координационные способности (челночный бег). 3. Скоростно-силовые способности (прыжок в длину с места). 4. Скоростные способности (бег 30 метров). 5. Выносливость (6-ти минутный бег). 6. Гибкость (наклон вперёд из положения сид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Анализ полученных результа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ИССЛЕ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литературы по теме исследования (сентябрь 2019 года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тестирования (сентябрь 12 года, апрель 2020 года).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552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результатов. Выводы (апрель 2020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21" name="Прямоугольник 2"/>
          <p:cNvSpPr/>
          <p:nvPr/>
        </p:nvSpPr>
        <p:spPr>
          <a:xfrm>
            <a:off x="0" y="0"/>
            <a:ext cx="88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чимость аэробных занятий огромно.  </a:t>
            </a: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нимаясь регулярно можно достичь многого.                                                                     Фитнес-аэробика, спортивная аэробика –</a:t>
            </a:r>
            <a:r>
              <a:rPr b="1" lang="ru-RU" sz="1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это здоровье плюс хорошее настроение.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2" name="Прямоугольник 3"/>
          <p:cNvSpPr/>
          <p:nvPr/>
        </p:nvSpPr>
        <p:spPr>
          <a:xfrm>
            <a:off x="1042920" y="353880"/>
            <a:ext cx="71294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ЗАНЯТИЯ АЭРОБИКОЙ СПОСОБСТВУЮТ УКРЕПЛЕНИЮ: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ЕРДЕЧНО-СОСУДИСТОЙ СИСТЕМЫ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ОРНО-ДВИГАТЕЛЬНОГО АППАРАТА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РВНОЙ СИСТЕМЫ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ИЩЕВАРИТЕЛЬНОЙ СИСТЕМЫ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НДОКРИННОЙ СИСТЕМЫ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ЗАНЯТИЯ АЭРОБИКОЙ СПОСОБСТВУЮТ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ОБРЕТЕНИЮ ДВИГАТЕЛЬНЫХ НАВЫКОВ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ВИТИЮ СПОСОБНОСТЕЙ МУЗЫКАЛЬНОГО СЛУХА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"/>
          <p:cNvGraphicFramePr/>
          <p:nvPr/>
        </p:nvGraphicFramePr>
        <p:xfrm>
          <a:off x="900000" y="620640"/>
          <a:ext cx="7021800" cy="2865600"/>
        </p:xfrm>
        <a:graphic>
          <a:graphicData uri="http://schemas.openxmlformats.org/drawingml/2006/table">
            <a:tbl>
              <a:tblPr/>
              <a:tblGrid>
                <a:gridCol w="292320"/>
                <a:gridCol w="1989000"/>
                <a:gridCol w="762120"/>
                <a:gridCol w="760320"/>
                <a:gridCol w="819000"/>
                <a:gridCol w="702000"/>
                <a:gridCol w="793440"/>
                <a:gridCol w="903600"/>
              </a:tblGrid>
              <a:tr h="330120">
                <a:tc rowSpan="3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rowSpan="3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е спосо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gridSpan="6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ровни двигательной подготов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нтябрь 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Апрель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31104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корос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30960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нослив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30960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ил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5092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ординацио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31104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ибк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35100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коростно-сил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sp>
        <p:nvSpPr>
          <p:cNvPr id="624" name="Rectangle 1"/>
          <p:cNvSpPr/>
          <p:nvPr/>
        </p:nvSpPr>
        <p:spPr>
          <a:xfrm>
            <a:off x="0" y="27720"/>
            <a:ext cx="914400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личественный показатель учащихся,                                                                                                                     занимающихся в группе аэробики, получившие определённые уровни двигательной подготовленности.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5" name="Прямоугольник 1"/>
          <p:cNvSpPr/>
          <p:nvPr/>
        </p:nvSpPr>
        <p:spPr>
          <a:xfrm>
            <a:off x="324000" y="3429000"/>
            <a:ext cx="860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центный показатель учащихся,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нимающихся в группе аэробики, получившие определённые уровни двигательной подготовленности.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755640" y="3913200"/>
          <a:ext cx="7272360" cy="2755800"/>
        </p:xfrm>
        <a:graphic>
          <a:graphicData uri="http://schemas.openxmlformats.org/drawingml/2006/table">
            <a:tbl>
              <a:tblPr/>
              <a:tblGrid>
                <a:gridCol w="322200"/>
                <a:gridCol w="2041560"/>
                <a:gridCol w="666720"/>
                <a:gridCol w="787320"/>
                <a:gridCol w="847800"/>
                <a:gridCol w="736560"/>
                <a:gridCol w="839880"/>
                <a:gridCol w="1030320"/>
              </a:tblGrid>
              <a:tr h="276120">
                <a:tc rowSpan="3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rowSpan="3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е способ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gridSpan="6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ровни двигательной подготовл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ентябрь 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Апрель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764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корос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7612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нослив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746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ил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7612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ординацио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7468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ибк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76120"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коростно-сило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6160" rIns="56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56160" marR="56160">
                    <a:lnL w="18720">
                      <a:solidFill>
                        <a:srgbClr val="990099"/>
                      </a:solidFill>
                    </a:lnL>
                    <a:lnR w="18720">
                      <a:solidFill>
                        <a:srgbClr val="990099"/>
                      </a:solidFill>
                    </a:lnR>
                    <a:lnT w="18720">
                      <a:solidFill>
                        <a:srgbClr val="990099"/>
                      </a:solidFill>
                    </a:lnT>
                    <a:lnB w="18720">
                      <a:solidFill>
                        <a:srgbClr val="990099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5280" y="139320"/>
            <a:ext cx="8501040" cy="460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вни двигательной подготовленности скоростных способностей                       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вочек 8-9 лет, занимающихся в группе аэробики. Бег 30 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29" name="Object 2"/>
          <p:cNvGraphicFramePr/>
          <p:nvPr/>
        </p:nvGraphicFramePr>
        <p:xfrm>
          <a:off x="1754280" y="608040"/>
          <a:ext cx="5495760" cy="26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608040"/>
                    <a:ext cx="549576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Прямоугольник 1"/>
          <p:cNvSpPr/>
          <p:nvPr/>
        </p:nvSpPr>
        <p:spPr>
          <a:xfrm>
            <a:off x="1482840" y="3127320"/>
            <a:ext cx="70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ТЕСТИРОВАНИЕ СКОРОСТНЫХ СПОСОБНОСТЕЙ. БЕГ 30 МЕТРОВ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2" name="Прямоугольник 3"/>
          <p:cNvSpPr/>
          <p:nvPr/>
        </p:nvSpPr>
        <p:spPr>
          <a:xfrm>
            <a:off x="676080" y="3710160"/>
            <a:ext cx="19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!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3" name="Picture 3" descr="IMG_4061"/>
          <p:cNvPicPr/>
          <p:nvPr/>
        </p:nvPicPr>
        <p:blipFill>
          <a:blip r:embed="rId3"/>
          <a:srcRect l="5462" t="14543" r="8506" b="0"/>
          <a:stretch/>
        </p:blipFill>
        <p:spPr>
          <a:xfrm>
            <a:off x="838080" y="4292640"/>
            <a:ext cx="1584360" cy="2103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34" name="Picture 4" descr="IMG_4091"/>
          <p:cNvPicPr/>
          <p:nvPr/>
        </p:nvPicPr>
        <p:blipFill>
          <a:blip r:embed="rId4"/>
          <a:srcRect l="35658" t="9606" r="17959" b="0"/>
          <a:stretch/>
        </p:blipFill>
        <p:spPr>
          <a:xfrm>
            <a:off x="3787920" y="4319640"/>
            <a:ext cx="1428480" cy="2085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35" name="Picture 5" descr="IMG_4083"/>
          <p:cNvPicPr/>
          <p:nvPr/>
        </p:nvPicPr>
        <p:blipFill>
          <a:blip r:embed="rId5"/>
          <a:srcRect l="27378" t="9740" r="26752" b="9835"/>
          <a:stretch/>
        </p:blipFill>
        <p:spPr>
          <a:xfrm>
            <a:off x="6603840" y="4292640"/>
            <a:ext cx="1595520" cy="2093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36" name="Rectangle 7"/>
          <p:cNvSpPr/>
          <p:nvPr/>
        </p:nvSpPr>
        <p:spPr>
          <a:xfrm>
            <a:off x="3625920" y="3333600"/>
            <a:ext cx="1752480" cy="946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 на дистанции                                                                          Нимаева Саяна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7" name="Прямоугольник 4"/>
          <p:cNvSpPr/>
          <p:nvPr/>
        </p:nvSpPr>
        <p:spPr>
          <a:xfrm>
            <a:off x="6532560" y="3578400"/>
            <a:ext cx="199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ный финиш            Халхарова Александра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0760" y="227160"/>
            <a:ext cx="8501040" cy="460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вни двигательной подготовленности  выносливост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вочек 8-9 лет, занимающихся в группе аэробики. 6-ти минутный б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41" name="Object 3"/>
          <p:cNvGraphicFramePr/>
          <p:nvPr/>
        </p:nvGraphicFramePr>
        <p:xfrm>
          <a:off x="1662120" y="585720"/>
          <a:ext cx="5662440" cy="29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2120" y="585720"/>
                    <a:ext cx="5662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Прямоугольник 2"/>
          <p:cNvSpPr/>
          <p:nvPr/>
        </p:nvSpPr>
        <p:spPr>
          <a:xfrm>
            <a:off x="384120" y="3414600"/>
            <a:ext cx="871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ТЕСТИРОВАНИЕ ВЫНОСЛИВОСТИ. 6-ТИ МИНУТНЫЙ БЕГ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44" name="Picture 3" descr="IMG_4084"/>
          <p:cNvPicPr/>
          <p:nvPr/>
        </p:nvPicPr>
        <p:blipFill>
          <a:blip r:embed="rId3"/>
          <a:srcRect l="17333" t="0" r="3921" b="0"/>
          <a:stretch/>
        </p:blipFill>
        <p:spPr>
          <a:xfrm>
            <a:off x="601560" y="4183200"/>
            <a:ext cx="2354400" cy="2236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45" name="Picture 5" descr="IMG_4090"/>
          <p:cNvPicPr/>
          <p:nvPr/>
        </p:nvPicPr>
        <p:blipFill>
          <a:blip r:embed="rId4"/>
          <a:srcRect l="1305" t="11346" r="-142" b="13094"/>
          <a:stretch/>
        </p:blipFill>
        <p:spPr>
          <a:xfrm>
            <a:off x="4853160" y="4815000"/>
            <a:ext cx="2860560" cy="1635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46" name="Rectangle 6"/>
          <p:cNvSpPr/>
          <p:nvPr/>
        </p:nvSpPr>
        <p:spPr>
          <a:xfrm>
            <a:off x="635040" y="3759480"/>
            <a:ext cx="25718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арт!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4356000" y="4366080"/>
            <a:ext cx="407196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 на дистанции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377640"/>
            <a:ext cx="8501040" cy="46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вни двигательной подготовленности  силовых способностей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вочек 8-9 лет, занимающихся в группе аэробики. Сгибание-разгибание рук в упоре лё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52" name="Object 3"/>
          <p:cNvGraphicFramePr/>
          <p:nvPr/>
        </p:nvGraphicFramePr>
        <p:xfrm>
          <a:off x="2093760" y="950760"/>
          <a:ext cx="4662720" cy="254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950760"/>
                    <a:ext cx="46627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Прямоугольник 2"/>
          <p:cNvSpPr/>
          <p:nvPr/>
        </p:nvSpPr>
        <p:spPr>
          <a:xfrm>
            <a:off x="179280" y="364500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ТЕСТИРОВАНИЕ СИЛОВЫХ СПОСОБНОСТЕЙ СГИБАНИЕ-РАЗГИБАНИЕ РУК В УПОРЕ ЛЁЖА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5" name="Picture 3" descr="IMG_4030"/>
          <p:cNvPicPr/>
          <p:nvPr/>
        </p:nvPicPr>
        <p:blipFill>
          <a:blip r:embed="rId3"/>
          <a:srcRect l="0" t="8504" r="0" b="0"/>
          <a:stretch/>
        </p:blipFill>
        <p:spPr>
          <a:xfrm>
            <a:off x="2533680" y="4292640"/>
            <a:ext cx="3359160" cy="2298600"/>
          </a:xfrm>
          <a:prstGeom prst="rect">
            <a:avLst/>
          </a:prstGeom>
          <a:ln w="2844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6" name="Прямоугольник 6"/>
          <p:cNvSpPr/>
          <p:nvPr/>
        </p:nvSpPr>
        <p:spPr>
          <a:xfrm>
            <a:off x="2075040" y="3889440"/>
            <a:ext cx="42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прямого положения тела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20760" y="412560"/>
            <a:ext cx="8501040" cy="46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вни двигательной подготовленности координационных способностей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вочек 8-9 лет, занимающихся в группе аэробики. Челночный бег 3х10 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62" name="Object 3"/>
          <p:cNvGraphicFramePr/>
          <p:nvPr/>
        </p:nvGraphicFramePr>
        <p:xfrm>
          <a:off x="2022480" y="950760"/>
          <a:ext cx="4594320" cy="24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2480" y="950760"/>
                    <a:ext cx="4594320" cy="24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Прямоугольник 2"/>
          <p:cNvSpPr/>
          <p:nvPr/>
        </p:nvSpPr>
        <p:spPr>
          <a:xfrm>
            <a:off x="320760" y="3284640"/>
            <a:ext cx="88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ТЕСТИРОВАНИЕ КООРДИНАЦИОННЫХ СПОСОБНОСТЕЙ. ЧЕЛНОЧНЫЙ БЕГ 3Х10 МЕТРОВ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65" name="Picture 5" descr="IMG_4060"/>
          <p:cNvPicPr/>
          <p:nvPr/>
        </p:nvPicPr>
        <p:blipFill>
          <a:blip r:embed="rId3"/>
          <a:srcRect l="0" t="5873" r="0" b="0"/>
          <a:stretch/>
        </p:blipFill>
        <p:spPr>
          <a:xfrm>
            <a:off x="1616040" y="4168800"/>
            <a:ext cx="1911240" cy="2403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66" name="Picture 7" descr="IMG_4075"/>
          <p:cNvPicPr/>
          <p:nvPr/>
        </p:nvPicPr>
        <p:blipFill>
          <a:blip r:embed="rId4"/>
          <a:srcRect l="22872" t="6134" r="7849" b="0"/>
          <a:stretch/>
        </p:blipFill>
        <p:spPr>
          <a:xfrm>
            <a:off x="5273640" y="4098960"/>
            <a:ext cx="2484360" cy="251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67" name="Rectangle 6"/>
          <p:cNvSpPr/>
          <p:nvPr/>
        </p:nvSpPr>
        <p:spPr>
          <a:xfrm>
            <a:off x="1285920" y="3770280"/>
            <a:ext cx="2571840" cy="27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арт!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8" name="Прямоугольник 6"/>
          <p:cNvSpPr/>
          <p:nvPr/>
        </p:nvSpPr>
        <p:spPr>
          <a:xfrm>
            <a:off x="3762360" y="3784680"/>
            <a:ext cx="550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выполнением теста и секундами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20760" y="227160"/>
            <a:ext cx="8501040" cy="460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вни двигательной подготовленности гибкости девочек 8-9 лет, занимающихся в группе аэробик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Наклон вперёд из положения сид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75" name="Object 3"/>
          <p:cNvGraphicFramePr/>
          <p:nvPr/>
        </p:nvGraphicFramePr>
        <p:xfrm>
          <a:off x="1758960" y="1023840"/>
          <a:ext cx="5086440" cy="279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8960" y="1023840"/>
                    <a:ext cx="508644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Прямоугольник 2"/>
          <p:cNvSpPr/>
          <p:nvPr/>
        </p:nvSpPr>
        <p:spPr>
          <a:xfrm>
            <a:off x="468360" y="3500280"/>
            <a:ext cx="85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ТЕСТИРОВАНИЕ ГИБКОСТИ. НАКЛОН ВПЕРЁД ИЗ ПОЛОЖЕНИЯ СИДЯ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78" name="Picture 1" descr="IMG_4018"/>
          <p:cNvPicPr/>
          <p:nvPr/>
        </p:nvPicPr>
        <p:blipFill>
          <a:blip r:embed="rId3"/>
          <a:srcRect l="4624" t="39047" r="6927" b="15598"/>
          <a:stretch/>
        </p:blipFill>
        <p:spPr>
          <a:xfrm>
            <a:off x="2755800" y="4653000"/>
            <a:ext cx="3357720" cy="1289160"/>
          </a:xfrm>
          <a:prstGeom prst="rect">
            <a:avLst/>
          </a:prstGeom>
          <a:ln w="2844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9" name="Прямоугольник 6"/>
          <p:cNvSpPr/>
          <p:nvPr/>
        </p:nvSpPr>
        <p:spPr>
          <a:xfrm>
            <a:off x="2771640" y="402264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прямого положения тела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8000" y="227160"/>
            <a:ext cx="9036000" cy="460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ровни двигательной подготовленности скоростно-силовых способностей девочек 8-9 лет, занимающихся в группе аэробики. Прыжок в длину с м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687" name="Object 3"/>
          <p:cNvGraphicFramePr/>
          <p:nvPr/>
        </p:nvGraphicFramePr>
        <p:xfrm>
          <a:off x="1571760" y="585720"/>
          <a:ext cx="5481360" cy="28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585720"/>
                    <a:ext cx="548136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Прямоугольник 2"/>
          <p:cNvSpPr/>
          <p:nvPr/>
        </p:nvSpPr>
        <p:spPr>
          <a:xfrm>
            <a:off x="-144360" y="3141720"/>
            <a:ext cx="94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ТЕСТИРОВАНИЕ СКОРОСТНО-СИЛОВЫХ СПОСОБНОСТЕЙ. ПРЫЖОК В ДЛИНУ С МЕСТА 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90" name="Picture 3" descr="IMG_4002"/>
          <p:cNvPicPr/>
          <p:nvPr/>
        </p:nvPicPr>
        <p:blipFill>
          <a:blip r:embed="rId3"/>
          <a:srcRect l="25613" t="17063" r="26439" b="0"/>
          <a:stretch/>
        </p:blipFill>
        <p:spPr>
          <a:xfrm>
            <a:off x="428760" y="4005360"/>
            <a:ext cx="1873080" cy="2423880"/>
          </a:xfrm>
          <a:prstGeom prst="rect">
            <a:avLst/>
          </a:prstGeom>
          <a:ln w="2844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1" name="Picture 4" descr="IMG_3994"/>
          <p:cNvPicPr/>
          <p:nvPr/>
        </p:nvPicPr>
        <p:blipFill>
          <a:blip r:embed="rId4"/>
          <a:srcRect l="32676" t="8268" r="26227" b="15598"/>
          <a:stretch/>
        </p:blipFill>
        <p:spPr>
          <a:xfrm>
            <a:off x="3419640" y="4011480"/>
            <a:ext cx="1747800" cy="2421000"/>
          </a:xfrm>
          <a:prstGeom prst="rect">
            <a:avLst/>
          </a:prstGeom>
          <a:ln w="2844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2" name="Picture 5" descr="IMG_4007"/>
          <p:cNvPicPr/>
          <p:nvPr/>
        </p:nvPicPr>
        <p:blipFill>
          <a:blip r:embed="rId5"/>
          <a:srcRect l="20516" t="0" r="21526" b="0"/>
          <a:stretch/>
        </p:blipFill>
        <p:spPr>
          <a:xfrm>
            <a:off x="6215040" y="3997440"/>
            <a:ext cx="1886040" cy="2431800"/>
          </a:xfrm>
          <a:prstGeom prst="rect">
            <a:avLst/>
          </a:prstGeom>
          <a:ln w="2844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3" name="Прямоугольник 6"/>
          <p:cNvSpPr/>
          <p:nvPr/>
        </p:nvSpPr>
        <p:spPr>
          <a:xfrm>
            <a:off x="-144360" y="352260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прыжку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4" name="Прямоугольник 6"/>
          <p:cNvSpPr/>
          <p:nvPr/>
        </p:nvSpPr>
        <p:spPr>
          <a:xfrm>
            <a:off x="2828880" y="3646440"/>
            <a:ext cx="29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емление прыжка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5" name="Прямоугольник 7"/>
          <p:cNvSpPr/>
          <p:nvPr/>
        </p:nvSpPr>
        <p:spPr>
          <a:xfrm>
            <a:off x="5824440" y="3646440"/>
            <a:ext cx="29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яем длину прыжка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08:19:42Z</dcterms:created>
  <dc:creator>Admin</dc:creator>
  <dc:description/>
  <dc:language>en-US</dc:language>
  <cp:lastModifiedBy>Admin</cp:lastModifiedBy>
  <dcterms:modified xsi:type="dcterms:W3CDTF">2019-05-12T12:00:08Z</dcterms:modified>
  <cp:revision>316</cp:revision>
  <dc:subject/>
  <dc:title>Цыбикова Аяна Баиновна</dc:title>
</cp:coreProperties>
</file>