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27.jpeg" ContentType="image/jpeg"/>
  <Override PartName="/ppt/media/image13.jpeg" ContentType="image/jpeg"/>
  <Override PartName="/ppt/media/image8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5.jpeg" ContentType="image/jpeg"/>
  <Override PartName="/ppt/media/image26.jpeg" ContentType="image/jpeg"/>
  <Override PartName="/ppt/media/image21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24.jpeg" ContentType="image/jpeg"/>
  <Override PartName="/ppt/media/image15.png" ContentType="image/png"/>
  <Override PartName="/ppt/media/image14.jpeg" ContentType="image/jpeg"/>
  <Override PartName="/ppt/media/image1.wmf" ContentType="image/x-wmf"/>
  <Override PartName="/ppt/media/image23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25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BAE2-F82A-4855-831A-F2F329A1A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1ADB-FF04-4018-A706-C2B8C7026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D1437C-28E7-4394-8362-E32AE3F83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B90373-0127-4EE7-A207-486CBC953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BD57D8-BB4E-49DE-AC73-1164D2D5B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950129-DB8D-4BE3-BBCB-0757B387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CF29BC-DC74-4F35-A2AC-D52ED91E2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35EDB1-E4F4-439E-9FB5-352CF0254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61B4A9-E17F-4169-8651-51BFB6B61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BC0893-5E38-4B7A-9DF2-96C3E11CB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D73398-864E-491E-9354-DE6084FEA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623A85-63C2-4114-A4EB-0FC2B127F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FA6F-F88C-465B-BA23-5B86C2789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ACF295-75EE-4252-93B8-5C4ACC7FB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12E7FD-E9CA-4384-B901-068CC4FE3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F7E7B4-B3FF-4DEE-87C9-3D7CA18D4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CE5B4C-A2F1-4FBF-88D7-CC68DB82D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2D91F7-B13E-4F1E-88A8-C2F013E9C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3B6C21-E6F1-414A-8C7B-4004AFBF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128075-B8DF-417F-A4AF-0449C62AC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9D13F9-CBD4-4BB2-9745-CBFEE741A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7EE14E-5A31-411C-A2C9-397EFF485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56FE0F-FA90-4C5D-800E-42833818A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B6A3-198A-4A77-A5CC-7BA5A917C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66C387-99DA-46E4-901F-6EE1EE4EB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7C6261-3F25-49E0-9736-C17B82EF1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3EAC92-1A1B-4C65-8AD2-E75940593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BBF4C3-4ACB-4182-BC22-188BA653B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C34A14-0266-4412-BBF8-0A4F34838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194047-80F5-4CF2-8FED-9B8FC76A0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E0B45E-94E8-4FA4-92AC-7FF12B348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EBEBE9-6AEC-40CE-8283-1C21465A6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61ECD6-039B-4804-8B2B-EE0E34F0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7F6980-70C4-4037-861D-2AB1BB9FB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61453-C817-4239-94F1-50BBD7339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AF8A7C-BE5C-4778-9896-E92C85EE6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024232-077E-4B32-B3DF-6D112EF9F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FA871D-CE19-4C8D-9E40-B4822F608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B68978-F215-40D4-B6DA-EB4A64398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B83AEC-CC4F-4373-AFE6-1B39E5E03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AB844F-5FDA-401F-A889-9D5F25D67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9F3BE0-4331-4B7D-96F0-D1304F0F2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C166EE-505C-4FA7-8A53-A74696914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7C25D5-D33A-4246-93FD-FACF9CD89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A9599B-5C75-4571-BEAB-779C68905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6C400-F093-4792-8F60-8286C9639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D9588D-69C7-46C9-97A1-D8A0DBDFB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5F220F-6909-43AA-BA36-340E626F0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95719B-0FD4-4AB4-B924-2A0231370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21C675-8A9D-4710-B80F-944E7B755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CB912B-4532-4FE4-84FD-6802654C5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EC64E4-1E68-444A-A094-A600359AD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BC1782-FDEB-43EF-A806-972652C57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52B5F9-20A4-4938-B645-5CAB5DF10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45DCA1-68A0-464D-B2EB-99B68EC7D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402EE7-EDE1-4153-B8D0-5CF1E0F1D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46C0C-31A7-4992-9995-798CC0F64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F99595-C293-4BF9-81B4-B0F3AEDE0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18DB45-6F35-4782-8523-42A68E02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FE7A40-DEF5-4FAF-8106-79AF59F33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D5745B-B6E6-4668-8044-761B3FEDC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636D04-A786-4410-AFE7-7295B8721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2FE54B-36C0-4375-A9E8-209EB64F7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4A1ACE-1831-40A6-BC37-63D492168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06C07D-9D61-4622-9BB2-2F839EDB0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1412C7-DA1D-4FB9-AEDF-4E905474B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42C48A-3F43-48C4-81F3-F5ADF6BCC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657DD-375D-4398-AF7D-FA4A54C31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4E5CC0-B0A1-49CA-91D3-79A096A95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2E27A8-27C0-4CD1-9BF3-48A94DA93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90039E-38EA-4980-9A87-6D81823CE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F58E35-E1EB-43C6-91DA-50B177ABE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7AA0F6-4200-4CAA-AD71-F3305A3F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84F469-7728-4BCD-BDBF-69345757B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86B46E-6929-44C2-9F43-CEFB6A2D2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85D59E-F410-4730-B65C-7F43B4704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3A9AA7-460C-49FA-9BC5-A873A705A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E1CC35-E8A3-47C6-8F77-015DADF59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BCE14-2631-41ED-9D4C-76A9C3BAE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5FDA77-8279-4B8D-AB58-34BFE4D84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E9A9AE-FB35-4090-B74A-59702593D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5205A9-D9C8-4F85-8C43-9263BDD08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19CA91-C1CF-4A39-8F98-1817B43A5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074641-2D21-476A-AB33-9E355B054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7CE1DB-2CF2-45E9-99F1-1D0C6724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14C556-079A-427E-9D05-20BC420C9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85C72A-92B1-46D3-BB88-57BA537E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4C9FD1-658E-403E-99DA-6717637F2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9A8E65-75BF-493D-AD83-067A8A251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27B46-46CD-43FF-9615-3A18DBFF9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64A265-559B-4734-8B96-7495C44E9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608DC-EEDE-4CF8-99EB-DD545D8D9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FD48-7C0C-4F02-8E7A-A7A6417C1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16259-B962-416E-B4AD-73DD9B3C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67ED5-17A1-494B-8749-22530DBC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D8D3F-FAB0-40DE-A144-6DEE175B6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8E54B-71E1-4582-954B-F8F980DAB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C24A7-4570-4055-B9B7-FA8E4117F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F333F-7288-4F00-94F7-647B4CB28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C2A00-7371-4177-BE30-0140EECAA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EC2C9-015D-40B9-94BF-6B8FD1AE3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54987-3DE5-4A96-B424-F32B4F7CC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C18A8-E435-4F3C-BF80-46F7B96C4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6C15-B5B5-4543-9C62-342A2C80C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71B02-96CD-4340-A4F8-42E9A189C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1A0EB-90A0-4608-BA11-B7DDA3B1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E0988-B9A5-41C9-B0DB-83F9D6387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A786D-5420-437B-8B70-F82B3C0FF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B9E2F-C14B-4431-9713-4656C1928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578D8-99D6-4ADA-BDF9-2C367FD74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0B91A-61B2-4271-AF57-130EAF8A7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14048-0CA8-49EC-BA56-E009614D5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91CDA-C61B-49DE-B1AB-0EBABCAC2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882D0-5B2C-4333-995E-3971ED310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7680-37EA-4A05-80F2-079C67860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C9AD2-785F-420A-8C86-DCC4085BA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BC114-F235-4746-B80F-4F38E2979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FE10B-CA25-4746-ACEB-13AC7644F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CAA64-0EC6-4613-A1F4-1F1F0247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8EF29-1971-4421-A204-5DD01B6A0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2CAC3-756A-40D5-BBDC-09EC2E20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86323-FF47-4BC6-A395-88A9B3467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7A4BC-E7A8-4232-A799-FE11B74BA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B867C-27F6-490B-9F34-6FD3CDE97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555B5-D0BE-4BBB-B50F-987DB5A7C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4406-CDA9-49B7-AD3B-4C7642253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9929CF-F986-46AE-BF62-446E2C73F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F6BAA5-E2B3-40E9-B886-7CAB52246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F331EE-E7F6-465B-B63B-B380F163A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460DE-2594-4489-A6A2-B24F331A8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1828F-0B94-49B9-9C80-8B7D5F16A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CEC4E6-0B25-49E9-B751-03C6EA918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970140-E602-4A0E-B1AE-32F97AE6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BC696E-EAAB-4D5A-8E09-D54BF3AE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BAACFC-9BDF-4B3C-890D-17CEBF11C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048F8-13AF-4F48-BBAD-150B703FC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35EA-6045-44EF-8030-89F137A21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83CB5-E973-4A22-89D4-80CAFC7B3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D5CE9B-1016-4D96-8582-D6DB44F38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CB7530-189D-45B0-BA9B-B868F5EA2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3986B-F1A7-4AAE-AED6-C2AEB65E4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51B0CA-FC2B-4912-8CAD-E11638B20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87A21F-4AA6-45B7-B0ED-F2959B6AB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241D4F-3094-4C93-923F-4B983B774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EE778E-8510-4521-BFA4-AD2654D75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DED0D6-19D0-407F-88C3-A31C10E64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A6F287-5080-4D0D-B718-E7820F23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A789-EB9A-449D-BD8D-5F7D8D682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F7CAE4-4F47-410E-9DFA-191658C49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27245A-AB88-4D09-A05B-0B1BEA63B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1AA0ED-0C10-4C30-904D-44D57E705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769EC6-4068-4A52-BFDB-1AC0C6B1B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F3A95F-229A-48F1-A08C-10BD8A5D1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DFA598-3764-4FFF-9130-D6F7FFDB3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97DAF4-0DE6-4334-9B4D-767C6A920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61543F-60EF-426A-BE34-F36FDE532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C08515-C172-435A-87E8-342830A8E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D1FFC0-6890-42ED-B0BF-CC8EEC861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204A-65BE-4A51-B445-E64AFCC3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79C67F-2C26-44F6-BCE2-AD141858C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9CDF28-4416-4310-904E-24B7F27E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E5660B-889A-41AA-ABCF-FD0A9D1BD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011DF4-DF35-4653-AD76-1B62CBC4C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99379F-80B5-40FE-8333-A0A8466C8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019530-4995-489F-B2F5-7122940CC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C732CA-4BE2-427C-8EAD-6EEF02CFF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382999-48D1-4CB2-9457-DE14038F7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1A0161-B7D7-40C2-A844-3AD5517BC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B5F264-838C-40DD-85F3-11484D6CD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FAA8-B91F-409D-AEA0-E4C17BC55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75C184-ABF1-4247-9423-674596FF6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396F47-EFEB-4DEE-AFD5-00979F091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6B9675-C62E-4297-855D-DA142C26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EB4861-2CBC-48C2-9592-7D78F26BF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A9AEF1-AE76-44C8-9830-64D4F2F49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01C2C1-C85D-4C71-9639-8C0033B71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7AF485-BF91-426B-AEE5-36D33916A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68126A-7641-4D44-81C5-901D77E5E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972AA6-AA6E-4C1E-9F5E-5EB000028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2054A7-2C5C-4B9D-B3F8-95CC2719D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d6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79069-390E-4AE4-8145-4060E57A81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d6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337B2-57C2-475C-861B-57B161A7DB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d6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2BD00-8AF7-4073-AD0B-F82A42CC38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d6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DFE87-3C7F-4802-AE81-B45095D978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d6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7EE07-7F5C-4BED-83B1-79A6B523DA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d6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3E4EE-F099-4F76-8B66-D0E9B43634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d6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25B98-8783-41F7-ADC2-5F74AEF402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d6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51D7F-789A-4571-ABF8-997E974D86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d6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8D3CF-F249-4590-BAC4-968DD866DF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d6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46425-3C94-46D1-ABA3-5CCEA8FE11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d6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34AC9-16E1-48F5-84F0-2B92240E88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d6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78EC8-D593-4274-BE28-11464BAF9C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d6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1DBE8-9E50-4E61-82EC-CF503DD8E4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d6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A028D-5C66-4244-BA42-9E2E9DC7F6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d6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A5C4C-CC9F-4C5A-A576-0F37176F48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07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Муниципальное автономное образовательное учреждение Дополнительно образования                                                                         «Детско-юношеская спортивная школа» Еравнинского района                                                                           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87854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Monotype Corsiva"/>
              </a:rPr>
              <a:t>Исследовательская рабо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Monotype Corsiva"/>
              </a:rPr>
              <a:t>«</a:t>
            </a:r>
            <a:r>
              <a:rPr b="1" lang="ru-RU" sz="32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ОЦЕНКА ФИЗИЧЕСКОЙ ПОДГОТОВЛЕННОСТИ УЧАЩИХСЯ</a:t>
            </a:r>
            <a:r>
              <a:rPr b="1" lang="ru-RU" sz="3200" spc="-1" strike="noStrike">
                <a:solidFill>
                  <a:srgbClr val="9900cc"/>
                </a:solidFill>
                <a:latin typeface="Monotype Corsiva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Monotype Corsiva"/>
              </a:rPr>
              <a:t>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99"/>
                </a:solidFill>
                <a:latin typeface="Monotype Corsiva"/>
              </a:rPr>
              <a:t>                                               </a:t>
            </a:r>
            <a:r>
              <a:rPr b="1" lang="ru-RU" sz="2400" spc="-1" strike="noStrike">
                <a:solidFill>
                  <a:srgbClr val="990099"/>
                </a:solidFill>
                <a:latin typeface="Monotype Corsiva"/>
              </a:rPr>
              <a:t>Выполнила: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Monotype Corsiva"/>
              </a:rPr>
              <a:t>                                                                                         </a:t>
            </a:r>
            <a:r>
              <a:rPr b="1" lang="ru-RU" sz="2400" spc="-1" strike="noStrike">
                <a:solidFill>
                  <a:srgbClr val="990099"/>
                </a:solidFill>
                <a:latin typeface="Monotype Corsiva"/>
              </a:rPr>
              <a:t>Цыбикова Аяна  11 «б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Monotype Corsiva"/>
              </a:rPr>
              <a:t>                                                                             </a:t>
            </a:r>
            <a:r>
              <a:rPr b="1" lang="ru-RU" sz="2400" spc="-1" strike="noStrike">
                <a:solidFill>
                  <a:srgbClr val="990099"/>
                </a:solidFill>
                <a:latin typeface="Monotype Corsiva"/>
              </a:rPr>
              <a:t>Руководитель: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Monotype Corsiva"/>
              </a:rPr>
              <a:t>                                                                              </a:t>
            </a:r>
            <a:r>
              <a:rPr b="1" lang="ru-RU" sz="2400" spc="-1" strike="noStrike">
                <a:solidFill>
                  <a:srgbClr val="990099"/>
                </a:solidFill>
                <a:latin typeface="Monotype Corsiva"/>
              </a:rPr>
              <a:t>Цыбикова В.А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Monotype Corsiva"/>
              </a:rPr>
              <a:t>с. Сосново-Озёрское                                                                                              2020 го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5"/>
          <p:cNvSpPr/>
          <p:nvPr/>
        </p:nvSpPr>
        <p:spPr>
          <a:xfrm>
            <a:off x="-4294080" y="-108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618" name="Picture 9" descr="PE00555_"/>
          <p:cNvPicPr/>
          <p:nvPr/>
        </p:nvPicPr>
        <p:blipFill>
          <a:blip r:embed="rId1"/>
          <a:stretch/>
        </p:blipFill>
        <p:spPr>
          <a:xfrm>
            <a:off x="520560" y="4005360"/>
            <a:ext cx="2592360" cy="236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79280" y="55080"/>
            <a:ext cx="3276720" cy="1816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роцентный показатель учащихся 8-9 лет, занимающихся в группе аэробики, получившие определённые уровни двигательной подготовленности по всем физическим качествам.</a:t>
            </a:r>
            <a:br>
              <a:rPr sz="1400"/>
            </a:br>
            <a:r>
              <a:rPr b="1" lang="ru-RU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98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99" name="Rectangle 4"/>
          <p:cNvSpPr/>
          <p:nvPr/>
        </p:nvSpPr>
        <p:spPr>
          <a:xfrm>
            <a:off x="0" y="0"/>
            <a:ext cx="9144000" cy="36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00" name="Rectangle 4"/>
          <p:cNvSpPr/>
          <p:nvPr/>
        </p:nvSpPr>
        <p:spPr>
          <a:xfrm>
            <a:off x="0" y="0"/>
            <a:ext cx="9144000" cy="36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01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graphicFrame>
        <p:nvGraphicFramePr>
          <p:cNvPr id="702" name=""/>
          <p:cNvGraphicFramePr/>
          <p:nvPr/>
        </p:nvGraphicFramePr>
        <p:xfrm>
          <a:off x="149400" y="1622520"/>
          <a:ext cx="3384360" cy="1574640"/>
        </p:xfrm>
        <a:graphic>
          <a:graphicData uri="http://schemas.openxmlformats.org/drawingml/2006/table">
            <a:tbl>
              <a:tblPr/>
              <a:tblGrid>
                <a:gridCol w="528480"/>
                <a:gridCol w="536400"/>
                <a:gridCol w="625680"/>
                <a:gridCol w="542880"/>
                <a:gridCol w="582480"/>
                <a:gridCol w="568440"/>
              </a:tblGrid>
              <a:tr h="734760">
                <a:tc gridSpan="6"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Уровни двигательной подготовленности по всем физическим качеств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1560" marR="615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5160">
                <a:tc gridSpan="3"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ентябрь 2019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1560" marR="615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Апрель 2020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1560" marR="615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996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низ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1560" marR="615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ред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1560" marR="615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высо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1560" marR="615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низ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1560" marR="615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сред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1560" marR="615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высо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1560" marR="615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24516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1560" marR="615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1560" marR="615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1560" marR="615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1560" marR="615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1560" marR="615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1560" marR="615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</a:tr>
            </a:tbl>
          </a:graphicData>
        </a:graphic>
      </p:graphicFrame>
      <p:sp>
        <p:nvSpPr>
          <p:cNvPr id="703" name="Прямоугольник 1"/>
          <p:cNvSpPr/>
          <p:nvPr/>
        </p:nvSpPr>
        <p:spPr>
          <a:xfrm>
            <a:off x="149400" y="3284640"/>
            <a:ext cx="30970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роцентный показатель учащихся 8-9 лет, занимающихся в группе аэробики, получившие определённые уровни двигательной подготовленности по всем физическим качествам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graphicFrame>
        <p:nvGraphicFramePr>
          <p:cNvPr id="704" name="Object 3"/>
          <p:cNvGraphicFramePr/>
          <p:nvPr/>
        </p:nvGraphicFramePr>
        <p:xfrm>
          <a:off x="-209520" y="4621320"/>
          <a:ext cx="4562280" cy="2346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09520" y="4621320"/>
                    <a:ext cx="4562280" cy="23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6" name="Rectangle 2"/>
          <p:cNvSpPr/>
          <p:nvPr/>
        </p:nvSpPr>
        <p:spPr>
          <a:xfrm>
            <a:off x="4356000" y="104760"/>
            <a:ext cx="4211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роведенное тестирование физических качеств позволило мне сделать следующие выводы:  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07" name="Прямоугольник 2"/>
          <p:cNvSpPr/>
          <p:nvPr/>
        </p:nvSpPr>
        <p:spPr>
          <a:xfrm>
            <a:off x="4356000" y="1052640"/>
            <a:ext cx="4572000" cy="64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Анализ полученных данных показал, что у девочек показатели тестирования физических качеств увеличиваются.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2. Рост показателей тестирования физических качеств обусловлен тем, что:                                                                                                                                       1. Девочки занимались в группе аэробики регулярно 3 раза в неделю по 2 часа.                                                                                                                                                        2. Выполняли все упражнения по общей физической подготовке.                                                  3. Выполняли упражнения строго дозировано.                                                                                         4. На период исследования придерживались режима дня.                                                    5. Правильно питались. В рацион питания входили овощи, фрукты, молочные продукты, орехи, мёд.                                                                                                                          6. Принимали поливитамины «Ревит», «Алфавит».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3. Моя гипотеза подтвердилась. Действительно, занимаясь регулярно аэробикой, улучшились показатели тестирования физических качеств, следовательно, улучшилась физическая подготовленность девочек,</a:t>
            </a:r>
            <a:r>
              <a:rPr b="1" lang="ru-RU" sz="14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 улучшилась техника упражнений, </a:t>
            </a: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высился качественный показатель результативности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8216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 меня 2 спортивный разряд по фитнес-аэробике, 1 спортивный разряд по спортивной аэробике. Золотой значок ГТО 4, Золотой значок 5 ступени.                                                                                                                              </a:t>
            </a:r>
            <a:r>
              <a:rPr b="1" lang="ru-RU" sz="1400" spc="-1" strike="noStrike">
                <a:solidFill>
                  <a:srgbClr val="ff0066"/>
                </a:solidFill>
                <a:latin typeface="Arial"/>
              </a:rPr>
              <a:t>Чемпионы Республики Бурятия, СФО г.Красноярск, ДФО Приморского края г.Владивосток, Забайкальского края г. Чита  по спортивной аэробике 2017, 2018, 2019 год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subTitle"/>
          </p:nvPr>
        </p:nvSpPr>
        <p:spPr>
          <a:xfrm>
            <a:off x="477360" y="5823000"/>
            <a:ext cx="2257560" cy="83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пионат СФО г.Красноярск 2017 год 3 мест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Подзаголовок 2"/>
          <p:cNvSpPr/>
          <p:nvPr/>
        </p:nvSpPr>
        <p:spPr>
          <a:xfrm>
            <a:off x="652320" y="3079800"/>
            <a:ext cx="1997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а танцевальная гимнастика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11" name="Рисунок 6" descr=""/>
          <p:cNvPicPr/>
          <p:nvPr/>
        </p:nvPicPr>
        <p:blipFill>
          <a:blip r:embed="rId1"/>
          <a:stretch/>
        </p:blipFill>
        <p:spPr>
          <a:xfrm>
            <a:off x="3274920" y="1155600"/>
            <a:ext cx="2414520" cy="1768680"/>
          </a:xfrm>
          <a:prstGeom prst="rect">
            <a:avLst/>
          </a:prstGeom>
          <a:ln w="0">
            <a:noFill/>
          </a:ln>
        </p:spPr>
      </p:pic>
      <p:sp>
        <p:nvSpPr>
          <p:cNvPr id="712" name="Подзаголовок 2"/>
          <p:cNvSpPr/>
          <p:nvPr/>
        </p:nvSpPr>
        <p:spPr>
          <a:xfrm>
            <a:off x="3246480" y="3067200"/>
            <a:ext cx="25430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пионат Республики Бурятия г.Улан-Удэ 2017 год. 1 место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13" name="Рисунок 8" descr=""/>
          <p:cNvPicPr/>
          <p:nvPr/>
        </p:nvPicPr>
        <p:blipFill>
          <a:blip r:embed="rId2"/>
          <a:stretch/>
        </p:blipFill>
        <p:spPr>
          <a:xfrm>
            <a:off x="6270480" y="1160640"/>
            <a:ext cx="2603520" cy="1906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14" name="Подзаголовок 2"/>
          <p:cNvSpPr/>
          <p:nvPr/>
        </p:nvSpPr>
        <p:spPr>
          <a:xfrm>
            <a:off x="6381720" y="3124080"/>
            <a:ext cx="2500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пионат Республики Бурятия г.Улан-Удэ 2017-2019 год. 1 место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15" name="Рисунок 12" descr=""/>
          <p:cNvPicPr/>
          <p:nvPr/>
        </p:nvPicPr>
        <p:blipFill>
          <a:blip r:embed="rId3"/>
          <a:stretch/>
        </p:blipFill>
        <p:spPr>
          <a:xfrm>
            <a:off x="3241800" y="3794040"/>
            <a:ext cx="2697120" cy="2022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16" name="Прямоугольник 14"/>
          <p:cNvSpPr/>
          <p:nvPr/>
        </p:nvSpPr>
        <p:spPr>
          <a:xfrm>
            <a:off x="3635280" y="5935680"/>
            <a:ext cx="2465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пионат ДФО                                           г. Владивосток 2019 год. 1 место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17" name="Рисунок 15" descr=""/>
          <p:cNvPicPr/>
          <p:nvPr/>
        </p:nvPicPr>
        <p:blipFill>
          <a:blip r:embed="rId4"/>
          <a:stretch/>
        </p:blipFill>
        <p:spPr>
          <a:xfrm>
            <a:off x="7175520" y="3670200"/>
            <a:ext cx="1679400" cy="2114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18" name="Прямоугольник 16"/>
          <p:cNvSpPr/>
          <p:nvPr/>
        </p:nvSpPr>
        <p:spPr>
          <a:xfrm>
            <a:off x="6673680" y="5864400"/>
            <a:ext cx="268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пионат Забайкальского края               г. Чита 2019 год. 1 место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19" name="Рисунок 2" descr=""/>
          <p:cNvPicPr/>
          <p:nvPr/>
        </p:nvPicPr>
        <p:blipFill>
          <a:blip r:embed="rId5"/>
          <a:stretch/>
        </p:blipFill>
        <p:spPr>
          <a:xfrm>
            <a:off x="687240" y="3859200"/>
            <a:ext cx="1652760" cy="182412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pic>
        <p:nvPicPr>
          <p:cNvPr id="720" name="Рисунок 7" descr=""/>
          <p:cNvPicPr/>
          <p:nvPr/>
        </p:nvPicPr>
        <p:blipFill>
          <a:blip r:embed="rId6"/>
          <a:stretch/>
        </p:blipFill>
        <p:spPr>
          <a:xfrm>
            <a:off x="324000" y="1155600"/>
            <a:ext cx="2732040" cy="178452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92d050">
                <a:alpha val="70196"/>
              </a:srgbClr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5"/>
          <p:cNvSpPr/>
          <p:nvPr/>
        </p:nvSpPr>
        <p:spPr>
          <a:xfrm>
            <a:off x="1200240" y="-341280"/>
            <a:ext cx="561960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graphicFrame>
        <p:nvGraphicFramePr>
          <p:cNvPr id="620" name=""/>
          <p:cNvGraphicFramePr/>
          <p:nvPr/>
        </p:nvGraphicFramePr>
        <p:xfrm>
          <a:off x="216000" y="2205000"/>
          <a:ext cx="8785080" cy="4572000"/>
        </p:xfrm>
        <a:graphic>
          <a:graphicData uri="http://schemas.openxmlformats.org/drawingml/2006/table">
            <a:tbl>
              <a:tblPr/>
              <a:tblGrid>
                <a:gridCol w="1557360"/>
                <a:gridCol w="7227720"/>
              </a:tblGrid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УАЛЬНОСТЬ ТЕ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словлена тем, что проблема физической подготовленности детей школьного возраста является одной из самых актуальных в условиях недостаточной двигательной активност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20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 ИССЛЕД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следовать физическую подготовленность девочек 8-9 лет занимающихся в группе аэробик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3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ЧИ ИССЛЕД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ить уровень физической подготовленности.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анализировать состояние двигательной подготовленности в динамик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делать вывод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31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КТ ПРЕДМЕТ ИССЛЕД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качества девочек 8-9 лет. 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сс спортивной тренировк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ПОТЕЗА ИССЛЕД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ли девочки занимаются регулярно в группе аэробики, то у них повышаются показатели физической подготовленност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417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Ы ИССЛЕД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Изучение и анализ литературы: 1. Возрастные особенности двигательной подготовленности. 2. Физические качества младшего школьного возраста                                          2. Тестирование физической подготовленности: 1. Силовые способности (отжимания). 2. Координационные способности (челночный бег). 3. Скоростно-силовые способности (прыжок в длину с места). 4. Скоростные способности (бег 30 метров). 5. Выносливость (6-ти минутный бег). 6. Гибкость (наклон вперёд из положения сид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Анализ полученных результа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3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АПЫ ИССЛЕД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учение литературы по теме исследования (сентябрь 2019 года)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ие тестирования (сентябрь 12 года, апрель 2020 года).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из результатов. Выводы (апрель 2020 год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621" name="Прямоугольник 2"/>
          <p:cNvSpPr/>
          <p:nvPr/>
        </p:nvSpPr>
        <p:spPr>
          <a:xfrm>
            <a:off x="0" y="0"/>
            <a:ext cx="8856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начимость аэробных занятий огромно.  </a:t>
            </a:r>
            <a:r>
              <a:rPr b="1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нимаясь регулярно можно достичь многого.                                                                     Фитнес-аэробика, спортивная аэробика –</a:t>
            </a:r>
            <a:r>
              <a:rPr b="1" lang="ru-RU" sz="12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это здоровье плюс хорошее настроение.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22" name="Прямоугольник 3"/>
          <p:cNvSpPr/>
          <p:nvPr/>
        </p:nvSpPr>
        <p:spPr>
          <a:xfrm>
            <a:off x="1042920" y="353880"/>
            <a:ext cx="7129440" cy="28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ЗАНЯТИЯ АЭРОБИКОЙ СПОСОБСТВУЮТ УКРЕПЛЕНИЮ: 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ЕРДЕЧНО-СОСУДИСТОЙ СИСТЕМЫ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ПОРНО-ДВИГАТЕЛЬНОГО АППАРАТА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ЕРВНОЙ СИСТЕМЫ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ИЩЕВАРИТЕЛЬНОЙ СИСТЕМЫ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НДОКРИННОЙ СИСТЕМЫ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ЗАНЯТИЯ АЭРОБИКОЙ СПОСОБСТВУЮТ 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ИОБРЕТЕНИЮ ДВИГАТЕЛЬНЫХ НАВЫКОВ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АЗВИТИЮ СПОСОБНОСТЕЙ МУЗЫКАЛЬНОГО СЛУХА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3" name=""/>
          <p:cNvGraphicFramePr/>
          <p:nvPr/>
        </p:nvGraphicFramePr>
        <p:xfrm>
          <a:off x="900000" y="620640"/>
          <a:ext cx="7021800" cy="2865600"/>
        </p:xfrm>
        <a:graphic>
          <a:graphicData uri="http://schemas.openxmlformats.org/drawingml/2006/table">
            <a:tbl>
              <a:tblPr/>
              <a:tblGrid>
                <a:gridCol w="292320"/>
                <a:gridCol w="1989000"/>
                <a:gridCol w="762120"/>
                <a:gridCol w="760320"/>
                <a:gridCol w="819000"/>
                <a:gridCol w="702000"/>
                <a:gridCol w="793440"/>
                <a:gridCol w="903600"/>
              </a:tblGrid>
              <a:tr h="330120">
                <a:tc rowSpan="3"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 rowSpan="3"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Физические способ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 gridSpan="6"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Уровни двигательной подготовл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9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ентябрь 2019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Апрель 2020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низ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ред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высо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низ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сред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высо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311040"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корост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309600"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ынослив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309600"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илов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250920"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оординацион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311040"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Гибк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351000"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коростно-силов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</a:tr>
            </a:tbl>
          </a:graphicData>
        </a:graphic>
      </p:graphicFrame>
      <p:sp>
        <p:nvSpPr>
          <p:cNvPr id="624" name="Rectangle 1"/>
          <p:cNvSpPr/>
          <p:nvPr/>
        </p:nvSpPr>
        <p:spPr>
          <a:xfrm>
            <a:off x="0" y="27720"/>
            <a:ext cx="9144000" cy="7333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оличественный показатель учащихся,                                                                                                                     занимающихся в группе аэробики, получившие определённые уровни двигательной подготовленности. 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25" name="Прямоугольник 1"/>
          <p:cNvSpPr/>
          <p:nvPr/>
        </p:nvSpPr>
        <p:spPr>
          <a:xfrm>
            <a:off x="324000" y="3429000"/>
            <a:ext cx="860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роцентный показатель учащихся,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нимающихся в группе аэробики, получившие определённые уровни двигательной подготовленности. 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graphicFrame>
        <p:nvGraphicFramePr>
          <p:cNvPr id="626" name=""/>
          <p:cNvGraphicFramePr/>
          <p:nvPr/>
        </p:nvGraphicFramePr>
        <p:xfrm>
          <a:off x="755640" y="3913200"/>
          <a:ext cx="7272360" cy="2755800"/>
        </p:xfrm>
        <a:graphic>
          <a:graphicData uri="http://schemas.openxmlformats.org/drawingml/2006/table">
            <a:tbl>
              <a:tblPr/>
              <a:tblGrid>
                <a:gridCol w="322200"/>
                <a:gridCol w="2041560"/>
                <a:gridCol w="666720"/>
                <a:gridCol w="787320"/>
                <a:gridCol w="847800"/>
                <a:gridCol w="736560"/>
                <a:gridCol w="839880"/>
                <a:gridCol w="1030320"/>
              </a:tblGrid>
              <a:tr h="276120">
                <a:tc rowSpan="3"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 rowSpan="3"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Физические способ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 gridSpan="6"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Уровни двигательной подготовл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ентябрь 2019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Апрель 2020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низ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ред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высо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низ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сред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высо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276480"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корост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6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4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276120"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ынослив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3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7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274680"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илов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276120"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оординацион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9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274680"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Гибк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9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276120"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коростно-силов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9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95280" y="139320"/>
            <a:ext cx="8501040" cy="460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Уровни двигательной подготовленности скоростных способностей                        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евочек 8-9 лет, занимающихся в группе аэробики. Бег 30 мет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graphicFrame>
        <p:nvGraphicFramePr>
          <p:cNvPr id="629" name="Object 2"/>
          <p:cNvGraphicFramePr/>
          <p:nvPr/>
        </p:nvGraphicFramePr>
        <p:xfrm>
          <a:off x="1754280" y="608040"/>
          <a:ext cx="5495760" cy="268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4280" y="608040"/>
                    <a:ext cx="5495760" cy="26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1" name="Прямоугольник 1"/>
          <p:cNvSpPr/>
          <p:nvPr/>
        </p:nvSpPr>
        <p:spPr>
          <a:xfrm>
            <a:off x="1482840" y="3127320"/>
            <a:ext cx="705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ТЕСТИРОВАНИЕ СКОРОСТНЫХ СПОСОБНОСТЕЙ. БЕГ 30 МЕТРОВ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32" name="Прямоугольник 3"/>
          <p:cNvSpPr/>
          <p:nvPr/>
        </p:nvSpPr>
        <p:spPr>
          <a:xfrm>
            <a:off x="676080" y="3710160"/>
            <a:ext cx="190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а </a:t>
            </a:r>
            <a:r>
              <a:rPr b="0" lang="ru-RU" sz="1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«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имание!</a:t>
            </a:r>
            <a:r>
              <a:rPr b="0" lang="ru-RU" sz="1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633" name="Picture 3" descr="IMG_4061"/>
          <p:cNvPicPr/>
          <p:nvPr/>
        </p:nvPicPr>
        <p:blipFill>
          <a:blip r:embed="rId3"/>
          <a:srcRect l="5462" t="14543" r="8506" b="0"/>
          <a:stretch/>
        </p:blipFill>
        <p:spPr>
          <a:xfrm>
            <a:off x="838080" y="4292640"/>
            <a:ext cx="1584360" cy="21034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634" name="Picture 4" descr="IMG_4091"/>
          <p:cNvPicPr/>
          <p:nvPr/>
        </p:nvPicPr>
        <p:blipFill>
          <a:blip r:embed="rId4"/>
          <a:srcRect l="35658" t="9606" r="17959" b="0"/>
          <a:stretch/>
        </p:blipFill>
        <p:spPr>
          <a:xfrm>
            <a:off x="3787920" y="4319640"/>
            <a:ext cx="1428480" cy="20858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635" name="Picture 5" descr="IMG_4083"/>
          <p:cNvPicPr/>
          <p:nvPr/>
        </p:nvPicPr>
        <p:blipFill>
          <a:blip r:embed="rId5"/>
          <a:srcRect l="27378" t="9740" r="26752" b="9835"/>
          <a:stretch/>
        </p:blipFill>
        <p:spPr>
          <a:xfrm>
            <a:off x="6603840" y="4292640"/>
            <a:ext cx="1595520" cy="20937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636" name="Rectangle 7"/>
          <p:cNvSpPr/>
          <p:nvPr/>
        </p:nvSpPr>
        <p:spPr>
          <a:xfrm>
            <a:off x="3625920" y="3333600"/>
            <a:ext cx="1752480" cy="946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г на дистанции                                                                          Нимаева Саяна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37" name="Прямоугольник 4"/>
          <p:cNvSpPr/>
          <p:nvPr/>
        </p:nvSpPr>
        <p:spPr>
          <a:xfrm>
            <a:off x="6532560" y="3578400"/>
            <a:ext cx="1996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личный финиш            Халхарова Александра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20760" y="227160"/>
            <a:ext cx="8501040" cy="460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Уровни двигательной подготовленности  выносливости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евочек 8-9 лет, занимающихся в группе аэробики. 6-ти минутный бе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40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graphicFrame>
        <p:nvGraphicFramePr>
          <p:cNvPr id="641" name="Object 3"/>
          <p:cNvGraphicFramePr/>
          <p:nvPr/>
        </p:nvGraphicFramePr>
        <p:xfrm>
          <a:off x="1662120" y="585720"/>
          <a:ext cx="5662440" cy="2951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2120" y="585720"/>
                    <a:ext cx="5662440" cy="29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3" name="Прямоугольник 2"/>
          <p:cNvSpPr/>
          <p:nvPr/>
        </p:nvSpPr>
        <p:spPr>
          <a:xfrm>
            <a:off x="384120" y="3414600"/>
            <a:ext cx="871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ТЕСТИРОВАНИЕ ВЫНОСЛИВОСТИ. 6-ТИ МИНУТНЫЙ БЕГ 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644" name="Picture 3" descr="IMG_4084"/>
          <p:cNvPicPr/>
          <p:nvPr/>
        </p:nvPicPr>
        <p:blipFill>
          <a:blip r:embed="rId3"/>
          <a:srcRect l="17333" t="0" r="3921" b="0"/>
          <a:stretch/>
        </p:blipFill>
        <p:spPr>
          <a:xfrm>
            <a:off x="601560" y="4183200"/>
            <a:ext cx="2354400" cy="22366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645" name="Picture 5" descr="IMG_4090"/>
          <p:cNvPicPr/>
          <p:nvPr/>
        </p:nvPicPr>
        <p:blipFill>
          <a:blip r:embed="rId4"/>
          <a:srcRect l="1305" t="11346" r="-142" b="13094"/>
          <a:stretch/>
        </p:blipFill>
        <p:spPr>
          <a:xfrm>
            <a:off x="4853160" y="4815000"/>
            <a:ext cx="2860560" cy="16351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646" name="Rectangle 6"/>
          <p:cNvSpPr/>
          <p:nvPr/>
        </p:nvSpPr>
        <p:spPr>
          <a:xfrm>
            <a:off x="635040" y="3759480"/>
            <a:ext cx="257184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а </a:t>
            </a:r>
            <a:r>
              <a:rPr b="0" lang="ru-RU" sz="1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«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тарт!</a:t>
            </a:r>
            <a:r>
              <a:rPr b="0" lang="ru-RU" sz="1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47" name="Rectangle 6"/>
          <p:cNvSpPr/>
          <p:nvPr/>
        </p:nvSpPr>
        <p:spPr>
          <a:xfrm>
            <a:off x="4356000" y="4366080"/>
            <a:ext cx="407196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г на дистанции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79280" y="377640"/>
            <a:ext cx="8501040" cy="461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Уровни двигательной подготовленности  силовых способностей 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евочек 8-9 лет, занимающихся в группе аэробики. Сгибание-разгибание рук в упоре лёж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50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51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graphicFrame>
        <p:nvGraphicFramePr>
          <p:cNvPr id="652" name="Object 3"/>
          <p:cNvGraphicFramePr/>
          <p:nvPr/>
        </p:nvGraphicFramePr>
        <p:xfrm>
          <a:off x="2093760" y="950760"/>
          <a:ext cx="4662720" cy="2540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3760" y="950760"/>
                    <a:ext cx="4662720" cy="25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4" name="Прямоугольник 2"/>
          <p:cNvSpPr/>
          <p:nvPr/>
        </p:nvSpPr>
        <p:spPr>
          <a:xfrm>
            <a:off x="179280" y="3645000"/>
            <a:ext cx="896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ТЕСТИРОВАНИЕ СИЛОВЫХ СПОСОБНОСТЕЙ СГИБАНИЕ-РАЗГИБАНИЕ РУК В УПОРЕ ЛЁЖА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655" name="Picture 3" descr="IMG_4030"/>
          <p:cNvPicPr/>
          <p:nvPr/>
        </p:nvPicPr>
        <p:blipFill>
          <a:blip r:embed="rId3"/>
          <a:srcRect l="0" t="8504" r="0" b="0"/>
          <a:stretch/>
        </p:blipFill>
        <p:spPr>
          <a:xfrm>
            <a:off x="2533680" y="4292640"/>
            <a:ext cx="3359160" cy="2298600"/>
          </a:xfrm>
          <a:prstGeom prst="rect">
            <a:avLst/>
          </a:prstGeom>
          <a:ln w="28440">
            <a:solidFill>
              <a:srgbClr val="0000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56" name="Прямоугольник 6"/>
          <p:cNvSpPr/>
          <p:nvPr/>
        </p:nvSpPr>
        <p:spPr>
          <a:xfrm>
            <a:off x="2075040" y="3889440"/>
            <a:ext cx="427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 прямого положения тела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20760" y="412560"/>
            <a:ext cx="8501040" cy="461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Уровни двигательной подготовленности координационных способностей 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евочек 8-9 лет, занимающихся в группе аэробики. Челночный бег 3х10 мет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59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60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61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graphicFrame>
        <p:nvGraphicFramePr>
          <p:cNvPr id="662" name="Object 3"/>
          <p:cNvGraphicFramePr/>
          <p:nvPr/>
        </p:nvGraphicFramePr>
        <p:xfrm>
          <a:off x="2022480" y="950760"/>
          <a:ext cx="4594320" cy="2408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2480" y="950760"/>
                    <a:ext cx="4594320" cy="24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4" name="Прямоугольник 2"/>
          <p:cNvSpPr/>
          <p:nvPr/>
        </p:nvSpPr>
        <p:spPr>
          <a:xfrm>
            <a:off x="320760" y="3284640"/>
            <a:ext cx="882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ТЕСТИРОВАНИЕ КООРДИНАЦИОННЫХ СПОСОБНОСТЕЙ. ЧЕЛНОЧНЫЙ БЕГ 3Х10 МЕТРОВ 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665" name="Picture 5" descr="IMG_4060"/>
          <p:cNvPicPr/>
          <p:nvPr/>
        </p:nvPicPr>
        <p:blipFill>
          <a:blip r:embed="rId3"/>
          <a:srcRect l="0" t="5873" r="0" b="0"/>
          <a:stretch/>
        </p:blipFill>
        <p:spPr>
          <a:xfrm>
            <a:off x="1616040" y="4168800"/>
            <a:ext cx="1911240" cy="24033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666" name="Picture 7" descr="IMG_4075"/>
          <p:cNvPicPr/>
          <p:nvPr/>
        </p:nvPicPr>
        <p:blipFill>
          <a:blip r:embed="rId4"/>
          <a:srcRect l="22872" t="6134" r="7849" b="0"/>
          <a:stretch/>
        </p:blipFill>
        <p:spPr>
          <a:xfrm>
            <a:off x="5273640" y="4098960"/>
            <a:ext cx="2484360" cy="25160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667" name="Rectangle 6"/>
          <p:cNvSpPr/>
          <p:nvPr/>
        </p:nvSpPr>
        <p:spPr>
          <a:xfrm>
            <a:off x="1285920" y="3770280"/>
            <a:ext cx="2571840" cy="2764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а 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«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тарт!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68" name="Прямоугольник 6"/>
          <p:cNvSpPr/>
          <p:nvPr/>
        </p:nvSpPr>
        <p:spPr>
          <a:xfrm>
            <a:off x="3762360" y="3784680"/>
            <a:ext cx="550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 за выполнением теста и секундами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1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5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20760" y="227160"/>
            <a:ext cx="8501040" cy="460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Уровни двигательной подготовленности гибкости девочек 8-9 лет, занимающихся в группе аэробики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Наклон вперёд из положения сид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71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72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73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74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graphicFrame>
        <p:nvGraphicFramePr>
          <p:cNvPr id="675" name="Object 3"/>
          <p:cNvGraphicFramePr/>
          <p:nvPr/>
        </p:nvGraphicFramePr>
        <p:xfrm>
          <a:off x="1758960" y="1023840"/>
          <a:ext cx="5086440" cy="2793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8960" y="1023840"/>
                    <a:ext cx="5086440" cy="27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7" name="Прямоугольник 2"/>
          <p:cNvSpPr/>
          <p:nvPr/>
        </p:nvSpPr>
        <p:spPr>
          <a:xfrm>
            <a:off x="468360" y="3500280"/>
            <a:ext cx="85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ТЕСТИРОВАНИЕ ГИБКОСТИ. НАКЛОН ВПЕРЁД ИЗ ПОЛОЖЕНИЯ СИДЯ 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678" name="Picture 1" descr="IMG_4018"/>
          <p:cNvPicPr/>
          <p:nvPr/>
        </p:nvPicPr>
        <p:blipFill>
          <a:blip r:embed="rId3"/>
          <a:srcRect l="4624" t="39047" r="6927" b="15598"/>
          <a:stretch/>
        </p:blipFill>
        <p:spPr>
          <a:xfrm>
            <a:off x="2755800" y="4653000"/>
            <a:ext cx="3357720" cy="1289160"/>
          </a:xfrm>
          <a:prstGeom prst="rect">
            <a:avLst/>
          </a:prstGeom>
          <a:ln w="28440">
            <a:solidFill>
              <a:srgbClr val="0000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79" name="Прямоугольник 6"/>
          <p:cNvSpPr/>
          <p:nvPr/>
        </p:nvSpPr>
        <p:spPr>
          <a:xfrm>
            <a:off x="2771640" y="4022640"/>
            <a:ext cx="36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 прямого положения тела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08000" y="227160"/>
            <a:ext cx="9036000" cy="460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Уровни двигательной подготовленности скоростно-силовых способностей девочек 8-9 лет, занимающихся в группе аэробики. Прыжок в длину с ме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82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83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84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85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86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graphicFrame>
        <p:nvGraphicFramePr>
          <p:cNvPr id="687" name="Object 3"/>
          <p:cNvGraphicFramePr/>
          <p:nvPr/>
        </p:nvGraphicFramePr>
        <p:xfrm>
          <a:off x="1571760" y="585720"/>
          <a:ext cx="5481360" cy="28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1760" y="585720"/>
                    <a:ext cx="5481360" cy="28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9" name="Прямоугольник 2"/>
          <p:cNvSpPr/>
          <p:nvPr/>
        </p:nvSpPr>
        <p:spPr>
          <a:xfrm>
            <a:off x="-144360" y="3141720"/>
            <a:ext cx="94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ТЕСТИРОВАНИЕ СКОРОСТНО-СИЛОВЫХ СПОСОБНОСТЕЙ. ПРЫЖОК В ДЛИНУ С МЕСТА 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690" name="Picture 3" descr="IMG_4002"/>
          <p:cNvPicPr/>
          <p:nvPr/>
        </p:nvPicPr>
        <p:blipFill>
          <a:blip r:embed="rId3"/>
          <a:srcRect l="25613" t="17063" r="26439" b="0"/>
          <a:stretch/>
        </p:blipFill>
        <p:spPr>
          <a:xfrm>
            <a:off x="428760" y="4005360"/>
            <a:ext cx="1873080" cy="2423880"/>
          </a:xfrm>
          <a:prstGeom prst="rect">
            <a:avLst/>
          </a:prstGeom>
          <a:ln w="28440">
            <a:solidFill>
              <a:srgbClr val="0000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91" name="Picture 4" descr="IMG_3994"/>
          <p:cNvPicPr/>
          <p:nvPr/>
        </p:nvPicPr>
        <p:blipFill>
          <a:blip r:embed="rId4"/>
          <a:srcRect l="32676" t="8268" r="26227" b="15598"/>
          <a:stretch/>
        </p:blipFill>
        <p:spPr>
          <a:xfrm>
            <a:off x="3419640" y="4011480"/>
            <a:ext cx="1747800" cy="2421000"/>
          </a:xfrm>
          <a:prstGeom prst="rect">
            <a:avLst/>
          </a:prstGeom>
          <a:ln w="28440">
            <a:solidFill>
              <a:srgbClr val="0000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92" name="Picture 5" descr="IMG_4007"/>
          <p:cNvPicPr/>
          <p:nvPr/>
        </p:nvPicPr>
        <p:blipFill>
          <a:blip r:embed="rId5"/>
          <a:srcRect l="20516" t="0" r="21526" b="0"/>
          <a:stretch/>
        </p:blipFill>
        <p:spPr>
          <a:xfrm>
            <a:off x="6215040" y="3997440"/>
            <a:ext cx="1886040" cy="2431800"/>
          </a:xfrm>
          <a:prstGeom prst="rect">
            <a:avLst/>
          </a:prstGeom>
          <a:ln w="28440">
            <a:solidFill>
              <a:srgbClr val="0000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93" name="Прямоугольник 6"/>
          <p:cNvSpPr/>
          <p:nvPr/>
        </p:nvSpPr>
        <p:spPr>
          <a:xfrm>
            <a:off x="-144360" y="3522600"/>
            <a:ext cx="292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ка к прыжку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94" name="Прямоугольник 6"/>
          <p:cNvSpPr/>
          <p:nvPr/>
        </p:nvSpPr>
        <p:spPr>
          <a:xfrm>
            <a:off x="2828880" y="3646440"/>
            <a:ext cx="292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земление прыжка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95" name="Прямоугольник 7"/>
          <p:cNvSpPr/>
          <p:nvPr/>
        </p:nvSpPr>
        <p:spPr>
          <a:xfrm>
            <a:off x="5824440" y="3646440"/>
            <a:ext cx="292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ряем длину прыжка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1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3T08:19:42Z</dcterms:created>
  <dc:creator>Admin</dc:creator>
  <dc:description/>
  <dc:language>en-US</dc:language>
  <cp:lastModifiedBy>Admin</cp:lastModifiedBy>
  <dcterms:modified xsi:type="dcterms:W3CDTF">2019-05-12T12:00:08Z</dcterms:modified>
  <cp:revision>316</cp:revision>
  <dc:subject/>
  <dc:title>Цыбикова Аяна Баиновна</dc:title>
</cp:coreProperties>
</file>