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Monotype Corsiva"/>
              </a:rPr>
              <a:t>Click to move the slide</a:t>
            </a: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916F-6994-4E4A-9271-5CC78596D2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487A-5D0F-4D4D-966A-A28B330D11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F4E-EFC9-4088-913A-6B281939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EA90-6CE2-41BA-94B7-B3DE0FAB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FA0-6806-4FF2-AF40-CAAA0B61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2B34-4AA1-4684-8FE9-47DCD4DF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7A26-32AC-4B0A-A584-DECDC660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E97B-B29D-4B06-82B0-DDB25363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3EB7-A949-4AA1-A70E-431AAF4C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0517-69C6-4D7D-830D-EFE7529D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991E-D7FB-4473-87C2-3364E55D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4198-F4EB-43CE-9111-FFD0A424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DAA6-0DAF-49B7-97A6-22F447EF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E7A-CE3F-4F44-9225-3EE40A35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08EE-AABD-4087-9870-5E5AD001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C6C9-F7D4-437D-9BE0-E61BDBBE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DB04-F584-4F11-B895-2F294419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2571-1BAC-42FA-8B3A-07394D91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13FB-9F52-4E7C-A6AF-03A8035B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F048E-D673-4CF1-AD31-34A050F4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6D726-B58A-451C-AAC6-F3E8DFA7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586A3-D371-4D60-BF67-CC1A8FC9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67C80-1C59-4F86-AB91-896651DA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EB946-A56D-4CB7-A938-0A5E0EEF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7A73-F23E-40F0-B85E-10BABFAC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DFAFA-C9D0-4F66-9A66-69325D27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30B36-5261-428B-8CA9-843D4025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FBEB0-14B9-4B59-821F-616281CA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4EFC8-3FB4-4CFE-8492-88307012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FC9E2-98EF-4FAB-9BFC-AD098819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2161E-51E6-4C8C-A0E3-6B48CB5A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FED43-3642-431B-92D9-6CD82CE4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F13E-2024-42B3-925F-6BB995DA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8C62-0F17-46B2-B71A-8ADEB30F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8D8C-AE9E-4022-B79A-894D6616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CC18-5AF7-4DA2-8A10-AC12E6AB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12F0-8100-4904-AFB0-0158CDBC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BD05-8ECA-4335-8202-304906D0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hello_html_m217a7544.jpg"/>
          <p:cNvPicPr/>
          <p:nvPr/>
        </p:nvPicPr>
        <p:blipFill>
          <a:blip r:embed="rId3"/>
          <a:stretch/>
        </p:blipFill>
        <p:spPr>
          <a:xfrm>
            <a:off x="-165240" y="146160"/>
            <a:ext cx="2060640" cy="199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Monotype Corsiva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8821-063D-4903-9DCB-F3C0973512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Рамка 8"/>
          <p:cNvGrpSpPr/>
          <p:nvPr/>
        </p:nvGrpSpPr>
        <p:grpSpPr>
          <a:xfrm>
            <a:off x="-60480" y="-36360"/>
            <a:ext cx="9264960" cy="5267160"/>
            <a:chOff x="-60480" y="-36360"/>
            <a:chExt cx="9264960" cy="5267160"/>
          </a:xfrm>
        </p:grpSpPr>
        <p:pic>
          <p:nvPicPr>
            <p:cNvPr id="7" name="Рамка 8" descr=""/>
            <p:cNvPicPr/>
            <p:nvPr/>
          </p:nvPicPr>
          <p:blipFill>
            <a:blip r:embed="rId4"/>
            <a:stretch/>
          </p:blipFill>
          <p:spPr>
            <a:xfrm>
              <a:off x="-60480" y="-3636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93600" y="93600"/>
              <a:ext cx="8956800" cy="49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7" descr="hello_html_m217a7544.jpg"/>
          <p:cNvPicPr/>
          <p:nvPr/>
        </p:nvPicPr>
        <p:blipFill>
          <a:blip r:embed="rId3"/>
          <a:stretch/>
        </p:blipFill>
        <p:spPr>
          <a:xfrm>
            <a:off x="-165240" y="146160"/>
            <a:ext cx="2060640" cy="1993680"/>
          </a:xfrm>
          <a:prstGeom prst="rect">
            <a:avLst/>
          </a:prstGeom>
          <a:ln w="0">
            <a:noFill/>
          </a:ln>
        </p:spPr>
      </p:pic>
      <p:grpSp>
        <p:nvGrpSpPr>
          <p:cNvPr id="46" name="Рамка 8"/>
          <p:cNvGrpSpPr/>
          <p:nvPr/>
        </p:nvGrpSpPr>
        <p:grpSpPr>
          <a:xfrm>
            <a:off x="-60480" y="-36360"/>
            <a:ext cx="9264960" cy="5267160"/>
            <a:chOff x="-60480" y="-36360"/>
            <a:chExt cx="9264960" cy="5267160"/>
          </a:xfrm>
        </p:grpSpPr>
        <p:pic>
          <p:nvPicPr>
            <p:cNvPr id="47" name="Рамка 8" descr=""/>
            <p:cNvPicPr/>
            <p:nvPr/>
          </p:nvPicPr>
          <p:blipFill>
            <a:blip r:embed="rId4"/>
            <a:stretch/>
          </p:blipFill>
          <p:spPr>
            <a:xfrm>
              <a:off x="-60480" y="-3636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93600" y="93600"/>
              <a:ext cx="8956800" cy="49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Рисунок 9" descr="shablon-deti-prevyu-1.png"/>
          <p:cNvPicPr/>
          <p:nvPr/>
        </p:nvPicPr>
        <p:blipFill>
          <a:blip r:embed="rId5"/>
          <a:stretch/>
        </p:blipFill>
        <p:spPr>
          <a:xfrm>
            <a:off x="5857920" y="4214880"/>
            <a:ext cx="3143160" cy="819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0031-024-Spisok-ispolzuemoj-literatury.png"/>
          <p:cNvPicPr/>
          <p:nvPr/>
        </p:nvPicPr>
        <p:blipFill>
          <a:blip r:embed="rId6"/>
          <a:stretch/>
        </p:blipFill>
        <p:spPr>
          <a:xfrm>
            <a:off x="7858080" y="142920"/>
            <a:ext cx="1122480" cy="1225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Monotype Corsiva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8A2E-8C95-410D-A377-E339A4CA02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7" descr="hello_html_m217a7544.jpg"/>
          <p:cNvPicPr/>
          <p:nvPr/>
        </p:nvPicPr>
        <p:blipFill>
          <a:blip r:embed="rId3"/>
          <a:stretch/>
        </p:blipFill>
        <p:spPr>
          <a:xfrm>
            <a:off x="-165240" y="146160"/>
            <a:ext cx="2060640" cy="1993680"/>
          </a:xfrm>
          <a:prstGeom prst="rect">
            <a:avLst/>
          </a:prstGeom>
          <a:ln w="0">
            <a:noFill/>
          </a:ln>
        </p:spPr>
      </p:pic>
      <p:grpSp>
        <p:nvGrpSpPr>
          <p:cNvPr id="93" name="Рамка 8"/>
          <p:cNvGrpSpPr/>
          <p:nvPr/>
        </p:nvGrpSpPr>
        <p:grpSpPr>
          <a:xfrm>
            <a:off x="-60480" y="-36360"/>
            <a:ext cx="9264960" cy="5267160"/>
            <a:chOff x="-60480" y="-36360"/>
            <a:chExt cx="9264960" cy="5267160"/>
          </a:xfrm>
        </p:grpSpPr>
        <p:pic>
          <p:nvPicPr>
            <p:cNvPr id="94" name="Рамка 8" descr=""/>
            <p:cNvPicPr/>
            <p:nvPr/>
          </p:nvPicPr>
          <p:blipFill>
            <a:blip r:embed="rId4"/>
            <a:stretch/>
          </p:blipFill>
          <p:spPr>
            <a:xfrm>
              <a:off x="-60480" y="-3636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93600" y="93600"/>
              <a:ext cx="8956800" cy="49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Рисунок 8" descr="1383211561_god-20121.png"/>
          <p:cNvPicPr/>
          <p:nvPr/>
        </p:nvPicPr>
        <p:blipFill>
          <a:blip r:embed="rId5"/>
          <a:stretch/>
        </p:blipFill>
        <p:spPr>
          <a:xfrm>
            <a:off x="7858080" y="142920"/>
            <a:ext cx="1036800" cy="10000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9" descr="0_828ac_dca4804f_orig.png"/>
          <p:cNvPicPr/>
          <p:nvPr/>
        </p:nvPicPr>
        <p:blipFill>
          <a:blip r:embed="rId6"/>
          <a:stretch/>
        </p:blipFill>
        <p:spPr>
          <a:xfrm>
            <a:off x="7286760" y="4214880"/>
            <a:ext cx="1685880" cy="7938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Monotype Corsiva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310E-66DA-42A4-8081-26593EBBAC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492200"/>
            <a:ext cx="777384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18be"/>
                </a:solidFill>
                <a:latin typeface="Monotype Corsiva"/>
              </a:rPr>
              <a:t>ТЕХНОЛОГИЯ ДЕЯТЕЛЬНОСТИ УЧИТЕЛЯ-ЛОГОПЕДА ПО КОРРЕКЦИИ  РЕЧИ ДЕТЕЙ С ОГРАНИЧЕННЫМИ ВОЗМОЖНОСТЯМИ ЗДОРОВЬЯ В УСЛОВИЯХ ШКОЛЬНОГО ЛОГОПУНКТА </a:t>
            </a:r>
            <a:endParaRPr b="1" lang="en-US" sz="2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355640" y="2858760"/>
            <a:ext cx="406404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Никулина Т.В. </a:t>
            </a:r>
            <a:endParaRPr b="1" lang="en-US" sz="1400" spc="-1" strike="noStrike">
              <a:solidFill>
                <a:srgbClr val="00206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        </a:t>
            </a: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учитель-логопед </a:t>
            </a:r>
            <a:endParaRPr b="1" lang="en-US" sz="1400" spc="-1" strike="noStrike">
              <a:solidFill>
                <a:srgbClr val="00206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МБОУ «Лицей им.Г.Ф. Атякшева»</a:t>
            </a:r>
            <a:endParaRPr b="1" lang="en-US" sz="1400" spc="-1" strike="noStrike">
              <a:solidFill>
                <a:srgbClr val="00206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г. Югорск, ХМАО-Югра.</a:t>
            </a:r>
            <a:endParaRPr b="1" lang="en-US" sz="1400" spc="-1" strike="noStrike">
              <a:solidFill>
                <a:srgbClr val="00206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92360" y="195120"/>
            <a:ext cx="67672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ТЕХНОЛОГИИ КОРРЕКЦИИ НАРУШЕНИЙ ЧТЕНИЯ</a:t>
            </a:r>
            <a:br>
              <a:rPr sz="3200"/>
            </a:br>
            <a:endParaRPr b="1" lang="en-US" sz="32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22160" y="217980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роцессе овладения чтением  дети с особыми образовательными потребностями проходят те же этапы, что и в норме. Однако,   они овладевают ступенями чтения в 3 раза дольше, чем нормальные школьники. Ступени обучения чтению у них растягиваются во времени, а промежутки между ними более продолжительны.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47640" y="195120"/>
            <a:ext cx="74836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ТЕХНОЛОГИИ КОРРЕКЦИИ НАРУШЕНИЙ ПИСЬМА</a:t>
            </a:r>
            <a:endParaRPr b="1" lang="en-US" sz="32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3866760"/>
            <a:ext cx="7772400" cy="11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ая технология способствует: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ю слоговой структуры слова;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тию языкового анализа и синтеза;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тию фонематического восприятия;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тию фонематического и слогового анализа и синтеза;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огащению и систематизации словарного запаса;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ю и закреплению правил словоизменения и словообразования;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ранению аграмматизмов в устной и письменной речи.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Прямоугольник 3" descr=""/>
          <p:cNvPicPr/>
          <p:nvPr/>
        </p:nvPicPr>
        <p:blipFill>
          <a:blip r:embed="rId1"/>
          <a:stretch/>
        </p:blipFill>
        <p:spPr>
          <a:xfrm>
            <a:off x="396720" y="2004840"/>
            <a:ext cx="7888320" cy="21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Скругленный прямоугольник 5"/>
          <p:cNvSpPr/>
          <p:nvPr/>
        </p:nvSpPr>
        <p:spPr>
          <a:xfrm>
            <a:off x="2992320" y="1969920"/>
            <a:ext cx="320040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4"/>
          <p:cNvSpPr/>
          <p:nvPr/>
        </p:nvSpPr>
        <p:spPr>
          <a:xfrm>
            <a:off x="1116000" y="271440"/>
            <a:ext cx="2774880" cy="124452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ология логопедического об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Прямоугольник 2" descr=""/>
          <p:cNvPicPr/>
          <p:nvPr/>
        </p:nvPicPr>
        <p:blipFill>
          <a:blip r:embed="rId1"/>
          <a:stretch/>
        </p:blipFill>
        <p:spPr>
          <a:xfrm>
            <a:off x="3121200" y="1968480"/>
            <a:ext cx="3120840" cy="1146240"/>
          </a:xfrm>
          <a:prstGeom prst="rect">
            <a:avLst/>
          </a:prstGeom>
          <a:ln w="0">
            <a:noFill/>
          </a:ln>
        </p:spPr>
      </p:pic>
      <p:sp>
        <p:nvSpPr>
          <p:cNvPr id="151" name="Овал 7"/>
          <p:cNvSpPr/>
          <p:nvPr/>
        </p:nvSpPr>
        <p:spPr>
          <a:xfrm>
            <a:off x="3801960" y="270000"/>
            <a:ext cx="1843200" cy="139068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ологии коррекции звукопроиз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9"/>
          <p:cNvSpPr/>
          <p:nvPr/>
        </p:nvSpPr>
        <p:spPr>
          <a:xfrm>
            <a:off x="5673600" y="414360"/>
            <a:ext cx="2708280" cy="110160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ология формирования фонематических проце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10"/>
          <p:cNvSpPr/>
          <p:nvPr/>
        </p:nvSpPr>
        <p:spPr>
          <a:xfrm>
            <a:off x="108000" y="2932200"/>
            <a:ext cx="2432160" cy="15843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ология формирования связной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11"/>
          <p:cNvSpPr/>
          <p:nvPr/>
        </p:nvSpPr>
        <p:spPr>
          <a:xfrm>
            <a:off x="108000" y="1563840"/>
            <a:ext cx="2519280" cy="131760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ологии формирования звуко-буквенного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2"/>
          <p:cNvSpPr/>
          <p:nvPr/>
        </p:nvSpPr>
        <p:spPr>
          <a:xfrm>
            <a:off x="6372360" y="1554120"/>
            <a:ext cx="2595600" cy="130968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хнология по формированию лексико-грамматической стороны ре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3"/>
          <p:cNvSpPr/>
          <p:nvPr/>
        </p:nvSpPr>
        <p:spPr>
          <a:xfrm>
            <a:off x="4359240" y="3557520"/>
            <a:ext cx="2157480" cy="13683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ологии коррекции нарушений ч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4"/>
          <p:cNvSpPr/>
          <p:nvPr/>
        </p:nvSpPr>
        <p:spPr>
          <a:xfrm>
            <a:off x="2268360" y="3540240"/>
            <a:ext cx="2159280" cy="140328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берегающи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6"/>
          <p:cNvSpPr/>
          <p:nvPr/>
        </p:nvSpPr>
        <p:spPr>
          <a:xfrm>
            <a:off x="6588000" y="2932200"/>
            <a:ext cx="2305080" cy="13683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ологии коррекции нарушений 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Прямая со стрелкой 15"/>
          <p:cNvCxnSpPr/>
          <p:nvPr/>
        </p:nvCxnSpPr>
        <p:spPr>
          <a:xfrm flipH="1" flipV="1">
            <a:off x="3065040" y="1443960"/>
            <a:ext cx="354960" cy="52596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60" name="Прямая со стрелкой 26"/>
          <p:cNvCxnSpPr/>
          <p:nvPr/>
        </p:nvCxnSpPr>
        <p:spPr>
          <a:xfrm flipH="1">
            <a:off x="3890160" y="3036600"/>
            <a:ext cx="321480" cy="57996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61" name="Прямая со стрелкой 27"/>
          <p:cNvCxnSpPr/>
          <p:nvPr/>
        </p:nvCxnSpPr>
        <p:spPr>
          <a:xfrm flipH="1">
            <a:off x="2382120" y="3036960"/>
            <a:ext cx="610200" cy="24336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62" name="Прямая со стрелкой 28"/>
          <p:cNvCxnSpPr/>
          <p:nvPr/>
        </p:nvCxnSpPr>
        <p:spPr>
          <a:xfrm>
            <a:off x="6195600" y="2518920"/>
            <a:ext cx="329040" cy="1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63" name="Прямая со стрелкой 29"/>
          <p:cNvCxnSpPr/>
          <p:nvPr/>
        </p:nvCxnSpPr>
        <p:spPr>
          <a:xfrm flipH="1" flipV="1">
            <a:off x="2626920" y="2337840"/>
            <a:ext cx="365760" cy="1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64" name="Прямая со стрелкой 30"/>
          <p:cNvCxnSpPr/>
          <p:nvPr/>
        </p:nvCxnSpPr>
        <p:spPr>
          <a:xfrm flipV="1">
            <a:off x="5895720" y="1444320"/>
            <a:ext cx="300600" cy="5040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65" name="Прямая со стрелкой 31"/>
          <p:cNvCxnSpPr>
            <a:stCxn id="150" idx="0"/>
          </p:cNvCxnSpPr>
          <p:nvPr/>
        </p:nvCxnSpPr>
        <p:spPr>
          <a:xfrm flipV="1">
            <a:off x="4659120" y="1660320"/>
            <a:ext cx="29160" cy="3355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66" name="Прямая со стрелкой 47"/>
          <p:cNvCxnSpPr/>
          <p:nvPr/>
        </p:nvCxnSpPr>
        <p:spPr>
          <a:xfrm>
            <a:off x="6084720" y="3036600"/>
            <a:ext cx="648360" cy="3992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67" name="Прямая со стрелкой 48"/>
          <p:cNvCxnSpPr>
            <a:endCxn id="156" idx="0"/>
          </p:cNvCxnSpPr>
          <p:nvPr/>
        </p:nvCxnSpPr>
        <p:spPr>
          <a:xfrm>
            <a:off x="5219280" y="3036960"/>
            <a:ext cx="219960" cy="5212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18920" y="195120"/>
            <a:ext cx="684036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Monotype Corsiva"/>
              </a:rPr>
              <a:t>Технология логопедического обследования</a:t>
            </a:r>
            <a:br>
              <a:rPr sz="3600"/>
            </a:br>
            <a:endParaRPr b="1" lang="en-US" sz="36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399744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</a:t>
            </a:r>
            <a:endParaRPr b="1" lang="en-US" sz="24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учение анамнестических данных ребенка;</a:t>
            </a:r>
            <a:endParaRPr b="1" lang="en-US" sz="24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учение речевого и психического уровня развития ребенка;                                  </a:t>
            </a:r>
            <a:endParaRPr b="1" lang="en-US" sz="24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ализ полученных результатов.                                                                                          </a:t>
            </a:r>
            <a:endParaRPr b="1" lang="en-US" sz="24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диагностики: </a:t>
            </a:r>
            <a:endParaRPr b="1" lang="en-US" sz="24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ходная диагностика ; </a:t>
            </a:r>
            <a:endParaRPr b="1" lang="en-US" sz="24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межуточная диагностика;                            </a:t>
            </a:r>
            <a:endParaRPr b="1" lang="en-US" sz="24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тоговая диагностика.</a:t>
            </a:r>
            <a:endParaRPr b="1" lang="en-US" sz="24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49280" y="1951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ТЕХНОЛОГИИ КОРРЕКЦИИ ЗВУКОПРОИЗНОШЕНИЯ</a:t>
            </a:r>
            <a:br>
              <a:rPr sz="3200"/>
            </a:br>
            <a:endParaRPr b="1" lang="en-US" sz="32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280" y="3579480"/>
            <a:ext cx="78440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бота по коррекции звукопроизношение имеет следующие этапы:</a:t>
            </a:r>
            <a:endParaRPr b="1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I. Подготовительный этап:</a:t>
            </a:r>
            <a:endParaRPr b="1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) Формирование точных движений органов артикуляции:</a:t>
            </a:r>
            <a:endParaRPr b="1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) Формирование направленной воздушной струи.</a:t>
            </a:r>
            <a:endParaRPr b="1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) Развитие мелкой моторики:</a:t>
            </a:r>
            <a:endParaRPr b="1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) Развитие фонематических процессов.</a:t>
            </a:r>
            <a:endParaRPr b="1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) Отработка опорных звуков</a:t>
            </a:r>
            <a:endParaRPr b="1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Этап формирования первичных произносительных умений и навыков включает:</a:t>
            </a:r>
            <a:endParaRPr b="1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остановку звука.</a:t>
            </a:r>
            <a:endParaRPr b="1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Автоматизация звука.</a:t>
            </a:r>
            <a:endParaRPr b="1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Дифференциация звука.</a:t>
            </a:r>
            <a:endParaRPr b="1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Этап формирования коммуникативных умений и навыков.</a:t>
            </a:r>
            <a:endParaRPr b="1" lang="en-US" sz="16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34920" y="195120"/>
            <a:ext cx="677052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ТЕХНОЛОГИЯ ФОРМИРОВАНИЯ ФОНЕМАТИЧЕСКИХ ПРОЦЕССОВ.</a:t>
            </a:r>
            <a:endParaRPr b="1" lang="en-US" sz="32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2355480"/>
            <a:ext cx="7844040" cy="11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нематические процессы включают: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нематический слух;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нематическое восприятие;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нематические представления;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нематический анализ и синтез.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47280" y="268200"/>
            <a:ext cx="7272360" cy="10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ТЕХНОЛОГИИ ФОРМИРОВАНИЯ ЗВУКО-БУКВЕННОГО АНАЛИЗА</a:t>
            </a:r>
            <a:br>
              <a:rPr sz="3200"/>
            </a:br>
            <a:endParaRPr b="1" lang="en-US" sz="32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1280" y="379584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та со слоговыми, звуковыми схемами. 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 познакомить детей с понятием «слово» и его протяженностью;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находить позицию звуков в слове и соотносить со схемой,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изображать гласные и согласные звуки с помощью зрительных символов,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различать твердые/мягкие звуки;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сформировать навыки анализа и синтеза слов;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 подбор  слов к заданной звуковой модели.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2000" y="339480"/>
            <a:ext cx="76276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Monotype Corsiva"/>
              </a:rPr>
              <a:t>ТЕХНОЛОГИЯ ПО ФОРМИРОВАНИЮ ЛЕКСИКО-ГРАММАТИЧЕСКОЙ СТОРОНЫ РЕЧИ</a:t>
            </a:r>
            <a:br>
              <a:rPr sz="2400"/>
            </a:br>
            <a:endParaRPr b="1" lang="en-US" sz="2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3866760"/>
            <a:ext cx="7772400" cy="11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развитие объёма словаря;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уточнение значений имеющихся у детей слов и дальнейшее обогащение словарного запаса как путем накопления новых слов, относящихся к различным частям речи, так и за счет развития у детей умения активно пользоваться различными способами словообразования.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развитие лексической системности и семантичности полей;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развитие словообразования;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профилактика и коррекция нарушений процессов чтения и письма.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000" y="268200"/>
            <a:ext cx="7127640" cy="10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ТЕХНОЛОГИЯ ФОРМИРОВАНИЯ СВЯЗНОЙ РЕЧИ</a:t>
            </a:r>
            <a:br>
              <a:rPr sz="3200"/>
            </a:br>
            <a:endParaRPr b="1" lang="en-US" sz="32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71640" y="307656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ловие  речевой коммуникативности является:</a:t>
            </a:r>
            <a:endParaRPr b="1" lang="en-US" sz="18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язность.  : смысловые связи между частями рассказа, логические связи между предложениями и законченность смыслового выражения мыслями говорящего. </a:t>
            </a:r>
            <a:endParaRPr b="1" lang="en-US" sz="18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ледовательность изложения.  </a:t>
            </a:r>
            <a:endParaRPr b="1" lang="en-US" sz="18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ико-смысловая организация - соблюдение связности и последовательности.</a:t>
            </a:r>
            <a:endParaRPr b="1" lang="en-US" sz="18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18920" y="268200"/>
            <a:ext cx="7273800" cy="10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Monotype Corsiva"/>
              </a:rPr>
              <a:t>ЗДОРОВЬЕ</a:t>
            </a:r>
            <a:br>
              <a:rPr sz="3600"/>
            </a:br>
            <a:r>
              <a:rPr b="1" lang="ru-RU" sz="3600" spc="-1" strike="noStrike">
                <a:solidFill>
                  <a:srgbClr val="0033cc"/>
                </a:solidFill>
                <a:latin typeface="Monotype Corsiva"/>
              </a:rPr>
              <a:t>СБЕРЕГАЮЩИЕ ТЕХНОЛОГИИ</a:t>
            </a:r>
            <a:endParaRPr b="1" lang="en-US" sz="36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1280" y="372420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98989"/>
                </a:solidFill>
                <a:latin typeface="Times New Roman"/>
              </a:rPr>
              <a:t>•</a:t>
            </a:r>
            <a:r>
              <a:rPr b="1" lang="ru-RU" sz="2000" spc="-1" strike="noStrike">
                <a:solidFill>
                  <a:srgbClr val="89898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ологии  сохранения  и стимулирования  здоровья (релаксация, пальчиковая гимнастика, гимнастика для глаз, дыхательная гимнастика).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ологии  обучения здорового  образа жизни (самомассаж, точечный массаж).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ологии    коррекционные    (артикуляционная гимнастика, психогимнастика, фонетическая ритмика, сказкотерапия).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е технологии входят в структуру логопедического занятия.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2T11:37:53Z</dcterms:created>
  <dc:creator>Lenovo</dc:creator>
  <dc:description/>
  <dc:language>en-US</dc:language>
  <cp:lastModifiedBy>Windows User</cp:lastModifiedBy>
  <dcterms:modified xsi:type="dcterms:W3CDTF">2019-05-12T14:46:47Z</dcterms:modified>
  <cp:revision>11</cp:revision>
  <dc:subject/>
  <dc:title>Слайд 1</dc:title>
</cp:coreProperties>
</file>