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onotype Corsiva"/>
              </a:rPr>
              <a:t>Click to move the slide</a:t>
            </a: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EEF0-E1A1-4441-8074-4AB0EBCC0A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02EB-52A7-410A-84F4-DA0DE541F0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F13-41DB-4E82-BFC1-1882723D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535-6DC8-442E-94E6-4868CC97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EA0-9E53-46D1-88EC-DD00D79D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3B4-7B5B-4DA0-9EB0-97D2ADD8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F51B-68C8-485B-B8C0-FCACEE86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0F0E-C81D-4263-8274-8B910E59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04AF-F767-4B80-81E1-0A5FCAB0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687C-2480-41BB-8484-E5A77574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0289-8A65-43FD-89C9-83FBB4EB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C5B9-8AF3-4C1B-8E92-5F0BCC9C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81AC-7239-49F1-9E56-61BA376A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CE9-4A3F-479F-80FA-B4C0DB92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4555-BD2C-4954-B9C4-408699D1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14D2-BCC4-4939-97C6-D7A8440F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F18C-78BD-4466-9AB3-02ADC379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D58D-9682-4DF1-836E-1551C49C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3A25-C9E8-4C96-84D2-26C2E20B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5E9F5-33E6-435B-9953-10FBEE96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2A93-92FE-4FB6-B484-F3744E79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8F30-5EA5-4517-935A-2E61308E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F681-143B-4D5E-B8A8-21C4BFB0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B45C-7EE3-433C-8591-05374051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A62-808B-489E-84E2-231DF61C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72F6-00A8-4B65-BCE9-6B1AF919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087CA-2240-4F25-9D5E-09AF5644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3DBF-8176-418A-AC86-70454C55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22685-AA78-4964-9656-22B33958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6DA09-0195-450C-93D6-4598AA77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F46D5-2862-4468-B6AC-AF666412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A185-CB5F-480F-8B1E-B4670423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13F-2BA5-4278-A533-127E64E0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835-7BA0-4F76-B7E0-F00BEB6C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033-EC67-407E-8FE3-7BB52A37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ABC-3D74-47F6-A3A4-2915C5B7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1C1-A603-4D35-8FC1-19DF3CB4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FA6-6BE6-48D8-B4B5-C82C18A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hello_html_m217a7544.jpg"/>
          <p:cNvPicPr/>
          <p:nvPr/>
        </p:nvPicPr>
        <p:blipFill>
          <a:blip r:embed="rId3"/>
          <a:stretch/>
        </p:blipFill>
        <p:spPr>
          <a:xfrm>
            <a:off x="-165240" y="146160"/>
            <a:ext cx="2060640" cy="199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FB4F-2EF1-4D6A-9B7C-6B72E7ADF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Рамка 8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7" name="Рамка 8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93600" y="93600"/>
              <a:ext cx="8956800" cy="49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hello_html_m217a7544.jpg"/>
          <p:cNvPicPr/>
          <p:nvPr/>
        </p:nvPicPr>
        <p:blipFill>
          <a:blip r:embed="rId3"/>
          <a:stretch/>
        </p:blipFill>
        <p:spPr>
          <a:xfrm>
            <a:off x="-165240" y="146160"/>
            <a:ext cx="2060640" cy="1993680"/>
          </a:xfrm>
          <a:prstGeom prst="rect">
            <a:avLst/>
          </a:prstGeom>
          <a:ln w="0">
            <a:noFill/>
          </a:ln>
        </p:spPr>
      </p:pic>
      <p:grpSp>
        <p:nvGrpSpPr>
          <p:cNvPr id="46" name="Рамка 8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47" name="Рамка 8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3600" y="93600"/>
              <a:ext cx="8956800" cy="49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Рисунок 9" descr="shablon-deti-prevyu-1.png"/>
          <p:cNvPicPr/>
          <p:nvPr/>
        </p:nvPicPr>
        <p:blipFill>
          <a:blip r:embed="rId5"/>
          <a:stretch/>
        </p:blipFill>
        <p:spPr>
          <a:xfrm>
            <a:off x="5857920" y="4214880"/>
            <a:ext cx="3143160" cy="819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0031-024-Spisok-ispolzuemoj-literatury.png"/>
          <p:cNvPicPr/>
          <p:nvPr/>
        </p:nvPicPr>
        <p:blipFill>
          <a:blip r:embed="rId6"/>
          <a:stretch/>
        </p:blipFill>
        <p:spPr>
          <a:xfrm>
            <a:off x="7858080" y="142920"/>
            <a:ext cx="1122480" cy="1225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7DE9-C792-4C88-8951-22940F5B5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7" descr="hello_html_m217a7544.jpg"/>
          <p:cNvPicPr/>
          <p:nvPr/>
        </p:nvPicPr>
        <p:blipFill>
          <a:blip r:embed="rId3"/>
          <a:stretch/>
        </p:blipFill>
        <p:spPr>
          <a:xfrm>
            <a:off x="-165240" y="146160"/>
            <a:ext cx="2060640" cy="1993680"/>
          </a:xfrm>
          <a:prstGeom prst="rect">
            <a:avLst/>
          </a:prstGeom>
          <a:ln w="0">
            <a:noFill/>
          </a:ln>
        </p:spPr>
      </p:pic>
      <p:grpSp>
        <p:nvGrpSpPr>
          <p:cNvPr id="93" name="Рамка 8"/>
          <p:cNvGrpSpPr/>
          <p:nvPr/>
        </p:nvGrpSpPr>
        <p:grpSpPr>
          <a:xfrm>
            <a:off x="-60480" y="-36360"/>
            <a:ext cx="9264960" cy="5267160"/>
            <a:chOff x="-60480" y="-36360"/>
            <a:chExt cx="9264960" cy="5267160"/>
          </a:xfrm>
        </p:grpSpPr>
        <p:pic>
          <p:nvPicPr>
            <p:cNvPr id="94" name="Рамка 8" descr=""/>
            <p:cNvPicPr/>
            <p:nvPr/>
          </p:nvPicPr>
          <p:blipFill>
            <a:blip r:embed="rId4"/>
            <a:stretch/>
          </p:blipFill>
          <p:spPr>
            <a:xfrm>
              <a:off x="-60480" y="-36360"/>
              <a:ext cx="9264960" cy="52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93600" y="93600"/>
              <a:ext cx="8956800" cy="49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8" descr="1383211561_god-20121.png"/>
          <p:cNvPicPr/>
          <p:nvPr/>
        </p:nvPicPr>
        <p:blipFill>
          <a:blip r:embed="rId5"/>
          <a:stretch/>
        </p:blipFill>
        <p:spPr>
          <a:xfrm>
            <a:off x="7858080" y="142920"/>
            <a:ext cx="1036800" cy="1000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0_828ac_dca4804f_orig.png"/>
          <p:cNvPicPr/>
          <p:nvPr/>
        </p:nvPicPr>
        <p:blipFill>
          <a:blip r:embed="rId6"/>
          <a:stretch/>
        </p:blipFill>
        <p:spPr>
          <a:xfrm>
            <a:off x="7286760" y="4214880"/>
            <a:ext cx="1685880" cy="793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onotype Corsiva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97A-F822-452F-9219-FFE846FB2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492200"/>
            <a:ext cx="777384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18be"/>
                </a:solidFill>
                <a:latin typeface="Monotype Corsiva"/>
              </a:rPr>
              <a:t>ТЕХНОЛОГИЯ ДЕЯТЕЛЬНОСТИ УЧИТЕЛЯ-ЛОГОПЕДА ПО КОРРЕКЦИИ  РЕЧИ ДЕТЕЙ С ОГРАНИЧЕННЫМИ ВОЗМОЖНОСТЯМИ ЗДОРОВЬЯ В УСЛОВИЯХ ШКОЛЬНОГО ЛОГОПУНКТА </a:t>
            </a:r>
            <a:endParaRPr b="1" lang="en-US" sz="2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355640" y="2858760"/>
            <a:ext cx="406404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Никулина Т.В. </a:t>
            </a:r>
            <a:endParaRPr b="1" lang="en-US" sz="1400" spc="-1" strike="noStrike">
              <a:solidFill>
                <a:srgbClr val="00206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учитель-логопед </a:t>
            </a:r>
            <a:endParaRPr b="1" lang="en-US" sz="1400" spc="-1" strike="noStrike">
              <a:solidFill>
                <a:srgbClr val="00206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МБОУ «Лицей им.Г.Ф. Атякшева»</a:t>
            </a:r>
            <a:endParaRPr b="1" lang="en-US" sz="1400" spc="-1" strike="noStrike">
              <a:solidFill>
                <a:srgbClr val="00206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</a:rPr>
              <a:t>г. Югорск, ХМАО-Югра.</a:t>
            </a:r>
            <a:endParaRPr b="1" lang="en-US" sz="1400" spc="-1" strike="noStrike">
              <a:solidFill>
                <a:srgbClr val="00206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92360" y="195120"/>
            <a:ext cx="67672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И КОРРЕКЦИИ НАРУШЕНИЙ ЧТЕНИЯ</a:t>
            </a:r>
            <a:br>
              <a:rPr sz="3200"/>
            </a:b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2160" y="21798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оцессе овладения чтением  дети с особыми образовательными потребностями проходят те же этапы, что и в норме. Однако,   они овладевают ступенями чтения в 3 раза дольше, чем нормальные школьники. Ступени обучения чтению у них растягиваются во времени, а промежутки между ними более продолжительны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195120"/>
            <a:ext cx="74836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И КОРРЕКЦИИ НАРУШЕНИЙ ПИСЬМА</a:t>
            </a: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386676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ая технология способствует: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ю слоговой структуры слова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ю языкового анализа и синтеза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ю фонематического восприятия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ю фонематического и слогового анализа и синтеза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гащению и систематизации словарного запаса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ю и закреплению правил словоизменения и словообразования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ранению аграмматизмов в устной и письменной речи.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2004840"/>
            <a:ext cx="788832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кругленный прямоугольник 5"/>
          <p:cNvSpPr/>
          <p:nvPr/>
        </p:nvSpPr>
        <p:spPr>
          <a:xfrm>
            <a:off x="2992320" y="1969920"/>
            <a:ext cx="320040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4"/>
          <p:cNvSpPr/>
          <p:nvPr/>
        </p:nvSpPr>
        <p:spPr>
          <a:xfrm>
            <a:off x="1116000" y="271440"/>
            <a:ext cx="2774880" cy="124452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логопедического об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2" descr=""/>
          <p:cNvPicPr/>
          <p:nvPr/>
        </p:nvPicPr>
        <p:blipFill>
          <a:blip r:embed="rId1"/>
          <a:stretch/>
        </p:blipFill>
        <p:spPr>
          <a:xfrm>
            <a:off x="3121200" y="1968480"/>
            <a:ext cx="3120840" cy="1146240"/>
          </a:xfrm>
          <a:prstGeom prst="rect">
            <a:avLst/>
          </a:prstGeom>
          <a:ln w="0">
            <a:noFill/>
          </a:ln>
        </p:spPr>
      </p:pic>
      <p:sp>
        <p:nvSpPr>
          <p:cNvPr id="151" name="Овал 7"/>
          <p:cNvSpPr/>
          <p:nvPr/>
        </p:nvSpPr>
        <p:spPr>
          <a:xfrm>
            <a:off x="3801960" y="270000"/>
            <a:ext cx="1843200" cy="139068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и коррекции звукопроиз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9"/>
          <p:cNvSpPr/>
          <p:nvPr/>
        </p:nvSpPr>
        <p:spPr>
          <a:xfrm>
            <a:off x="5673600" y="414360"/>
            <a:ext cx="2708280" cy="110160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формирования фонематических проце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"/>
          <p:cNvSpPr/>
          <p:nvPr/>
        </p:nvSpPr>
        <p:spPr>
          <a:xfrm>
            <a:off x="108000" y="2932200"/>
            <a:ext cx="2432160" cy="1584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формирования связ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1"/>
          <p:cNvSpPr/>
          <p:nvPr/>
        </p:nvSpPr>
        <p:spPr>
          <a:xfrm>
            <a:off x="108000" y="1563840"/>
            <a:ext cx="2519280" cy="131760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и формирования звуко-буквенного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2"/>
          <p:cNvSpPr/>
          <p:nvPr/>
        </p:nvSpPr>
        <p:spPr>
          <a:xfrm>
            <a:off x="6372360" y="1554120"/>
            <a:ext cx="2595600" cy="130968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хнология по формированию лексико-грамматической стороны р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3"/>
          <p:cNvSpPr/>
          <p:nvPr/>
        </p:nvSpPr>
        <p:spPr>
          <a:xfrm>
            <a:off x="4359240" y="3557520"/>
            <a:ext cx="2157480" cy="1368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и коррекции нарушений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4"/>
          <p:cNvSpPr/>
          <p:nvPr/>
        </p:nvSpPr>
        <p:spPr>
          <a:xfrm>
            <a:off x="2268360" y="3540240"/>
            <a:ext cx="2159280" cy="140328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берегающ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6"/>
          <p:cNvSpPr/>
          <p:nvPr/>
        </p:nvSpPr>
        <p:spPr>
          <a:xfrm>
            <a:off x="6588000" y="2932200"/>
            <a:ext cx="2305080" cy="1368360"/>
          </a:xfrm>
          <a:prstGeom prst="ellips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и коррекции нарушений 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15"/>
          <p:cNvCxnSpPr/>
          <p:nvPr/>
        </p:nvCxnSpPr>
        <p:spPr>
          <a:xfrm flipH="1" flipV="1">
            <a:off x="3065040" y="1443960"/>
            <a:ext cx="354960" cy="5259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0" name="Прямая со стрелкой 26"/>
          <p:cNvCxnSpPr/>
          <p:nvPr/>
        </p:nvCxnSpPr>
        <p:spPr>
          <a:xfrm flipH="1">
            <a:off x="3890160" y="3036600"/>
            <a:ext cx="321480" cy="5799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1" name="Прямая со стрелкой 27"/>
          <p:cNvCxnSpPr/>
          <p:nvPr/>
        </p:nvCxnSpPr>
        <p:spPr>
          <a:xfrm flipH="1">
            <a:off x="2382120" y="3036960"/>
            <a:ext cx="610200" cy="2433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2" name="Прямая со стрелкой 28"/>
          <p:cNvCxnSpPr/>
          <p:nvPr/>
        </p:nvCxnSpPr>
        <p:spPr>
          <a:xfrm>
            <a:off x="6195600" y="2518920"/>
            <a:ext cx="329040" cy="1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3" name="Прямая со стрелкой 29"/>
          <p:cNvCxnSpPr/>
          <p:nvPr/>
        </p:nvCxnSpPr>
        <p:spPr>
          <a:xfrm flipH="1" flipV="1">
            <a:off x="2626920" y="2337840"/>
            <a:ext cx="365760" cy="1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4" name="Прямая со стрелкой 30"/>
          <p:cNvCxnSpPr/>
          <p:nvPr/>
        </p:nvCxnSpPr>
        <p:spPr>
          <a:xfrm flipV="1">
            <a:off x="5895720" y="1444320"/>
            <a:ext cx="300600" cy="5040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5" name="Прямая со стрелкой 31"/>
          <p:cNvCxnSpPr>
            <a:stCxn id="150" idx="0"/>
          </p:cNvCxnSpPr>
          <p:nvPr/>
        </p:nvCxnSpPr>
        <p:spPr>
          <a:xfrm flipV="1">
            <a:off x="4659120" y="1660320"/>
            <a:ext cx="29160" cy="3355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6" name="Прямая со стрелкой 47"/>
          <p:cNvCxnSpPr/>
          <p:nvPr/>
        </p:nvCxnSpPr>
        <p:spPr>
          <a:xfrm>
            <a:off x="6084720" y="3036600"/>
            <a:ext cx="648360" cy="399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7" name="Прямая со стрелкой 48"/>
          <p:cNvCxnSpPr>
            <a:endCxn id="156" idx="0"/>
          </p:cNvCxnSpPr>
          <p:nvPr/>
        </p:nvCxnSpPr>
        <p:spPr>
          <a:xfrm>
            <a:off x="5219280" y="3036960"/>
            <a:ext cx="219960" cy="5212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18920" y="195120"/>
            <a:ext cx="684036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Технология логопедического обследования</a:t>
            </a:r>
            <a:br>
              <a:rPr sz="3600"/>
            </a:br>
            <a:endParaRPr b="1" lang="en-US" sz="36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39974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ение анамнестических данных ребенка;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учение речевого и психического уровня развития ребенка;                                 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ализ полученных результатов.                                                                                         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диагностики: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ходная диагностика ;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межуточная диагностика;                            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тоговая диагностика.</a:t>
            </a: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49280" y="1951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И КОРРЕКЦИИ ЗВУКОПРОИЗНОШЕНИЯ</a:t>
            </a:r>
            <a:br>
              <a:rPr sz="3200"/>
            </a:b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3579480"/>
            <a:ext cx="78440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бота по коррекции звукопроизношение имеет следующие этапы: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I. Подготовительный этап: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 Формирование точных движений органов артикуляции: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 Формирование направленной воздушной струи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) Развитие мелкой моторики: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) Развитие фонематических процессов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) Отработка опорных звуков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Этап формирования первичных произносительных умений и навыков включает: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остановку звука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Автоматизация звука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Дифференциация звука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Этап формирования коммуникативных умений и навыков.</a:t>
            </a:r>
            <a:endParaRPr b="1" lang="en-US" sz="16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34920" y="195120"/>
            <a:ext cx="677052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Я ФОРМИРОВАНИЯ ФОНЕМАТИЧЕСКИХ ПРОЦЕССОВ.</a:t>
            </a: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2355480"/>
            <a:ext cx="784404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ематические процессы включают: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ематический слух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ематическое восприятие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ематические представления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ематический анализ и синтез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7280" y="268200"/>
            <a:ext cx="727236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И ФОРМИРОВАНИЯ ЗВУКО-БУКВЕННОГО АНАЛИЗА</a:t>
            </a:r>
            <a:br>
              <a:rPr sz="3200"/>
            </a:b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379584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та со слоговыми, звуковыми схемами. 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 познакомить детей с понятием «слово» и его протяженностью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находить позицию звуков в слове и соотносить со схемой,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изображать гласные и согласные звуки с помощью зрительных символов,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личать твердые/мягкие звуки;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формировать навыки анализа и синтеза слов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 подбор  слов к заданной звуковой модели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39480"/>
            <a:ext cx="76276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Monotype Corsiva"/>
              </a:rPr>
              <a:t>ТЕХНОЛОГИЯ ПО ФОРМИРОВАНИЮ ЛЕКСИКО-ГРАММАТИЧЕСКОЙ СТОРОНЫ РЕЧИ</a:t>
            </a:r>
            <a:br>
              <a:rPr sz="2400"/>
            </a:br>
            <a:endParaRPr b="1" lang="en-US" sz="24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386676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витие объёма словаря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уточнение значений имеющихся у детей слов и дальнейшее обогащение словарного запаса как путем накопления новых слов, относящихся к различным частям речи, так и за счет развития у детей умения активно пользоваться различными способами словообразования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витие лексической системности и семантичности полей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витие словообразования;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профилактика и коррекция нарушений процессов чтения и письма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000" y="268200"/>
            <a:ext cx="712764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Monotype Corsiva"/>
              </a:rPr>
              <a:t>ТЕХНОЛОГИЯ ФОРМИРОВАНИЯ СВЯЗНОЙ РЕЧИ</a:t>
            </a:r>
            <a:br>
              <a:rPr sz="3200"/>
            </a:br>
            <a:endParaRPr b="1" lang="en-US" sz="32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307656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ловие  речевой коммуникативности является:</a:t>
            </a:r>
            <a:endParaRPr b="1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язность.  : смысловые связи между частями рассказа, логические связи между предложениями и законченность смыслового выражения мыслями говорящего. </a:t>
            </a:r>
            <a:endParaRPr b="1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ледовательность изложения.  </a:t>
            </a:r>
            <a:endParaRPr b="1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ко-смысловая организация - соблюдение связности и последовательности.</a:t>
            </a:r>
            <a:endParaRPr b="1" lang="en-US" sz="18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18920" y="268200"/>
            <a:ext cx="727380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ЗДОРОВЬЕ</a:t>
            </a:r>
            <a:br>
              <a:rPr sz="3600"/>
            </a:br>
            <a:r>
              <a:rPr b="1" lang="ru-RU" sz="3600" spc="-1" strike="noStrike">
                <a:solidFill>
                  <a:srgbClr val="0033cc"/>
                </a:solidFill>
                <a:latin typeface="Monotype Corsiva"/>
              </a:rPr>
              <a:t>СБЕРЕГАЮЩИЕ ТЕХНОЛОГИИ</a:t>
            </a:r>
            <a:endParaRPr b="1" lang="en-US" sz="3600" spc="-1" strike="noStrike">
              <a:solidFill>
                <a:srgbClr val="0033cc"/>
              </a:solidFill>
              <a:latin typeface="Monotype Corsiv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372420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98989"/>
                </a:solidFill>
                <a:latin typeface="Times New Roman"/>
              </a:rPr>
              <a:t>•</a:t>
            </a:r>
            <a:r>
              <a:rPr b="1" lang="ru-RU" sz="2000" spc="-1" strike="noStrike">
                <a:solidFill>
                  <a:srgbClr val="89898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и  сохранения  и стимулирования  здоровья (релаксация, пальчиковая гимнастика, гимнастика для глаз, дыхательная гимнастика)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и  обучения здорового  образа жизни (самомассаж, точечный массаж).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и    коррекционные    (артикуляционная гимнастика, психогимнастика, фонетическая ритмика, сказкотерапия).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е технологии входят в структуру логопедического занятия. </a:t>
            </a: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02T11:37:53Z</dcterms:created>
  <dc:creator>Lenovo</dc:creator>
  <dc:description/>
  <dc:language>en-US</dc:language>
  <cp:lastModifiedBy>Windows User</cp:lastModifiedBy>
  <dcterms:modified xsi:type="dcterms:W3CDTF">2019-05-12T14:46:47Z</dcterms:modified>
  <cp:revision>11</cp:revision>
  <dc:subject/>
  <dc:title>Слайд 1</dc:title>
</cp:coreProperties>
</file>