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7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79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316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3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0000" cy="12489120"/>
          </a:xfrm>
          <a:prstGeom prst="rect">
            <a:avLst/>
          </a:prstGeom>
          <a:ln w="0">
            <a:noFill/>
          </a:ln>
        </p:spPr>
      </p:sp>
      <p:sp>
        <p:nvSpPr>
          <p:cNvPr id="185" name="Text Box 2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4FDC3-8A5D-430D-B2A9-8937E58E6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E8D9-132A-4AAE-B7BE-BB195D8F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03E7-81C7-47DA-AE66-C48D3BC5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05E6-BF82-470C-A02C-F0BE78DE2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23DCC-5A95-448A-A214-85CF666DF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FDDF6-02C4-4AFA-84E3-B3534BF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B57B4-F72F-49CF-9C3F-86EB9A3F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8AAC1-A7F3-4222-BD5E-EFDCC715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BE7A5-8232-486D-B27B-05C36659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9E993-5A36-4A1E-9CC6-D93F0EB7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D328E-1AB6-4A3E-83D8-23D7059E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FF03F-4C5B-4062-8015-71B70A82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A4526-280A-4A87-B6AE-E5A9A784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289C7-AA70-4F31-BCB7-D02C9606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E4660-9342-4BD0-86C8-E9838AB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3C8A2-F9A6-4705-84DA-A0674D5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8F1D5-E22A-4F19-AA0C-A9EC6DCB48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13F5-0160-4D70-AA7B-9015B79FE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4EE-8A65-488B-89BB-3AF6BA4A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4C54-F181-4C9F-A44B-74E7C0F0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004F-D3D5-42D7-8750-4946BD65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BCFA-F094-43E8-AD97-84DE0D18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4534-F92E-4F97-B3D2-38A4EBD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D4D8-6285-42B3-B959-ED68381B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F29-EE74-47D3-8D26-42A74FE7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7A81-6A44-4C59-8C22-AB534A82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5DE-1636-44C1-B90E-F57C257D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E6BA-6213-4231-9F8B-4A66BE60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416B-69FD-46F3-9547-7B059C35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5960" y="3674520"/>
            <a:ext cx="26467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B2C9-9A10-486E-88BA-2E3816600F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78BB-4F1C-42C6-B1D2-D97A54D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D2139-8E47-4981-A40F-FB85CFAB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CBAB-5732-4018-B1B3-E191067C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E0E7-CD62-4557-8184-4B9B2401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67452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27AA-AA80-42B7-B5FD-51F877CD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4520"/>
            <a:ext cx="82202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5BFA-AA33-4ABA-936D-F2912AAE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EC096-80C2-4D6B-9E76-C531FB54817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FFF5A-5EED-434A-8F84-19C2176DA26F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45DD6-D33E-4651-888A-647DFE0154E0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900000" y="503280"/>
            <a:ext cx="6120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ff3333"/>
                </a:solidFill>
                <a:latin typeface="Times New Roman"/>
              </a:rPr>
              <a:t> </a:t>
            </a:r>
            <a:r>
              <a:rPr b="1" i="1" lang="ru-RU" sz="5400" spc="-1" strike="noStrike">
                <a:solidFill>
                  <a:srgbClr val="ff3333"/>
                </a:solidFill>
                <a:latin typeface="Times New Roman"/>
              </a:rPr>
              <a:t>АЗБУКА </a:t>
            </a:r>
            <a:br>
              <a:rPr sz="5400"/>
            </a:br>
            <a:r>
              <a:rPr b="1" i="1" lang="ru-RU" sz="5400" spc="-1" strike="noStrike">
                <a:solidFill>
                  <a:srgbClr val="ffcc00"/>
                </a:solidFill>
                <a:latin typeface="Times New Roman"/>
              </a:rPr>
              <a:t>БЕЗОПАСНОСТИ</a:t>
            </a:r>
            <a:br>
              <a:rPr sz="5400"/>
            </a:br>
            <a:r>
              <a:rPr b="1" i="1" lang="ru-RU" sz="5400" spc="-1" strike="noStrike">
                <a:solidFill>
                  <a:srgbClr val="009933"/>
                </a:solidFill>
                <a:latin typeface="Times New Roman"/>
              </a:rPr>
              <a:t>НА ДОРОГЕ </a:t>
            </a:r>
            <a:br>
              <a:rPr sz="6600"/>
            </a:br>
            <a:r>
              <a:rPr b="1" i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227640" y="3213000"/>
            <a:ext cx="19764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934920" y="280836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792000" y="576360"/>
            <a:ext cx="748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ОРОГИЕ РЕБЯТА! ПОМНИТЕ!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ВЫ ДОЛЖНЫ ЗНАТЬ И СОБЛЮДАТЬ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ПРАВИЛА ПОВЕДЕНИЯ НА ДОРОГЕ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319640" y="3144960"/>
            <a:ext cx="37432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743280" y="2998800"/>
            <a:ext cx="4064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527280" y="2664000"/>
            <a:ext cx="482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ОСТОРОЖНО НА ДОРОГ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БЕРЕГИТЕ РУКИ, НОГ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ПОМНИ ПРАВИЛА ВЕЗД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А ИНАЧЕ БЫТЬ БЕДЕ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7826"/>
                </a:solidFill>
                <a:latin typeface="Times New Roman"/>
              </a:rPr>
              <a:t>ДО СВИДАНИЯ, РЕБЯТА!!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647640" y="1655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44360" y="3456000"/>
            <a:ext cx="2519640" cy="340200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1944720" y="28728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рогие ребята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иглашаю вас совершить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влекательное путешествие в страну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авил дорожного движе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 дорожных знаков!!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перед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5688000" y="3527280"/>
            <a:ext cx="3240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863640" y="2860560"/>
            <a:ext cx="4103640" cy="329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792000" y="415800"/>
            <a:ext cx="763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826"/>
                </a:solidFill>
                <a:latin typeface="Times New Roman"/>
                <a:ea typeface="Segoe UI"/>
              </a:rPr>
              <a:t>Ну вот мы и перед дорогой! Сколько здесь машин!!! Как же правильно перейти дорогу, чтобы не нарушать правила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33"/>
                </a:solidFill>
                <a:latin typeface="Times New Roman"/>
                <a:ea typeface="Segoe UI"/>
              </a:rPr>
              <a:t>Всегда ищи знак «пешеходный переход»!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На помощь нам придет «зебра». Ее белые полосы на дороге ты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Segoe UI"/>
              </a:rPr>
              <a:t>часто видишь в местах перехода пешеходов. Это наземный пешеходный переход. Рядом с ним ты всегда увидишь либо светофор, либо знак «пешеходный переход»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967280" y="3024360"/>
            <a:ext cx="3240000" cy="29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9080" y="488880"/>
            <a:ext cx="835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9933"/>
                </a:solidFill>
                <a:latin typeface="Times New Roman"/>
                <a:ea typeface="Segoe UI"/>
              </a:rPr>
              <a:t>А если  рядом с пешеходным переходом вы увидели светофор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Segoe UI"/>
              </a:rPr>
              <a:t>всегда помните  правила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863640" y="1295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52360" y="1079640"/>
            <a:ext cx="5975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9933"/>
                </a:solidFill>
                <a:latin typeface="Times New Roman"/>
              </a:rPr>
              <a:t> </a:t>
            </a:r>
            <a:br>
              <a:rPr sz="6600"/>
            </a:br>
            <a:r>
              <a:rPr b="1" i="1" lang="ru-RU" sz="6600" spc="-1" strike="noStrike">
                <a:solidFill>
                  <a:srgbClr val="0000cc"/>
                </a:solidFill>
                <a:latin typeface="Calibri"/>
              </a:rPr>
              <a:t>            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63640" y="557280"/>
            <a:ext cx="74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Начиная переход, посмотрите налево,потом направо. Убедитес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330099"/>
                </a:solidFill>
                <a:latin typeface="Times New Roman"/>
                <a:ea typeface="Times New Roman"/>
              </a:rPr>
              <a:t>что машин нет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376360" y="2131920"/>
            <a:ext cx="56880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792000" y="431640"/>
            <a:ext cx="75679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Бывает так, что в месте, где нужно перейти дорогу, зебры нет. Что делать? Тогда следует искать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Segoe UI"/>
              </a:rPr>
              <a:t>надземные или подземные пешеходные переходы.</a:t>
            </a:r>
            <a:r>
              <a:rPr b="1" lang="ru-RU" sz="2200" spc="-1" strike="noStrike">
                <a:solidFill>
                  <a:srgbClr val="009933"/>
                </a:solidFill>
                <a:latin typeface="Times New Roman"/>
                <a:ea typeface="Segoe U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934920" y="3240000"/>
            <a:ext cx="3600720" cy="3002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1440000" y="1474920"/>
            <a:ext cx="2087280" cy="190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4540320" y="1566720"/>
            <a:ext cx="3666960" cy="469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27640" cy="316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0" y="3814920"/>
            <a:ext cx="2160720" cy="304308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/>
          <p:cNvSpPr/>
          <p:nvPr/>
        </p:nvSpPr>
        <p:spPr>
          <a:xfrm>
            <a:off x="1368360" y="-712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d320"/>
          </a:solidFill>
          <a:ln w="82800">
            <a:solidFill>
              <a:srgbClr val="579d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Ходить можно только по тротуарам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очинам, пешеходным дорожка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Если их нет, то можно идти по краю проезжей част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о только лицом к движущимся машина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273528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144360" y="4103640"/>
            <a:ext cx="1800360" cy="251928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863640" y="144360"/>
            <a:ext cx="6983280" cy="352764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ff420e"/>
          </a:solidFill>
          <a:ln w="82800">
            <a:solidFill>
              <a:srgbClr val="ffd3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Находясь на остановке, переходи дорогу только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тогда, когда общественный транспорт отойдет о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. Если транспорт не отходи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бязательно нужно отойти от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остановки на безопас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      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расстояние так, чтобы видеть едущи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30099"/>
                </a:solidFill>
                <a:latin typeface="Calibri"/>
              </a:rPr>
              <a:t>справа и слева машины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0" y="4535640"/>
            <a:ext cx="1584360" cy="2309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1655640" y="4354560"/>
            <a:ext cx="3940200" cy="2381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4"/>
          <a:stretch/>
        </p:blipFill>
        <p:spPr>
          <a:xfrm>
            <a:off x="5226120" y="2519280"/>
            <a:ext cx="3917880" cy="25956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4"/>
          <p:cNvSpPr/>
          <p:nvPr/>
        </p:nvSpPr>
        <p:spPr>
          <a:xfrm>
            <a:off x="431640" y="73080"/>
            <a:ext cx="6983640" cy="3527280"/>
          </a:xfrm>
          <a:prstGeom prst="cloudCallout">
            <a:avLst>
              <a:gd name="adj1" fmla="val -37092"/>
              <a:gd name="adj2" fmla="val 80361"/>
            </a:avLst>
          </a:prstGeom>
          <a:solidFill>
            <a:srgbClr val="009900"/>
          </a:solidFill>
          <a:ln w="82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720" rIns="126720" tIns="81720" bIns="8172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Нельзя играть на проезжей части, так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ак можно не заметить приближающую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машину. Играть можно тольк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 специально отведенных местах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   —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о дворах, парках, сквера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Выходя из подъезда, уже будь внимателе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осторожен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5"/>
          <a:stretch/>
        </p:blipFill>
        <p:spPr>
          <a:xfrm>
            <a:off x="6551640" y="496728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Irina</cp:lastModifiedBy>
  <dcterms:modified xsi:type="dcterms:W3CDTF">2019-03-04T17:05:50Z</dcterms:modified>
  <cp:revision>4</cp:revision>
  <dc:subject/>
  <dc:title>Слайд 1</dc:title>
</cp:coreProperties>
</file>