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0360" cy="124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1800" cy="1440"/>
          </a:xfrm>
          <a:prstGeom prst="rect">
            <a:avLst/>
          </a:prstGeom>
          <a:ln w="0">
            <a:noFill/>
          </a:ln>
        </p:spPr>
      </p:sp>
      <p:sp>
        <p:nvSpPr>
          <p:cNvPr id="173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1440" cy="12490560"/>
          </a:xfrm>
          <a:prstGeom prst="rect">
            <a:avLst/>
          </a:prstGeom>
          <a:ln w="0">
            <a:noFill/>
          </a:ln>
        </p:spPr>
      </p:sp>
      <p:sp>
        <p:nvSpPr>
          <p:cNvPr id="179" name="Text Box 2"/>
          <p:cNvSpPr/>
          <p:nvPr/>
        </p:nvSpPr>
        <p:spPr>
          <a:xfrm>
            <a:off x="685800" y="4343400"/>
            <a:ext cx="54831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1440" cy="1249056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685800" y="4343400"/>
            <a:ext cx="54831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183" name="Text Box 2"/>
          <p:cNvSpPr/>
          <p:nvPr/>
        </p:nvSpPr>
        <p:spPr>
          <a:xfrm>
            <a:off x="685800" y="4343400"/>
            <a:ext cx="548172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185" name="Text Box 2"/>
          <p:cNvSpPr/>
          <p:nvPr/>
        </p:nvSpPr>
        <p:spPr>
          <a:xfrm>
            <a:off x="685800" y="4343400"/>
            <a:ext cx="548172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A83B8-8BD3-4A12-B8C9-1764C43BDC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452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B556E-0D4F-4E8B-A60A-BD97FCF95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87C3E-52EB-4364-B17D-72EECA92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96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96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534ED-61A7-4338-B5BD-2F88A14E2B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CF8C9A-8685-4438-933A-8EEBAD3697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2C1680-AF07-450E-8CEB-D644D6875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40389F-1814-424F-84F2-A8FF863F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DD94E2-CDC2-47DB-8BBE-27F8937B2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EB4064-DBFE-4746-8D4C-03445AA6C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48BC19-B957-433B-857B-54D788A76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DD7D7E-3DE1-4C06-B999-3C45D4A59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4C0CA-9D29-4C18-82BC-B5EF94150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9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AB9598-8A13-4979-8B9F-3E7A14AC4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F329AB-9339-4563-96DE-DE85F90F2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7452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6A9252-BBF9-4751-B261-106F1CFE7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9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C5739B-9649-42DB-AE49-5B37F1AA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676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596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676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596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62E527-C67E-461B-94B0-E34BE004CA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AA905-9579-4187-A841-3DADB1F138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E85A3-4959-4AF6-B6A2-03F606E10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26A6D-634B-433C-BC38-03E2E03C1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14210-D1CC-4580-8372-18FA88202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E445E-68E6-4645-AA38-66D8107D3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B3171-210F-42E5-96C5-53C1E5EB6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BE5B0-772A-4D3D-8A9B-B80FB1D2B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1CD39-6867-4193-9087-0E69840BC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9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7F54D-7966-415F-9FDD-A259D2077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9B604-44E7-4B6A-BC0E-D5D472D4A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7452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71CAA-4274-43A8-9A35-BDDF78308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9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D5540-72EF-4685-A39A-305CE6E9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676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1596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676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1596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BBD55-39B3-4C66-95AE-15A193EE5E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D30B4-D977-4BBA-B40D-E38CCF9C7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A69B1-0ECF-4E6C-8E72-A203B5A42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FC46D-E5ED-4CC2-9E56-4BE0F9DE5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F9E00-D9E5-4F52-B9AF-CDDFC4483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9FD03-83F7-4A4B-BC35-4062C13A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EFB48-76CC-4470-94DA-4E406F8BC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2400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2436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0FD748-EEB9-421F-80A8-D5075E81B54F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2400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2436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90BDD8-64F9-4A57-B243-828AC3EAB979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3"/>
          <a:stretch/>
        </p:blipFill>
        <p:spPr>
          <a:xfrm>
            <a:off x="-324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2400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160"/>
            <a:ext cx="212436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32211E-1221-44E9-BDEF-C1BA12C83ABE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"/>
          <p:cNvSpPr/>
          <p:nvPr/>
        </p:nvSpPr>
        <p:spPr>
          <a:xfrm>
            <a:off x="900000" y="503280"/>
            <a:ext cx="612000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000" spc="-1" strike="noStrike">
                <a:solidFill>
                  <a:srgbClr val="ff3333"/>
                </a:solidFill>
                <a:latin typeface="Times New Roman"/>
              </a:rPr>
              <a:t> </a:t>
            </a:r>
            <a:r>
              <a:rPr b="1" i="1" lang="ru-RU" sz="5400" spc="-1" strike="noStrike">
                <a:solidFill>
                  <a:srgbClr val="ff3333"/>
                </a:solidFill>
                <a:latin typeface="Times New Roman"/>
              </a:rPr>
              <a:t>АЗБУКА </a:t>
            </a:r>
            <a:br>
              <a:rPr sz="5400"/>
            </a:br>
            <a:r>
              <a:rPr b="1" i="1" lang="ru-RU" sz="5400" spc="-1" strike="noStrike">
                <a:solidFill>
                  <a:srgbClr val="ffcc00"/>
                </a:solidFill>
                <a:latin typeface="Times New Roman"/>
              </a:rPr>
              <a:t>БЕЗОПАСНОСТИ</a:t>
            </a:r>
            <a:br>
              <a:rPr sz="5400"/>
            </a:br>
            <a:r>
              <a:rPr b="1" i="1" lang="ru-RU" sz="5400" spc="-1" strike="noStrike">
                <a:solidFill>
                  <a:srgbClr val="009933"/>
                </a:solidFill>
                <a:latin typeface="Times New Roman"/>
              </a:rPr>
              <a:t>НА ДОРОГЕ </a:t>
            </a:r>
            <a:br>
              <a:rPr sz="6600"/>
            </a:br>
            <a:r>
              <a:rPr b="1" i="1" lang="ru-RU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  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2"/>
          <a:stretch/>
        </p:blipFill>
        <p:spPr>
          <a:xfrm>
            <a:off x="6227640" y="3213000"/>
            <a:ext cx="1976400" cy="30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1" descr=""/>
          <p:cNvPicPr/>
          <p:nvPr/>
        </p:nvPicPr>
        <p:blipFill>
          <a:blip r:embed="rId2"/>
          <a:stretch/>
        </p:blipFill>
        <p:spPr>
          <a:xfrm>
            <a:off x="934920" y="2808360"/>
            <a:ext cx="2592360" cy="34290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"/>
          <p:cNvSpPr/>
          <p:nvPr/>
        </p:nvSpPr>
        <p:spPr>
          <a:xfrm>
            <a:off x="792000" y="576360"/>
            <a:ext cx="74883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ДОРОГИЕ РЕБЯТА! ПОМНИТЕ!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cc00"/>
                </a:solidFill>
                <a:latin typeface="Times New Roman"/>
              </a:rPr>
              <a:t>ВЫ ДОЛЖНЫ ЗНАТЬ И СОБЛЮДАТЬ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cc00"/>
                </a:solidFill>
                <a:latin typeface="Times New Roman"/>
              </a:rPr>
              <a:t>ПРАВИЛА ПОВЕДЕНИЯ НА ДОРОГЕ!!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4319640" y="3144960"/>
            <a:ext cx="3743280" cy="17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3743280" y="2998800"/>
            <a:ext cx="406404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3527280" y="2664000"/>
            <a:ext cx="482472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7826"/>
                </a:solidFill>
                <a:latin typeface="Times New Roman"/>
              </a:rPr>
              <a:t>ОСТОРОЖНО НА ДОРОГЕ!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7826"/>
                </a:solidFill>
                <a:latin typeface="Times New Roman"/>
              </a:rPr>
              <a:t>БЕРЕГИТЕ РУКИ, НОГИ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7826"/>
                </a:solidFill>
                <a:latin typeface="Times New Roman"/>
              </a:rPr>
              <a:t>ПОМНИ ПРАВИЛА ВЕЗДЕ,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7826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7826"/>
                </a:solidFill>
                <a:latin typeface="Times New Roman"/>
              </a:rPr>
              <a:t>А ИНАЧЕ БЫТЬ БЕДЕ!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7826"/>
                </a:solidFill>
                <a:latin typeface="Times New Roman"/>
              </a:rPr>
              <a:t>ДО СВИДАНИЯ, РЕБЯТА!!!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647640" y="1655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2"/>
          <a:stretch/>
        </p:blipFill>
        <p:spPr>
          <a:xfrm>
            <a:off x="144360" y="3456000"/>
            <a:ext cx="2519640" cy="340200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4"/>
          <p:cNvSpPr/>
          <p:nvPr/>
        </p:nvSpPr>
        <p:spPr>
          <a:xfrm>
            <a:off x="1944720" y="287280"/>
            <a:ext cx="6983280" cy="3527640"/>
          </a:xfrm>
          <a:prstGeom prst="cloudCallout">
            <a:avLst>
              <a:gd name="adj1" fmla="val -37092"/>
              <a:gd name="adj2" fmla="val 8036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Дорогие ребята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Calibri"/>
              </a:rPr>
              <a:t>Приглашаю вас совершить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ru-RU" sz="2600" spc="-1" strike="noStrike">
                <a:solidFill>
                  <a:srgbClr val="000099"/>
                </a:solidFill>
                <a:latin typeface="Calibri"/>
              </a:rPr>
              <a:t>увлекательное путешествие в страну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Calibri"/>
              </a:rPr>
              <a:t>   </a:t>
            </a:r>
            <a:r>
              <a:rPr b="1" lang="ru-RU" sz="2600" spc="-1" strike="noStrike">
                <a:solidFill>
                  <a:srgbClr val="000099"/>
                </a:solidFill>
                <a:latin typeface="Calibri"/>
              </a:rPr>
              <a:t>правил дорожного движения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ru-RU" sz="2600" spc="-1" strike="noStrike">
                <a:solidFill>
                  <a:srgbClr val="000099"/>
                </a:solidFill>
                <a:latin typeface="Calibri"/>
              </a:rPr>
              <a:t>и дорожных знаков!!!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Вперед!!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4"/>
          <a:stretch/>
        </p:blipFill>
        <p:spPr>
          <a:xfrm>
            <a:off x="5688000" y="3527280"/>
            <a:ext cx="3240000" cy="333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" descr=""/>
          <p:cNvPicPr/>
          <p:nvPr/>
        </p:nvPicPr>
        <p:blipFill>
          <a:blip r:embed="rId2"/>
          <a:stretch/>
        </p:blipFill>
        <p:spPr>
          <a:xfrm>
            <a:off x="863640" y="2860560"/>
            <a:ext cx="4103640" cy="329904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2"/>
          <p:cNvSpPr/>
          <p:nvPr/>
        </p:nvSpPr>
        <p:spPr>
          <a:xfrm>
            <a:off x="792000" y="415800"/>
            <a:ext cx="763272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7826"/>
                </a:solidFill>
                <a:latin typeface="Times New Roman"/>
                <a:ea typeface="Segoe UI"/>
              </a:rPr>
              <a:t>Ну вот мы и перед дорогой! Сколько здесь машин!!! Как же правильно перейти дорогу, чтобы не нарушать правила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3333"/>
                </a:solidFill>
                <a:latin typeface="Times New Roman"/>
                <a:ea typeface="Segoe UI"/>
              </a:rPr>
              <a:t>Всегда ищи знак «пешеходный переход»!!!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  <a:ea typeface="Segoe UI"/>
              </a:rPr>
              <a:t>На помощь нам придет «зебра». Ее белые полосы на дороге ты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  <a:ea typeface="Segoe UI"/>
              </a:rPr>
              <a:t>часто видишь в местах перехода пешеходов. Это наземный пешеходный переход. Рядом с ним ты всегда увидишь либо светофор, либо знак «пешеходный переход»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3"/>
          <a:stretch/>
        </p:blipFill>
        <p:spPr>
          <a:xfrm>
            <a:off x="4967280" y="3024360"/>
            <a:ext cx="3240000" cy="29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"/>
          <p:cNvSpPr/>
          <p:nvPr/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289080" y="488880"/>
            <a:ext cx="835164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9933"/>
                </a:solidFill>
                <a:latin typeface="Times New Roman"/>
                <a:ea typeface="Segoe UI"/>
              </a:rPr>
              <a:t>А если  рядом с пешеходным переходом вы увидели светофор,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Segoe UI"/>
              </a:rPr>
              <a:t>всегда помните  правила!!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2"/>
          <a:stretch/>
        </p:blipFill>
        <p:spPr>
          <a:xfrm>
            <a:off x="863640" y="1295280"/>
            <a:ext cx="7416720" cy="511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1"/>
          <p:cNvSpPr/>
          <p:nvPr/>
        </p:nvSpPr>
        <p:spPr>
          <a:xfrm>
            <a:off x="1152360" y="1079640"/>
            <a:ext cx="597564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000" spc="-1" strike="noStrike">
                <a:solidFill>
                  <a:srgbClr val="009933"/>
                </a:solidFill>
                <a:latin typeface="Times New Roman"/>
              </a:rPr>
              <a:t> </a:t>
            </a:r>
            <a:br>
              <a:rPr sz="6600"/>
            </a:br>
            <a:r>
              <a:rPr b="1" i="1" lang="ru-RU" sz="6600" spc="-1" strike="noStrike">
                <a:solidFill>
                  <a:srgbClr val="0000cc"/>
                </a:solidFill>
                <a:latin typeface="Calibri"/>
              </a:rPr>
              <a:t>             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863640" y="557280"/>
            <a:ext cx="7415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330099"/>
                </a:solidFill>
                <a:latin typeface="Times New Roman"/>
                <a:ea typeface="Times New Roman"/>
              </a:rPr>
              <a:t>Начиная переход, посмотрите налево,потом направо. Убедитесь,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330099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330099"/>
                </a:solidFill>
                <a:latin typeface="Times New Roman"/>
                <a:ea typeface="Times New Roman"/>
              </a:rPr>
              <a:t>что машин нет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2"/>
          <a:stretch/>
        </p:blipFill>
        <p:spPr>
          <a:xfrm>
            <a:off x="2376360" y="2131920"/>
            <a:ext cx="5688000" cy="391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1"/>
          <p:cNvSpPr/>
          <p:nvPr/>
        </p:nvSpPr>
        <p:spPr>
          <a:xfrm>
            <a:off x="792000" y="431640"/>
            <a:ext cx="75679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9933"/>
                </a:solidFill>
                <a:latin typeface="Times New Roman"/>
                <a:ea typeface="Segoe UI"/>
              </a:rPr>
              <a:t>Бывает так, что в месте, где нужно перейти дорогу, зебры нет. Что делать? Тогда следует искать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9933"/>
                </a:solidFill>
                <a:latin typeface="Times New Roman"/>
                <a:ea typeface="Segoe UI"/>
              </a:rPr>
              <a:t> </a:t>
            </a: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Segoe UI"/>
              </a:rPr>
              <a:t>надземные или подземные пешеходные переходы.</a:t>
            </a:r>
            <a:r>
              <a:rPr b="1" lang="ru-RU" sz="2200" spc="-1" strike="noStrike">
                <a:solidFill>
                  <a:srgbClr val="009933"/>
                </a:solidFill>
                <a:latin typeface="Times New Roman"/>
                <a:ea typeface="Segoe U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2"/>
          <a:stretch/>
        </p:blipFill>
        <p:spPr>
          <a:xfrm>
            <a:off x="934920" y="3240000"/>
            <a:ext cx="3600720" cy="30020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"/>
          <p:cNvPicPr/>
          <p:nvPr/>
        </p:nvPicPr>
        <p:blipFill>
          <a:blip r:embed="rId3"/>
          <a:stretch/>
        </p:blipFill>
        <p:spPr>
          <a:xfrm>
            <a:off x="1440000" y="1474920"/>
            <a:ext cx="2087280" cy="1909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"/>
          <p:cNvPicPr/>
          <p:nvPr/>
        </p:nvPicPr>
        <p:blipFill>
          <a:blip r:embed="rId4"/>
          <a:stretch/>
        </p:blipFill>
        <p:spPr>
          <a:xfrm>
            <a:off x="4540320" y="1566720"/>
            <a:ext cx="3666960" cy="469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"/>
          <p:cNvPicPr/>
          <p:nvPr/>
        </p:nvPicPr>
        <p:blipFill>
          <a:blip r:embed="rId2"/>
          <a:stretch/>
        </p:blipFill>
        <p:spPr>
          <a:xfrm>
            <a:off x="3600360" y="3600360"/>
            <a:ext cx="5327640" cy="3168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"/>
          <p:cNvPicPr/>
          <p:nvPr/>
        </p:nvPicPr>
        <p:blipFill>
          <a:blip r:embed="rId3"/>
          <a:stretch/>
        </p:blipFill>
        <p:spPr>
          <a:xfrm>
            <a:off x="0" y="3814920"/>
            <a:ext cx="2160720" cy="304308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3"/>
          <p:cNvSpPr/>
          <p:nvPr/>
        </p:nvSpPr>
        <p:spPr>
          <a:xfrm>
            <a:off x="1368360" y="-71280"/>
            <a:ext cx="6983640" cy="3527280"/>
          </a:xfrm>
          <a:prstGeom prst="cloudCallout">
            <a:avLst>
              <a:gd name="adj1" fmla="val -37092"/>
              <a:gd name="adj2" fmla="val 80361"/>
            </a:avLst>
          </a:prstGeom>
          <a:solidFill>
            <a:srgbClr val="ffd320"/>
          </a:solidFill>
          <a:ln w="82800">
            <a:solidFill>
              <a:srgbClr val="579d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6720" rIns="126720" tIns="81720" bIns="8172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Ходить можно только по тротуарам,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обочинам, пешеходным дорожкам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Если их нет, то можно идти по краю проезжей части,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но только лицом к движущимся машинам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" descr=""/>
          <p:cNvPicPr/>
          <p:nvPr/>
        </p:nvPicPr>
        <p:blipFill>
          <a:blip r:embed="rId2"/>
          <a:stretch/>
        </p:blipFill>
        <p:spPr>
          <a:xfrm>
            <a:off x="2735280" y="3714840"/>
            <a:ext cx="4191120" cy="31431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"/>
          <p:cNvPicPr/>
          <p:nvPr/>
        </p:nvPicPr>
        <p:blipFill>
          <a:blip r:embed="rId3"/>
          <a:stretch/>
        </p:blipFill>
        <p:spPr>
          <a:xfrm>
            <a:off x="144360" y="4103640"/>
            <a:ext cx="1800360" cy="251928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863640" y="144360"/>
            <a:ext cx="6983280" cy="3527640"/>
          </a:xfrm>
          <a:prstGeom prst="cloudCallout">
            <a:avLst>
              <a:gd name="adj1" fmla="val -37092"/>
              <a:gd name="adj2" fmla="val 80361"/>
            </a:avLst>
          </a:prstGeom>
          <a:solidFill>
            <a:srgbClr val="ff420e"/>
          </a:solidFill>
          <a:ln w="82800">
            <a:solidFill>
              <a:srgbClr val="ffd3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6720" rIns="126720" tIns="81720" bIns="8172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           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           </a:t>
            </a: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Находясь на остановке, переходи дорогу только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         </a:t>
            </a: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тогда, когда общественный транспорт отойдет от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            </a:t>
            </a: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остановки. Если транспорт не отходит,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обязательно нужно отойти от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остановки на безопасное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        </a:t>
            </a: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расстояние так, чтобы видеть едущие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справа и слева машины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" descr=""/>
          <p:cNvPicPr/>
          <p:nvPr/>
        </p:nvPicPr>
        <p:blipFill>
          <a:blip r:embed="rId2"/>
          <a:stretch/>
        </p:blipFill>
        <p:spPr>
          <a:xfrm>
            <a:off x="0" y="4535640"/>
            <a:ext cx="1584360" cy="23097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"/>
          <p:cNvPicPr/>
          <p:nvPr/>
        </p:nvPicPr>
        <p:blipFill>
          <a:blip r:embed="rId3"/>
          <a:stretch/>
        </p:blipFill>
        <p:spPr>
          <a:xfrm>
            <a:off x="1655640" y="4354560"/>
            <a:ext cx="3940200" cy="23810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"/>
          <p:cNvPicPr/>
          <p:nvPr/>
        </p:nvPicPr>
        <p:blipFill>
          <a:blip r:embed="rId4"/>
          <a:stretch/>
        </p:blipFill>
        <p:spPr>
          <a:xfrm>
            <a:off x="5226120" y="2519280"/>
            <a:ext cx="3917880" cy="2595600"/>
          </a:xfrm>
          <a:prstGeom prst="rect">
            <a:avLst/>
          </a:prstGeom>
          <a:ln w="0">
            <a:noFill/>
          </a:ln>
        </p:spPr>
      </p:pic>
      <p:sp>
        <p:nvSpPr>
          <p:cNvPr id="161" name="AutoShape 4"/>
          <p:cNvSpPr/>
          <p:nvPr/>
        </p:nvSpPr>
        <p:spPr>
          <a:xfrm>
            <a:off x="431640" y="73080"/>
            <a:ext cx="6983640" cy="3527280"/>
          </a:xfrm>
          <a:prstGeom prst="cloudCallout">
            <a:avLst>
              <a:gd name="adj1" fmla="val -37092"/>
              <a:gd name="adj2" fmla="val 80361"/>
            </a:avLst>
          </a:prstGeom>
          <a:solidFill>
            <a:srgbClr val="009900"/>
          </a:solidFill>
          <a:ln w="828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6720" rIns="126720" tIns="81720" bIns="8172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         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Нельзя играть на проезжей части, так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            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как можно не заметить приближающую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     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машину. Играть можно только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     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в специально отведенных местах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    —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во дворах, парках, скверах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Выходя из подъезда, уже будь внимателен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и осторожен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2" name="Picture 5" descr=""/>
          <p:cNvPicPr/>
          <p:nvPr/>
        </p:nvPicPr>
        <p:blipFill>
          <a:blip r:embed="rId5"/>
          <a:stretch/>
        </p:blipFill>
        <p:spPr>
          <a:xfrm>
            <a:off x="6551640" y="4967280"/>
            <a:ext cx="2160720" cy="1890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8:31:26Z</dcterms:created>
  <dc:creator>Федотова Виктория Александровна</dc:creator>
  <dc:description/>
  <dc:language>en-US</dc:language>
  <cp:lastModifiedBy>Irina</cp:lastModifiedBy>
  <dcterms:modified xsi:type="dcterms:W3CDTF">2019-03-04T17:05:50Z</dcterms:modified>
  <cp:revision>4</cp:revision>
  <dc:subject/>
  <dc:title>Слайд 1</dc:title>
</cp:coreProperties>
</file>