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C8E-57A1-4D03-A75A-E1C1E57B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587-4D20-4093-BDC8-5D98A7D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89DC9-C17A-4B4E-8086-34F3DFB3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52C85-1ACB-4531-8362-DA7E14A9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4DFA2-022D-4D1D-8ECD-0D53B4D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D4266-5387-4F22-A511-4AC769F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76F32-D89E-4FCA-B164-865E2E24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83F30-AAFC-40C8-A68C-E9C9EBE4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C13D-C48B-41D2-AFB3-9DDDF1F8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DD07E-B44E-4132-87EB-76F7E162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D0B5-A238-4C4A-BCE2-81ACA8C8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7C1-38E9-4B18-9618-41B8B343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95E-EAF9-412C-B0EB-6D85370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D55-9589-433F-A06C-61AE5722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6FA8-1534-4485-A37C-2E44F0B8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62E6-B24D-49A9-9FDF-B67C502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2618-2C7F-465F-B57C-8AD7B345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50B-4AF0-4801-9DC4-2B010D4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2C9A-D253-429D-A994-DBAF98FE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7AB-E976-4D60-A0F7-182BA66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A67-E065-4DE6-BCD7-2AD250E0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040C-DD72-4959-B43E-EF8A2A05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D4FA-9856-45E0-B5FF-4AC3472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E166-1680-4725-B428-19444959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555-4BAC-4CDE-90E5-E9654995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412A-D995-4591-B60E-2E6C5F0E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D49C-959E-4CC4-B43F-2ED8E458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9794-47F1-4E5B-B443-66A0C91C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8AC5-68BA-476B-BA85-4586F534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C6895-4101-41F8-ACCC-9C81CC3E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553A-3CF1-4730-AD84-5448638B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BF0-49F1-4ABA-A9F5-C86C09A8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09AE-5388-47CF-969E-3DBAEF7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15EFE-96B4-47F5-BCB3-3EEE53C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7344-48F0-4BEB-9C6E-FDA51A75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16B2-2ABA-47E8-89D1-2A0FAB0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D6AA-A0B1-447D-8F5B-B29E21F7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B3B4-7ABF-4D61-9D64-178645E6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49C0-1AE7-4E3A-9063-1756CC58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F1B4-C60E-4932-9D42-BA3A8AEA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1FE6-8750-4BDE-BB12-033CD4F6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0FFB-9E70-407D-B0D2-732163B5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E5-B9EB-4F36-8145-AA5962CF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1632-CCAA-4D57-9D87-368BD85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7D16-1292-488A-828D-4A410E12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8EBA-0C2B-4EDB-BA31-6B02ED73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E8C4-167B-4DC3-AF70-7E28A63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6276F-42E5-4D62-8FA7-039DEC71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8A7F-4951-4AAC-A815-F673B9DE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CB0A-B72D-4096-8497-3B5B445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41532-7C0E-446C-8444-E796B008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A375-89F9-4D70-AE58-1D818E74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7A94-933F-4FD2-B5EF-1FA80486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6E4-E955-4C5E-B717-AD4662B7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80090-F038-436E-ACE8-740B414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3EEC-A208-4B40-A756-CE390238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1C1D-10A3-4143-A59C-EB8D42A8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5D3B-D510-4BE0-B545-A3FCA93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C52CA-DED0-4CBA-8307-31D939AF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54BA6-EC31-4792-B5EE-947B7743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A661-AC5D-44B1-A0EF-7CE4580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610CE-A845-4E0D-A98F-A89F6A1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F2B0A-F3AF-431C-8F4F-7A0A259D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01DF6-13DB-467C-8CE5-0ABFB7DB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B5C-3284-4CD1-BE71-F6CF2F17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A685-0BB5-4E48-BB7B-30B4A83D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54AC7-A0F2-4258-856A-144615B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01E0-2814-49B6-AF61-B1EC7C87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DE552-CF9D-4ED6-B603-AB7DE777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F0B8-4915-410D-A51D-D57C7C54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1996-0604-4BDA-A2E8-09563AF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AF6F-2782-4A42-B71B-F5C64BBE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6F38-2B22-4BF0-875E-678AD94A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878C5-B0F3-4691-9B45-3FC786C6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ED87-695A-4822-9E93-C47A1EBC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CBC-B718-4671-9145-8B010325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434C-7BA5-40B1-BC52-0C78360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7AEB5-EF6F-488E-9C37-F270A533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260A-554B-4B79-90AE-E2A9C6D74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9184-C0E4-4715-A0EC-320773AB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7B4EE-0405-4BE9-AF1D-76F4C2A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C0EE-7309-4FDC-8899-AE3925C5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827C-7996-4D22-A28F-EB2246CB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00B4D-8A50-48D3-B7AE-6FA823BB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CEACC-02E9-41A3-A275-ECB5E3F8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C4BF-2599-4486-9B2D-7EAAB976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C9-EB67-453E-B307-6CC123A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C041F-7AEC-4173-82D9-12DDE66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2AD22-C358-493E-AA11-3BE304BB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68470-AE38-402C-B909-85D86147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CDD99-9785-4C17-9F48-0B842ACC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D6925-4B9F-45A2-AB89-C94707C1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62A71-4672-4784-9CED-DA3ECCF2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DF646-48EC-436A-9D4E-B7E13995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DE3BE-C90F-4879-9655-EE4FFEC9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6BF0-EAE7-46A6-A668-7C041521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79AE-1BDE-48E1-AE3F-4E2BCE1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2E4-A93D-46F9-A00B-DCB61CE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EDDB-A416-4D73-97A0-84589CC0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38DC-DDB0-4BB2-8C26-07E8546D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BCF7-F6E0-4C52-AC52-64EDB9A3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BC112-E830-4C02-99DD-D6C8895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BA8B-43FD-4863-B5D9-D80A1A5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A640-639D-4FE2-A1D1-7248BDEE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CCC3-EAF2-4B50-B49F-994A8026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E5110-3392-4E8C-B2E1-94A32D35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FBE7B-913A-4EA9-8ACA-6949F0BE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CA87B-5641-469E-A529-9C8668F1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25C7-C6BC-4719-9634-E7DABB6AD3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22BB-1382-488D-9F2A-37FFFCDF76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787C-F24D-4711-81BB-59EAE0CA0F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CD8C-2BCC-4701-9152-63DBAFBE26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77FE-76A5-4321-876B-5EE5DBC5BFD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534-9487-4A08-A3AD-162BF85DF6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E19-78A3-4C97-8CE5-48BEF32CCA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98F-60A1-45C9-B504-EA6C9A5C1B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E9D-4454-485B-8818-C600B15C26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76280" y="365040"/>
            <a:ext cx="7966080" cy="1085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990720" y="1689120"/>
            <a:ext cx="7162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088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Обустройство кухни в квартире или загородном доме дело очень непростое, требующее от человека, создающего дизайн помещения, не только вкуса и стиля, но и многих знаний. Ведь кроме всевозможных видов отделки, подбора и расстановки мебели, в современной кухне используется огромное количество техники. Пожалуй, это самое продвинутое в техническом плане помещение в квартире. Поэтому надо обладать большим талантом, чтобы на небольшой площади совместить в единое целое с одной стороны технический прогресс, а с другой – комфорт и ую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228240"/>
            <a:ext cx="861048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Кухня – это одно из основных помещений в квартире и загородном доме. Хозяйка дома и другие члены семьи проводят на кухне много времени. Ведь кухня является не только местом приготовления и потребления пищи, но и своеобразным центром общения семьи. Именно поэтому, от правильного оборудования и благоустройства кухни во многом зависит удобство домашней работы и отдых жильцов, а также комфорт и уют квартиры в цел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Вся площадь кухни делится на рабочую зону, столовую и зону прохода. Рабочая зона предназначена для приготовления пищи. Приготовление пищи является своеобразным технологическим процессом, который состоит из следующих основных операций: хранение продуктов; подготовка продуктов; мытье продуктов; подготовка блюд; приготовление блюд, требующих термической обработки; раздача готовых блюд; мытье посуды; уборка кухонных отход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305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46160" y="268200"/>
            <a:ext cx="8845560" cy="1030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Vl</cp:lastModifiedBy>
  <dcterms:modified xsi:type="dcterms:W3CDTF">2019-05-13T09:49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