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C16-BEA0-4A1D-865A-FBF143F8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FE6-BADA-4ACC-B9AB-4B7036A7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8859F-12F8-48F7-B382-D60576D9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220BE-8FD9-4385-983E-419D21A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D1D97-6A4A-46CC-A8E8-4E7355B3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242D-3175-4C85-B590-92810A34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79115-068F-4A49-A3A4-D40DD13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3DB30-7A6A-4827-8DF0-82137A6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B94DD-83E2-4970-A418-91A16338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DA2E-3CDE-42DD-B50A-BA259B32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E1C30-39CC-4B5C-B009-2C77B96A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5AF-8A4D-4182-BBC6-1B7C9C75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103-9EE6-44BB-8072-5F4A27B1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0F8-5ED6-4E2B-BF98-C2A74831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925-1F64-4956-B61E-468A3E7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43C2-9E0C-4507-88AC-3C11731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BD93-6731-4510-8293-1AFA1AC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0EF-F341-4BC1-910E-CF92B355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473E-3E89-411C-9B46-17E57F2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735C-213A-4A78-AB28-49901382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52D-F612-4EC9-8A35-1F4F38B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A7A0-7AFD-4FC5-B5D1-191E743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E8D5-BF80-4E4F-8962-6A6B106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F4C7-D3B6-485E-9A2D-2CC81389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1E08-8FC4-44CE-9375-60E6F354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7D31-1CA7-41B9-B7AE-EC47C7F2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2A97-546F-4899-9C0A-21EBC8B4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3FC3-DAD6-493B-A1D3-9A5AF34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1774-59F8-4975-BA8B-F2744B0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8BED-1428-4333-84EB-8DA3C77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84F3-0908-4605-8FB9-04740A2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9A-8050-4F5B-ACA3-82A47AF5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DEB4-7B25-4335-94A1-0268302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20FD-2CA6-4467-9836-1938530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EAF9-4909-48B1-88AD-C4859FE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5649-83CA-4C2D-9EEE-53C3670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7F63-E680-49CD-9CFE-414D74B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E6CC-A552-4811-81F3-570D0419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8ED5-4644-4347-B17E-189AF671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9B1F-1DFC-4816-86AD-61AA7746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5AD1-6A5C-46A5-BCA4-7863846C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0236-83B1-4337-BF13-49990948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39E-369F-4CA6-8A03-EFB1347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9934-53BE-4A99-8B21-02FB5239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4D06-ABCE-4077-B73A-E65D6443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32A98-EABC-45FD-B311-ACDAA74E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F508-3762-4A5A-BEC3-CE269E1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D920-7D17-45D9-B74E-BE625750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4AE4-44D5-4CFD-8644-D8E4232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7BF3-CF4D-4612-BE11-25BC90A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1448-8066-4914-A99E-9ED0B08F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BFC4-AF06-427D-A9DA-9AB72041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AF6F-6176-4186-AB03-993A22A4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6CB-3F84-4556-96EC-31CDDD0E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EA80-DD09-4CA8-8638-6047F7F7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369A-EA6D-4058-8852-CEF30E3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D72C-FA4A-4458-85E6-03F9D7D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28C6-C53A-4E9E-B311-E2609FF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24E0-8D2C-4EB3-98E7-9790DF44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150D-1DA8-45C9-8AB4-E0ADBE07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7A1D-8080-4318-AF1D-E6DC462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57F0-36A6-4A1E-9F18-C12C77D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FD70-C89F-4F3E-A961-6BAD2E93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DC68-672C-43F0-A55E-1575654F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535-8139-475D-9A67-EC4E125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9F2D5-01C2-4A8F-A734-97180C0C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D4FEF-FBFC-44E9-BE44-7F073E53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C3F8-215A-46F9-BAAD-1A7729E8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F765-1071-4BA6-9CF5-DCD4A7FD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6889-A4B0-4377-B6DB-8A9A9F8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CA49-731E-44E3-A61A-C36F984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281D-6BBA-4487-9F55-E7269F7E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88259-41F2-4113-9B66-56F6C7F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681E-CA0B-4EBA-A151-5177DB4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50E1C-E51F-49D1-8B75-5A7E574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C28-240A-4D0E-9F2B-C16F8F8C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C05B-ED23-443C-83B5-ED834096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3633-0DC2-44DB-8863-A0DD95F2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EA582-2027-4E2C-87C9-44C94BA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555DB-BE4C-4183-87E7-5EDE4D4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28DF1-6B86-490C-904F-B3CEFF9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4DC8-D373-4BFA-B5C8-DEC44EE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36D2-7D7B-4B97-A26B-6713D4F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C1CAA-AD7A-41E6-AC25-51EF8F15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79E5-686D-42A5-A8E2-FDD71186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1BBA-50F5-4B52-B3BD-056A325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F5F-F233-40AC-A370-0D826A8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FDD4-3B15-4A12-AB12-05E7623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69DC-E379-43DD-9739-FC90A56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2FE5-1FB3-479D-A705-F2987039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FDC9-1357-49E1-83E2-32250A9D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14ED-B8F4-4052-9494-C8C285EB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8C1F5-85E6-4E50-9CDA-0467C0A9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3D4EB-BC58-43D6-AC22-9813D91F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23CD-7F33-4929-B77B-75E8619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F5635-9DA3-4306-AF05-026ECA5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9C958-8512-4203-A498-BE78D563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315-EAA0-4103-B1A2-EF9AD869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2CED-8E2D-47DD-9938-779B2EC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4333-0A47-45F0-8AE9-EFDB6BFE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D233-FA3F-4B7D-9301-04637D9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BC520-8383-4C71-BE25-47FE7D4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2FAB-C5D1-49DD-A6AB-645B975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E889F-D0C1-4D1F-98F6-DED882C8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657D-A899-4D84-BF18-DD35D818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6ABE7-44E0-40B1-957F-698A847F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B40D3-9091-4055-B077-6E5A3E3A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F03D4-F69E-4F6A-9B26-3AADEA9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147-79FE-42A2-B207-A3BFD2EE15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1749-C20A-4C0F-99E9-7DBB4BC3F2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320-07D6-47AD-9FE8-3D42B0466D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B700-43C6-4C95-A81E-1AD9BE0AD7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4EC5-0FBD-4E7E-A908-2E651827EC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4227-F351-44EA-A275-8572B46851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48DA-BE47-452D-BBE6-4803C19447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FF7-1E8A-4E86-BF34-899631BEF3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021D-F1B7-481E-B7E4-89F034D2BE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76280" y="365040"/>
            <a:ext cx="7966080" cy="1085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990720" y="1689120"/>
            <a:ext cx="7162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устройство кухни в квартире или загородном доме дело очень непростое, требующее от человека, создающего дизайн помещения, не только вкуса и стиля, но и многих знаний. Ведь кроме всевозможных видов отделки, подбора и расстановки мебели, в современной кухне используется огромное количество техники. Пожалуй, это самое продвинутое в техническом плане помещение в квартире. Поэтому надо обладать большим талантом, чтобы на небольшой площади совместить в единое целое с одной стороны технический прогресс, а с другой – комфорт и ую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228240"/>
            <a:ext cx="861048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ухня – это одно из основных помещений в квартире и загородном доме. Хозяйка дома и другие члены семьи проводят на кухне много времени. Ведь кухня является не только местом приготовления и потребления пищи, но и своеобразным центром общения семьи. Именно поэтому, от правильного оборудования и благоустройства кухни во многом зависит удобство домашней работы и отдых жильцов, а также комфорт и уют квартиры в цел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ся площадь кухни делится на рабочую зону, столовую и зону прохода. Рабочая зона предназначена для приготовления пищи. Приготовление пищи является своеобразным технологическим процессом, который состоит из следующих основных операций: хранение продуктов; подготовка продуктов; мытье продуктов; подготовка блюд; приготовление блюд, требующих термической обработки; раздача готовых блюд; мытье посуды; уборка кухонных отход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818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059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Vl</cp:lastModifiedBy>
  <dcterms:modified xsi:type="dcterms:W3CDTF">2019-05-13T09:49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