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B74E-D6B3-4114-8B9A-3AD90BC3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00D4-D802-4564-B490-6123CC99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16C7-5C84-48D8-B06C-447FC45D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861-EABF-49C8-8ECD-D8E6C3B5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0F44-DFE0-4A3E-B074-62455730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C3AB-4ADC-4262-B0DB-53EDE2A2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A61E-7B74-4DF3-BD4E-CA246367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D388-BE3C-4775-90B5-D007C021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A897-A167-4C06-AD7C-D0D7B6E8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B013-A6A2-4D08-81C1-9F4AB685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E381-6F2E-4A19-9068-21F336E9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5767-3E93-4E31-9AB2-0FBB4E7C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9BE2-6221-499F-B637-7047831B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32D5-77C9-4531-89F6-1B1404DC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9D7F-A0AF-454F-B3C9-39D35AB6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27E2-FC41-493F-9870-80A0D26C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B196-D0C9-49BA-B5EB-088A1B35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EFFA-296A-4682-BD47-BBEF283E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01EA-59D7-484E-ABB4-52535646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5F5-7925-4851-86BB-1842F412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D229-3446-4086-BCED-3D174C7B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50F2-50C6-47AF-B9B1-59531372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F85F-5BC3-4BCF-BFE3-94253BB2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D89C-33F1-45C0-BB6F-31066B22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bd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A4E1-EFD9-4C65-A3F2-905D3D4F9D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bd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33B8-E452-4487-8864-F7775FF072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3662d"/>
                </a:solidFill>
                <a:latin typeface="Times New Roman"/>
                <a:ea typeface="Times New Roman"/>
              </a:rPr>
              <a:t>Влияние тяжести на формирование осанки школьни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браков Мэргэн,  ученик 5 класса МБОУ «Курумканская СОШ №1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62d"/>
                </a:solidFill>
                <a:latin typeface="Times New Roman"/>
                <a:ea typeface="Calibri"/>
              </a:rPr>
              <a:t>Изменение веса ранца с учебниками </a:t>
            </a:r>
            <a:br>
              <a:rPr sz="2800"/>
            </a:br>
            <a:r>
              <a:rPr b="1" lang="ru-RU" sz="2800" spc="-1" strike="noStrike">
                <a:solidFill>
                  <a:srgbClr val="53662d"/>
                </a:solidFill>
                <a:latin typeface="Times New Roman"/>
                <a:ea typeface="Calibri"/>
              </a:rPr>
              <a:t>по дням недел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0" name="Объект 2" descr=""/>
          <p:cNvPicPr/>
          <p:nvPr/>
        </p:nvPicPr>
        <p:blipFill>
          <a:blip r:embed="rId1"/>
          <a:stretch/>
        </p:blipFill>
        <p:spPr>
          <a:xfrm>
            <a:off x="1015920" y="1701720"/>
            <a:ext cx="77216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662d"/>
                </a:solidFill>
                <a:latin typeface="Times New Roman"/>
              </a:rPr>
              <a:t>Рекомендации школьникам по сохранению осанк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е ранец не за ручку, а на спи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осите ранец или портфель в одной ру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осите лишнего в ранц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йте ранец ежедневно и не забывайте выложить из него ненужные учебники, тетрад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5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662d"/>
                </a:solidFill>
                <a:latin typeface="Times New Roman"/>
                <a:ea typeface="Times New Roman"/>
              </a:rPr>
              <a:t>Цель работы:  изучение влияния тяжестей на осанку детей младшего школьного возраста.</a:t>
            </a:r>
            <a:r>
              <a:rPr b="1" lang="ru-RU" sz="2400" spc="-1" strike="noStrike" u="sng">
                <a:solidFill>
                  <a:srgbClr val="53662d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662d"/>
                </a:solidFill>
                <a:latin typeface="Times New Roman"/>
                <a:ea typeface="Times New Roman"/>
              </a:rPr>
              <a:t>Задачи исслед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измерение веса ранца в течение недели на собственном пример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соответствие веса школьного ранца норматив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 особенности осанки детей младшего школьного возраст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о правильной и неправильной осанке и ее значении для здоро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765000"/>
            <a:ext cx="762012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62d"/>
                </a:solidFill>
                <a:latin typeface="Times New Roman"/>
                <a:ea typeface="Calibri"/>
              </a:rPr>
              <a:t>Гипотеза:</a:t>
            </a:r>
            <a:r>
              <a:rPr b="0" lang="ru-RU" sz="2800" spc="-1" strike="noStrike">
                <a:solidFill>
                  <a:srgbClr val="53662d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  <a:ea typeface="Calibri"/>
              </a:rPr>
              <a:t>осанка может измениться из-за действия тяжести на позвоночник. Последствием неправильного ношения тяжестей в младшем школьном возрасте, может стать искривление позвоночника, так как скелет только формируется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3573360"/>
            <a:ext cx="762012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3662d"/>
                </a:solidFill>
                <a:latin typeface="Times New Roman"/>
                <a:ea typeface="Calibri"/>
              </a:rPr>
              <a:t>Актуальность темы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чень важно знать, как правильно должна формироваться осанка и следить за ней. От этого зависит здоровье в будущ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6612"/>
                </a:solidFill>
                <a:latin typeface="Times New Roman"/>
              </a:rPr>
              <a:t>Методы исследования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ение литературы по теме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сперимен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тематические и статистические мето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6612"/>
                </a:solidFill>
                <a:latin typeface="Times New Roman"/>
              </a:rPr>
              <a:t>Норматив веса одного учебни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-х классов - 300 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5 - 6-х классов - 400 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7 - 9-х классов - 500 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0-11-х классов – 600 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3662d"/>
                </a:solidFill>
                <a:latin typeface="Times New Roman"/>
                <a:ea typeface="Times New Roman"/>
              </a:rPr>
              <a:t>Норматив веса учебников </a:t>
            </a:r>
            <a:br>
              <a:rPr sz="3600"/>
            </a:br>
            <a:r>
              <a:rPr b="1" lang="ru-RU" sz="3600" spc="-1" strike="noStrike">
                <a:solidFill>
                  <a:srgbClr val="53662d"/>
                </a:solidFill>
                <a:latin typeface="Times New Roman"/>
                <a:ea typeface="Times New Roman"/>
              </a:rPr>
              <a:t>на один учебный день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53800" algn="just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3 классов - от 1,5 до 2,0 к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53800" algn="just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5 классов - от 2,0 до 2,5 к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53800" algn="just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7 классов - от 3,0 до 3.5 к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253800" algn="just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11 классов - от 4,0 до 4,5 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21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3662d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53662d"/>
                </a:solidFill>
                <a:latin typeface="Times New Roman"/>
                <a:ea typeface="Times New Roman"/>
              </a:rPr>
              <a:t>Практическая работа </a:t>
            </a:r>
            <a:br>
              <a:rPr sz="2400"/>
            </a:br>
            <a:r>
              <a:rPr b="1" lang="ru-RU" sz="2400" spc="-1" strike="noStrike">
                <a:solidFill>
                  <a:srgbClr val="53662d"/>
                </a:solidFill>
                <a:latin typeface="Times New Roman"/>
                <a:ea typeface="Times New Roman"/>
              </a:rPr>
              <a:t>«Изучение соответствия санитарно-гигиеническим нормам портфеля учащегося </a:t>
            </a:r>
            <a:br>
              <a:rPr sz="2400"/>
            </a:br>
            <a:r>
              <a:rPr b="1" lang="ru-RU" sz="2400" spc="-1" strike="noStrike">
                <a:solidFill>
                  <a:srgbClr val="53662d"/>
                </a:solidFill>
                <a:latin typeface="Times New Roman"/>
                <a:ea typeface="Times New Roman"/>
              </a:rPr>
              <a:t>5 класса»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560" y="2492280"/>
            <a:ext cx="762012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 CYR"/>
              <a:buAutoNum type="arabicPeriod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 CYR"/>
                <a:ea typeface="Calibri"/>
              </a:rPr>
              <a:t>Взвесить портфель без школьных принадлежност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buClr>
                <a:srgbClr val="000000"/>
              </a:buClr>
              <a:buFont typeface="Times New Roman CYR"/>
              <a:buAutoNum type="arabicPeriod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 CYR"/>
                <a:ea typeface="Calibri"/>
              </a:rPr>
              <a:t>Проверить вес учебников, необходимых по программе, и сравнить их с гигиеническими норм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 CYR"/>
              <a:buAutoNum type="arabicPeriod"/>
              <a:tabLst>
                <a:tab algn="l" pos="18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 CYR"/>
                <a:ea typeface="Calibri"/>
              </a:rPr>
              <a:t>В течение недели наблюдать за изменением веса портфел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3662d"/>
                </a:solidFill>
                <a:latin typeface="Times New Roman"/>
                <a:ea typeface="Times New Roman"/>
              </a:rPr>
              <a:t>Вес учебников и тетраде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Русский язык» - 300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Математика» -350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Литературное чтение» - 255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Биология» - 285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История» - 485 г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Английский язык» -375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География»  – 295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Технология» - 250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Бурятский язык»  – 280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Рисование» - 375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Музыка» - 185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ОБЖ» - 225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традь 12 листов – 23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чие тетради к учебникам – 110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-317160" algn="just">
              <a:lnSpc>
                <a:spcPct val="115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ртивная форма – 500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7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3662d"/>
                </a:solidFill>
                <a:latin typeface="Times New Roman"/>
                <a:ea typeface="Calibri"/>
              </a:rPr>
              <a:t>Изменение веса ранца с учебниками </a:t>
            </a:r>
            <a:br>
              <a:rPr sz="2800"/>
            </a:br>
            <a:r>
              <a:rPr b="1" lang="ru-RU" sz="2800" spc="-1" strike="noStrike">
                <a:solidFill>
                  <a:srgbClr val="53662d"/>
                </a:solidFill>
                <a:latin typeface="Times New Roman"/>
                <a:ea typeface="Calibri"/>
              </a:rPr>
              <a:t>по дням недел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87280" y="1916280"/>
          <a:ext cx="7561440" cy="2304720"/>
        </p:xfrm>
        <a:graphic>
          <a:graphicData uri="http://schemas.openxmlformats.org/drawingml/2006/table">
            <a:tbl>
              <a:tblPr/>
              <a:tblGrid>
                <a:gridCol w="1541520"/>
                <a:gridCol w="1231920"/>
                <a:gridCol w="1121040"/>
                <a:gridCol w="1198440"/>
                <a:gridCol w="1262160"/>
                <a:gridCol w="1206360"/>
              </a:tblGrid>
              <a:tr h="11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едельни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ни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твер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ятниц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бб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кг 700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кг 400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кг 100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кг 900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кг 400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кг 400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08:16:00Z</dcterms:created>
  <dc:creator>123</dc:creator>
  <dc:description/>
  <dc:language>en-US</dc:language>
  <cp:lastModifiedBy>dns</cp:lastModifiedBy>
  <dcterms:modified xsi:type="dcterms:W3CDTF">2019-04-16T14:21:47Z</dcterms:modified>
  <cp:revision>28</cp:revision>
  <dc:subject/>
  <dc:title>Исследовательские работы школьников</dc:title>
</cp:coreProperties>
</file>