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B99A-C3E4-4EFB-94AF-DEBDD1D54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1C0C-C44C-4555-B6F3-334A34A6F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C8A7-20B8-4B1E-B3CA-9EAEEB9D8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006E-C2A7-4846-A6D7-3F91DE8F9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38E56-4507-4593-A7C4-ED70061B1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01A00-B6D9-4D8E-B22A-F7ED57E4D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1E1A9-E122-47B3-B465-6F645CB32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A0DFB-8786-499C-A05E-475043FD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CA695-F14F-4D47-AA5E-DD162F012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84EDB-9D2F-487B-967F-15100AEFD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AB326-084C-4C57-9017-6BB4B949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FFE6-3FA4-4441-B08A-B04E8F29C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BFD52-53D3-4D55-8DED-B126177E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401D1-4AE4-4818-AFDF-737A566E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C0D1A-0E78-4F84-8D60-B448DF36A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C417C-0581-4125-A646-F7C7C8F82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3641D-6C15-4E0C-9888-A996AF9C4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DD34-8787-425D-BC6E-A299FF55E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DCFE-F446-4BB8-9CF7-A1D6C725D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8D62-69BA-403B-8B37-E82D58B5A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A4BA-83D3-431C-B508-8096CB1CD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DA03-1CBF-4CC2-ACA7-A5EF88AB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3419-0D08-4698-A39C-10FA7385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30A5-3AFA-4A31-B7BC-770F1C57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1bd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8181B-0D7F-48C0-930B-EE61A1F1254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1bd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8CAC1-3485-4C9F-B15F-4B08ACA47C1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3662d"/>
                </a:solidFill>
                <a:latin typeface="Times New Roman"/>
                <a:ea typeface="Times New Roman"/>
              </a:rPr>
              <a:t>Влияние тяжести на формирование осанки школьник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браков Мэргэн,  ученик 5 класса МБОУ «Курумканская СОШ №1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3662d"/>
                </a:solidFill>
                <a:latin typeface="Times New Roman"/>
                <a:ea typeface="Calibri"/>
              </a:rPr>
              <a:t>Изменение веса ранца с учебниками </a:t>
            </a:r>
            <a:br>
              <a:rPr sz="2800"/>
            </a:br>
            <a:r>
              <a:rPr b="1" lang="ru-RU" sz="2800" spc="-1" strike="noStrike">
                <a:solidFill>
                  <a:srgbClr val="53662d"/>
                </a:solidFill>
                <a:latin typeface="Times New Roman"/>
                <a:ea typeface="Calibri"/>
              </a:rPr>
              <a:t>по дням недели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0" name="Объект 2" descr=""/>
          <p:cNvPicPr/>
          <p:nvPr/>
        </p:nvPicPr>
        <p:blipFill>
          <a:blip r:embed="rId1"/>
          <a:stretch/>
        </p:blipFill>
        <p:spPr>
          <a:xfrm>
            <a:off x="1015920" y="1701720"/>
            <a:ext cx="772164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3662d"/>
                </a:solidFill>
                <a:latin typeface="Times New Roman"/>
              </a:rPr>
              <a:t>Рекомендации школьникам по сохранению осанк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сите ранец не за ручку, а на спин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носите ранец или портфель в одной рук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носите лишнего в ранца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яйте ранец ежедневно и не забывайте выложить из него ненужные учебники, тетрад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5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3662d"/>
                </a:solidFill>
                <a:latin typeface="Times New Roman"/>
                <a:ea typeface="Times New Roman"/>
              </a:rPr>
              <a:t>Цель работы:  изучение влияния тяжестей на осанку детей младшего школьного возраста.</a:t>
            </a:r>
            <a:r>
              <a:rPr b="1" lang="ru-RU" sz="2400" spc="-1" strike="noStrike" u="sng">
                <a:solidFill>
                  <a:srgbClr val="53662d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just">
              <a:lnSpc>
                <a:spcPct val="15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3662d"/>
                </a:solidFill>
                <a:latin typeface="Times New Roman"/>
                <a:ea typeface="Times New Roman"/>
              </a:rPr>
              <a:t>Задачи исследова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сти измерение веса ранца в течение недели на собственном пример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ить соответствие веса школьного ранца нормативу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снить особенности осанки детей младшего школьного возраста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нать о правильной и неправильной осанке и ее значении для здоровь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765000"/>
            <a:ext cx="762012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3662d"/>
                </a:solidFill>
                <a:latin typeface="Times New Roman"/>
                <a:ea typeface="Calibri"/>
              </a:rPr>
              <a:t>Гипотеза:</a:t>
            </a:r>
            <a:r>
              <a:rPr b="0" lang="ru-RU" sz="2800" spc="-1" strike="noStrike">
                <a:solidFill>
                  <a:srgbClr val="53662d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221304"/>
                </a:solidFill>
                <a:latin typeface="Times New Roman"/>
                <a:ea typeface="Calibri"/>
              </a:rPr>
              <a:t>осанка может измениться из-за действия тяжести на позвоночник. Последствием неправильного ношения тяжестей в младшем школьном возрасте, может стать искривление позвоночника, так как скелет только формируется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3573360"/>
            <a:ext cx="7620120" cy="22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3662d"/>
                </a:solidFill>
                <a:latin typeface="Times New Roman"/>
                <a:ea typeface="Calibri"/>
              </a:rPr>
              <a:t>Актуальность темы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очень важно знать, как правильно должна формироваться осанка и следить за ней. От этого зависит здоровье в будуще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06612"/>
                </a:solidFill>
                <a:latin typeface="Times New Roman"/>
              </a:rPr>
              <a:t>Методы исследования 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учение литературы по теме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Эксперимент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Математические и статистические метод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06612"/>
                </a:solidFill>
                <a:latin typeface="Times New Roman"/>
              </a:rPr>
              <a:t>Норматив веса одного учебник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4-х классов - 300 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5 - 6-х классов - 400 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7 - 9-х классов - 500 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10-11-х классов – 600 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3662d"/>
                </a:solidFill>
                <a:latin typeface="Times New Roman"/>
                <a:ea typeface="Times New Roman"/>
              </a:rPr>
              <a:t>Норматив веса учебников </a:t>
            </a:r>
            <a:br>
              <a:rPr sz="3600"/>
            </a:br>
            <a:r>
              <a:rPr b="1" lang="ru-RU" sz="3600" spc="-1" strike="noStrike">
                <a:solidFill>
                  <a:srgbClr val="53662d"/>
                </a:solidFill>
                <a:latin typeface="Times New Roman"/>
                <a:ea typeface="Times New Roman"/>
              </a:rPr>
              <a:t>на один учебный день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253800" algn="just"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3 классов - от 1,5 до 2,0 к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253800" algn="just"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5 классов - от 2,0 до 2,5 к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253800" algn="just"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7 классов - от 3,0 до 3.5 к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253800" algn="just"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-11 классов - от 4,0 до 4,5 к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21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3662d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ru-RU" sz="2400" spc="-1" strike="noStrike">
                <a:solidFill>
                  <a:srgbClr val="53662d"/>
                </a:solidFill>
                <a:latin typeface="Times New Roman"/>
                <a:ea typeface="Times New Roman"/>
              </a:rPr>
              <a:t>Практическая работа </a:t>
            </a:r>
            <a:br>
              <a:rPr sz="2400"/>
            </a:br>
            <a:r>
              <a:rPr b="1" lang="ru-RU" sz="2400" spc="-1" strike="noStrike">
                <a:solidFill>
                  <a:srgbClr val="53662d"/>
                </a:solidFill>
                <a:latin typeface="Times New Roman"/>
                <a:ea typeface="Times New Roman"/>
              </a:rPr>
              <a:t>«Изучение соответствия санитарно-гигиеническим нормам портфеля учащегося </a:t>
            </a:r>
            <a:br>
              <a:rPr sz="2400"/>
            </a:br>
            <a:r>
              <a:rPr b="1" lang="ru-RU" sz="2400" spc="-1" strike="noStrike">
                <a:solidFill>
                  <a:srgbClr val="53662d"/>
                </a:solidFill>
                <a:latin typeface="Times New Roman"/>
                <a:ea typeface="Times New Roman"/>
              </a:rPr>
              <a:t>5 класса»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42560" y="2492280"/>
            <a:ext cx="7620120" cy="33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 CYR"/>
              <a:buAutoNum type="arabicPeriod"/>
              <a:tabLst>
                <a:tab algn="l" pos="18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 CYR"/>
                <a:ea typeface="Calibri"/>
              </a:rPr>
              <a:t>Взвесить портфель без школьных принадлежносте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1"/>
              </a:spcBef>
              <a:buClr>
                <a:srgbClr val="000000"/>
              </a:buClr>
              <a:buFont typeface="Times New Roman CYR"/>
              <a:buAutoNum type="arabicPeriod"/>
              <a:tabLst>
                <a:tab algn="l" pos="18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 CYR"/>
                <a:ea typeface="Calibri"/>
              </a:rPr>
              <a:t>Проверить вес учебников, необходимых по программе, и сравнить их с гигиеническими норма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 CYR"/>
              <a:buAutoNum type="arabicPeriod"/>
              <a:tabLst>
                <a:tab algn="l" pos="18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 CYR"/>
                <a:ea typeface="Calibri"/>
              </a:rPr>
              <a:t>В течение недели наблюдать за изменением веса портфел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3662d"/>
                </a:solidFill>
                <a:latin typeface="Times New Roman"/>
                <a:ea typeface="Times New Roman"/>
              </a:rPr>
              <a:t>Вес учебников и тетрадей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7160" indent="-317160" algn="just">
              <a:lnSpc>
                <a:spcPct val="115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«Русский язык» - 300 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7160" indent="-317160" algn="just">
              <a:lnSpc>
                <a:spcPct val="115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«Математика» -350 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7160" indent="-317160" algn="just">
              <a:lnSpc>
                <a:spcPct val="115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«Литературное чтение» - 255 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7160" indent="-317160" algn="just">
              <a:lnSpc>
                <a:spcPct val="115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«Биология» - 285 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7160" indent="-317160" algn="just">
              <a:lnSpc>
                <a:spcPct val="115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«История» - 485 г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7160" indent="-317160" algn="just">
              <a:lnSpc>
                <a:spcPct val="115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«Английский язык» -375 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7160" indent="-317160" algn="just">
              <a:lnSpc>
                <a:spcPct val="115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«География»  – 295 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7160" indent="-317160" algn="just">
              <a:lnSpc>
                <a:spcPct val="115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«Технология» - 250 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7160" indent="-317160" algn="just">
              <a:lnSpc>
                <a:spcPct val="115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«Бурятский язык»  – 280 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7160" indent="-317160" algn="just">
              <a:lnSpc>
                <a:spcPct val="115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«Рисование» - 375 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7160" indent="-317160" algn="just">
              <a:lnSpc>
                <a:spcPct val="115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«Музыка» - 185 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7160" indent="-317160" algn="just">
              <a:lnSpc>
                <a:spcPct val="115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«ОБЖ» - 225 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7160" indent="-317160" algn="just">
              <a:lnSpc>
                <a:spcPct val="115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традь 12 листов – 23 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7160" indent="-317160" algn="just">
              <a:lnSpc>
                <a:spcPct val="115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бочие тетради к учебникам – 110 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7160" indent="-317160" algn="just">
              <a:lnSpc>
                <a:spcPct val="115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портивная форма – 500 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7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7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3662d"/>
                </a:solidFill>
                <a:latin typeface="Times New Roman"/>
                <a:ea typeface="Calibri"/>
              </a:rPr>
              <a:t>Изменение веса ранца с учебниками </a:t>
            </a:r>
            <a:br>
              <a:rPr sz="2800"/>
            </a:br>
            <a:r>
              <a:rPr b="1" lang="ru-RU" sz="2800" spc="-1" strike="noStrike">
                <a:solidFill>
                  <a:srgbClr val="53662d"/>
                </a:solidFill>
                <a:latin typeface="Times New Roman"/>
                <a:ea typeface="Calibri"/>
              </a:rPr>
              <a:t>по дням недели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187280" y="1916280"/>
          <a:ext cx="7561440" cy="2304720"/>
        </p:xfrm>
        <a:graphic>
          <a:graphicData uri="http://schemas.openxmlformats.org/drawingml/2006/table">
            <a:tbl>
              <a:tblPr/>
              <a:tblGrid>
                <a:gridCol w="1541520"/>
                <a:gridCol w="1231920"/>
                <a:gridCol w="1121040"/>
                <a:gridCol w="1198440"/>
                <a:gridCol w="1262160"/>
                <a:gridCol w="1206360"/>
              </a:tblGrid>
              <a:tr h="1152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недельни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торни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ед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етверг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ятниц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ббо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2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 кг 700 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 кг 400 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 кг 100 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 кг 900 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 кг 400 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 кг 400 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3T08:16:00Z</dcterms:created>
  <dc:creator>123</dc:creator>
  <dc:description/>
  <dc:language>en-US</dc:language>
  <cp:lastModifiedBy>dns</cp:lastModifiedBy>
  <dcterms:modified xsi:type="dcterms:W3CDTF">2019-04-16T14:21:47Z</dcterms:modified>
  <cp:revision>28</cp:revision>
  <dc:subject/>
  <dc:title>Исследовательские работы школьников</dc:title>
</cp:coreProperties>
</file>