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A4B-89BF-4814-A877-9F82F9B3B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AE3-AF18-4255-808D-2CA559DEE71E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EE8B-29BB-4A45-8AAB-1F169956036E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6964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Microsoft Sans Serif"/>
              </a:rPr>
              <a:t>История развития утюга</a:t>
            </a:r>
            <a:endParaRPr b="0" lang="en-US" sz="4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6" name="Picture 11" descr="iron_PNG15568"/>
          <p:cNvPicPr/>
          <p:nvPr/>
        </p:nvPicPr>
        <p:blipFill>
          <a:blip r:embed="rId2"/>
          <a:stretch/>
        </p:blipFill>
        <p:spPr>
          <a:xfrm>
            <a:off x="2743200" y="3921120"/>
            <a:ext cx="1817640" cy="232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d6089ba9-8ea8-40c7-8b79-1eff433ae8f3"/>
          <p:cNvPicPr/>
          <p:nvPr/>
        </p:nvPicPr>
        <p:blipFill>
          <a:blip r:embed="rId3"/>
          <a:stretch/>
        </p:blipFill>
        <p:spPr>
          <a:xfrm>
            <a:off x="7010280" y="3851280"/>
            <a:ext cx="19051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5486400" y="990720"/>
            <a:ext cx="34290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7777"/>
                </a:solidFill>
                <a:latin typeface="Microsoft Sans Serif"/>
              </a:rPr>
              <a:t>   </a:t>
            </a:r>
            <a:r>
              <a:rPr b="1" lang="ru-RU" sz="3200" spc="-1" strike="noStrike">
                <a:solidFill>
                  <a:srgbClr val="777777"/>
                </a:solidFill>
                <a:latin typeface="Microsoft Sans Serif"/>
              </a:rPr>
              <a:t>Настоящий переворот в государстве утюгов произвел -</a:t>
            </a:r>
            <a:r>
              <a:rPr b="1" lang="ru-RU" sz="3200" spc="-1" strike="noStrike" u="sng">
                <a:solidFill>
                  <a:srgbClr val="777777"/>
                </a:solidFill>
                <a:uFillTx/>
                <a:latin typeface="Microsoft Sans Serif"/>
              </a:rPr>
              <a:t>электрический утюг, он появился в 1885 году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0" name="Picture 7" descr="утюги 001"/>
          <p:cNvPicPr/>
          <p:nvPr/>
        </p:nvPicPr>
        <p:blipFill>
          <a:blip r:embed="rId1"/>
          <a:stretch/>
        </p:blipFill>
        <p:spPr>
          <a:xfrm>
            <a:off x="457200" y="1676520"/>
            <a:ext cx="4952880" cy="4190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4296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Microsoft Sans Serif"/>
              </a:rPr>
              <a:t>Электрический  утюг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57200" y="2362320"/>
            <a:ext cx="403848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Microsoft Sans Serif"/>
              </a:rPr>
              <a:t>И все-таки самая современная и самая лучшая конструкция увлажнителя появилась в шестидесятые годы. Пар просто выходил через отверстия в подошве утюг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9480" y="1447920"/>
            <a:ext cx="3700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icrosoft Sans Serif"/>
              </a:rPr>
              <a:t>Современный  утюг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4" name="Picture 9" descr="IMG_2721"/>
          <p:cNvPicPr/>
          <p:nvPr/>
        </p:nvPicPr>
        <p:blipFill>
          <a:blip r:embed="rId1"/>
          <a:stretch/>
        </p:blipFill>
        <p:spPr>
          <a:xfrm>
            <a:off x="5334120" y="914400"/>
            <a:ext cx="3506760" cy="281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photo301867"/>
          <p:cNvPicPr/>
          <p:nvPr/>
        </p:nvPicPr>
        <p:blipFill>
          <a:blip r:embed="rId2"/>
          <a:stretch/>
        </p:blipFill>
        <p:spPr>
          <a:xfrm>
            <a:off x="4572000" y="3657600"/>
            <a:ext cx="35812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Современные утюги значительно легче,</a:t>
            </a:r>
            <a:br>
              <a:rPr sz="2400"/>
            </a:b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чем их предшественники. Новые материалы и техника позволяют  добиваться хороших</a:t>
            </a:r>
            <a:br>
              <a:rPr sz="2400"/>
            </a:b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результатов глажки  без механических усилий.</a:t>
            </a:r>
            <a:r>
              <a:rPr b="0" lang="ru-RU" sz="40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80880" y="457848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Современные утюги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обладают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целым рядом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возможностей,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облегчающих глажку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и уход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за самим прибором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78" name="Picture 6" descr="13c97e7d3a79e1d6e64efc6ce76bbfa7"/>
          <p:cNvPicPr/>
          <p:nvPr/>
        </p:nvPicPr>
        <p:blipFill>
          <a:blip r:embed="rId1"/>
          <a:stretch/>
        </p:blipFill>
        <p:spPr>
          <a:xfrm>
            <a:off x="6311880" y="0"/>
            <a:ext cx="283212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010735185"/>
          <p:cNvPicPr/>
          <p:nvPr/>
        </p:nvPicPr>
        <p:blipFill>
          <a:blip r:embed="rId2"/>
          <a:stretch/>
        </p:blipFill>
        <p:spPr>
          <a:xfrm>
            <a:off x="5105520" y="3962520"/>
            <a:ext cx="3504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77777"/>
                </a:solidFill>
                <a:latin typeface="Microsoft Sans Serif"/>
              </a:rPr>
              <a:t> 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Microsoft Sans Serif"/>
              </a:rPr>
              <a:t>-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Утюг-</a:t>
            </a: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тяжелый , нагревающийся металлический прибор для глажения одежды и тканей 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49" name="Picture 5" descr="УТЮГ"/>
          <p:cNvPicPr/>
          <p:nvPr/>
        </p:nvPicPr>
        <p:blipFill>
          <a:blip r:embed="rId1"/>
          <a:stretch/>
        </p:blipFill>
        <p:spPr>
          <a:xfrm>
            <a:off x="1285920" y="3200400"/>
            <a:ext cx="5952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800" y="2362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Первый утюг</a:t>
            </a: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появился в Китае, </a:t>
            </a: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на родине шелка</a:t>
            </a:r>
            <a:br>
              <a:rPr sz="2800"/>
            </a:br>
            <a:r>
              <a:rPr b="1" lang="ru-RU" sz="28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и фарфора</a:t>
            </a:r>
            <a:br>
              <a:rPr sz="2800"/>
            </a:br>
            <a:endParaRPr b="0" lang="en-US" sz="2800" spc="-1" strike="noStrike">
              <a:solidFill>
                <a:srgbClr val="777777"/>
              </a:solidFill>
              <a:latin typeface="Microsoft Sans Serif"/>
            </a:endParaRPr>
          </a:p>
        </p:txBody>
      </p:sp>
      <p:pic>
        <p:nvPicPr>
          <p:cNvPr id="51" name="Picture 0" descr="китай"/>
          <p:cNvPicPr/>
          <p:nvPr/>
        </p:nvPicPr>
        <p:blipFill>
          <a:blip r:embed="rId1"/>
          <a:stretch/>
        </p:blipFill>
        <p:spPr>
          <a:xfrm>
            <a:off x="609480" y="2133720"/>
            <a:ext cx="2921040" cy="346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267080" y="1676520"/>
            <a:ext cx="4724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Microsoft Sans Serif"/>
              </a:rPr>
              <a:t>Появление утюга</a:t>
            </a:r>
            <a:endParaRPr b="0" lang="en-US" sz="4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80880" y="1905120"/>
            <a:ext cx="335772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Железные, чугунные и бронзовые утюги пришли в наш быт в эпоху Петра</a:t>
            </a:r>
            <a:r>
              <a:rPr b="1" lang="en-US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I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, их отливали или ковали, по воле мастера придавали им форму льва, кита, корабля, украшая завитушкам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0880" y="1219320"/>
            <a:ext cx="3581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Microsoft Sans Serif"/>
              </a:rPr>
              <a:t>Утюги бывают разны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5" name="Picture 8" descr="Утюг2 001"/>
          <p:cNvPicPr/>
          <p:nvPr/>
        </p:nvPicPr>
        <p:blipFill>
          <a:blip r:embed="rId1"/>
          <a:stretch/>
        </p:blipFill>
        <p:spPr>
          <a:xfrm>
            <a:off x="4724280" y="1066680"/>
            <a:ext cx="3786480" cy="270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УТЮГ1"/>
          <p:cNvPicPr/>
          <p:nvPr/>
        </p:nvPicPr>
        <p:blipFill>
          <a:blip r:embed="rId2"/>
          <a:stretch/>
        </p:blipFill>
        <p:spPr>
          <a:xfrm>
            <a:off x="4724280" y="3962520"/>
            <a:ext cx="370836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7"/>
          <p:cNvSpPr/>
          <p:nvPr/>
        </p:nvSpPr>
        <p:spPr>
          <a:xfrm>
            <a:off x="5334120" y="2286000"/>
            <a:ext cx="3571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Первое упоминание о русском утюге находим в 1636 году в книге расходов царского двора: «Кузнецу Иванке Трофимову выдано пять алтын, дабы он заделал утюг железный для царской палаты »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58" name="Picture 5" descr="c18be953adf2b3eab6d21412e559--vintazh-kollektsionnyj-starinnyj-utyug-amerikan-antikvarnyj-u"/>
          <p:cNvPicPr/>
          <p:nvPr/>
        </p:nvPicPr>
        <p:blipFill>
          <a:blip r:embed="rId1"/>
          <a:stretch/>
        </p:blipFill>
        <p:spPr>
          <a:xfrm>
            <a:off x="380880" y="1447920"/>
            <a:ext cx="4724640" cy="4368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6"/>
          <p:cNvSpPr/>
          <p:nvPr/>
        </p:nvSpPr>
        <p:spPr>
          <a:xfrm>
            <a:off x="5257800" y="1371600"/>
            <a:ext cx="3657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Microsoft Sans Serif"/>
              </a:rPr>
              <a:t>Первое упоминание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2514600"/>
            <a:ext cx="37861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Первый утюг в России и на утюг то и не похож. Назывался он «Врубель»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Рубель – это деревянная доска с поперечными желобками, а скалка простая палка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1" name="Picture 1029" descr="IMG_0356"/>
          <p:cNvPicPr/>
          <p:nvPr/>
        </p:nvPicPr>
        <p:blipFill>
          <a:blip r:embed="rId1"/>
          <a:stretch/>
        </p:blipFill>
        <p:spPr>
          <a:xfrm>
            <a:off x="5257800" y="2209680"/>
            <a:ext cx="2990880" cy="33861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24"/>
          <p:cNvSpPr/>
          <p:nvPr/>
        </p:nvSpPr>
        <p:spPr>
          <a:xfrm>
            <a:off x="304920" y="1371600"/>
            <a:ext cx="4187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Microsoft Sans Serif"/>
              </a:rPr>
              <a:t>Рубель и скалка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28600" y="2133720"/>
            <a:ext cx="392904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Белье или ткань накручивали на скалку, держа одной рукой, а сверху другой рукой катали рубель. Белье разглаживалось и называлось это «катать белье</a:t>
            </a:r>
            <a:r>
              <a:rPr b="1" lang="ru-RU" sz="2800" spc="-1" strike="noStrike">
                <a:solidFill>
                  <a:srgbClr val="777777"/>
                </a:solidFill>
                <a:latin typeface="Microsoft Sans Serif"/>
              </a:rPr>
              <a:t>»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4" name="Picture 5" descr="Утюг2 005"/>
          <p:cNvPicPr/>
          <p:nvPr/>
        </p:nvPicPr>
        <p:blipFill>
          <a:blip r:embed="rId1"/>
          <a:stretch/>
        </p:blipFill>
        <p:spPr>
          <a:xfrm>
            <a:off x="5943600" y="1981080"/>
            <a:ext cx="24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33520" y="152280"/>
            <a:ext cx="838188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7777"/>
                </a:solidFill>
                <a:latin typeface="Microsoft Sans Serif"/>
              </a:rPr>
              <a:t>   </a:t>
            </a:r>
            <a:r>
              <a:rPr b="1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В 18 веке утюги в основном изготавливали на Демидовском заводе литья. Утюг  считался вещью дорогой и солидной.. Одно- фунтовый  например, стоил рубль- большие тогда деньги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6" name="Picture 5" descr="starinnye_utjugi"/>
          <p:cNvPicPr/>
          <p:nvPr/>
        </p:nvPicPr>
        <p:blipFill>
          <a:blip r:embed="rId1"/>
          <a:stretch/>
        </p:blipFill>
        <p:spPr>
          <a:xfrm>
            <a:off x="609480" y="2057400"/>
            <a:ext cx="7848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45720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Microsoft Sans Serif"/>
              </a:rPr>
              <a:t>     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Но вот появился новый  вариант: духовой утюг, самый популярный из всех. Он топился углем . У этого могучего , похожего на пыхтящий пароход прибора была откидывающаяся крышка для загрузки угля . По бокам корпуса шли отверстия – «иллюминаторы»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35758"/>
                </a:solidFill>
                <a:latin typeface="Times New Roman"/>
                <a:ea typeface="Times New Roman"/>
              </a:rPr>
              <a:t>В них нужно было дуть , чтобы затухающие угли вновь разгорелись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pic>
        <p:nvPicPr>
          <p:cNvPr id="68" name="Picture 5" descr="maxresdefault"/>
          <p:cNvPicPr/>
          <p:nvPr/>
        </p:nvPicPr>
        <p:blipFill>
          <a:blip r:embed="rId1"/>
          <a:stretch/>
        </p:blipFill>
        <p:spPr>
          <a:xfrm>
            <a:off x="2514600" y="1371600"/>
            <a:ext cx="46864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231m</cp:lastModifiedBy>
  <dcterms:modified xsi:type="dcterms:W3CDTF">2019-05-13T09:20:34Z</dcterms:modified>
  <cp:revision>214</cp:revision>
  <dc:subject/>
  <dc:title>Name of presentation</dc:title>
</cp:coreProperties>
</file>