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4F5-DF02-4A2D-AC96-881AE8E4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815-2F42-4B49-9809-BA0A03EE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912-F24D-4D4B-A570-D0E49F80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3B7-0EC2-4EEC-95D4-4D828F58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E19-CA89-4053-A7AE-0DF06DF2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9D5-49B7-4870-9F9F-1B4878F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5DC-C035-46D0-A806-4C790A4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DD5-A710-4636-82D5-C933E6D3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3EA4-C0F2-4BDD-8154-17227FB6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BD7-5B10-4C72-87ED-5697F06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1C5-4E7D-4CE3-95C9-2E3F023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AFC-160B-4C72-A40D-2F03F195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ECB0-343A-46FF-B90B-F171AA027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85840" y="559080"/>
            <a:ext cx="457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дёт письма мой старший брат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журналу буду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па ждёт газ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же всё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несёт всё это о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ш знакомы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9545" t="5454" r="16815" b="0"/>
          <a:stretch/>
        </p:blipFill>
        <p:spPr>
          <a:xfrm>
            <a:off x="4857840" y="1285920"/>
            <a:ext cx="4005000" cy="38577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285920" y="4643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чталь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79280" y="333360"/>
            <a:ext cx="60501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Картинка 18 из 316001"/>
          <p:cNvPicPr/>
          <p:nvPr/>
        </p:nvPicPr>
        <p:blipFill>
          <a:blip r:embed="rId1"/>
          <a:stretch/>
        </p:blipFill>
        <p:spPr>
          <a:xfrm>
            <a:off x="1714680" y="642960"/>
            <a:ext cx="2928600" cy="209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14" descr="Картинка 2 из 316001"/>
          <p:cNvPicPr/>
          <p:nvPr/>
        </p:nvPicPr>
        <p:blipFill>
          <a:blip r:embed="rId2"/>
          <a:stretch/>
        </p:blipFill>
        <p:spPr>
          <a:xfrm>
            <a:off x="214200" y="2000160"/>
            <a:ext cx="2075040" cy="28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7" name="Picture 24" descr="Картинка 18 из 316001"/>
          <p:cNvPicPr/>
          <p:nvPr/>
        </p:nvPicPr>
        <p:blipFill>
          <a:blip r:embed="rId3"/>
          <a:stretch/>
        </p:blipFill>
        <p:spPr>
          <a:xfrm>
            <a:off x="1214280" y="4429080"/>
            <a:ext cx="271476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16" descr="Картинка 9 из 316001"/>
          <p:cNvPicPr/>
          <p:nvPr/>
        </p:nvPicPr>
        <p:blipFill>
          <a:blip r:embed="rId4"/>
          <a:stretch/>
        </p:blipFill>
        <p:spPr>
          <a:xfrm>
            <a:off x="3786120" y="1857240"/>
            <a:ext cx="2590920" cy="1862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20" descr="Картинка 18 из 316001"/>
          <p:cNvPicPr/>
          <p:nvPr/>
        </p:nvPicPr>
        <p:blipFill>
          <a:blip r:embed="rId5"/>
          <a:stretch/>
        </p:blipFill>
        <p:spPr>
          <a:xfrm>
            <a:off x="6215040" y="1000080"/>
            <a:ext cx="2571840" cy="1833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18" descr="Картинка 18 из 316001"/>
          <p:cNvPicPr/>
          <p:nvPr/>
        </p:nvPicPr>
        <p:blipFill>
          <a:blip r:embed="rId6"/>
          <a:stretch/>
        </p:blipFill>
        <p:spPr>
          <a:xfrm>
            <a:off x="5643720" y="3357720"/>
            <a:ext cx="287784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26" descr="Картинка 18 из 316001"/>
          <p:cNvPicPr/>
          <p:nvPr/>
        </p:nvPicPr>
        <p:blipFill>
          <a:blip r:embed="rId7"/>
          <a:stretch/>
        </p:blipFill>
        <p:spPr>
          <a:xfrm>
            <a:off x="5000760" y="5641920"/>
            <a:ext cx="2571480" cy="121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4" descr="Картинка 34 из 315529"/>
          <p:cNvPicPr/>
          <p:nvPr/>
        </p:nvPicPr>
        <p:blipFill>
          <a:blip r:embed="rId8"/>
          <a:stretch/>
        </p:blipFill>
        <p:spPr>
          <a:xfrm rot="20975400">
            <a:off x="3409560" y="3971880"/>
            <a:ext cx="2201760" cy="157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сканирование 5.jpg"/>
          <p:cNvPicPr/>
          <p:nvPr/>
        </p:nvPicPr>
        <p:blipFill>
          <a:blip r:embed="rId2"/>
          <a:stretch/>
        </p:blipFill>
        <p:spPr>
          <a:xfrm>
            <a:off x="1000080" y="1071720"/>
            <a:ext cx="7358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xn----dtbjalal8asil4g8c.xn--p1ai/wp-content/uploads/2015/03/istorija-pochtovogo-jashhika-1.jpg"/>
          <p:cNvPicPr/>
          <p:nvPr/>
        </p:nvPicPr>
        <p:blipFill>
          <a:blip r:embed="rId2"/>
          <a:stretch/>
        </p:blipFill>
        <p:spPr>
          <a:xfrm>
            <a:off x="1857240" y="128592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357120" y="293040"/>
            <a:ext cx="4572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9545" t="5454" r="16815" b="0"/>
          <a:stretch/>
        </p:blipFill>
        <p:spPr>
          <a:xfrm>
            <a:off x="2714760" y="2643120"/>
            <a:ext cx="4005000" cy="385776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5" descr=""/>
          <p:cNvPicPr/>
          <p:nvPr/>
        </p:nvPicPr>
        <p:blipFill>
          <a:blip r:embed="rId2"/>
          <a:stretch/>
        </p:blipFill>
        <p:spPr>
          <a:xfrm>
            <a:off x="1243080" y="324000"/>
            <a:ext cx="75229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>
            <a:off x="1800" y="5040"/>
            <a:ext cx="18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Выноска-облако 6" descr=""/>
          <p:cNvPicPr/>
          <p:nvPr/>
        </p:nvPicPr>
        <p:blipFill>
          <a:blip r:embed="rId1"/>
          <a:stretch/>
        </p:blipFill>
        <p:spPr>
          <a:xfrm>
            <a:off x="3687840" y="-6480"/>
            <a:ext cx="5187960" cy="573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артинка 684 из 237174"/>
          <p:cNvPicPr/>
          <p:nvPr/>
        </p:nvPicPr>
        <p:blipFill>
          <a:blip r:embed="rId2"/>
          <a:stretch/>
        </p:blipFill>
        <p:spPr>
          <a:xfrm>
            <a:off x="571680" y="2571840"/>
            <a:ext cx="5072040" cy="3954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rcRect l="9545" t="5454" r="16815" b="0"/>
          <a:stretch/>
        </p:blipFill>
        <p:spPr>
          <a:xfrm>
            <a:off x="6993000" y="4786200"/>
            <a:ext cx="2151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1143000"/>
            <a:ext cx="9144000" cy="5300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500040" y="1571760"/>
            <a:ext cx="74296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Arial"/>
              </a:rPr>
              <a:t>Как писать письм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00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WordArt 10"/>
          <p:cNvSpPr txBox="1"/>
          <p:nvPr/>
        </p:nvSpPr>
        <p:spPr>
          <a:xfrm>
            <a:off x="395280" y="333360"/>
            <a:ext cx="21049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ема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41560" y="3368880"/>
            <a:ext cx="709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 Познакомиться с новыми понят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2.Научиться грамотно писать письм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используя знания структуры пись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3. Научиться подписывать конвер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285840" y="3071880"/>
            <a:ext cx="22143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пис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"/>
          <p:cNvPicPr/>
          <p:nvPr/>
        </p:nvPicPr>
        <p:blipFill>
          <a:blip r:embed="rId2"/>
          <a:srcRect l="0" t="0" r="0" b="7959"/>
          <a:stretch/>
        </p:blipFill>
        <p:spPr>
          <a:xfrm>
            <a:off x="1500120" y="2071800"/>
            <a:ext cx="60008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Картинки по запросу фото треугольника-письма военного"/>
          <p:cNvPicPr/>
          <p:nvPr/>
        </p:nvPicPr>
        <p:blipFill>
          <a:blip r:embed="rId2"/>
          <a:stretch/>
        </p:blipFill>
        <p:spPr>
          <a:xfrm>
            <a:off x="1428840" y="2000160"/>
            <a:ext cx="66675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357200" y="357120"/>
            <a:ext cx="605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3399"/>
                </a:solidFill>
                <a:latin typeface="Arial"/>
              </a:rPr>
              <a:t>Структура пись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28760" y="1428840"/>
          <a:ext cx="3714480" cy="4145040"/>
        </p:xfrm>
        <a:graphic>
          <a:graphicData uri="http://schemas.openxmlformats.org/drawingml/2006/table">
            <a:tbl>
              <a:tblPr/>
              <a:tblGrid>
                <a:gridCol w="3714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а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ц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857840" y="1428840"/>
          <a:ext cx="3714840" cy="4141800"/>
        </p:xfrm>
        <a:graphic>
          <a:graphicData uri="http://schemas.openxmlformats.org/drawingml/2006/table">
            <a:tbl>
              <a:tblPr/>
              <a:tblGrid>
                <a:gridCol w="371484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ов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опросы адреса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лагодар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рось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рив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щ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ис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рогие мама и пап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ма всё  по-прежнему.  Собрали много ягод и наварили варенья. Дедушка не болеет. Отправляем вам посылку с конфетами и печеньем, испекли вкусные бул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живете? Как ваше здоровье? Какие у вас новости? Много ли больных оле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асибо за то, что положили мне теплые чижики для внука. Я прошу вас писать мне чаще. Не болейте! Всего хорош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 свидания. Ваша  Катя. 19 августа 2018 года. Конергин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ттык ыммэмы ынкъам атэ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ральыт нымэльэв нытваӄэнат.Уунъыт нымкъэв  гатвален, гапатлен нэтлегӄин варенье. Эпы авнатъылкэ нытваӄэн. Тынӈивыркын кэнтит ынкъам печеният, гатакавпатэгым торыкаг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м-то тури нытваторэ? Эвнэтъылкэ? Торп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ылтэ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Ӄ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ат нымэльэв нытваӄэн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элынкыӄун памъяӄагтэ гэннилинэт, ытлывъёӄая раяӈынат. Ӄытэкэлиӈыркынэткы , нымэльэв ӄытваркынэтк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ав.Тургин Катя. 19 августа 2018г. Кэӈэргы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5"/>
          <p:cNvSpPr/>
          <p:nvPr/>
        </p:nvSpPr>
        <p:spPr>
          <a:xfrm>
            <a:off x="539640" y="476280"/>
            <a:ext cx="8229600" cy="50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ff"/>
                </a:solidFill>
                <a:latin typeface="Arial"/>
              </a:rPr>
              <a:t>Из чего состоит конве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2"/>
          <p:cNvSpPr txBox="1"/>
          <p:nvPr/>
        </p:nvSpPr>
        <p:spPr>
          <a:xfrm rot="873000">
            <a:off x="974880" y="942480"/>
            <a:ext cx="254448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ресант - тот, к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шет и отправляет письм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WordArt 14"/>
          <p:cNvSpPr txBox="1"/>
          <p:nvPr/>
        </p:nvSpPr>
        <p:spPr>
          <a:xfrm rot="804600">
            <a:off x="5567040" y="1198080"/>
            <a:ext cx="1809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товая ма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357280" y="2071800"/>
            <a:ext cx="4034160" cy="2574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13"/>
          <p:cNvSpPr txBox="1"/>
          <p:nvPr/>
        </p:nvSpPr>
        <p:spPr>
          <a:xfrm rot="1568400">
            <a:off x="841320" y="4014360"/>
            <a:ext cx="2481480" cy="342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товый индекс - это услов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ифровое обознач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чтового адрес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е 3 цифры - город или облас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тальные - ваше почтов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дел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11"/>
          <p:cNvSpPr txBox="1"/>
          <p:nvPr/>
        </p:nvSpPr>
        <p:spPr>
          <a:xfrm rot="1324800">
            <a:off x="5148000" y="4797000"/>
            <a:ext cx="23032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дресат - тот, котором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назначено письм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. е. получа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AutoShape 3"/>
          <p:cNvSpPr/>
          <p:nvPr/>
        </p:nvSpPr>
        <p:spPr>
          <a:xfrm rot="16200000">
            <a:off x="2584080" y="4344840"/>
            <a:ext cx="347760" cy="515880"/>
          </a:xfrm>
          <a:prstGeom prst="rightArrow">
            <a:avLst>
              <a:gd name="adj1" fmla="val 50000"/>
              <a:gd name="adj2" fmla="val 356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 rot="16200000">
            <a:off x="4357440" y="4357440"/>
            <a:ext cx="1357200" cy="500040"/>
          </a:xfrm>
          <a:prstGeom prst="rightArrow">
            <a:avLst>
              <a:gd name="adj1" fmla="val 50000"/>
              <a:gd name="adj2" fmla="val 539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 rot="5400000">
            <a:off x="2796120" y="1847160"/>
            <a:ext cx="493560" cy="37116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 rot="5263800">
            <a:off x="5768640" y="1749240"/>
            <a:ext cx="474480" cy="420480"/>
          </a:xfrm>
          <a:prstGeom prst="rightArrow">
            <a:avLst>
              <a:gd name="adj1" fmla="val 50000"/>
              <a:gd name="adj2" fmla="val 341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20:14Z</dcterms:created>
  <dc:creator>Наташка</dc:creator>
  <dc:description/>
  <dc:language>en-US</dc:language>
  <cp:lastModifiedBy>Учитель</cp:lastModifiedBy>
  <dcterms:modified xsi:type="dcterms:W3CDTF">2019-05-13T01:18:01Z</dcterms:modified>
  <cp:revision>63</cp:revision>
  <dc:subject/>
  <dc:title>Республика Саха (Якутия)</dc:title>
</cp:coreProperties>
</file>