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652A-0A32-4619-B726-A9A20679F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1AE-B69C-43B5-85E9-8E29F9169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C74F-C576-4575-BF8F-8DAA068D2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A8DA-AB34-4FC2-9403-50ED87575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1E3-C7B5-404F-BAF8-2D37155CD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3B9-990A-4023-AEAD-C8A6DC0F8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8ABB-0C92-4F0F-BE25-810089C1D0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F5A-AABB-45EB-AE1A-A8ACD38454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A30-8CB3-49BD-AC08-1770BEB65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2FEE-ECE7-453B-B391-5355EC6A9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812-86A3-4849-B58F-E9550B6A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B17-3D1B-4130-9821-6BE63E32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294-A39D-44E0-85A3-647985F7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1E5-238B-4D11-A5A6-68FC0812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928-C635-4A81-AD12-76EED8A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DDE-3F57-4255-9FA7-D332B24B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FA9-E275-405C-A77E-BAA56FF0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30A-7F1C-477F-94E4-22B54B0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C4A-781A-42F0-9356-5AE7EE53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6B2-2320-4AEA-AF6B-27AF4AD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B4D-3BD5-42AA-8848-5A761BF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BF4-B782-4996-9234-9812F9C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60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50800" indent="-2062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66960" indent="-208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48A-EBE6-4D1E-ABE5-AC48EB716BB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доброе утр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52"/>
              <p:cNvSpPr txBox="1"/>
              <p:nvPr/>
            </p:nvSpPr>
            <p:spPr>
              <a:xfrm>
                <a:off x="3714840" y="1285920"/>
                <a:ext cx="5000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3"/>
          <p:cNvSpPr/>
          <p:nvPr/>
        </p:nvSpPr>
        <p:spPr>
          <a:xfrm>
            <a:off x="516600" y="1714680"/>
            <a:ext cx="2764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чис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369680" y="1714680"/>
            <a:ext cx="3646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го равны   12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3728520" y="5000760"/>
            <a:ext cx="4258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%  которого равны  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3643200" y="3429000"/>
            <a:ext cx="4572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.5   которого равны   4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00040" y="859320"/>
            <a:ext cx="8286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вочка потеряла 30 бусинок, что составляло             всей нити бу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бусинок было на нит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28760" y="1716840"/>
            <a:ext cx="842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цу 48 лет. Возраст сына составляет           от возраста от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лет сы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00040" y="3357720"/>
            <a:ext cx="83581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  Определить длину отрезка, если 0,6 его длины равна 1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00040" y="4143600"/>
            <a:ext cx="82152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ова сумма денег, если 12 р. составляют 0,75 имеющейся сум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00040" y="4717080"/>
            <a:ext cx="9072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классе 25 человек. Сколько мальчиков в классе, если извест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они составляют 20% от  всех учени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00040" y="2502360"/>
            <a:ext cx="89298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3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чери 12 лет. Её возраст составляет 40 % возраста ма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лет матер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2"/>
              <p:cNvSpPr txBox="1"/>
              <p:nvPr/>
            </p:nvSpPr>
            <p:spPr>
              <a:xfrm>
                <a:off x="6286680" y="642960"/>
                <a:ext cx="357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5072040" y="1500120"/>
                <a:ext cx="357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2263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группа -  п 18, № 712,  № 678 1), 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 группа - п 18, №712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думать  сюжеты задач на нахож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роби от числа и числа по дроби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уя числовые дан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0.8,    40%,    300,    96,           ,   240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5572080" y="5286240"/>
                <a:ext cx="5288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1785960" y="1643040"/>
            <a:ext cx="628560" cy="628560"/>
          </a:xfrm>
          <a:prstGeom prst="ellipse">
            <a:avLst/>
          </a:prstGeom>
          <a:gradFill rotWithShape="0">
            <a:gsLst>
              <a:gs pos="0">
                <a:srgbClr val="4bacc6"/>
              </a:gs>
              <a:gs pos="100000">
                <a:srgbClr val="30829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928880" y="1571760"/>
            <a:ext cx="25704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"/>
          <p:cNvSpPr/>
          <p:nvPr/>
        </p:nvSpPr>
        <p:spPr>
          <a:xfrm>
            <a:off x="2000160" y="1143000"/>
            <a:ext cx="142920" cy="43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785960" y="3000240"/>
            <a:ext cx="628560" cy="628920"/>
          </a:xfrm>
          <a:prstGeom prst="ellipse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928880" y="2928960"/>
            <a:ext cx="25704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2000160" y="2500200"/>
            <a:ext cx="214560" cy="462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1857240" y="4429080"/>
            <a:ext cx="628920" cy="62856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000160" y="4286160"/>
            <a:ext cx="257400" cy="142920"/>
          </a:xfrm>
          <a:prstGeom prst="pentagon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2000160" y="3857760"/>
            <a:ext cx="254160" cy="480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2928960" y="1785960"/>
            <a:ext cx="2500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 ПОУЧИ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1"/>
          <p:cNvSpPr/>
          <p:nvPr/>
        </p:nvSpPr>
        <p:spPr>
          <a:xfrm>
            <a:off x="2928960" y="3143160"/>
            <a:ext cx="242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ИНТЕРЕС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2"/>
          <p:cNvSpPr/>
          <p:nvPr/>
        </p:nvSpPr>
        <p:spPr>
          <a:xfrm>
            <a:off x="3071880" y="4572000"/>
            <a:ext cx="1928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  СКУ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4134813eb716"/>
          <p:cNvPicPr/>
          <p:nvPr/>
        </p:nvPicPr>
        <p:blipFill>
          <a:blip r:embed="rId1"/>
          <a:stretch/>
        </p:blipFill>
        <p:spPr>
          <a:xfrm>
            <a:off x="324000" y="3573360"/>
            <a:ext cx="3101760" cy="3052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285920" y="687960"/>
            <a:ext cx="707220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 математике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являй,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 Не ленись, а ежедневно развивай,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 Повторяй, учи, трудись,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соображай.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            С математикой дру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не забы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1643040" y="1285920"/>
            <a:ext cx="607212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8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СЕМ СПАСИБО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ЗА УРОК!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57224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888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Прозвенел звонок!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   Начинается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У </a:t>
            </a:r>
            <a:r>
              <a:rPr b="1" i="1" lang="ru-RU" sz="4800" spc="-1" strike="noStrike">
                <a:solidFill>
                  <a:srgbClr val="c00000"/>
                </a:solidFill>
                <a:latin typeface="Verdana"/>
              </a:rPr>
              <a:t>Р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ffc000"/>
                </a:solidFill>
                <a:latin typeface="Verdana"/>
              </a:rPr>
              <a:t>О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800" spc="-1" strike="noStrike">
                <a:solidFill>
                  <a:srgbClr val="00664d"/>
                </a:solidFill>
                <a:latin typeface="Verdana"/>
              </a:rPr>
              <a:t>К</a:t>
            </a:r>
            <a:r>
              <a:rPr b="1" i="1" lang="ru-RU" sz="48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Verdana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643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Слушать и слышат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смотреть и видеть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i="1" lang="ru-RU" sz="2900" spc="-1" strike="noStrike">
                <a:solidFill>
                  <a:srgbClr val="c00000"/>
                </a:solidFill>
                <a:latin typeface="Arial"/>
              </a:rPr>
              <a:t>думать и рассуждать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357200"/>
            <a:ext cx="19288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2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50%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1.2%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3.4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0.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18%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68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0.3%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71960" y="1357200"/>
            <a:ext cx="313992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=  </a:t>
            </a: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2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34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68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3200" spc="-1" strike="noStrike">
                <a:solidFill>
                  <a:srgbClr val="262699"/>
                </a:solidFill>
                <a:latin typeface="Arial"/>
              </a:rPr>
              <a:t>=  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642960" y="1357200"/>
            <a:ext cx="7500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книге 72 ст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ый день Миша прочитал     всех страниц, во второй день 25% оставшихся страниц. Сколько страниц Миша прочитал во второй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3071880" y="642960"/>
            <a:ext cx="30002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1428840" y="3714840"/>
            <a:ext cx="6500880" cy="2257200"/>
            <a:chOff x="1428840" y="3714840"/>
            <a:chExt cx="6500880" cy="2257200"/>
          </a:xfrm>
        </p:grpSpPr>
        <p:sp>
          <p:nvSpPr>
            <p:cNvPr id="57" name="Oval 5"/>
            <p:cNvSpPr/>
            <p:nvPr/>
          </p:nvSpPr>
          <p:spPr>
            <a:xfrm>
              <a:off x="1428840" y="3714840"/>
              <a:ext cx="6500880" cy="2257200"/>
            </a:xfrm>
            <a:prstGeom prst="ellipse">
              <a:avLst/>
            </a:prstGeom>
            <a:solidFill>
              <a:srgbClr val="8000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1428840" y="4359600"/>
              <a:ext cx="2022120" cy="966960"/>
            </a:xfrm>
            <a:prstGeom prst="ellipse">
              <a:avLst/>
            </a:prstGeom>
            <a:solidFill>
              <a:srgbClr val="9966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3428640" y="4357440"/>
              <a:ext cx="2455920" cy="846360"/>
            </a:xfrm>
            <a:prstGeom prst="ellipse">
              <a:avLst/>
            </a:prstGeom>
            <a:solidFill>
              <a:srgbClr val="c00000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?   25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3428640" y="4143240"/>
              <a:ext cx="4500720" cy="128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>
              <a:off x="1428840" y="4843440"/>
              <a:ext cx="650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9"/>
          <p:cNvSpPr/>
          <p:nvPr/>
        </p:nvSpPr>
        <p:spPr>
          <a:xfrm>
            <a:off x="4148280" y="3929040"/>
            <a:ext cx="843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2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860480" y="4857840"/>
            <a:ext cx="60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д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4218120" y="4857840"/>
            <a:ext cx="60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д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2143080" y="4071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6215040" y="1714680"/>
                <a:ext cx="3762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3214440"/>
            <a:ext cx="5143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л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1320" y="4071600"/>
            <a:ext cx="82263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 fontScale="85000"/>
          </a:bodyPr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Вывести правило нахождения числа по данному значению его дроб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Научиться применять правило на практике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4240" indent="-26424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1571760" y="714240"/>
            <a:ext cx="5143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866960" indent="-208080">
              <a:lnSpc>
                <a:spcPct val="93000"/>
              </a:lnSpc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ема 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642960" y="1643040"/>
            <a:ext cx="8226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t">
            <a:noAutofit/>
          </a:bodyPr>
          <a:p>
            <a:pPr marL="311040" indent="-311040"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ru-RU" sz="2900" spc="-1" strike="noStrike">
                <a:solidFill>
                  <a:srgbClr val="c00000"/>
                </a:solidFill>
                <a:latin typeface="Arial"/>
              </a:rPr>
              <a:t>Нахождение числа по  данному значению его дроб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14240" y="785880"/>
            <a:ext cx="7786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72 страницы. Миша прочитал  в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ниги. Сколько страниц прочит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714240" y="3571920"/>
            <a:ext cx="76438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рочитал 16 страниц, что 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в кни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786040" y="2286000"/>
                <a:ext cx="427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2"/>
              <p:cNvSpPr txBox="1"/>
              <p:nvPr/>
            </p:nvSpPr>
            <p:spPr>
              <a:xfrm>
                <a:off x="1143000" y="414324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714240" y="135720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143160" y="2000160"/>
            <a:ext cx="5143680" cy="1285920"/>
            <a:chOff x="3143160" y="2000160"/>
            <a:chExt cx="5143680" cy="1285920"/>
          </a:xfrm>
        </p:grpSpPr>
        <p:sp>
          <p:nvSpPr>
            <p:cNvPr id="77" name="Oval 3"/>
            <p:cNvSpPr/>
            <p:nvPr/>
          </p:nvSpPr>
          <p:spPr>
            <a:xfrm>
              <a:off x="3143160" y="2000160"/>
              <a:ext cx="5143680" cy="1285920"/>
            </a:xfrm>
            <a:prstGeom prst="ellipse">
              <a:avLst/>
            </a:prstGeom>
            <a:solidFill>
              <a:srgbClr val="ffff99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3143160" y="2275560"/>
              <a:ext cx="2515320" cy="734760"/>
            </a:xfrm>
            <a:prstGeom prst="ellipse">
              <a:avLst/>
            </a:prstGeom>
            <a:solidFill>
              <a:srgbClr val="dddddd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5"/>
            <p:cNvSpPr/>
            <p:nvPr/>
          </p:nvSpPr>
          <p:spPr>
            <a:xfrm>
              <a:off x="3143160" y="2642760"/>
              <a:ext cx="5143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Group 6" descr=""/>
          <p:cNvPicPr/>
          <p:nvPr/>
        </p:nvPicPr>
        <p:blipFill>
          <a:blip r:embed="rId1"/>
          <a:stretch/>
        </p:blipFill>
        <p:spPr>
          <a:xfrm>
            <a:off x="3133800" y="4986360"/>
            <a:ext cx="5162400" cy="12682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4143240" y="1785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Прямоугольник 13"/>
          <p:cNvSpPr/>
          <p:nvPr/>
        </p:nvSpPr>
        <p:spPr>
          <a:xfrm>
            <a:off x="5864400" y="2071800"/>
            <a:ext cx="87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2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3719880" y="2714760"/>
            <a:ext cx="762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4"/>
              <p:cNvSpPr txBox="1"/>
              <p:nvPr/>
            </p:nvSpPr>
            <p:spPr>
              <a:xfrm>
                <a:off x="4143240" y="478620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Прямоугольник 16"/>
          <p:cNvSpPr/>
          <p:nvPr/>
        </p:nvSpPr>
        <p:spPr>
          <a:xfrm>
            <a:off x="3792960" y="5643720"/>
            <a:ext cx="875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7"/>
          <p:cNvSpPr/>
          <p:nvPr/>
        </p:nvSpPr>
        <p:spPr>
          <a:xfrm>
            <a:off x="5791320" y="5072040"/>
            <a:ext cx="762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? 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8"/>
          <p:cNvSpPr/>
          <p:nvPr/>
        </p:nvSpPr>
        <p:spPr>
          <a:xfrm>
            <a:off x="571680" y="857160"/>
            <a:ext cx="72864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аницы. Миша прочитал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й книги. Ск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ниц прочитал Миш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9"/>
          <p:cNvSpPr/>
          <p:nvPr/>
        </p:nvSpPr>
        <p:spPr>
          <a:xfrm>
            <a:off x="857160" y="3714840"/>
            <a:ext cx="68580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а прочитал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раниц, что составляе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и. Сколько страниц в книг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7"/>
              <p:cNvSpPr txBox="1"/>
              <p:nvPr/>
            </p:nvSpPr>
            <p:spPr>
              <a:xfrm>
                <a:off x="4714920" y="64296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8"/>
              <p:cNvSpPr txBox="1"/>
              <p:nvPr/>
            </p:nvSpPr>
            <p:spPr>
              <a:xfrm>
                <a:off x="6072120" y="3500280"/>
                <a:ext cx="3762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714240" y="785880"/>
            <a:ext cx="82155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ниг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аницы. Миша прочит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прочит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714240" y="3571920"/>
            <a:ext cx="80010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ша прочита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аниц, что состав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й книги. Сколько страниц в кни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786040" y="2286000"/>
                <a:ext cx="427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2857680" y="5072040"/>
                <a:ext cx="3714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7196040" y="59220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785880" y="4214880"/>
                <a:ext cx="500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77868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66960" indent="0" algn="ctr">
              <a:lnSpc>
                <a:spcPct val="93000"/>
              </a:lnSpc>
              <a:buNone/>
              <a:tabLst>
                <a:tab algn="l" pos="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 нахождения числа по его др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000080" y="2286000"/>
            <a:ext cx="7000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найти число по его дроби, нужно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разделить на эту дробь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2:43:38Z</dcterms:created>
  <dc:creator>Val</dc:creator>
  <dc:description/>
  <dc:language>en-US</dc:language>
  <cp:lastModifiedBy>мен</cp:lastModifiedBy>
  <dcterms:modified xsi:type="dcterms:W3CDTF">2012-12-26T08:10:08Z</dcterms:modified>
  <cp:revision>68</cp:revision>
  <dc:subject/>
  <dc:title>Слайд 1</dc:title>
</cp:coreProperties>
</file>