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CAC6-C094-433A-B861-6FCDE87AA1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470A-1587-470F-B8C6-9154BD8E73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5102-480B-494F-862A-766E738E31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7C90-6A6A-4781-99FA-8D3745E9FF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1402-9B85-408C-8CEC-9C47EFB5F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07D8-BA8C-4B99-A147-3A53EBE737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EFAB-4C1C-4BD2-BFEA-43C97295AB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B1E7-F983-481D-8710-178DBE4659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C3AB-8BE5-4991-871E-6C716233DB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4DED-51AF-4DC8-8A12-A3708E21B4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ECD-8522-4490-A729-C89F1325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F5F-F4A1-43C5-878B-8F3A08DF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EA3-AEC6-4C00-BD6E-BA4AD520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332-3916-45E4-8974-06F9B8E5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517-5632-4AC9-96DD-2782891E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76D1-FACC-45EE-AC60-08C0D98B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411-085E-4B21-8BB5-196082B6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776-1B49-4304-8E4F-1FAA1FCC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BC5-4F86-423A-83A4-B312AEB3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511-EE18-4AC5-A057-5787C5F5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1E5-A89A-45BD-B6B9-19356181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BF2-A3DD-4368-8942-F5531C3D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60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4C98-570A-4A02-B9E7-477C36CF95D7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доброе утр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1" name="Object 52"/>
              <p:cNvSpPr txBox="1"/>
              <p:nvPr/>
            </p:nvSpPr>
            <p:spPr>
              <a:xfrm>
                <a:off x="3714840" y="1285920"/>
                <a:ext cx="50004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Прямоугольник 3"/>
          <p:cNvSpPr/>
          <p:nvPr/>
        </p:nvSpPr>
        <p:spPr>
          <a:xfrm>
            <a:off x="516600" y="1714680"/>
            <a:ext cx="2764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чис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4369680" y="1714680"/>
            <a:ext cx="3646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ого равны   12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3728520" y="5000760"/>
            <a:ext cx="4258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%  которого равны  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3643200" y="3429000"/>
            <a:ext cx="4572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.5   которого равны   4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500040" y="859320"/>
            <a:ext cx="8286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вочка потеряла 30 бусинок, что составляло             всей нити бу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лько бусинок было на нит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28760" y="1716840"/>
            <a:ext cx="8429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цу 48 лет. Возраст сына составляет           от возраста от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лько лет сын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00040" y="3357720"/>
            <a:ext cx="83581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  Определить длину отрезка, если 0,6 его длины равна 15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00040" y="4143600"/>
            <a:ext cx="82152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.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ова сумма денег, если 12 р. составляют 0,75 имеющейся сумм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500040" y="4717080"/>
            <a:ext cx="9072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.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классе 25 человек. Сколько мальчиков в классе, если извест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они составляют 20% от  всех ученик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00040" y="2502360"/>
            <a:ext cx="89298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чери 12 лет. Её возраст составляет 40 % возраста ма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лько лет матер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2"/>
              <p:cNvSpPr txBox="1"/>
              <p:nvPr/>
            </p:nvSpPr>
            <p:spPr>
              <a:xfrm>
                <a:off x="6286680" y="642960"/>
                <a:ext cx="3571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9"/>
              <p:cNvSpPr txBox="1"/>
              <p:nvPr/>
            </p:nvSpPr>
            <p:spPr>
              <a:xfrm>
                <a:off x="5072040" y="1500120"/>
                <a:ext cx="357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группа -  п 18, № 712,  № 678 1), 3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 группа - п 18, №712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думать  сюжеты задач на нахо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роби от числа и числа по дроби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пользуя числовые дан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0.8,    40%,    300,    96,           ,   240,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6"/>
              <p:cNvSpPr txBox="1"/>
              <p:nvPr/>
            </p:nvSpPr>
            <p:spPr>
              <a:xfrm>
                <a:off x="5572080" y="5286240"/>
                <a:ext cx="5288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1785960" y="1643040"/>
            <a:ext cx="628560" cy="628560"/>
          </a:xfrm>
          <a:prstGeom prst="ellipse">
            <a:avLst/>
          </a:prstGeom>
          <a:gradFill rotWithShape="0">
            <a:gsLst>
              <a:gs pos="0">
                <a:srgbClr val="4bacc6"/>
              </a:gs>
              <a:gs pos="100000">
                <a:srgbClr val="30829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928880" y="1571760"/>
            <a:ext cx="257040" cy="142920"/>
          </a:xfrm>
          <a:prstGeom prst="pentagon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"/>
          <p:cNvSpPr/>
          <p:nvPr/>
        </p:nvSpPr>
        <p:spPr>
          <a:xfrm>
            <a:off x="2000160" y="1143000"/>
            <a:ext cx="142920" cy="430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785960" y="3000240"/>
            <a:ext cx="628560" cy="628920"/>
          </a:xfrm>
          <a:prstGeom prst="ellipse">
            <a:avLst/>
          </a:prstGeom>
          <a:gradFill rotWithShape="0">
            <a:gsLst>
              <a:gs pos="0">
                <a:srgbClr val="f79646"/>
              </a:gs>
              <a:gs pos="100000">
                <a:srgbClr val="df6a0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1928880" y="2928960"/>
            <a:ext cx="257040" cy="142920"/>
          </a:xfrm>
          <a:prstGeom prst="pentagon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2000160" y="2500200"/>
            <a:ext cx="214560" cy="462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1857240" y="4429080"/>
            <a:ext cx="628920" cy="62856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9236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2000160" y="4286160"/>
            <a:ext cx="257400" cy="142920"/>
          </a:xfrm>
          <a:prstGeom prst="pentagon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2000160" y="3857760"/>
            <a:ext cx="254160" cy="480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0"/>
          <p:cNvSpPr/>
          <p:nvPr/>
        </p:nvSpPr>
        <p:spPr>
          <a:xfrm>
            <a:off x="2928960" y="1785960"/>
            <a:ext cx="2500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   ПОУЧИ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1"/>
          <p:cNvSpPr/>
          <p:nvPr/>
        </p:nvSpPr>
        <p:spPr>
          <a:xfrm>
            <a:off x="2928960" y="3143160"/>
            <a:ext cx="2428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  ИНТЕРЕС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2"/>
          <p:cNvSpPr/>
          <p:nvPr/>
        </p:nvSpPr>
        <p:spPr>
          <a:xfrm>
            <a:off x="3071880" y="4572000"/>
            <a:ext cx="1928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  СКУЧ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4134813eb716"/>
          <p:cNvPicPr/>
          <p:nvPr/>
        </p:nvPicPr>
        <p:blipFill>
          <a:blip r:embed="rId1"/>
          <a:stretch/>
        </p:blipFill>
        <p:spPr>
          <a:xfrm>
            <a:off x="324000" y="3573360"/>
            <a:ext cx="3101760" cy="3052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1285920" y="687960"/>
            <a:ext cx="707220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К математике спосо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                                    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являй,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     Не ленись, а ежедневно развивай,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     Повторяй, учи, трудись, 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                                    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соображай.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            С математикой дру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не забыв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1643040" y="1285920"/>
            <a:ext cx="6072120" cy="26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6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СЕМ СПАСИБО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 УРОК!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757224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8880" indent="0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Verdana"/>
              </a:rPr>
              <a:t>Прозвенел звонок!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Verdana"/>
              </a:rPr>
              <a:t>   Начинается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Verdana"/>
              </a:rPr>
              <a:t>      </a:t>
            </a:r>
            <a:r>
              <a:rPr b="1" i="1" lang="ru-RU" sz="4800" spc="-1" strike="noStrike">
                <a:solidFill>
                  <a:srgbClr val="7030a0"/>
                </a:solidFill>
                <a:latin typeface="Verdana"/>
              </a:rPr>
              <a:t>У </a:t>
            </a:r>
            <a:r>
              <a:rPr b="1" i="1" lang="ru-RU" sz="4800" spc="-1" strike="noStrike">
                <a:solidFill>
                  <a:srgbClr val="c00000"/>
                </a:solidFill>
                <a:latin typeface="Verdana"/>
              </a:rPr>
              <a:t>Р</a:t>
            </a:r>
            <a:r>
              <a:rPr b="1" i="1" lang="ru-RU" sz="4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4800" spc="-1" strike="noStrike">
                <a:solidFill>
                  <a:srgbClr val="ffc000"/>
                </a:solidFill>
                <a:latin typeface="Verdana"/>
              </a:rPr>
              <a:t>О</a:t>
            </a:r>
            <a:r>
              <a:rPr b="1" i="1" lang="ru-RU" sz="4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4800" spc="-1" strike="noStrike">
                <a:solidFill>
                  <a:srgbClr val="00664d"/>
                </a:solidFill>
                <a:latin typeface="Verdana"/>
              </a:rPr>
              <a:t>К</a:t>
            </a:r>
            <a:r>
              <a:rPr b="1" i="1" lang="ru-RU" sz="4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4000" spc="-1" strike="noStrike">
                <a:solidFill>
                  <a:srgbClr val="7030a0"/>
                </a:solidFill>
                <a:latin typeface="Verdana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643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i="1" lang="ru-RU" sz="2900" spc="-1" strike="noStrike">
                <a:solidFill>
                  <a:srgbClr val="c00000"/>
                </a:solidFill>
                <a:latin typeface="Arial"/>
              </a:rPr>
              <a:t>Слушать и слышать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i="1" lang="ru-RU" sz="2900" spc="-1" strike="noStrike">
                <a:solidFill>
                  <a:srgbClr val="c00000"/>
                </a:solidFill>
                <a:latin typeface="Arial"/>
              </a:rPr>
              <a:t>смотреть и видеть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i="1" lang="ru-RU" sz="2900" spc="-1" strike="noStrike">
                <a:solidFill>
                  <a:srgbClr val="c00000"/>
                </a:solidFill>
                <a:latin typeface="Arial"/>
              </a:rPr>
              <a:t>думать и рассуждать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2800" spc="-1" strike="noStrike">
                <a:solidFill>
                  <a:srgbClr val="262699"/>
                </a:solidFill>
                <a:latin typeface="Arial"/>
              </a:rPr>
              <a:t>Математически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357200"/>
            <a:ext cx="192888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2626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2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50%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1.2%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3.4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0.07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18%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68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0.3%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071960" y="1357200"/>
            <a:ext cx="313992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62699"/>
                </a:solidFill>
                <a:latin typeface="Arial"/>
              </a:rPr>
              <a:t>=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2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=  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=  0.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=  34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=  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=  0.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=  68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=  0.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642960" y="1357200"/>
            <a:ext cx="750096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книге 72 стра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ервый день Миша прочитал     всех страниц, во второй день 25% оставшихся страниц. Сколько страниц Миша прочитал во второй де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3071880" y="642960"/>
            <a:ext cx="30002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1428840" y="3714840"/>
            <a:ext cx="6500880" cy="2257200"/>
            <a:chOff x="1428840" y="3714840"/>
            <a:chExt cx="6500880" cy="2257200"/>
          </a:xfrm>
        </p:grpSpPr>
        <p:sp>
          <p:nvSpPr>
            <p:cNvPr id="57" name="Oval 5"/>
            <p:cNvSpPr/>
            <p:nvPr/>
          </p:nvSpPr>
          <p:spPr>
            <a:xfrm>
              <a:off x="1428840" y="3714840"/>
              <a:ext cx="6500880" cy="2257200"/>
            </a:xfrm>
            <a:prstGeom prst="ellipse">
              <a:avLst/>
            </a:prstGeom>
            <a:solidFill>
              <a:srgbClr val="8000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1428840" y="4359600"/>
              <a:ext cx="2022120" cy="966960"/>
            </a:xfrm>
            <a:prstGeom prst="ellipse">
              <a:avLst/>
            </a:prstGeom>
            <a:solidFill>
              <a:srgbClr val="9966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7"/>
            <p:cNvSpPr/>
            <p:nvPr/>
          </p:nvSpPr>
          <p:spPr>
            <a:xfrm>
              <a:off x="3428640" y="4357440"/>
              <a:ext cx="2455920" cy="846360"/>
            </a:xfrm>
            <a:prstGeom prst="ellipse">
              <a:avLst/>
            </a:prstGeom>
            <a:solidFill>
              <a:srgbClr val="c0000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?   25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8"/>
            <p:cNvSpPr/>
            <p:nvPr/>
          </p:nvSpPr>
          <p:spPr>
            <a:xfrm>
              <a:off x="3428640" y="4143240"/>
              <a:ext cx="4500720" cy="128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>
              <a:off x="1428840" y="4843440"/>
              <a:ext cx="65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рямоугольник 9"/>
          <p:cNvSpPr/>
          <p:nvPr/>
        </p:nvSpPr>
        <p:spPr>
          <a:xfrm>
            <a:off x="4148280" y="3929040"/>
            <a:ext cx="843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2 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1860480" y="4857840"/>
            <a:ext cx="603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д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4218120" y="4857840"/>
            <a:ext cx="603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д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2"/>
              <p:cNvSpPr txBox="1"/>
              <p:nvPr/>
            </p:nvSpPr>
            <p:spPr>
              <a:xfrm>
                <a:off x="2143080" y="4071960"/>
                <a:ext cx="376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4"/>
              <p:cNvSpPr txBox="1"/>
              <p:nvPr/>
            </p:nvSpPr>
            <p:spPr>
              <a:xfrm>
                <a:off x="6215040" y="1714680"/>
                <a:ext cx="3762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480" y="3214440"/>
            <a:ext cx="5143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Цели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1320" y="4071600"/>
            <a:ext cx="82263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 fontScale="85000"/>
          </a:bodyPr>
          <a:p>
            <a:pPr marL="264240" indent="-2642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Вывести правило нахождения числа по данному значению его дроб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4240" indent="-2642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Научиться применять правило на практике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4240" indent="-2642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4240" indent="-2642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4240" indent="-2642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1571760" y="714240"/>
            <a:ext cx="5143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866960" indent="-208080">
              <a:lnSpc>
                <a:spcPct val="93000"/>
              </a:lnSpc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ема 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642960" y="1643040"/>
            <a:ext cx="82263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11040" indent="-31104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Arial"/>
              </a:rPr>
              <a:t>Нахождение числа по  данному значению его дроб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714240" y="785880"/>
            <a:ext cx="7786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ниге 72 страницы. Миша прочитал  в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иги. Сколько страниц прочитал Миш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714240" y="3571920"/>
            <a:ext cx="76438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ша прочитал 16 страниц, что составл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й книги. Сколько страниц в книг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2786040" y="2286000"/>
                <a:ext cx="4275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m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2"/>
              <p:cNvSpPr txBox="1"/>
              <p:nvPr/>
            </p:nvSpPr>
            <p:spPr>
              <a:xfrm>
                <a:off x="1143000" y="4143240"/>
                <a:ext cx="376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714240" y="1357200"/>
                <a:ext cx="500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143160" y="2000160"/>
            <a:ext cx="5143680" cy="1285920"/>
            <a:chOff x="3143160" y="2000160"/>
            <a:chExt cx="5143680" cy="1285920"/>
          </a:xfrm>
        </p:grpSpPr>
        <p:sp>
          <p:nvSpPr>
            <p:cNvPr id="77" name="Oval 3"/>
            <p:cNvSpPr/>
            <p:nvPr/>
          </p:nvSpPr>
          <p:spPr>
            <a:xfrm>
              <a:off x="3143160" y="2000160"/>
              <a:ext cx="5143680" cy="1285920"/>
            </a:xfrm>
            <a:prstGeom prst="ellipse">
              <a:avLst/>
            </a:prstGeom>
            <a:solidFill>
              <a:srgbClr val="ffff99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3143160" y="2275560"/>
              <a:ext cx="2515320" cy="734760"/>
            </a:xfrm>
            <a:prstGeom prst="ellipse">
              <a:avLst/>
            </a:prstGeom>
            <a:solidFill>
              <a:srgbClr val="dddddd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5"/>
            <p:cNvSpPr/>
            <p:nvPr/>
          </p:nvSpPr>
          <p:spPr>
            <a:xfrm>
              <a:off x="3143160" y="2642760"/>
              <a:ext cx="5143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Group 6" descr=""/>
          <p:cNvPicPr/>
          <p:nvPr/>
        </p:nvPicPr>
        <p:blipFill>
          <a:blip r:embed="rId1"/>
          <a:stretch/>
        </p:blipFill>
        <p:spPr>
          <a:xfrm>
            <a:off x="3133800" y="4986360"/>
            <a:ext cx="5162400" cy="1268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2"/>
              <p:cNvSpPr txBox="1"/>
              <p:nvPr/>
            </p:nvSpPr>
            <p:spPr>
              <a:xfrm>
                <a:off x="4143240" y="1785960"/>
                <a:ext cx="376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Прямоугольник 13"/>
          <p:cNvSpPr/>
          <p:nvPr/>
        </p:nvSpPr>
        <p:spPr>
          <a:xfrm>
            <a:off x="5864400" y="2071800"/>
            <a:ext cx="875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2 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3719880" y="2714760"/>
            <a:ext cx="762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 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4"/>
              <p:cNvSpPr txBox="1"/>
              <p:nvPr/>
            </p:nvSpPr>
            <p:spPr>
              <a:xfrm>
                <a:off x="4143240" y="4786200"/>
                <a:ext cx="376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Прямоугольник 16"/>
          <p:cNvSpPr/>
          <p:nvPr/>
        </p:nvSpPr>
        <p:spPr>
          <a:xfrm>
            <a:off x="3792960" y="5643720"/>
            <a:ext cx="875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 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7"/>
          <p:cNvSpPr/>
          <p:nvPr/>
        </p:nvSpPr>
        <p:spPr>
          <a:xfrm>
            <a:off x="5791320" y="5072040"/>
            <a:ext cx="762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 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8"/>
          <p:cNvSpPr/>
          <p:nvPr/>
        </p:nvSpPr>
        <p:spPr>
          <a:xfrm>
            <a:off x="571680" y="857160"/>
            <a:ext cx="72864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ниг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раницы. Миша прочитал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й книги. Сколь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иц прочитал Миш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9"/>
          <p:cNvSpPr/>
          <p:nvPr/>
        </p:nvSpPr>
        <p:spPr>
          <a:xfrm>
            <a:off x="857160" y="3714840"/>
            <a:ext cx="68580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ша прочитал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раниц, что составляе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и. Сколько страниц в книг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7"/>
              <p:cNvSpPr txBox="1"/>
              <p:nvPr/>
            </p:nvSpPr>
            <p:spPr>
              <a:xfrm>
                <a:off x="4714920" y="642960"/>
                <a:ext cx="376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8"/>
              <p:cNvSpPr txBox="1"/>
              <p:nvPr/>
            </p:nvSpPr>
            <p:spPr>
              <a:xfrm>
                <a:off x="6072120" y="3500280"/>
                <a:ext cx="376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714240" y="785880"/>
            <a:ext cx="82155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ниг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раницы. Миша прочит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й книги. Сколько страниц прочитал Миш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714240" y="3571920"/>
            <a:ext cx="80010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ша прочитал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раниц, что составл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й книги. Сколько страниц в книг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786040" y="2286000"/>
                <a:ext cx="4275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m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6"/>
              <p:cNvSpPr txBox="1"/>
              <p:nvPr/>
            </p:nvSpPr>
            <p:spPr>
              <a:xfrm>
                <a:off x="2857680" y="5072040"/>
                <a:ext cx="3714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m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7"/>
              <p:cNvSpPr txBox="1"/>
              <p:nvPr/>
            </p:nvSpPr>
            <p:spPr>
              <a:xfrm>
                <a:off x="7196040" y="592200"/>
                <a:ext cx="500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8"/>
              <p:cNvSpPr txBox="1"/>
              <p:nvPr/>
            </p:nvSpPr>
            <p:spPr>
              <a:xfrm>
                <a:off x="785880" y="4214880"/>
                <a:ext cx="500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77868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о нахождения числа по его др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1000080" y="2286000"/>
            <a:ext cx="700092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бы найти число по его дроби, нужно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ло разделить на эту дробь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2:43:38Z</dcterms:created>
  <dc:creator>Val</dc:creator>
  <dc:description/>
  <dc:language>en-US</dc:language>
  <cp:lastModifiedBy>мен</cp:lastModifiedBy>
  <dcterms:modified xsi:type="dcterms:W3CDTF">2012-12-26T08:10:08Z</dcterms:modified>
  <cp:revision>68</cp:revision>
  <dc:subject/>
  <dc:title>Слайд 1</dc:title>
</cp:coreProperties>
</file>