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78AF-7E4E-4D14-ACA8-7E678A88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6C7-0A0C-403B-8F03-1353D892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B1C-E894-4998-B252-EBA0A21B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717-81E4-4B8F-8DBD-DA66DD54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CF9F-6575-44BE-8958-079FD5C2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2C01-1DE4-42FE-AF07-13AD07F8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820C-D46C-4E24-9F95-73480346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AD8B-89E9-4281-A61A-307AD61D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DE67-246F-46E1-862A-1129F9C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D3AC-B659-4D1B-B832-0A2FDD8E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F08A-D8D5-4DB2-86A2-AE61D39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ECC-D4E9-4CC9-A727-13AD709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C833-CD1F-4C75-8CF2-0ECD64A3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3B4D-D90E-4CD2-9400-19C46C1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BA16-5437-4D54-B907-1E2A882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9E47-BBB1-421F-A1CE-0ECBAF0D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1942-C447-4CD0-858B-47D81F57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B29-21AF-4352-962E-933A4D8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145-2589-4C9B-8560-5DD5F404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3DB-079A-4508-ABC8-77A93B4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0D4-BF74-434D-82A5-E3D728DE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FDB5-8F37-46A0-97CD-DFE7A638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747-CD35-45EB-84F4-FF633AF6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F25-2D5B-476F-8EBE-1C47EA63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AE0-3E4E-408C-B365-A09333B92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125-F5AD-4DDE-B360-66D2E6E7F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УНИЦИПАЛЬНОЕ БЮДЖЕТНОЕ ОБРАЗОВАТЕЛЬНОЕ УЧРЕЖДЕНИЕ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ПОЛНИТЕЛЬНОГО ОБРАЗОВАНИ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КОММУНАРСКАЯ ДЕТСКО-ЮНОШЕСКАЯ СПОРТИВНАЯ ШКОЛ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ЫТОЕ УЧЕБНО – ТРЕНИРОВОЧНОЕ ЗАНЯТ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ВИДУ СПОРТА «ЛЁГКАЯ АТЛЕ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А: «Спринтерский бег, старт, стартовый разг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нер – преподаватель: Валерий Николаевич Серга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ИЗИТНАЯ КАРТОЧКА ОТКРЫТОГО УЧЕБНО - ТРЕНИРОВОЧНОГО ЗАНЯТ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 группы: тренировочная группа 3 год обучения, 11 человек из них: 5 девушек, 6 юношей, возраст обучающихся 15 – 18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та проведения: 26 января 2019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щее время занятия – 13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готовительная часть – 3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ная часть – 100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лючительная часть – 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ало занятия – 17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кончание занятия – 19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сто проведения: ДЮСШ, г. Коммун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ма занятия: Спринтерский бег, старт, стартовый разг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ь тренировочного занятия: Техника старта, стартовый разг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чи учебно-тренировочного занятия: Старт – особенности тех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Совершенствование технических элементов старта и стартового разг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Развитие силовых и скоростно-силовых кач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Воспитание самостоятельности, отличной организации, умения работать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314520" cy="2514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ИТЕЛЬНАЯ ЧАСТЬ – 3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19920" y="1447920"/>
          <a:ext cx="2438280" cy="20574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ёгкий разминочный бег по кру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У у стенк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кло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ыпад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ма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304776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09480" y="3886200"/>
          <a:ext cx="2057400" cy="20048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 медленный, ЧСС до 130 уд. в мину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жнения выполняются по счёт, используя метод сопровождающей подсказ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ТЕЛЬ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Ь – 3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19560" y="1523520"/>
            <a:ext cx="2438280" cy="121932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ециальные упражнения с набивными мячами, направленные на подготовку мышц связок, участвующих в бе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550880"/>
            <a:ext cx="2286000" cy="243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мп выполнения спокойный, амплитуда выполнения движения максимальная, вес набивных мячей 2- 4 кг., с учетом индивидуальных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ребование техники безопасности при выполнении упражн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483000" cy="237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270504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133720" y="3733920"/>
            <a:ext cx="2666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АЯ ЧАСТЬ – 10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90920" y="1600200"/>
            <a:ext cx="32572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392436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638680" y="3200400"/>
          <a:ext cx="2895840" cy="152388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имание на длину шага, подъём бедра, постановка стоп. Вес на санках 7 – 12 к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ить внимание на отталкивание с колодок, следить за положением ру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23920" y="1447920"/>
            <a:ext cx="3886200" cy="167616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яснение и показ техники старта и стартового разгона  по прямой дистанции. Повторные пробежки отрезков с  санками. Повторные пробежки отрезков с энергичным стартом с колодок.Пробегание отрезков с низкого старта и с хода на результ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874760"/>
            <a:ext cx="4343400" cy="13726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иксируем старт отмашкой рук, бег с ходу с высокого старта. Фиксируем старт по отрыву руки от дорожки, старт низкий. Производится визуальная и хронометрическая оценка техники выполнения целостного упражнения, считаем сумму 5 попыток бега на 20 мет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НАЯ ЧАСТЬ - 100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72200" y="1600200"/>
          <a:ext cx="2666880" cy="221760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высоко поднимая бедро на месте у гимнастической сте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через высокие барьеры на дву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ыжки через высокие барьеры в ша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чки грифа у скамей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талкивание на двух ногах на высокие ма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35304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657600" y="1523880"/>
            <a:ext cx="2438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ЛЮЧИТЕЛЬНАЯ ЧАСТЬ – 5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48640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6248520" y="1600200"/>
          <a:ext cx="2209320" cy="3962160"/>
        </p:xfrm>
        <a:graphic>
          <a:graphicData uri="http://schemas.openxmlformats.org/drawingml/2006/table">
            <a:tbl>
              <a:tblPr/>
              <a:tblGrid>
                <a:gridCol w="2209320"/>
              </a:tblGrid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17906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ая форма общения. Выделить спортсменов, которые показали наилучший результат при выполнении целостного упражнения. Отметить спортсменов, которые частично улучшили свой результат в беге на врем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1T10:47:10Z</dcterms:created>
  <dc:creator>Пользователь</dc:creator>
  <dc:description/>
  <dc:language>en-US</dc:language>
  <cp:lastModifiedBy>Пользователь</cp:lastModifiedBy>
  <dcterms:modified xsi:type="dcterms:W3CDTF">2019-05-13T07:51:0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