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361-D4BD-44A0-AAF0-18B51A98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608-5D6E-475E-93F8-947138DD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99D-CFA0-4E51-BB54-2CAEF7D0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69C-3B22-410E-BABD-760E2479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0218-6132-45E8-B78D-83CCDCE0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DBDF-0B85-45C5-BC0E-5EDB365F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2E38-D43D-4A70-A310-5929FCF0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67A7-A472-4BB9-87AF-6774BFFC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BF4C-C58C-4DA6-B745-ECF20B3D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7A5A-17E7-4D37-9DF7-31EA5811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49F2-4C2C-4A6B-BBB7-53834866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7E0-9BE4-4B40-9624-7B8A34F6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B82-231F-4A1B-9258-01B4373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743A-5A88-4FDF-985E-A580731E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8F23-9F7D-459B-B366-C88425D8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5EF2-4968-4A22-9F04-DB495BEE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D592-D015-4CA6-AD70-0F9170E1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869-DC70-46E4-B0FB-C48E353F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B60-86FC-4D05-8D23-4EF73055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F4B-A59A-4EF6-B51A-5060C04E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9F1-5945-443D-B9CD-95D8C7C0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B31-79C2-4A44-96C7-C8C69F4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FEE-FB61-4E96-86D2-74C8D62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775-A7C1-44F1-9BAC-77CA2C2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8FF8-1792-4B61-AB32-0E9A92AB1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9AF-3BF8-4F56-BC66-CF6D4B936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ПОЛНИТЕЛЬНОГО ОБРАЗОВАН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КОММУНАРСКАЯ ДЕТСКО-ЮНОШЕСКАЯ СПОРТИВНАЯ ШКОЛ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РЫТОЕ УЧЕБНО – ТРЕНИРОВОЧНОЕ ЗАНЯТ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ВИДУ СПОРТА «ЛЁГКАЯ АТЛЕ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А: «Спринтерский бег, старт, стартовый разг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нер – преподаватель: Валерий Николаевич Серга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ИЗИТНАЯ КАРТОЧКА ОТКРЫТОГО УЧЕБНО - ТРЕНИРОВОЧНОГО ЗАНЯТ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 группы: тренировочная группа 3 год обучения, 11 человек из них: 5 девушек, 6 юношей, возраст обучающихся 15 – 18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та проведения: 26 января 2019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щее время занятия – 13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готовительная часть – 3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ная часть – 10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лючительная часть – 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ало занятия – 17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ончание занятия – 19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сто проведения: ДЮСШ, г. Коммун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ма занятия: Спринтерский бег, старт, стартовый разг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 тренировочного занятия: Техника старта, стартовый разг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и учебно-тренировочного занятия: Старт – особенности тех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Совершенствование технических элементов старта и стартового разг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Развитие силовых и скоростно-силовых кач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Воспитание самостоятельности, отличной организации, умения работать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31452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ИТЕЛЬНАЯ ЧАСТЬ – 30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19920" y="1447920"/>
          <a:ext cx="2438280" cy="20574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ёгкий разминочный бег по кру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У у стенк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кло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ыпад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мах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304776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09480" y="3886200"/>
          <a:ext cx="2057400" cy="20048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 медленный, ЧСС до 130 уд. в мину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ражнения выполняются по счёт, используя метод сопровождающей подсказ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ТЕЛЬ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Ь – 30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19560" y="1523520"/>
            <a:ext cx="2438280" cy="121932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пециальные упражнения с набивными мячами, направленные на подготовку мышц связок, участвующих в бег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550880"/>
            <a:ext cx="2286000" cy="243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мп выполнения спокойный, амплитуда выполнения движения максимальная, вес набивных мячей 2- 4 кг., с учетом индивидуальных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ребование техники безопасности при выполнении упражн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483000" cy="23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270504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133720" y="3733920"/>
            <a:ext cx="2666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НАЯ ЧАСТЬ – 100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27672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32572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392436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638680" y="3200400"/>
          <a:ext cx="2895840" cy="152388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на длину шага, подъём бедра, постановка стоп. Вес на санках 7 – 12 к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ить внимание на отталкивание с колодок, следить за положением ру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3886200" cy="167616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яснение и показ техники старта и стартового разгона  по прямой дистанции. Повторные пробежки отрезков с  санками. Повторные пробежки отрезков с энергичным стартом с колодок.Пробегание отрезков с низкого старта и с хода на результ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874760"/>
            <a:ext cx="4343400" cy="13726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иксируем старт отмашкой рук, бег с ходу с высокого старта. Фиксируем старт по отрыву руки от дорожки, старт низкий. Производится визуальная и хронометрическая оценка техники выполнения целостного упражнения, считаем сумму 5 попыток бега на 20 мет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НАЯ ЧАСТЬ - 100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72200" y="1600200"/>
          <a:ext cx="2666880" cy="221760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высоко поднимая бедро на месте у гимнастической сте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через высокие барьеры на дву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через высокие барьеры в ша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чки грифа у скамей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алкивание на двух ногах на высокие ма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35304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657600" y="1523880"/>
            <a:ext cx="2438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ЛЮЧИТЕЛЬНАЯ ЧАСТЬ – 5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48640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6248520" y="1600200"/>
          <a:ext cx="2209320" cy="3962160"/>
        </p:xfrm>
        <a:graphic>
          <a:graphicData uri="http://schemas.openxmlformats.org/drawingml/2006/table">
            <a:tbl>
              <a:tblPr/>
              <a:tblGrid>
                <a:gridCol w="2209320"/>
              </a:tblGrid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ная форма общения. Выделить спортсменов, которые показали наилучший результат при выполнении целостного упражнения. Отметить спортсменов, которые частично улучшили свой результат в беге на врем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1T10:47:10Z</dcterms:created>
  <dc:creator>Пользователь</dc:creator>
  <dc:description/>
  <dc:language>en-US</dc:language>
  <cp:lastModifiedBy>Пользователь</cp:lastModifiedBy>
  <dcterms:modified xsi:type="dcterms:W3CDTF">2019-05-13T07:51:0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