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70D5-9661-4FA8-8586-1AAD3539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D8BD-FB11-40BD-89A2-E767CC70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6DCA-E0F8-4F40-AB2F-EDF176DF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696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7128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9E8-EBF7-46FF-8755-8A8EF96F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BCC6-7573-4091-9125-1A4692D7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3C1F-D5D8-4C5C-BFA0-5E1A312E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52D9-8830-4258-A039-33A1B5CD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B16D-8E0E-427A-9C7B-3406D82D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DF0D-A295-41B7-9015-C4E34ACF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7169-C589-4882-88B1-3A237F1C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0EBC-1D08-42AE-8945-409D8154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6F19-0D1C-4A9B-9730-74396A19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7325-9B46-41A3-856B-51265441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9754-5C6C-4CCF-A2FC-D48A6BB4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71A4-8A27-4194-A470-5B8C8CA8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D75E-E9B5-4C41-8B94-4618F98C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0696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47128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9523-DBB7-479C-A5FC-9351D92C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DBF99-5D8E-4B42-A9E4-E6E4D8FA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71CC8-5DC4-4BC0-A0C4-A1793075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1619C-CCBA-47B4-86AE-66917C74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A466F-1F31-46B2-A8CA-42A8B3F5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3C3D3-E2A1-40BF-BAD2-E233D871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5912-C3BE-4666-A745-409882EF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51954-ED20-4F3A-A570-9DD1868F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AAD6C-9C6F-4C5F-B688-624AC89E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500EC-A283-44EA-8BED-8A367CDB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23FAC-C6B7-4C9A-AF71-93F76C36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095FE-0059-4252-ADC6-0B1CE71A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52817-872F-4D24-9655-CC98BAA5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0696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47128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B5D97-57F4-474A-9456-256D9B54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78BB-B05E-4548-9D5F-6ABC179E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5384-4FCB-4541-AF96-5F6923C2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D8BD-FE7C-478F-BE95-EFA25571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E127-EC41-4699-9402-A2658B0D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DEE6-523D-4D6E-A6C2-32FA79D4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419-D3F0-476D-9B9A-627D0344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3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E4E9920-652D-45B6-8DB4-3C3D48AF80DA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8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23D321B-77BA-45C7-84B7-00E93EC64A05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dt" idx="7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8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52B184D-56BE-4F23-9400-6145AB738379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body"/>
          </p:nvPr>
        </p:nvSpPr>
        <p:spPr>
          <a:xfrm>
            <a:off x="464508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"/>
          </a:bodyPr>
          <a:p>
            <a:pPr indent="0" algn="r">
              <a:lnSpc>
                <a:spcPct val="100000"/>
              </a:lnSpc>
              <a:buNone/>
            </a:pP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5300"/>
            </a:br>
            <a:br>
              <a:rPr sz="4600"/>
            </a:br>
            <a:br>
              <a:rPr sz="4600"/>
            </a:br>
            <a:br>
              <a:rPr sz="10700"/>
            </a:b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251640" y="188640"/>
            <a:ext cx="8136720" cy="11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ПРОЕКТ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«В гостях  у  сказки» 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10700"/>
            </a:br>
            <a:br>
              <a:rPr sz="10700"/>
            </a:br>
            <a:br>
              <a:rPr sz="10700"/>
            </a:br>
            <a:r>
              <a:rPr b="1" lang="ru-RU" sz="107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0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743200" y="3403440"/>
            <a:ext cx="5644800" cy="2833200"/>
          </a:xfrm>
          <a:prstGeom prst="rect">
            <a:avLst/>
          </a:prstGeom>
          <a:ln w="0">
            <a:noFill/>
          </a:ln>
        </p:spPr>
      </p:pic>
      <p:sp>
        <p:nvSpPr>
          <p:cNvPr id="139" name="Picture 4"/>
          <p:cNvSpPr/>
          <p:nvPr/>
        </p:nvSpPr>
        <p:spPr>
          <a:xfrm>
            <a:off x="1470240" y="2781000"/>
            <a:ext cx="6504120" cy="3744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700640"/>
            <a:ext cx="8305560" cy="479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оведение утренней гимнастики, занятий по физическому воспитанию, прогулок с элементами игр из сказок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- Подвижные игры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Гуси – лебеди», «Два мороза», «У медведя во бору», «Палочка выручалочка», «Хитрая лиса», «Рыбак и рыбки», «Дети и волк», «Зайцы и медведь», «Волки и ягнята», «Ванюша и лебеди», «Волк и поросята».</a:t>
            </a:r>
            <a:br>
              <a:rPr sz="2000"/>
            </a:br>
            <a:br>
              <a:rPr sz="20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Рисунок 3"/>
          <p:cNvSpPr/>
          <p:nvPr/>
        </p:nvSpPr>
        <p:spPr>
          <a:xfrm>
            <a:off x="2195640" y="4005000"/>
            <a:ext cx="4752000" cy="273600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323640" y="-742320"/>
            <a:ext cx="8496720" cy="28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ЗДОРОВЬЕ И ФИЗИЧЕСКАЯ КУЛЬТУРА 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305560" cy="59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ПОЗНАНИЕ :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Самостоятельное создание проекта группой детей по инсценировке сказок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Использование сказочности и сказочных персонажей в формировании элементарных математических понятий, в математических дидактических играх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- Использование волшебства в познании окружающего мира (вопросы, создание проблемы) 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Дидактические игры «Отгадай сказку», «Из какой сказки герой? », «Чей костюм», «Кто и из какой сказки использовал данный предмет? », «Произнеси слова персонажа», «Вспомни слова героя».</a:t>
            </a:r>
            <a:br>
              <a:rPr sz="20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08640"/>
            <a:ext cx="83055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ТРУДОВОЕ ОБУЧЕНИЕ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- Подготовка атрибутов и декораций к спектаклям (эстетический вид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ОНСТРУИРОВАНИЕ: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ригами «Лиса», «Заяц»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УЧНОЙ ТРУД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делки из природного материал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5400"/>
            </a:b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icture 2"/>
          <p:cNvSpPr/>
          <p:nvPr/>
        </p:nvSpPr>
        <p:spPr>
          <a:xfrm>
            <a:off x="1143000" y="3285000"/>
            <a:ext cx="3346200" cy="273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icture 3"/>
          <p:cNvSpPr/>
          <p:nvPr/>
        </p:nvSpPr>
        <p:spPr>
          <a:xfrm>
            <a:off x="4716000" y="3429000"/>
            <a:ext cx="3346200" cy="2664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5"/>
          <p:cNvSpPr/>
          <p:nvPr/>
        </p:nvSpPr>
        <p:spPr>
          <a:xfrm>
            <a:off x="214200" y="142920"/>
            <a:ext cx="853380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Художественное творчеств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Рисование героев сказок «Колобок», Снегурочка», «Курочка Ряба»; сюжетное рисование «Три медвед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Лепка героев и сюжетов сказок «Заюшкина избушка», «Маша и медведь», «Колоб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Аппликации к сказкам «Заюшкина избушка»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Самостоятельное детское творче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Помощь в оформлении выставок в групп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Иллюстрирование сказ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32640"/>
            <a:ext cx="868644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27160" indent="-22716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оммуникация :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rebuchet MS"/>
              </a:rPr>
              <a:t>Составление творческих рассказов: «Сочини конец сказки», «Сочини сказку про … », сказок и небылиц по рисункам, по замыслу, по памяти. 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rebuchet MS"/>
              </a:rPr>
              <a:t>	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ru-RU" sz="2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icture 2"/>
          <p:cNvSpPr/>
          <p:nvPr/>
        </p:nvSpPr>
        <p:spPr>
          <a:xfrm>
            <a:off x="1619640" y="2637000"/>
            <a:ext cx="5808960" cy="338400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7120" y="1000080"/>
            <a:ext cx="8631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ЕАТРАЛИЗОВАННАЯ ДЕЯТЕЛЬНОСТЬ:</a:t>
            </a:r>
            <a:br>
              <a:rPr sz="4000"/>
            </a:br>
            <a:r>
              <a:rPr b="1" lang="ru-RU" sz="4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Constantia"/>
              </a:rPr>
              <a:t>- Инсценировка сказки: «Колобок»</a:t>
            </a:r>
            <a:br>
              <a:rPr sz="3100"/>
            </a:br>
            <a:br>
              <a:rPr sz="4600"/>
            </a:br>
            <a:endParaRPr b="0" lang="ru-RU" sz="3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icture 2"/>
          <p:cNvSpPr/>
          <p:nvPr/>
        </p:nvSpPr>
        <p:spPr>
          <a:xfrm>
            <a:off x="1143000" y="3141000"/>
            <a:ext cx="3346200" cy="273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icture 3"/>
          <p:cNvSpPr/>
          <p:nvPr/>
        </p:nvSpPr>
        <p:spPr>
          <a:xfrm>
            <a:off x="4645080" y="3141000"/>
            <a:ext cx="3346200" cy="2808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640" y="548640"/>
            <a:ext cx="7693920" cy="496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Вывод  </a:t>
            </a:r>
            <a:endParaRPr b="0" lang="ru-RU" sz="8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08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0" algn="ctr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Cambria"/>
              </a:rPr>
              <a:t>Использование сказок в познавательной деятельности помогает  эффективно решать проблему воспитания интереса к художественной литературе, развивать нравственно-эстетические чувства, формировать позицию гражданина, воспитывать волевые качества.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357200"/>
            <a:ext cx="83055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73240" indent="-2732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Сказка – ложь, да в ней – намек, добрым молодцам урок. </a:t>
            </a:r>
            <a:br>
              <a:rPr sz="7200"/>
            </a:b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А. С. Пушкин. </a:t>
            </a:r>
            <a:endParaRPr b="0" lang="ru-RU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548640"/>
            <a:ext cx="75603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ЦЕЛЬ</a:t>
            </a:r>
            <a:endParaRPr b="0" lang="ru-RU" sz="8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240" cy="41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Black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Constantia"/>
              </a:rPr>
              <a:t>Приобщать детей к высокохудожественной литературе, формировать у них запас литературных художественных впечатлений, прививать интерес к театральной деятельности, раскрывать ценности совместного творчества детей и их родителей. 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ЗАДАЧИ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28760" y="1000080"/>
            <a:ext cx="8229240" cy="5643360"/>
          </a:xfrm>
          <a:prstGeom prst="rect">
            <a:avLst/>
          </a:prstGeom>
          <a:gradFill rotWithShape="0">
            <a:gsLst>
              <a:gs pos="28000">
                <a:srgbClr val="d2f7b5"/>
              </a:gs>
              <a:gs pos="100000">
                <a:srgbClr val="abe67c"/>
              </a:gs>
            </a:gsLst>
            <a:lin ang="5400000"/>
          </a:gradFill>
          <a:ln w="9360">
            <a:solidFill>
              <a:srgbClr val="a7ea52"/>
            </a:solidFill>
            <a:round/>
          </a:ln>
          <a:effectLst>
            <a:outerShdw dist="50760" dir="5400000" blurRad="63360" rotWithShape="0">
              <a:srgbClr val="000000">
                <a:alpha val="20000"/>
              </a:srgbClr>
            </a:outerShdw>
          </a:effectLst>
        </p:spPr>
        <p:txBody>
          <a:bodyPr anchor="t">
            <a:normAutofit fontScale="77000"/>
          </a:bodyPr>
          <a:p>
            <a:pPr marL="190080" indent="0" algn="ctr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. Знакомить с различными видами сказочных произведений, учить узнавать персонажи сказок, знать название и автора, пересказывать содержание, высказывать свое отношение к героям сказки; закреплять умения использовать средства выразительности (позы, жесты, мимику, интонации, движения) и разные виды театров (бибабо, пальчиковый, театр картинок, кукольный) ; совершенствовать навыки самостоятельно выбирать сказку для постановки, драматизации, готовить необходимые атрибуты и декорации для будущего спектакля, распределять между собой обязанности и роли. 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190080"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190080" indent="0" algn="ctr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2. Развивать творческую самостоятельность и эстетический вкус дошкольников в организации театрализованных игр, в создании и передаче образов, отчетливость произношения, традиции семейного чтения. 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190080"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190080" indent="0" algn="ctr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. Воспитывать партнерские отношения между детьми, коммуникативные качества, создавать радостный эмоциональный настрой, поощрять творческую инициативу. 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190080"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ГИПОТЕЗА</a:t>
            </a:r>
            <a:endParaRPr b="0" lang="ru-RU" sz="6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00640"/>
            <a:ext cx="8229240" cy="462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казка обладает преимуществом над другими воспитательными приемами. Это своего рода нравственный кодекс народа, их героика – это хотя и воображаемые, но примеры истинного поведения честного человека, умеющего постоять за свое достоинство.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казка играет важнейшую роль в развитии воображения – способности, без которой невозможна ни умственная деятельность ребенка в период дошкольного и школьного обучения, ни любая творческая деятельность взрослого. Сказки прививают интерес к чтению художественной литературы.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640" y="33264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45160" indent="-24516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АКТУАЛЬНОСТЬ ТЕМЫ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99640" y="1484640"/>
            <a:ext cx="7128360" cy="43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17080" indent="0" algn="ctr">
              <a:lnSpc>
                <a:spcPct val="100000"/>
              </a:lnSpc>
              <a:spcBef>
                <a:spcPts val="51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Огромной любовью пользуется у детей сказка. </a:t>
            </a:r>
            <a:endParaRPr b="0" lang="ru-RU" sz="26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 algn="ctr">
              <a:lnSpc>
                <a:spcPct val="100000"/>
              </a:lnSpc>
              <a:spcBef>
                <a:spcPts val="51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Сказка – древнейший жанр устного народного творчества. Она учит человека жить, вселяет в него оптимизм, веру в торжество добра и справедливости. За фантастикой и вымыслом скрываются реальные человеческие отношения. Отсюда и идет огромное воспитательное значение сказки. На сегодняшнем этапе жизни современного общества данная тема очень актуальна. </a:t>
            </a:r>
            <a:endParaRPr b="0" lang="ru-RU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ПРЕДПОЛАГАЕМЫЙ РЕЗУЛЬТАТ</a:t>
            </a:r>
            <a:endParaRPr b="0" lang="ru-RU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77000"/>
            <a:ext cx="8229240" cy="42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24640" indent="0" algn="ctr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Дети должны: 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224640" indent="0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проявлять любовь к сказкам и театральной деятельности;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224640" indent="0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знать и называть прочитанные сказочные произведения, их авторов, тексты, персонажей, мораль;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224640" indent="0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знать различные виды театров и уметь показывать их;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224640" indent="0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уметь использовать различные средства выразительности;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224640" indent="0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уметь самостоятельно выбирать сказку, проводить предварительную работу к ее показу, вживаться в свою роль.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9200" indent="-2592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Достоинства использования сказки в интегративной деятельности</a:t>
            </a:r>
            <a:br>
              <a:rPr sz="4600"/>
            </a:b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52" name="Содержимое 3"/>
          <p:cNvGraphicFramePr/>
          <p:nvPr/>
        </p:nvGraphicFramePr>
        <p:xfrm>
          <a:off x="457200" y="2071800"/>
          <a:ext cx="8229240" cy="5347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Развитие лич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Развитие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</a:tr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Позволяет сомореализов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азвивает образность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</a:tr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Воспитывает акти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Метафоричность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</a:tr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азвивает твор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асширяет словарный зап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</a:tr>
              <a:tr h="615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Приучает к самосто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азвивает связную, логическую, диалогическую ре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</a:tr>
              <a:tr h="923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Дает возможность найти общий язык со сверстниками и со взросл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азвивает силу голоса, тембр голоса, интонацию, выразительность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</a:tr>
              <a:tr h="615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Способствует пробуждению творческих с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Способствуе проявлению своей индивидуа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</a:tr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Обогащает впечатлен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000" spc="-1" strike="noStrike">
                        <a:solidFill>
                          <a:schemeClr val="dk1"/>
                        </a:solidFill>
                        <a:latin typeface="Constantia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</a:tr>
              <a:tr h="615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Позволяет накопить богатый жизненный опы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000" spc="-1" strike="noStrike">
                        <a:solidFill>
                          <a:schemeClr val="dk1"/>
                        </a:solidFill>
                        <a:latin typeface="Constantia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2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30760" indent="-23076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одержание  практической деятельности  по реализации  проекта:</a:t>
            </a:r>
            <a:br>
              <a:rPr sz="4600"/>
            </a:b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28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Прямоугольник 4"/>
          <p:cNvSpPr/>
          <p:nvPr/>
        </p:nvSpPr>
        <p:spPr>
          <a:xfrm>
            <a:off x="642960" y="2571840"/>
            <a:ext cx="792936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ОЦИАЛЬНОЕ РАЗВИТИЕ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Проведение сюжетно-ролевых, театрализованных, дидактических игр с элементами волшебств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Помощь семьи, сотворчество детей и родителей в конкурсе поделок и рисунков «В гостях у сказки»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260</TotalTime>
  <Application>LibreOffice/7.4.7.2$Linux_X86_64 LibreOffice_project/40$Build-2</Application>
  <AppVersion>15.0000</AppVersion>
  <Words>141</Words>
  <Paragraphs>63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11:40:36Z</dcterms:created>
  <dc:creator>UserXP</dc:creator>
  <dc:description/>
  <dc:language>en-US</dc:language>
  <cp:lastModifiedBy>asd</cp:lastModifiedBy>
  <dcterms:modified xsi:type="dcterms:W3CDTF">2013-12-02T06:03:45Z</dcterms:modified>
  <cp:revision>28</cp:revision>
  <dc:subject/>
  <dc:title>   Проект  «В гостях у сказк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