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A7C-9527-48DE-AB1D-6DEF145F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F41-CE29-486E-94EE-E8DCB59D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F75-3680-425F-BA7F-1B4CE128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032-6202-4C86-AFA6-CD2AD50E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F6C-D96C-4047-B50C-54E78D0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094E-B36C-49F6-833B-DD421CEC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10FA-509C-4F2E-84F9-BC4AB00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F213-3EF7-4BA7-9CD1-25718D4B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8045-CEC1-4003-8381-F950C2E6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EA52-3F35-4D39-8C76-06A24084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43C-3E4A-41DD-A78B-F588A079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5181-BE31-412B-87CE-13580FB4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11A7-128E-4950-9887-B28CFCC2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D353-EE82-4B31-810A-043202CD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D22-3C04-4235-BB03-CB324C5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4969-59CE-4F0E-A835-B2E2291C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3D2F-8508-40C7-A420-1B827B78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C8F3-13A1-42D8-870A-750A4D30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FF0A-32B2-4821-BDDA-D5FC2CEB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7496B-4EDF-4E0A-8C32-B4123344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3F59-EF16-4775-9AC5-FC061944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1735C-CD4D-44CC-BAF1-94DC8983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D90-220F-4441-B8AB-AEAE0669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8D474-C0EB-4C3F-AEF5-48C3B4E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2B21-A4A3-4E7F-A6E1-BB6C80F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E86B-30DF-4358-BF73-8E2FD01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EC6F-BCB4-4D22-9B39-A515AF4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CDF3C-3B8D-4A15-8614-3A2B86A9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4705-A3A9-4379-90A1-6BE4FEE4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300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0696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471280" y="2546280"/>
            <a:ext cx="20606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8B878-D7AD-4CDA-BB1B-21DB09E0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424-348F-4538-A736-D9477904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6122-9BE1-49C8-B693-A9233C48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160" y="4372200"/>
            <a:ext cx="651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508-0E5A-408E-9BFC-4CEBE788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AF6C-BA9A-46C6-BE09-3A043143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28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745-443A-438A-9974-D3206729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280"/>
            <a:ext cx="640044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CCA-8A99-424C-B05B-23C488BD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ACC078-9AD1-4C2F-9421-A38DD8A923A4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8EB7E7C-487C-42D6-B6BE-5B4F1C966153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3A312F5-2AAD-46CE-814C-8A9D84F07C7D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body"/>
          </p:nvPr>
        </p:nvSpPr>
        <p:spPr>
          <a:xfrm>
            <a:off x="4645080" y="731520"/>
            <a:ext cx="334620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"/>
          </a:bodyPr>
          <a:p>
            <a:pPr indent="0" algn="r">
              <a:lnSpc>
                <a:spcPct val="100000"/>
              </a:lnSpc>
              <a:buNone/>
            </a:pP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4600"/>
            </a:br>
            <a:br>
              <a:rPr sz="5300"/>
            </a:br>
            <a:br>
              <a:rPr sz="4600"/>
            </a:br>
            <a:br>
              <a:rPr sz="4600"/>
            </a:br>
            <a:br>
              <a:rPr sz="10700"/>
            </a:b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251640" y="188640"/>
            <a:ext cx="8136720" cy="11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ПРОЕКТ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«В гостях  у  сказки» 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10700"/>
            </a:br>
            <a:br>
              <a:rPr sz="10700"/>
            </a:br>
            <a:br>
              <a:rPr sz="10700"/>
            </a:br>
            <a:r>
              <a:rPr b="1" lang="ru-RU" sz="107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743200" y="3403440"/>
            <a:ext cx="5644800" cy="2833200"/>
          </a:xfrm>
          <a:prstGeom prst="rect">
            <a:avLst/>
          </a:prstGeom>
          <a:ln w="0">
            <a:noFill/>
          </a:ln>
        </p:spPr>
      </p:pic>
      <p:sp>
        <p:nvSpPr>
          <p:cNvPr id="139" name="Picture 4"/>
          <p:cNvSpPr/>
          <p:nvPr/>
        </p:nvSpPr>
        <p:spPr>
          <a:xfrm>
            <a:off x="1470240" y="2781000"/>
            <a:ext cx="6504120" cy="3744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00640"/>
            <a:ext cx="8305560" cy="479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ведение утренней гимнастики, занятий по физическому воспитанию, прогулок с элементами игр из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Подвижные игры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«Гуси – лебеди», «Два мороза», «У медведя во бору», «Палочка выручалочка», «Хитрая лиса», «Рыбак и рыбки», «Дети и волк», «Зайцы и медведь», «Волки и ягнята», «Ванюша и лебеди», «Волк и поросята».</a:t>
            </a:r>
            <a:br>
              <a:rPr sz="2000"/>
            </a:br>
            <a:br>
              <a:rPr sz="20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Рисунок 3"/>
          <p:cNvSpPr/>
          <p:nvPr/>
        </p:nvSpPr>
        <p:spPr>
          <a:xfrm>
            <a:off x="2195640" y="4005000"/>
            <a:ext cx="4752000" cy="2736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23640" y="-742320"/>
            <a:ext cx="84967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ЗДОРОВЬЕ И ФИЗИЧЕСКАЯ КУЛЬТУРА 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30556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ОЗНАНИЕ :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Самостоятельное создание проекта группой детей по инсценировке сказок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Использование сказочности и сказочных персонажей в формировании элементарных математических понятий, в математических дидактических играх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- Использование волшебства в познании окружающего мира (вопросы, создание проблемы) 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Дидактические игры «Отгадай сказку», «Из какой сказки герой? », «Чей костюм», «Кто и из какой сказки использовал данный предмет? », «Произнеси слова персонажа», «Вспомни слова героя».</a:t>
            </a: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8640"/>
            <a:ext cx="830556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ТРУДОВОЕ ОБУЧЕН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- Подготовка атрибутов и декораций к спектаклям (эстетический вид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НСТРУИРОВАНИЕ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ригами «Лиса», «Заяц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УЧНОЙ ТРУ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елки из природного материа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5400"/>
            </a:b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icture 2"/>
          <p:cNvSpPr/>
          <p:nvPr/>
        </p:nvSpPr>
        <p:spPr>
          <a:xfrm>
            <a:off x="1143000" y="3285000"/>
            <a:ext cx="3346200" cy="273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icture 3"/>
          <p:cNvSpPr/>
          <p:nvPr/>
        </p:nvSpPr>
        <p:spPr>
          <a:xfrm>
            <a:off x="4716000" y="3429000"/>
            <a:ext cx="3346200" cy="2664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214200" y="142920"/>
            <a:ext cx="85338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Художественное творчест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Рисование героев сказок «Колобок», Снегурочка», «Курочка Ряба»; сюжетное рисование «Три медвед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Лепка героев и сюжетов сказок «Заюшкина избушка», «Маша и медведь»,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Аппликации к сказкам «Заюшкина избушка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Самостоятельное детское твор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Помощь в оформлении выставок в групп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Иллюстрирование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32640"/>
            <a:ext cx="8686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27160" indent="-227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ммуникация 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Составление творческих рассказов: «Сочини конец сказки», «Сочини сказку про … », сказок и небылиц по рисункам, по замыслу, по памяти.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icture 2"/>
          <p:cNvSpPr/>
          <p:nvPr/>
        </p:nvSpPr>
        <p:spPr>
          <a:xfrm>
            <a:off x="1619640" y="2637000"/>
            <a:ext cx="5808960" cy="33840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1000080"/>
            <a:ext cx="8631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ЕАТРАЛИЗОВАННАЯ ДЕЯТЕЛЬНОСТЬ:</a:t>
            </a:r>
            <a:br>
              <a:rPr sz="4000"/>
            </a:br>
            <a:r>
              <a:rPr b="1" lang="ru-RU" sz="4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onstantia"/>
              </a:rPr>
              <a:t>- Инсценировка сказки: «Колобок»</a:t>
            </a:r>
            <a:br>
              <a:rPr sz="3100"/>
            </a:br>
            <a:br>
              <a:rPr sz="4600"/>
            </a:b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icture 2"/>
          <p:cNvSpPr/>
          <p:nvPr/>
        </p:nvSpPr>
        <p:spPr>
          <a:xfrm>
            <a:off x="1143000" y="3141000"/>
            <a:ext cx="3346200" cy="273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icture 3"/>
          <p:cNvSpPr/>
          <p:nvPr/>
        </p:nvSpPr>
        <p:spPr>
          <a:xfrm>
            <a:off x="4645080" y="3141000"/>
            <a:ext cx="3346200" cy="2808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640" y="548640"/>
            <a:ext cx="7693920" cy="496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Вывод  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0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0" algn="ctr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ambria"/>
              </a:rPr>
              <a:t>Использование сказок в познавательной деятельности помогает  эффективно решать проблему воспитания интереса к художественной литературе, развивать нравственно-эстетические чувства, формировать позицию гражданина, воспитывать волевые качества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3055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73240" indent="-2732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Сказка – ложь, да в ней – намек, добрым молодцам урок. </a:t>
            </a:r>
            <a:br>
              <a:rPr sz="7200"/>
            </a:b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А. С. Пушкин. </a:t>
            </a:r>
            <a:endParaRPr b="0" lang="ru-RU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548640"/>
            <a:ext cx="7560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8800" spc="-1" strike="noStrike">
                <a:solidFill>
                  <a:srgbClr val="000000"/>
                </a:solidFill>
                <a:latin typeface="Monotype Corsiva"/>
              </a:rPr>
              <a:t>ЦЕЛЬ</a:t>
            </a:r>
            <a:endParaRPr b="0" lang="ru-RU" sz="8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240" cy="41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 Black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onstantia"/>
              </a:rPr>
              <a:t>Приобщать детей к высокохудожественной литературе, формировать у них запас литературных художественных впечатлений, прививать интерес к театральной деятельности, раскрывать ценности совместного творчества детей и их родителей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ЗАДАЧИ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8229240" cy="5643360"/>
          </a:xfrm>
          <a:prstGeom prst="rect">
            <a:avLst/>
          </a:prstGeom>
          <a:gradFill rotWithShape="0">
            <a:gsLst>
              <a:gs pos="28000">
                <a:srgbClr val="d2f7b5"/>
              </a:gs>
              <a:gs pos="100000">
                <a:srgbClr val="abe67c"/>
              </a:gs>
            </a:gsLst>
            <a:lin ang="5400000"/>
          </a:gradFill>
          <a:ln w="9360">
            <a:solidFill>
              <a:srgbClr val="a7ea52"/>
            </a:solidFill>
            <a:round/>
          </a:ln>
          <a:effectLst>
            <a:outerShdw dist="50760" dir="5400000" blurRad="63360" rotWithShape="0">
              <a:srgbClr val="000000">
                <a:alpha val="20000"/>
              </a:srgbClr>
            </a:outerShdw>
          </a:effectLst>
        </p:spPr>
        <p:txBody>
          <a:bodyPr anchor="t">
            <a:normAutofit fontScale="77000"/>
          </a:bodyPr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 закреплять умения использовать средства выразительности (позы, жесты, мимику, интонации, движения) и разные виды театров (бибабо, пальчиковый, театр картинок, кукольный) ; совершенствовать навыки самостоятельно выбирать сказку для постановки, драматизации, готовить необходимые атрибуты и декорации для будущего спектакля, распределять между собой обязанности и роли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творческую самостоятельность и эстетический вкус дошкольников в организации театрализованных игр, в создании и передаче образов, отчетливость произношения, традиции семейного чтения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Воспитывать партнерские отношения между детьми, коммуникативные качества, создавать радостный эмоциональный настрой, поощрять творческую инициативу.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19008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6600" spc="-1" strike="noStrike">
                <a:solidFill>
                  <a:srgbClr val="000000"/>
                </a:solidFill>
                <a:latin typeface="Monotype Corsiva"/>
              </a:rPr>
              <a:t>ГИПОТЕЗА</a:t>
            </a:r>
            <a:endParaRPr b="0" lang="ru-RU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обладает преимуществом над другими воспитательными приемами. Это своего рода нравственный кодекс народа, их героика – это хотя и воображаемые, но примеры истинного поведения честного человека, умеющего постоять за свое достоинство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казка играет важнейшую роль в развитии воображения – способности, без которой невозможна ни умственная деятельность ребенка в период дошкольного и школьного обучения, ни любая творческая деятельность взрослого. Сказки прививают интерес к чтению художественной литературы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640" y="33264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45160" indent="-2451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АКТУАЛЬНОСТЬ ТЕМЫ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484640"/>
            <a:ext cx="71283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громной любовью пользуется у детей сказк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 algn="ctr">
              <a:lnSpc>
                <a:spcPct val="100000"/>
              </a:lnSpc>
              <a:spcBef>
                <a:spcPts val="51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казка – древнейший жанр устного народного творчества. Она учит человека жить, вселяет в него оптимизм, веру в торжество добра и справедливости. За фантастикой и вымыслом скрываются реальные человеческие отношения. Отсюда и идет огромное воспитательное значение сказки. На сегодняшнем этапе жизни современного общества данная тема очень актуальна. </a:t>
            </a:r>
            <a:endParaRPr b="0" lang="ru-RU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7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ПРЕДПОЛАГАЕМЫЙ РЕЗУЛЬТАТ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7000"/>
            <a:ext cx="8229240" cy="42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2464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Дети должны: 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проявлять любовь к сказкам и театральной дея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и называть прочитанные сказочные произведения, их авторов, тексты, персонажей, мораль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знать различные виды театров и уметь показывать их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использовать различные средства выразительности;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4640" indent="0">
              <a:lnSpc>
                <a:spcPct val="10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 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- уметь самостоятельно выбирать сказку, проводить предварительную работу к ее показу, вживаться в свою роль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9200" indent="-25920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остоинства использования сказки в интегративной деятельности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52" name="Содержимое 3"/>
          <p:cNvGraphicFramePr/>
          <p:nvPr/>
        </p:nvGraphicFramePr>
        <p:xfrm>
          <a:off x="457200" y="2071800"/>
          <a:ext cx="8229240" cy="5347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лич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Развитие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сомореализо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образ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спитывает а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етафорич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твор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сширяет словарный зап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риучает к самосто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вязную, логическую, диалогическую р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923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ает возможность найти общий язык со сверстниками и со взросл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азвивает силу голоса, тембр голоса, интонацию, выразительность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т пробуждению творческих с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пособствуе проявлению своей индивидуа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богащает впечатл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2ecfa"/>
                    </a:solidFill>
                  </a:tcPr>
                </a:tc>
              </a:tr>
              <a:tr h="615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зволяет накопить богатый жизненный оп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000" spc="-1" strike="noStrike">
                        <a:solidFill>
                          <a:schemeClr val="dk1"/>
                        </a:solidFill>
                        <a:latin typeface="Constantia"/>
                        <a:ea typeface="Times New Roman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f5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0760" indent="-2307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Содержание  практической деятельности  по реализации  проекта:</a:t>
            </a:r>
            <a:br>
              <a:rPr sz="4600"/>
            </a:b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642960" y="2571840"/>
            <a:ext cx="79293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ЦИАЛЬНОЕ РАЗВИТИЕ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роведение сюжетно-ролевых, театрализованных, дидактических игр с элементами волшебст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Помощь семьи, сотворчество детей и родителей в конкурсе поделок и рисунков «В гостях у сказки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260</TotalTime>
  <Application>LibreOffice/7.4.7.2$Linux_X86_64 LibreOffice_project/40$Build-2</Application>
  <AppVersion>15.0000</AppVersion>
  <Words>141</Words>
  <Paragraphs>63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11:40:36Z</dcterms:created>
  <dc:creator>UserXP</dc:creator>
  <dc:description/>
  <dc:language>en-US</dc:language>
  <cp:lastModifiedBy>asd</cp:lastModifiedBy>
  <dcterms:modified xsi:type="dcterms:W3CDTF">2013-12-02T06:03:45Z</dcterms:modified>
  <cp:revision>28</cp:revision>
  <dc:subject/>
  <dc:title>   Проект  «В гостях у сказк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