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E8B5-ADFC-4A43-909D-20C23AFACA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E9BD-AF77-49A8-8727-59D11BA4C7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E8B5-A3C1-4EED-A3DC-66475437D5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F5BA-DD1F-4080-8FE1-0F4821946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C908-9EE4-456C-8964-E1933850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C7EC-74EE-4846-8EA3-B8E46670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829E-7EFF-4258-8E1A-928D6D117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1EE3-92D9-4768-A423-CE641DE4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DA71-3E08-4270-B0C8-529C7040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F145-9E5E-42DF-9E9F-382A76AC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AA28-A5A7-494B-9C16-90FB5EA0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B248-5341-4CCB-8E6D-5550F01C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EB28-9583-4B89-AEB7-D6A701CE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CD82-DD6C-41EB-974F-F8B17178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10DC-65C8-492B-94FF-10A5EEBB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3E96-E3B6-44A2-8833-4209F11C863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2356920"/>
            <a:ext cx="727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13f9"/>
                </a:solidFill>
                <a:latin typeface="Times New Roman"/>
                <a:ea typeface="Times New Roman"/>
              </a:rPr>
              <a:t>Применение электронных образовательных ресурсов в учебном процесс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2071800" y="4429080"/>
            <a:ext cx="518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13f9"/>
                </a:solidFill>
                <a:latin typeface="Times New Roman"/>
                <a:ea typeface="Times New Roman"/>
              </a:rPr>
              <a:t>Мастер-класс для молодых уч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13f9"/>
                </a:solidFill>
                <a:latin typeface="Times New Roman"/>
                <a:ea typeface="Times New Roman"/>
              </a:rPr>
              <a:t>Автор: Цыренова С.Б., учитель техн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Группа 5"/>
          <p:cNvGrpSpPr/>
          <p:nvPr/>
        </p:nvGrpSpPr>
        <p:grpSpPr>
          <a:xfrm>
            <a:off x="0" y="0"/>
            <a:ext cx="9147240" cy="1928880"/>
            <a:chOff x="0" y="0"/>
            <a:chExt cx="9147240" cy="1928880"/>
          </a:xfrm>
        </p:grpSpPr>
        <p:sp>
          <p:nvSpPr>
            <p:cNvPr id="51" name="Прямоугольник 6"/>
            <p:cNvSpPr/>
            <p:nvPr/>
          </p:nvSpPr>
          <p:spPr>
            <a:xfrm>
              <a:off x="0" y="0"/>
              <a:ext cx="9144360" cy="911160"/>
            </a:xfrm>
            <a:prstGeom prst="rect">
              <a:avLst/>
            </a:prstGeom>
            <a:solidFill>
              <a:srgbClr val="4413f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Прямоугольник 7"/>
            <p:cNvSpPr/>
            <p:nvPr/>
          </p:nvSpPr>
          <p:spPr>
            <a:xfrm>
              <a:off x="0" y="1073160"/>
              <a:ext cx="9144360" cy="147600"/>
            </a:xfrm>
            <a:prstGeom prst="rect">
              <a:avLst/>
            </a:prstGeom>
            <a:solidFill>
              <a:srgbClr val="4413f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Прямоугольник 8"/>
            <p:cNvSpPr/>
            <p:nvPr/>
          </p:nvSpPr>
          <p:spPr>
            <a:xfrm>
              <a:off x="0" y="1236600"/>
              <a:ext cx="9144360" cy="14580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Прямоугольник 9"/>
            <p:cNvSpPr/>
            <p:nvPr/>
          </p:nvSpPr>
          <p:spPr>
            <a:xfrm>
              <a:off x="0" y="1398600"/>
              <a:ext cx="9144360" cy="10296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Прямоугольник 10"/>
            <p:cNvSpPr/>
            <p:nvPr/>
          </p:nvSpPr>
          <p:spPr>
            <a:xfrm>
              <a:off x="2880" y="1560600"/>
              <a:ext cx="9144360" cy="1029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Прямоугольник 11"/>
            <p:cNvSpPr/>
            <p:nvPr/>
          </p:nvSpPr>
          <p:spPr>
            <a:xfrm>
              <a:off x="0" y="1722600"/>
              <a:ext cx="9144360" cy="102960"/>
            </a:xfrm>
            <a:prstGeom prst="rect">
              <a:avLst/>
            </a:prstGeom>
            <a:solidFill>
              <a:srgbClr val="f79646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Прямоугольник 12"/>
            <p:cNvSpPr/>
            <p:nvPr/>
          </p:nvSpPr>
          <p:spPr>
            <a:xfrm>
              <a:off x="2880" y="1825920"/>
              <a:ext cx="9144360" cy="1029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Прямоугольник 13"/>
          <p:cNvSpPr/>
          <p:nvPr/>
        </p:nvSpPr>
        <p:spPr>
          <a:xfrm>
            <a:off x="500040" y="0"/>
            <a:ext cx="7643880" cy="857160"/>
          </a:xfrm>
          <a:prstGeom prst="rect">
            <a:avLst/>
          </a:prstGeom>
          <a:solidFill>
            <a:srgbClr val="4413f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ОУ «Цаган – Морин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539640" y="1700280"/>
            <a:ext cx="8353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Применение ЭОР на уроках позволяет повысить его эффективность, сделать занятия более наглядными и интересными. При помощи ЭОР стало возможным обогатить урок качественным иллюстративным материалом, показать те процессы и явления, которые отдалены от нас во времени и пространстве, моделировать</a:t>
            </a:r>
            <a:r>
              <a:rPr b="0" lang="ru-RU" sz="1800" spc="-1" strike="noStrike">
                <a:solidFill>
                  <a:srgbClr val="000000"/>
                </a:solidFill>
                <a:latin typeface="Open Sans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химические процессы и явления, которые практически невозможно показать в школьной лаборатории, но они могут быть показаны с помощью компью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Программы-тренажеры выполняют функции дидактических материалов и могут отслеживать ход решения и сообщать об ошиб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Системы виртуального эксперимента позволяют ученику проводить такие эксперименты, которые в реальности были бы невозможны по соображениям безопасности и по временным характеристи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2" descr=""/>
          <p:cNvPicPr/>
          <p:nvPr/>
        </p:nvPicPr>
        <p:blipFill>
          <a:blip r:embed="rId1"/>
          <a:stretch/>
        </p:blipFill>
        <p:spPr>
          <a:xfrm>
            <a:off x="25560" y="189000"/>
            <a:ext cx="9144000" cy="87480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3"/>
          <p:cNvSpPr/>
          <p:nvPr/>
        </p:nvSpPr>
        <p:spPr>
          <a:xfrm>
            <a:off x="2208960" y="257040"/>
            <a:ext cx="45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иды и обучающие возможности Э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826920" y="692280"/>
            <a:ext cx="7777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, serif"/>
              </a:rPr>
              <a:t>Виды и обучающие возможности Э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Программные системы контроля знаний, к которым относятся опросники и тесты это быстрая удобная, беспристрастная и автоматизированная обработка полученных результа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Обучающие и развивающие игры содержат разнообразные задания, в процессе которых дети развивают пространственное воображение, память и тонкие двигательные навы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Электронные энциклопедии поддерживают удобную систему поиска по ключевым словам и понятиям; систему навигации на основе гиперссылок; возможность включать в себя аудио- и видеофрагмен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Применение презентаций расширяет диапазон условий для креативной деятельности обучающихся и психологического роста личности, развивая самостоятельность и повышая самооценку. Презентации активно используются и для представления ученических про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В ряду электронных средств учебного назначения особое значение имеют учебно-методические комплексы (УМК, мультимедиа курс). Основой УМК (мультимедиа курса) является его интерактивная часть, которая может быть реализована только на компьюте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2"/>
          <p:cNvSpPr/>
          <p:nvPr/>
        </p:nvSpPr>
        <p:spPr>
          <a:xfrm>
            <a:off x="395280" y="260280"/>
            <a:ext cx="8569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Преимущества ЭОР по сравнению с другими средствами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Использование ЭОР позволяет организовать интересную внеурочную деятельность и внеклассную работу, обеспечить подготовку к ЕГЭ и ОГЭ, быстро и объективно проверить знания обучающихся. Для большинства учителей ЭОР являются самым надежным, быстрым, удобным комплексом для нахождения материала. С помощью ЭОР учитель может вносить разнообразие в учебный процесс, что способствует активному восприятию матери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Использование компьютерных моделей позволяет раскрыть существенные связи изучаемого объекта, выявить его закономерности, что ведёт к лучшему усвоению материала. Ученик может исследовать явление, изменяя его параметры, сравнивать полученные результаты, анализировать их, делать вы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Таким образом, электронные образовательные ресурсы и формируемая на их базе </a:t>
            </a:r>
            <a:r>
              <a:rPr b="0" lang="ru-RU" sz="1800" spc="-1" strike="noStrike">
                <a:solidFill>
                  <a:srgbClr val="c00000"/>
                </a:solidFill>
                <a:latin typeface="Times New Roman, serif"/>
              </a:rPr>
              <a:t>новая информационно-образовательная сред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имеют немалый потенциал </a:t>
            </a:r>
            <a:r>
              <a:rPr b="0" lang="ru-RU" sz="1800" spc="-1" strike="noStrike">
                <a:solidFill>
                  <a:srgbClr val="c00000"/>
                </a:solidFill>
                <a:latin typeface="Times New Roman, serif"/>
              </a:rPr>
              <a:t>для повышения качества обуч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. Однако он будет реализован в полной мере только в том случае, если обучение будет строиться с ориентацией на инновационную модель, важнейшими характеристиками которой являются </a:t>
            </a:r>
            <a:r>
              <a:rPr b="0" lang="ru-RU" sz="1800" spc="-1" strike="noStrike">
                <a:solidFill>
                  <a:srgbClr val="376092"/>
                </a:solidFill>
                <a:latin typeface="Times New Roman, serif"/>
              </a:rPr>
              <a:t>системно-деятельностый подход, личностно ориентированная направленность, установка на развитие творческих способностей детей с учетом здоровьесберегающих технолог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Выгнутая вправо стрелка 17"/>
          <p:cNvSpPr/>
          <p:nvPr/>
        </p:nvSpPr>
        <p:spPr>
          <a:xfrm>
            <a:off x="7454880" y="3146400"/>
            <a:ext cx="1293840" cy="1711440"/>
          </a:xfrm>
          <a:custGeom>
            <a:avLst/>
            <a:gdLst>
              <a:gd name="textAreaLeft" fmla="*/ 173160 w 1293840"/>
              <a:gd name="textAreaRight" fmla="*/ 1120680 w 1293840"/>
              <a:gd name="textAreaTop" fmla="*/ 306360 h 1711440"/>
              <a:gd name="textAreaBottom" fmla="*/ 1243080 h 171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38" stAng="-5400000" swAng="5400000"/>
                <a:lnTo>
                  <a:pt x="21600" y="11821"/>
                </a:lnTo>
                <a:arcTo wR="21600" hR="7738" stAng="0" swAng="3253089"/>
                <a:lnTo>
                  <a:pt x="5400" y="21354"/>
                </a:lnTo>
                <a:lnTo>
                  <a:pt x="0" y="17518"/>
                </a:lnTo>
                <a:lnTo>
                  <a:pt x="5400" y="13189"/>
                </a:lnTo>
                <a:lnTo>
                  <a:pt x="5400" y="15230"/>
                </a:lnTo>
                <a:arcTo wR="21600" hR="7738" stAng="3253089" swAng="-2917311"/>
                <a:lnTo>
                  <a:pt x="20835" y="9780"/>
                </a:lnTo>
                <a:arcTo wR="21600" hR="7738" stAng="-335778" swAng="-5064222"/>
                <a:close/>
              </a:path>
              <a:path fill="darkenLess" w="21600" h="21600">
                <a:moveTo>
                  <a:pt x="0" y="0"/>
                </a:moveTo>
                <a:arcTo wR="21600" hR="7738" stAng="-5400000" swAng="5400000"/>
                <a:lnTo>
                  <a:pt x="21600" y="11821"/>
                </a:lnTo>
                <a:arcTo wR="21600" hR="7738" stAng="0" swAng="-335778"/>
                <a:lnTo>
                  <a:pt x="20835" y="9780"/>
                </a:lnTo>
                <a:arcTo wR="21600" hR="7738" stAng="-335778" swAng="-5064222"/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Прямоугольник 11" descr=""/>
          <p:cNvPicPr/>
          <p:nvPr/>
        </p:nvPicPr>
        <p:blipFill>
          <a:blip r:embed="rId1"/>
          <a:stretch/>
        </p:blipFill>
        <p:spPr>
          <a:xfrm>
            <a:off x="-158760" y="811080"/>
            <a:ext cx="3230640" cy="74952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12"/>
          <p:cNvSpPr/>
          <p:nvPr/>
        </p:nvSpPr>
        <p:spPr>
          <a:xfrm>
            <a:off x="841320" y="49320"/>
            <a:ext cx="8305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Calibri"/>
              </a:rPr>
              <a:t>Применение электронных образовательных ресурсов на занятиях теоретического обуч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Выгнутая влево стрелка 14"/>
          <p:cNvSpPr/>
          <p:nvPr/>
        </p:nvSpPr>
        <p:spPr>
          <a:xfrm>
            <a:off x="324000" y="3230640"/>
            <a:ext cx="1406520" cy="1566720"/>
          </a:xfrm>
          <a:custGeom>
            <a:avLst/>
            <a:gdLst>
              <a:gd name="textAreaLeft" fmla="*/ 188280 w 1406520"/>
              <a:gd name="textAreaRight" fmla="*/ 1218240 w 1406520"/>
              <a:gd name="textAreaTop" fmla="*/ 259560 h 1566720"/>
              <a:gd name="textAreaBottom" fmla="*/ 1131120 h 156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165" stAng="-5400000" swAng="-5400000"/>
                <a:lnTo>
                  <a:pt x="0" y="12012"/>
                </a:lnTo>
                <a:arcTo wR="21600" hR="7165" stAng="10800000" swAng="-3126094"/>
                <a:lnTo>
                  <a:pt x="16200" y="21372"/>
                </a:lnTo>
                <a:lnTo>
                  <a:pt x="21600" y="16753"/>
                </a:lnTo>
                <a:lnTo>
                  <a:pt x="16200" y="11677"/>
                </a:lnTo>
                <a:lnTo>
                  <a:pt x="16200" y="14101"/>
                </a:lnTo>
                <a:arcTo wR="21600" hR="7165" stAng="7673906" swAng="2718146"/>
                <a:lnTo>
                  <a:pt x="1273" y="9588"/>
                </a:lnTo>
                <a:arcTo wR="21600" hR="7165" stAng="-10392052" swAng="4992052"/>
                <a:close/>
              </a:path>
              <a:path fill="darkenLess" w="21600" h="21600">
                <a:moveTo>
                  <a:pt x="21600" y="0"/>
                </a:moveTo>
                <a:arcTo wR="21600" hR="7165" stAng="-5400000" swAng="-5400000"/>
                <a:lnTo>
                  <a:pt x="0" y="7165"/>
                </a:lnTo>
                <a:arcTo wR="21600" hR="7165" stAng="10800000" swAng="-407948"/>
                <a:lnTo>
                  <a:pt x="1273" y="9588"/>
                </a:lnTo>
                <a:arcTo wR="21600" hR="7165" stAng="-10392052" swAng="4992052"/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5"/>
          <p:cNvSpPr/>
          <p:nvPr/>
        </p:nvSpPr>
        <p:spPr>
          <a:xfrm>
            <a:off x="6062760" y="2744640"/>
            <a:ext cx="2181240" cy="1150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едагогический поиск эффективных средств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8"/>
          <p:cNvSpPr/>
          <p:nvPr/>
        </p:nvSpPr>
        <p:spPr>
          <a:xfrm>
            <a:off x="755640" y="2744640"/>
            <a:ext cx="2232000" cy="1150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ебования ФГ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0"/>
          <p:cNvSpPr/>
          <p:nvPr/>
        </p:nvSpPr>
        <p:spPr>
          <a:xfrm>
            <a:off x="3132000" y="2004840"/>
            <a:ext cx="2808360" cy="1152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лобальная информатизация об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Штриховая стрелка вправо 22"/>
          <p:cNvSpPr/>
          <p:nvPr/>
        </p:nvSpPr>
        <p:spPr>
          <a:xfrm rot="5400000">
            <a:off x="4143600" y="3358080"/>
            <a:ext cx="711360" cy="57636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24"/>
          <p:cNvSpPr/>
          <p:nvPr/>
        </p:nvSpPr>
        <p:spPr>
          <a:xfrm>
            <a:off x="2286000" y="4221000"/>
            <a:ext cx="4705200" cy="11527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ИМЕНЕНИЕ Э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Группа 25"/>
          <p:cNvGrpSpPr/>
          <p:nvPr/>
        </p:nvGrpSpPr>
        <p:grpSpPr>
          <a:xfrm>
            <a:off x="0" y="0"/>
            <a:ext cx="9147240" cy="855720"/>
            <a:chOff x="0" y="0"/>
            <a:chExt cx="9147240" cy="855720"/>
          </a:xfrm>
        </p:grpSpPr>
        <p:sp>
          <p:nvSpPr>
            <p:cNvPr id="121" name="Прямоугольник 26"/>
            <p:cNvSpPr/>
            <p:nvPr/>
          </p:nvSpPr>
          <p:spPr>
            <a:xfrm>
              <a:off x="0" y="0"/>
              <a:ext cx="9144360" cy="405000"/>
            </a:xfrm>
            <a:prstGeom prst="rect">
              <a:avLst/>
            </a:prstGeom>
            <a:solidFill>
              <a:srgbClr val="4413f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Прямоугольник 27"/>
            <p:cNvSpPr/>
            <p:nvPr/>
          </p:nvSpPr>
          <p:spPr>
            <a:xfrm>
              <a:off x="0" y="476280"/>
              <a:ext cx="9144360" cy="64800"/>
            </a:xfrm>
            <a:prstGeom prst="rect">
              <a:avLst/>
            </a:prstGeom>
            <a:solidFill>
              <a:srgbClr val="4413f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Прямоугольник 28"/>
            <p:cNvSpPr/>
            <p:nvPr/>
          </p:nvSpPr>
          <p:spPr>
            <a:xfrm>
              <a:off x="0" y="547920"/>
              <a:ext cx="9144360" cy="6480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Прямоугольник 29"/>
            <p:cNvSpPr/>
            <p:nvPr/>
          </p:nvSpPr>
          <p:spPr>
            <a:xfrm>
              <a:off x="0" y="621000"/>
              <a:ext cx="9144360" cy="4572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Прямоугольник 30"/>
            <p:cNvSpPr/>
            <p:nvPr/>
          </p:nvSpPr>
          <p:spPr>
            <a:xfrm>
              <a:off x="2880" y="692280"/>
              <a:ext cx="9144360" cy="457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Прямоугольник 31"/>
            <p:cNvSpPr/>
            <p:nvPr/>
          </p:nvSpPr>
          <p:spPr>
            <a:xfrm>
              <a:off x="0" y="763920"/>
              <a:ext cx="9144360" cy="45720"/>
            </a:xfrm>
            <a:prstGeom prst="rect">
              <a:avLst/>
            </a:prstGeom>
            <a:solidFill>
              <a:srgbClr val="f79646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Прямоугольник 32"/>
            <p:cNvSpPr/>
            <p:nvPr/>
          </p:nvSpPr>
          <p:spPr>
            <a:xfrm>
              <a:off x="2880" y="810000"/>
              <a:ext cx="9144360" cy="4572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Прямоугольник 34"/>
            <p:cNvSpPr/>
            <p:nvPr/>
          </p:nvSpPr>
          <p:spPr>
            <a:xfrm>
              <a:off x="841320" y="47520"/>
              <a:ext cx="8305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ffffff"/>
                  </a:solidFill>
                  <a:latin typeface="Calibri"/>
                </a:rPr>
                <a:t>Применение электронных образовательных ресурсов в учебном процесс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Группа 21"/>
          <p:cNvGrpSpPr/>
          <p:nvPr/>
        </p:nvGrpSpPr>
        <p:grpSpPr>
          <a:xfrm>
            <a:off x="0" y="0"/>
            <a:ext cx="9147240" cy="855720"/>
            <a:chOff x="0" y="0"/>
            <a:chExt cx="9147240" cy="855720"/>
          </a:xfrm>
        </p:grpSpPr>
        <p:sp>
          <p:nvSpPr>
            <p:cNvPr id="130" name="Прямоугольник 22"/>
            <p:cNvSpPr/>
            <p:nvPr/>
          </p:nvSpPr>
          <p:spPr>
            <a:xfrm>
              <a:off x="0" y="0"/>
              <a:ext cx="9144360" cy="405000"/>
            </a:xfrm>
            <a:prstGeom prst="rect">
              <a:avLst/>
            </a:prstGeom>
            <a:solidFill>
              <a:srgbClr val="4413f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Прямоугольник 23"/>
            <p:cNvSpPr/>
            <p:nvPr/>
          </p:nvSpPr>
          <p:spPr>
            <a:xfrm>
              <a:off x="0" y="476280"/>
              <a:ext cx="9144360" cy="64800"/>
            </a:xfrm>
            <a:prstGeom prst="rect">
              <a:avLst/>
            </a:prstGeom>
            <a:solidFill>
              <a:srgbClr val="4413f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Прямоугольник 24"/>
            <p:cNvSpPr/>
            <p:nvPr/>
          </p:nvSpPr>
          <p:spPr>
            <a:xfrm>
              <a:off x="0" y="547920"/>
              <a:ext cx="9144360" cy="6480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Прямоугольник 25"/>
            <p:cNvSpPr/>
            <p:nvPr/>
          </p:nvSpPr>
          <p:spPr>
            <a:xfrm>
              <a:off x="0" y="621000"/>
              <a:ext cx="9144360" cy="4572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Прямоугольник 26"/>
            <p:cNvSpPr/>
            <p:nvPr/>
          </p:nvSpPr>
          <p:spPr>
            <a:xfrm>
              <a:off x="2880" y="692280"/>
              <a:ext cx="9144360" cy="457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Прямоугольник 27"/>
            <p:cNvSpPr/>
            <p:nvPr/>
          </p:nvSpPr>
          <p:spPr>
            <a:xfrm>
              <a:off x="0" y="763920"/>
              <a:ext cx="9144360" cy="45720"/>
            </a:xfrm>
            <a:prstGeom prst="rect">
              <a:avLst/>
            </a:prstGeom>
            <a:solidFill>
              <a:srgbClr val="f79646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Прямоугольник 28"/>
            <p:cNvSpPr/>
            <p:nvPr/>
          </p:nvSpPr>
          <p:spPr>
            <a:xfrm>
              <a:off x="2880" y="810000"/>
              <a:ext cx="9144360" cy="4572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Скругленный прямоугольник 31"/>
          <p:cNvSpPr/>
          <p:nvPr/>
        </p:nvSpPr>
        <p:spPr>
          <a:xfrm>
            <a:off x="2692440" y="2198520"/>
            <a:ext cx="375120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трелка вниз 32"/>
          <p:cNvSpPr/>
          <p:nvPr/>
        </p:nvSpPr>
        <p:spPr>
          <a:xfrm rot="2343000">
            <a:off x="2426760" y="3102120"/>
            <a:ext cx="405000" cy="865080"/>
          </a:xfrm>
          <a:prstGeom prst="downArrow">
            <a:avLst>
              <a:gd name="adj1" fmla="val 50000"/>
              <a:gd name="adj2" fmla="val 49969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386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трелка вниз 33"/>
          <p:cNvSpPr/>
          <p:nvPr/>
        </p:nvSpPr>
        <p:spPr>
          <a:xfrm>
            <a:off x="4237200" y="3222720"/>
            <a:ext cx="404640" cy="863640"/>
          </a:xfrm>
          <a:prstGeom prst="downArrow">
            <a:avLst>
              <a:gd name="adj1" fmla="val 50000"/>
              <a:gd name="adj2" fmla="val 50019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трелка вниз 34"/>
          <p:cNvSpPr/>
          <p:nvPr/>
        </p:nvSpPr>
        <p:spPr>
          <a:xfrm rot="20149200">
            <a:off x="6178320" y="3177720"/>
            <a:ext cx="406440" cy="863640"/>
          </a:xfrm>
          <a:prstGeom prst="downArrow">
            <a:avLst>
              <a:gd name="adj1" fmla="val 50000"/>
              <a:gd name="adj2" fmla="val 49994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7652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35"/>
          <p:cNvSpPr/>
          <p:nvPr/>
        </p:nvSpPr>
        <p:spPr>
          <a:xfrm>
            <a:off x="179280" y="3997440"/>
            <a:ext cx="2305080" cy="73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чебное зан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36"/>
          <p:cNvSpPr/>
          <p:nvPr/>
        </p:nvSpPr>
        <p:spPr>
          <a:xfrm>
            <a:off x="2629080" y="4165560"/>
            <a:ext cx="3619440" cy="135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ектн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37"/>
          <p:cNvSpPr/>
          <p:nvPr/>
        </p:nvSpPr>
        <p:spPr>
          <a:xfrm>
            <a:off x="6381720" y="4086360"/>
            <a:ext cx="2511360" cy="7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неучебн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Прямоугольник 38" descr=""/>
          <p:cNvPicPr/>
          <p:nvPr/>
        </p:nvPicPr>
        <p:blipFill>
          <a:blip r:embed="rId1"/>
          <a:stretch/>
        </p:blipFill>
        <p:spPr>
          <a:xfrm>
            <a:off x="-158760" y="811080"/>
            <a:ext cx="5705640" cy="74952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19"/>
          <p:cNvSpPr/>
          <p:nvPr/>
        </p:nvSpPr>
        <p:spPr>
          <a:xfrm>
            <a:off x="841320" y="49320"/>
            <a:ext cx="8305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Calibri"/>
              </a:rPr>
              <a:t>Применение электронных образовательных ресурсов в учебном процесс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Группа 21"/>
          <p:cNvGrpSpPr/>
          <p:nvPr/>
        </p:nvGrpSpPr>
        <p:grpSpPr>
          <a:xfrm>
            <a:off x="0" y="0"/>
            <a:ext cx="9147240" cy="855720"/>
            <a:chOff x="0" y="0"/>
            <a:chExt cx="9147240" cy="855720"/>
          </a:xfrm>
        </p:grpSpPr>
        <p:sp>
          <p:nvSpPr>
            <p:cNvPr id="147" name="Прямоугольник 22"/>
            <p:cNvSpPr/>
            <p:nvPr/>
          </p:nvSpPr>
          <p:spPr>
            <a:xfrm>
              <a:off x="0" y="0"/>
              <a:ext cx="9144360" cy="405000"/>
            </a:xfrm>
            <a:prstGeom prst="rect">
              <a:avLst/>
            </a:prstGeom>
            <a:solidFill>
              <a:srgbClr val="4413f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Прямоугольник 23"/>
            <p:cNvSpPr/>
            <p:nvPr/>
          </p:nvSpPr>
          <p:spPr>
            <a:xfrm>
              <a:off x="0" y="476280"/>
              <a:ext cx="9144360" cy="64800"/>
            </a:xfrm>
            <a:prstGeom prst="rect">
              <a:avLst/>
            </a:prstGeom>
            <a:solidFill>
              <a:srgbClr val="4413f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Прямоугольник 24"/>
            <p:cNvSpPr/>
            <p:nvPr/>
          </p:nvSpPr>
          <p:spPr>
            <a:xfrm>
              <a:off x="0" y="547920"/>
              <a:ext cx="9144360" cy="6480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Прямоугольник 25"/>
            <p:cNvSpPr/>
            <p:nvPr/>
          </p:nvSpPr>
          <p:spPr>
            <a:xfrm>
              <a:off x="0" y="621000"/>
              <a:ext cx="9144360" cy="4572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Прямоугольник 26"/>
            <p:cNvSpPr/>
            <p:nvPr/>
          </p:nvSpPr>
          <p:spPr>
            <a:xfrm>
              <a:off x="2880" y="692280"/>
              <a:ext cx="9144360" cy="457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Прямоугольник 27"/>
            <p:cNvSpPr/>
            <p:nvPr/>
          </p:nvSpPr>
          <p:spPr>
            <a:xfrm>
              <a:off x="0" y="763920"/>
              <a:ext cx="9144360" cy="45720"/>
            </a:xfrm>
            <a:prstGeom prst="rect">
              <a:avLst/>
            </a:prstGeom>
            <a:solidFill>
              <a:srgbClr val="f79646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Прямоугольник 28"/>
            <p:cNvSpPr/>
            <p:nvPr/>
          </p:nvSpPr>
          <p:spPr>
            <a:xfrm>
              <a:off x="2880" y="810000"/>
              <a:ext cx="9144360" cy="4572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Прямоугольник 30"/>
            <p:cNvSpPr/>
            <p:nvPr/>
          </p:nvSpPr>
          <p:spPr>
            <a:xfrm>
              <a:off x="841320" y="47520"/>
              <a:ext cx="8305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ffffff"/>
                  </a:solidFill>
                  <a:latin typeface="Calibri"/>
                </a:rPr>
                <a:t>Применение электронных образовательных ресурсов в  учебном процесс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Прямоугольник 1"/>
          <p:cNvSpPr/>
          <p:nvPr/>
        </p:nvSpPr>
        <p:spPr>
          <a:xfrm>
            <a:off x="324000" y="99684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проектирования учебного занятия с применением ЭОР преподавателю важн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"/>
          <p:cNvSpPr/>
          <p:nvPr/>
        </p:nvSpPr>
        <p:spPr>
          <a:xfrm>
            <a:off x="1908000" y="2690640"/>
            <a:ext cx="6840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учиться осуществлять поиск и отбор ЭОР в соответствии с имеющимися условиям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пределять целесообразность использования ЭОР на различных этапах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C:\Documents and Settings\Admin\Рабочий стол\luckyoliver-3362817-blog-3d_silver_exclamation_mark1 (1).jpg"/>
          <p:cNvPicPr/>
          <p:nvPr/>
        </p:nvPicPr>
        <p:blipFill>
          <a:blip r:embed="rId1"/>
          <a:stretch/>
        </p:blipFill>
        <p:spPr>
          <a:xfrm>
            <a:off x="237960" y="32004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Группа 3"/>
          <p:cNvGrpSpPr/>
          <p:nvPr/>
        </p:nvGrpSpPr>
        <p:grpSpPr>
          <a:xfrm>
            <a:off x="0" y="0"/>
            <a:ext cx="9147240" cy="855720"/>
            <a:chOff x="0" y="0"/>
            <a:chExt cx="9147240" cy="855720"/>
          </a:xfrm>
        </p:grpSpPr>
        <p:sp>
          <p:nvSpPr>
            <p:cNvPr id="159" name="Прямоугольник 4"/>
            <p:cNvSpPr/>
            <p:nvPr/>
          </p:nvSpPr>
          <p:spPr>
            <a:xfrm>
              <a:off x="0" y="0"/>
              <a:ext cx="9144360" cy="405000"/>
            </a:xfrm>
            <a:prstGeom prst="rect">
              <a:avLst/>
            </a:prstGeom>
            <a:solidFill>
              <a:srgbClr val="4413f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Прямоугольник 5"/>
            <p:cNvSpPr/>
            <p:nvPr/>
          </p:nvSpPr>
          <p:spPr>
            <a:xfrm>
              <a:off x="0" y="476280"/>
              <a:ext cx="9144360" cy="64800"/>
            </a:xfrm>
            <a:prstGeom prst="rect">
              <a:avLst/>
            </a:prstGeom>
            <a:solidFill>
              <a:srgbClr val="4413f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Прямоугольник 6"/>
            <p:cNvSpPr/>
            <p:nvPr/>
          </p:nvSpPr>
          <p:spPr>
            <a:xfrm>
              <a:off x="0" y="547920"/>
              <a:ext cx="9144360" cy="6480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Прямоугольник 7"/>
            <p:cNvSpPr/>
            <p:nvPr/>
          </p:nvSpPr>
          <p:spPr>
            <a:xfrm>
              <a:off x="0" y="621000"/>
              <a:ext cx="9144360" cy="4572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Прямоугольник 8"/>
            <p:cNvSpPr/>
            <p:nvPr/>
          </p:nvSpPr>
          <p:spPr>
            <a:xfrm>
              <a:off x="2880" y="692280"/>
              <a:ext cx="9144360" cy="457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Прямоугольник 9"/>
            <p:cNvSpPr/>
            <p:nvPr/>
          </p:nvSpPr>
          <p:spPr>
            <a:xfrm>
              <a:off x="0" y="763920"/>
              <a:ext cx="9144360" cy="45720"/>
            </a:xfrm>
            <a:prstGeom prst="rect">
              <a:avLst/>
            </a:prstGeom>
            <a:solidFill>
              <a:srgbClr val="f79646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Прямоугольник 10"/>
            <p:cNvSpPr/>
            <p:nvPr/>
          </p:nvSpPr>
          <p:spPr>
            <a:xfrm>
              <a:off x="2880" y="810000"/>
              <a:ext cx="9144360" cy="4572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Прямоугольник 11"/>
          <p:cNvSpPr/>
          <p:nvPr/>
        </p:nvSpPr>
        <p:spPr>
          <a:xfrm>
            <a:off x="841320" y="49320"/>
            <a:ext cx="8305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Calibri"/>
              </a:rPr>
              <a:t>Применение электронных образовательных ресурсов в учебном процесс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3"/>
          <p:cNvSpPr/>
          <p:nvPr/>
        </p:nvSpPr>
        <p:spPr>
          <a:xfrm>
            <a:off x="244080" y="714240"/>
            <a:ext cx="854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тодические приемы по использованию Э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4"/>
          <p:cNvSpPr/>
          <p:nvPr/>
        </p:nvSpPr>
        <p:spPr>
          <a:xfrm>
            <a:off x="0" y="121428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Изучение новой те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иск информации в Интерне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ализ текста и составление схемы или таблиц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иск ответов на вопросы, поставленные учител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смотр и обсуждение видеофрагмента (презентаци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Использование электронной поч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остоятельное выполнение практического задания, контрольной работы, теста с последующей отправкой на электронный адрес уч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Использование в работе дистанционного курса в РСД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полнение заданий с оперативной обратной связью (автоматическая проверка, проверка учителем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1"/>
          <p:cNvSpPr/>
          <p:nvPr/>
        </p:nvSpPr>
        <p:spPr>
          <a:xfrm>
            <a:off x="142920" y="1000080"/>
            <a:ext cx="87152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.Контроль знани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ование тестов с самопровер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тевые виктор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.Работа над проект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ртуальные библиоте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ртуальные музе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личные информационные образовательные серве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йты средств массовой информаци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нциклопедии и справочн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Группа 2"/>
          <p:cNvGrpSpPr/>
          <p:nvPr/>
        </p:nvGrpSpPr>
        <p:grpSpPr>
          <a:xfrm>
            <a:off x="0" y="0"/>
            <a:ext cx="9147240" cy="855720"/>
            <a:chOff x="0" y="0"/>
            <a:chExt cx="9147240" cy="855720"/>
          </a:xfrm>
        </p:grpSpPr>
        <p:sp>
          <p:nvSpPr>
            <p:cNvPr id="171" name="Прямоугольник 3"/>
            <p:cNvSpPr/>
            <p:nvPr/>
          </p:nvSpPr>
          <p:spPr>
            <a:xfrm>
              <a:off x="0" y="0"/>
              <a:ext cx="9144360" cy="405000"/>
            </a:xfrm>
            <a:prstGeom prst="rect">
              <a:avLst/>
            </a:prstGeom>
            <a:solidFill>
              <a:srgbClr val="4413f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Прямоугольник 4"/>
            <p:cNvSpPr/>
            <p:nvPr/>
          </p:nvSpPr>
          <p:spPr>
            <a:xfrm>
              <a:off x="0" y="476280"/>
              <a:ext cx="9144360" cy="64800"/>
            </a:xfrm>
            <a:prstGeom prst="rect">
              <a:avLst/>
            </a:prstGeom>
            <a:solidFill>
              <a:srgbClr val="4413f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Прямоугольник 5"/>
            <p:cNvSpPr/>
            <p:nvPr/>
          </p:nvSpPr>
          <p:spPr>
            <a:xfrm>
              <a:off x="0" y="547920"/>
              <a:ext cx="9144360" cy="6480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Прямоугольник 6"/>
            <p:cNvSpPr/>
            <p:nvPr/>
          </p:nvSpPr>
          <p:spPr>
            <a:xfrm>
              <a:off x="0" y="621000"/>
              <a:ext cx="9144360" cy="4572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Прямоугольник 7"/>
            <p:cNvSpPr/>
            <p:nvPr/>
          </p:nvSpPr>
          <p:spPr>
            <a:xfrm>
              <a:off x="2880" y="692280"/>
              <a:ext cx="9144360" cy="457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Прямоугольник 8"/>
            <p:cNvSpPr/>
            <p:nvPr/>
          </p:nvSpPr>
          <p:spPr>
            <a:xfrm>
              <a:off x="0" y="763920"/>
              <a:ext cx="9144360" cy="45720"/>
            </a:xfrm>
            <a:prstGeom prst="rect">
              <a:avLst/>
            </a:prstGeom>
            <a:solidFill>
              <a:srgbClr val="f79646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Прямоугольник 9"/>
            <p:cNvSpPr/>
            <p:nvPr/>
          </p:nvSpPr>
          <p:spPr>
            <a:xfrm>
              <a:off x="2880" y="810000"/>
              <a:ext cx="9144360" cy="4572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Прямоугольник 10"/>
          <p:cNvSpPr/>
          <p:nvPr/>
        </p:nvSpPr>
        <p:spPr>
          <a:xfrm>
            <a:off x="841320" y="49320"/>
            <a:ext cx="8305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Calibri"/>
              </a:rPr>
              <a:t>Применение электронных образовательных ресурсов в учебном процесс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Группа 2"/>
          <p:cNvGrpSpPr/>
          <p:nvPr/>
        </p:nvGrpSpPr>
        <p:grpSpPr>
          <a:xfrm>
            <a:off x="0" y="0"/>
            <a:ext cx="9147240" cy="855720"/>
            <a:chOff x="0" y="0"/>
            <a:chExt cx="9147240" cy="855720"/>
          </a:xfrm>
        </p:grpSpPr>
        <p:sp>
          <p:nvSpPr>
            <p:cNvPr id="180" name="Прямоугольник 6"/>
            <p:cNvSpPr/>
            <p:nvPr/>
          </p:nvSpPr>
          <p:spPr>
            <a:xfrm>
              <a:off x="0" y="0"/>
              <a:ext cx="9144360" cy="405000"/>
            </a:xfrm>
            <a:prstGeom prst="rect">
              <a:avLst/>
            </a:prstGeom>
            <a:solidFill>
              <a:srgbClr val="4413f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Прямоугольник 7"/>
            <p:cNvSpPr/>
            <p:nvPr/>
          </p:nvSpPr>
          <p:spPr>
            <a:xfrm>
              <a:off x="0" y="476280"/>
              <a:ext cx="9144360" cy="64800"/>
            </a:xfrm>
            <a:prstGeom prst="rect">
              <a:avLst/>
            </a:prstGeom>
            <a:solidFill>
              <a:srgbClr val="4413f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Прямоугольник 8"/>
            <p:cNvSpPr/>
            <p:nvPr/>
          </p:nvSpPr>
          <p:spPr>
            <a:xfrm>
              <a:off x="0" y="547920"/>
              <a:ext cx="9144360" cy="6480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Прямоугольник 9"/>
            <p:cNvSpPr/>
            <p:nvPr/>
          </p:nvSpPr>
          <p:spPr>
            <a:xfrm>
              <a:off x="0" y="621000"/>
              <a:ext cx="9144360" cy="4572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Прямоугольник 10"/>
            <p:cNvSpPr/>
            <p:nvPr/>
          </p:nvSpPr>
          <p:spPr>
            <a:xfrm>
              <a:off x="2880" y="692280"/>
              <a:ext cx="9144360" cy="457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Прямоугольник 11"/>
            <p:cNvSpPr/>
            <p:nvPr/>
          </p:nvSpPr>
          <p:spPr>
            <a:xfrm>
              <a:off x="0" y="763920"/>
              <a:ext cx="9144360" cy="45720"/>
            </a:xfrm>
            <a:prstGeom prst="rect">
              <a:avLst/>
            </a:prstGeom>
            <a:solidFill>
              <a:srgbClr val="f79646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Прямоугольник 12"/>
            <p:cNvSpPr/>
            <p:nvPr/>
          </p:nvSpPr>
          <p:spPr>
            <a:xfrm>
              <a:off x="2880" y="810000"/>
              <a:ext cx="9144360" cy="4572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Прямоугольник 2"/>
          <p:cNvSpPr/>
          <p:nvPr/>
        </p:nvSpPr>
        <p:spPr>
          <a:xfrm>
            <a:off x="256320" y="1158840"/>
            <a:ext cx="1130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ttp://fipi.ru/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Рисунок 3" descr=""/>
          <p:cNvPicPr/>
          <p:nvPr/>
        </p:nvPicPr>
        <p:blipFill>
          <a:blip r:embed="rId1"/>
          <a:stretch/>
        </p:blipFill>
        <p:spPr>
          <a:xfrm>
            <a:off x="1582560" y="938160"/>
            <a:ext cx="6140520" cy="514368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оугольник 1"/>
          <p:cNvSpPr/>
          <p:nvPr/>
        </p:nvSpPr>
        <p:spPr>
          <a:xfrm>
            <a:off x="1928520" y="5979960"/>
            <a:ext cx="38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сылки на ЭОР на каждом слай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3"/>
          <p:cNvSpPr/>
          <p:nvPr/>
        </p:nvSpPr>
        <p:spPr>
          <a:xfrm>
            <a:off x="1116000" y="1764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сылки на ЭОР лучших образовательных прак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Рисунок 1" descr=""/>
          <p:cNvPicPr/>
          <p:nvPr/>
        </p:nvPicPr>
        <p:blipFill>
          <a:blip r:embed="rId1"/>
          <a:stretch/>
        </p:blipFill>
        <p:spPr>
          <a:xfrm>
            <a:off x="884160" y="857160"/>
            <a:ext cx="7375680" cy="514368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2"/>
          <p:cNvSpPr/>
          <p:nvPr/>
        </p:nvSpPr>
        <p:spPr>
          <a:xfrm>
            <a:off x="3843360" y="919080"/>
            <a:ext cx="4572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ttp://e-learning.oblcit.ru/moodle24/course/category.php?id=4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Рисунок 1" descr=""/>
          <p:cNvPicPr/>
          <p:nvPr/>
        </p:nvPicPr>
        <p:blipFill>
          <a:blip r:embed="rId2"/>
          <a:stretch/>
        </p:blipFill>
        <p:spPr>
          <a:xfrm>
            <a:off x="0" y="-54000"/>
            <a:ext cx="914400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324000" y="836640"/>
            <a:ext cx="8496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ЭОР– это хранилище информации, в котором можно найти почти все ответы на нужные нам вопросы. Данные хранилища насчитывают более 130 000 образовательных и социокультурных ресурсов, большая часть которых ориентирована на решение задач основного общего и среднего (полного) общего образо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В этой связи рекомендуется максимально широкое использование в 5-11 классах электронной базы ресурсов федеральных образовательных порталов, предназначенных для некоммерческого использования в системе образования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ЭОР – это обучающая программная система комплексного назначения, обеспечивающая непрерывность и полноту дидактического цикла процесса обучения: теоретический материал, контроль уровня знаний и умений, информационно-поисковую деятельность, математическое и имитационное моделирование с компьютерной визуализацией, сервисные функции при условии осуществления интерактивной обратной связ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Группа 3"/>
          <p:cNvGrpSpPr/>
          <p:nvPr/>
        </p:nvGrpSpPr>
        <p:grpSpPr>
          <a:xfrm>
            <a:off x="0" y="0"/>
            <a:ext cx="9147240" cy="855720"/>
            <a:chOff x="0" y="0"/>
            <a:chExt cx="9147240" cy="855720"/>
          </a:xfrm>
        </p:grpSpPr>
        <p:sp>
          <p:nvSpPr>
            <p:cNvPr id="61" name="Прямоугольник 4"/>
            <p:cNvSpPr/>
            <p:nvPr/>
          </p:nvSpPr>
          <p:spPr>
            <a:xfrm>
              <a:off x="0" y="0"/>
              <a:ext cx="9144360" cy="405000"/>
            </a:xfrm>
            <a:prstGeom prst="rect">
              <a:avLst/>
            </a:prstGeom>
            <a:solidFill>
              <a:srgbClr val="4413f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Прямоугольник 5"/>
            <p:cNvSpPr/>
            <p:nvPr/>
          </p:nvSpPr>
          <p:spPr>
            <a:xfrm>
              <a:off x="0" y="476280"/>
              <a:ext cx="9144360" cy="64800"/>
            </a:xfrm>
            <a:prstGeom prst="rect">
              <a:avLst/>
            </a:prstGeom>
            <a:solidFill>
              <a:srgbClr val="4413f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Прямоугольник 6"/>
            <p:cNvSpPr/>
            <p:nvPr/>
          </p:nvSpPr>
          <p:spPr>
            <a:xfrm>
              <a:off x="0" y="547920"/>
              <a:ext cx="9144360" cy="6480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Прямоугольник 7"/>
            <p:cNvSpPr/>
            <p:nvPr/>
          </p:nvSpPr>
          <p:spPr>
            <a:xfrm>
              <a:off x="0" y="621000"/>
              <a:ext cx="9144360" cy="4572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Прямоугольник 8"/>
            <p:cNvSpPr/>
            <p:nvPr/>
          </p:nvSpPr>
          <p:spPr>
            <a:xfrm>
              <a:off x="2880" y="692280"/>
              <a:ext cx="9144360" cy="457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Прямоугольник 9"/>
            <p:cNvSpPr/>
            <p:nvPr/>
          </p:nvSpPr>
          <p:spPr>
            <a:xfrm>
              <a:off x="0" y="763920"/>
              <a:ext cx="9144360" cy="45720"/>
            </a:xfrm>
            <a:prstGeom prst="rect">
              <a:avLst/>
            </a:prstGeom>
            <a:solidFill>
              <a:srgbClr val="f79646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Прямоугольник 10"/>
            <p:cNvSpPr/>
            <p:nvPr/>
          </p:nvSpPr>
          <p:spPr>
            <a:xfrm>
              <a:off x="2880" y="810000"/>
              <a:ext cx="9144360" cy="4572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Прямоугольник 12"/>
          <p:cNvSpPr/>
          <p:nvPr/>
        </p:nvSpPr>
        <p:spPr>
          <a:xfrm>
            <a:off x="1116000" y="-23760"/>
            <a:ext cx="7848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Calibri"/>
              </a:rPr>
              <a:t>Применение электронных образовательных ресурсов в учебном процесс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Рисунок 1" descr=""/>
          <p:cNvPicPr/>
          <p:nvPr/>
        </p:nvPicPr>
        <p:blipFill>
          <a:blip r:embed="rId1"/>
          <a:stretch/>
        </p:blipFill>
        <p:spPr>
          <a:xfrm>
            <a:off x="2374920" y="857160"/>
            <a:ext cx="5294160" cy="514368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оугольник 2"/>
          <p:cNvSpPr/>
          <p:nvPr/>
        </p:nvSpPr>
        <p:spPr>
          <a:xfrm>
            <a:off x="270000" y="1011240"/>
            <a:ext cx="2102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ttp://edu54.ru/community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Рисунок 1" descr=""/>
          <p:cNvPicPr/>
          <p:nvPr/>
        </p:nvPicPr>
        <p:blipFill>
          <a:blip r:embed="rId2"/>
          <a:stretch/>
        </p:blipFill>
        <p:spPr>
          <a:xfrm>
            <a:off x="-19080" y="-57240"/>
            <a:ext cx="914400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Рисунок 1" descr=""/>
          <p:cNvPicPr/>
          <p:nvPr/>
        </p:nvPicPr>
        <p:blipFill>
          <a:blip r:embed="rId1"/>
          <a:stretch/>
        </p:blipFill>
        <p:spPr>
          <a:xfrm>
            <a:off x="1806480" y="946080"/>
            <a:ext cx="5618160" cy="514368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2"/>
          <p:cNvSpPr/>
          <p:nvPr/>
        </p:nvSpPr>
        <p:spPr>
          <a:xfrm>
            <a:off x="196560" y="995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ttp://edu54.ru/videocast/?category=131578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Рисунок 1" descr=""/>
          <p:cNvPicPr/>
          <p:nvPr/>
        </p:nvPicPr>
        <p:blipFill>
          <a:blip r:embed="rId2"/>
          <a:stretch/>
        </p:blipFill>
        <p:spPr>
          <a:xfrm>
            <a:off x="42840" y="-6480"/>
            <a:ext cx="914400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Рисунок 1" descr=""/>
          <p:cNvPicPr/>
          <p:nvPr/>
        </p:nvPicPr>
        <p:blipFill>
          <a:blip r:embed="rId1"/>
          <a:stretch/>
        </p:blipFill>
        <p:spPr>
          <a:xfrm>
            <a:off x="596880" y="857160"/>
            <a:ext cx="7950240" cy="5143680"/>
          </a:xfrm>
          <a:prstGeom prst="rect">
            <a:avLst/>
          </a:prstGeom>
          <a:ln w="0">
            <a:noFill/>
          </a:ln>
        </p:spPr>
      </p:pic>
      <p:sp>
        <p:nvSpPr>
          <p:cNvPr id="201" name="Прямоугольник 2"/>
          <p:cNvSpPr/>
          <p:nvPr/>
        </p:nvSpPr>
        <p:spPr>
          <a:xfrm>
            <a:off x="235080" y="1208160"/>
            <a:ext cx="2349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ttp://school-collection.edu.ru/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Рисунок 1" descr=""/>
          <p:cNvPicPr/>
          <p:nvPr/>
        </p:nvPicPr>
        <p:blipFill>
          <a:blip r:embed="rId2"/>
          <a:stretch/>
        </p:blipFill>
        <p:spPr>
          <a:xfrm>
            <a:off x="0" y="-23760"/>
            <a:ext cx="914400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Рисунок 1" descr=""/>
          <p:cNvPicPr/>
          <p:nvPr/>
        </p:nvPicPr>
        <p:blipFill>
          <a:blip r:embed="rId1"/>
          <a:stretch/>
        </p:blipFill>
        <p:spPr>
          <a:xfrm>
            <a:off x="1957320" y="949320"/>
            <a:ext cx="6229440" cy="514368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2"/>
          <p:cNvSpPr/>
          <p:nvPr/>
        </p:nvSpPr>
        <p:spPr>
          <a:xfrm>
            <a:off x="130320" y="949320"/>
            <a:ext cx="1832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ttps://interneturok.ru/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1" descr=""/>
          <p:cNvPicPr/>
          <p:nvPr/>
        </p:nvPicPr>
        <p:blipFill>
          <a:blip r:embed="rId1"/>
          <a:stretch/>
        </p:blipFill>
        <p:spPr>
          <a:xfrm>
            <a:off x="1039680" y="1098720"/>
            <a:ext cx="7182000" cy="514332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2"/>
          <p:cNvSpPr/>
          <p:nvPr/>
        </p:nvSpPr>
        <p:spPr>
          <a:xfrm>
            <a:off x="291960" y="1098720"/>
            <a:ext cx="45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ttps://learningapps.org/index.php?overview&amp;s=&amp;category=0&amp;tool=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Рисунок 1" descr=""/>
          <p:cNvPicPr/>
          <p:nvPr/>
        </p:nvPicPr>
        <p:blipFill>
          <a:blip r:embed="rId2"/>
          <a:stretch/>
        </p:blipFill>
        <p:spPr>
          <a:xfrm>
            <a:off x="4680" y="0"/>
            <a:ext cx="914400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Группа 10"/>
          <p:cNvGrpSpPr/>
          <p:nvPr/>
        </p:nvGrpSpPr>
        <p:grpSpPr>
          <a:xfrm>
            <a:off x="0" y="0"/>
            <a:ext cx="9147240" cy="855720"/>
            <a:chOff x="0" y="0"/>
            <a:chExt cx="9147240" cy="855720"/>
          </a:xfrm>
        </p:grpSpPr>
        <p:sp>
          <p:nvSpPr>
            <p:cNvPr id="70" name="Прямоугольник 3"/>
            <p:cNvSpPr/>
            <p:nvPr/>
          </p:nvSpPr>
          <p:spPr>
            <a:xfrm>
              <a:off x="0" y="0"/>
              <a:ext cx="9144360" cy="405000"/>
            </a:xfrm>
            <a:prstGeom prst="rect">
              <a:avLst/>
            </a:prstGeom>
            <a:solidFill>
              <a:srgbClr val="4413f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Прямоугольник 5"/>
            <p:cNvSpPr/>
            <p:nvPr/>
          </p:nvSpPr>
          <p:spPr>
            <a:xfrm>
              <a:off x="0" y="547920"/>
              <a:ext cx="9144360" cy="6480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Прямоугольник 6"/>
            <p:cNvSpPr/>
            <p:nvPr/>
          </p:nvSpPr>
          <p:spPr>
            <a:xfrm>
              <a:off x="0" y="621000"/>
              <a:ext cx="9144360" cy="4572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Прямоугольник 7"/>
            <p:cNvSpPr/>
            <p:nvPr/>
          </p:nvSpPr>
          <p:spPr>
            <a:xfrm>
              <a:off x="2880" y="692280"/>
              <a:ext cx="9144360" cy="457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Прямоугольник 8"/>
            <p:cNvSpPr/>
            <p:nvPr/>
          </p:nvSpPr>
          <p:spPr>
            <a:xfrm>
              <a:off x="0" y="763920"/>
              <a:ext cx="9144360" cy="45720"/>
            </a:xfrm>
            <a:prstGeom prst="rect">
              <a:avLst/>
            </a:prstGeom>
            <a:solidFill>
              <a:srgbClr val="f79646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Прямоугольник 9"/>
            <p:cNvSpPr/>
            <p:nvPr/>
          </p:nvSpPr>
          <p:spPr>
            <a:xfrm>
              <a:off x="2880" y="810000"/>
              <a:ext cx="9144360" cy="4572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Заголовок 1"/>
          <p:cNvSpPr/>
          <p:nvPr/>
        </p:nvSpPr>
        <p:spPr>
          <a:xfrm>
            <a:off x="42840" y="981000"/>
            <a:ext cx="8993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13f9"/>
                </a:solidFill>
                <a:latin typeface="Calibri"/>
              </a:rPr>
              <a:t>Электронный образовательный ресурс (ЭОР)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– это учебный материал, предназначенный для образовательных целей и представленный в цифровой, электронной, «компьютерной» фор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C:\Documents and Settings\Admin\Рабочий стол\notv_2010.jpg"/>
          <p:cNvPicPr/>
          <p:nvPr/>
        </p:nvPicPr>
        <p:blipFill>
          <a:blip r:embed="rId1"/>
          <a:srcRect l="0" t="3020" r="0" b="0"/>
          <a:stretch/>
        </p:blipFill>
        <p:spPr>
          <a:xfrm>
            <a:off x="2916360" y="2997360"/>
            <a:ext cx="2832120" cy="260496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13"/>
          <p:cNvSpPr/>
          <p:nvPr/>
        </p:nvSpPr>
        <p:spPr>
          <a:xfrm>
            <a:off x="836640" y="785880"/>
            <a:ext cx="8307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Calibri"/>
              </a:rPr>
              <a:t>Применение электронных образовательных ресурсов в учебном процесс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4"/>
          <p:cNvSpPr/>
          <p:nvPr/>
        </p:nvSpPr>
        <p:spPr>
          <a:xfrm>
            <a:off x="841320" y="49320"/>
            <a:ext cx="8305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Calibri"/>
              </a:rPr>
              <a:t>Применение электронных образовательных ресурсов в учебном процесс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Группа 3"/>
          <p:cNvGrpSpPr/>
          <p:nvPr/>
        </p:nvGrpSpPr>
        <p:grpSpPr>
          <a:xfrm>
            <a:off x="0" y="0"/>
            <a:ext cx="9147240" cy="855720"/>
            <a:chOff x="0" y="0"/>
            <a:chExt cx="9147240" cy="855720"/>
          </a:xfrm>
        </p:grpSpPr>
        <p:sp>
          <p:nvSpPr>
            <p:cNvPr id="81" name="Прямоугольник 4"/>
            <p:cNvSpPr/>
            <p:nvPr/>
          </p:nvSpPr>
          <p:spPr>
            <a:xfrm>
              <a:off x="0" y="0"/>
              <a:ext cx="9144360" cy="405000"/>
            </a:xfrm>
            <a:prstGeom prst="rect">
              <a:avLst/>
            </a:prstGeom>
            <a:solidFill>
              <a:srgbClr val="4413f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Прямоугольник 5"/>
            <p:cNvSpPr/>
            <p:nvPr/>
          </p:nvSpPr>
          <p:spPr>
            <a:xfrm>
              <a:off x="0" y="476280"/>
              <a:ext cx="9144360" cy="64800"/>
            </a:xfrm>
            <a:prstGeom prst="rect">
              <a:avLst/>
            </a:prstGeom>
            <a:solidFill>
              <a:srgbClr val="4413f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Прямоугольник 6"/>
            <p:cNvSpPr/>
            <p:nvPr/>
          </p:nvSpPr>
          <p:spPr>
            <a:xfrm>
              <a:off x="0" y="547920"/>
              <a:ext cx="9144360" cy="6480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Прямоугольник 7"/>
            <p:cNvSpPr/>
            <p:nvPr/>
          </p:nvSpPr>
          <p:spPr>
            <a:xfrm>
              <a:off x="0" y="621000"/>
              <a:ext cx="9144360" cy="4572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Прямоугольник 8"/>
            <p:cNvSpPr/>
            <p:nvPr/>
          </p:nvSpPr>
          <p:spPr>
            <a:xfrm>
              <a:off x="2880" y="692280"/>
              <a:ext cx="9144360" cy="457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Прямоугольник 9"/>
            <p:cNvSpPr/>
            <p:nvPr/>
          </p:nvSpPr>
          <p:spPr>
            <a:xfrm>
              <a:off x="0" y="763920"/>
              <a:ext cx="9144360" cy="45720"/>
            </a:xfrm>
            <a:prstGeom prst="rect">
              <a:avLst/>
            </a:prstGeom>
            <a:solidFill>
              <a:srgbClr val="f79646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Прямоугольник 10"/>
            <p:cNvSpPr/>
            <p:nvPr/>
          </p:nvSpPr>
          <p:spPr>
            <a:xfrm>
              <a:off x="2880" y="810000"/>
              <a:ext cx="9144360" cy="4572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Прямоугольник 11"/>
          <p:cNvSpPr/>
          <p:nvPr/>
        </p:nvSpPr>
        <p:spPr>
          <a:xfrm>
            <a:off x="841320" y="493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, serif"/>
              </a:rPr>
              <a:t>Дидактические принципы применения Э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565360"/>
            <a:ext cx="7991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Open San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Как и в традиционном обучении, современные электронные образовательные ресурсы (ЭОР) базируются на известных дидактических принципах и правилах: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, serif"/>
              </a:rPr>
              <a:t>Интерактивност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Во время занятий учащийся должен выполнить ряд интерактивных действий: просмотр и прослушивание учебного материала, навигацию, их копирование, обращение к справочной системе, что способствует повышению эффективности сознания и памяти;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, serif"/>
              </a:rPr>
              <a:t>Практическая ориентированност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По всем разделам и учебным модулям представлен мощный блок учебных заданий практической направленности – практические работы, учебные задачи, тестовые вопросы, лабораторные работы, которые становятся универсальным тренингом для обучающихс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3"/>
          <p:cNvSpPr/>
          <p:nvPr/>
        </p:nvSpPr>
        <p:spPr>
          <a:xfrm>
            <a:off x="539640" y="1125360"/>
            <a:ext cx="820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, serif"/>
              </a:rPr>
              <a:t>Доступ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Методика изложения материала доступна для восприятия и позволяет осуществлять обучение, как с помощью учителя, так и самостоятель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Научность изложения матери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Изложение материала опирается на новейшие представления наук, которые в нем интегрированы, включая ИКТ, как базиса новых образовательных технолог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, serif"/>
              </a:rPr>
              <a:t>Последовательность из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Диалоговый интерфейс, система ссылок позволяет инициировать любое обращение по пройденной или по последующей учебной информации, а также к любой справочной и энциклопедической информ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, serif"/>
              </a:rPr>
              <a:t>Модульность и вариативность из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Материал разбит на учебные модули (в основе модулей - темы) и микромодули (в основе микромодулей - понятия). Модульность позволяет выстраивать преподавание и обучение индивидуально, вариативно, а также в зависимости от решаемых задач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4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8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826920" y="1197000"/>
            <a:ext cx="7848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Преимущества применения Э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ЭОР очень удобно классифицировать, материал представляется на экране компьютера, а не на бумаге. ЭОР имеют хорошо построенную нелинейную систему навигации в виде гипертекстов, целиком состоят из визуального или звукового фрагмента. Учебные материалы представляются множеством различных способов: с помощью графики, фото, видео, анимации и зву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Таким образом, ЭОР представляет собой эффективный механизм, способствующий более быстрому запоминанию материала, благодаря активации зрительной, слуховой и моторной памяти. Тестовое содержание лекций позволяет обучающимся самостоятельно проверить уровень усвоения материала. Для учителей использование наглядных моделей, интерактивных анимации помогает проще и доходчивее объяснить суть сложных явлений, продемонстрировать «виртуальные» опыты и эксперименты, без инвентаря и лаборантов. Кроме того, ЭОР позволяют выполнять более полноценные домашние задания по предмету – от виртуального посещения музея до лабораторного эксперимента, и тут же провести аттестацию собственных знаний, умений и навы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2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8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468360" y="770040"/>
            <a:ext cx="8567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Необходимо помнить, что применение инновационных процессов обучения заключается не только в повышении качества образования, но и в укреплении здоровья обучающихся и в создании психологического комфорта участникам образовательного процесса. Очень важно обеспечить сохранение здоровья детей при использовании ЭОР и компьютерных технолог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В соответствии с требованиями СанПиН 2.4.2.2821-10, продолжительность непрерывного использования в образовательном процессе технических средств обучения в 8-11 классах составля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просмотр статических изображений на учебных досках и экранах отраженного свечения - 25 мину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просмотр телепередач - 30 мину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просмотр динамических изображений на учебных досках и экранах отраженного свечения - 30 мину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работа с изображением на индивидуальном мониторе компьютера и клавиатурой - 25 мину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прослушивание аудиозаписи - 25 мину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прослушивание аудиозаписи в наушниках - 25 мин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ходя из новых требований, наиболее правильным является такой урок, на котором равномерно чередуются различные формы работы. Работа с тетрадью и учебником чередуется с работой с компьютером, работой с интерактивной доской.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Применение ЭОР не отменяет традиционные формы и методы обучения, а лишь дополняет их, повышая эффективность и качество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Группа 3"/>
          <p:cNvGrpSpPr/>
          <p:nvPr/>
        </p:nvGrpSpPr>
        <p:grpSpPr>
          <a:xfrm>
            <a:off x="0" y="-85680"/>
            <a:ext cx="9147240" cy="855720"/>
            <a:chOff x="0" y="-85680"/>
            <a:chExt cx="9147240" cy="855720"/>
          </a:xfrm>
        </p:grpSpPr>
        <p:sp>
          <p:nvSpPr>
            <p:cNvPr id="96" name="Прямоугольник 4"/>
            <p:cNvSpPr/>
            <p:nvPr/>
          </p:nvSpPr>
          <p:spPr>
            <a:xfrm>
              <a:off x="0" y="-85680"/>
              <a:ext cx="9144360" cy="405000"/>
            </a:xfrm>
            <a:prstGeom prst="rect">
              <a:avLst/>
            </a:prstGeom>
            <a:solidFill>
              <a:srgbClr val="4413f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Прямоугольник 5"/>
            <p:cNvSpPr/>
            <p:nvPr/>
          </p:nvSpPr>
          <p:spPr>
            <a:xfrm>
              <a:off x="0" y="390600"/>
              <a:ext cx="9144360" cy="64800"/>
            </a:xfrm>
            <a:prstGeom prst="rect">
              <a:avLst/>
            </a:prstGeom>
            <a:solidFill>
              <a:srgbClr val="4413f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Прямоугольник 6"/>
            <p:cNvSpPr/>
            <p:nvPr/>
          </p:nvSpPr>
          <p:spPr>
            <a:xfrm>
              <a:off x="0" y="462240"/>
              <a:ext cx="9144360" cy="6480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Прямоугольник 7"/>
            <p:cNvSpPr/>
            <p:nvPr/>
          </p:nvSpPr>
          <p:spPr>
            <a:xfrm>
              <a:off x="0" y="535320"/>
              <a:ext cx="9144360" cy="45720"/>
            </a:xfrm>
            <a:prstGeom prst="rect">
              <a:avLst/>
            </a:prstGeom>
            <a:solidFill>
              <a:srgbClr val="00b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Прямоугольник 8"/>
            <p:cNvSpPr/>
            <p:nvPr/>
          </p:nvSpPr>
          <p:spPr>
            <a:xfrm>
              <a:off x="2880" y="606600"/>
              <a:ext cx="9144360" cy="457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Прямоугольник 9"/>
            <p:cNvSpPr/>
            <p:nvPr/>
          </p:nvSpPr>
          <p:spPr>
            <a:xfrm>
              <a:off x="0" y="678240"/>
              <a:ext cx="9144360" cy="45720"/>
            </a:xfrm>
            <a:prstGeom prst="rect">
              <a:avLst/>
            </a:prstGeom>
            <a:solidFill>
              <a:srgbClr val="f79646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Прямоугольник 10"/>
            <p:cNvSpPr/>
            <p:nvPr/>
          </p:nvSpPr>
          <p:spPr>
            <a:xfrm>
              <a:off x="2880" y="724320"/>
              <a:ext cx="9144360" cy="4572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Прямоугольник 12"/>
          <p:cNvSpPr/>
          <p:nvPr/>
        </p:nvSpPr>
        <p:spPr>
          <a:xfrm>
            <a:off x="3355920" y="-14400"/>
            <a:ext cx="24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, serif"/>
              </a:rPr>
              <a:t>ЭОР и здоровье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468360" y="115920"/>
            <a:ext cx="8351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Методика проектирования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Одним из основополагающих моментов в использовании компьютера и ИК-технологий на уроке является проектирование самого ур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1 этап.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Ориентирово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На первом этапе проектирования урока необходим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Open Sans"/>
              </a:rPr>
              <a:t>• 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определить контингент слуша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Open Sans"/>
              </a:rPr>
              <a:t>• 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учесть возрастную групп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Open Sans"/>
              </a:rPr>
              <a:t>• 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учесть уровень компьютерной грамот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2 этап.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Постановка целей и за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Нужно понять и сформулировать, какие цели и задачи мы ставим перед обучающимися, какие навыки планируем у них сформировать, чему хотим обучить на данном конкретном уроке. Целью является конечный результат данного урока, к которому мы стремимся, в то время как задачи обучения — это этапы выполняемых работ, действия, которые мы совершаем для достижения поставленной цели. Компьютер является лишь средством обучения, который выполняет на уроке определённые фун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3 этап.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Выбор темы и отбор содерж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Определив целевую аудиторию и сформулировав цели, необходимо отобрать тематическое содержание урока, которое позволит достичь вышеназванных целей. То есть нужно сформулировать основные критерии отбора темы, которые, по сути, будут являться кратчайшим путем достижения ц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395280" y="260280"/>
            <a:ext cx="828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4 этап. Форма и содержание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Формы обучения всегда имеют четко очерченное содержание и в то же время они зависят от различных условий, например, количество обучающихся в классе влияет на выбор учителем таких форм обучения, как индивидуальные, групповые и фронталь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Различают формы обуч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по месту проведения занятий — школьные, внешкольные, дистанционны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по времени — классные, внеклассны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по виду учебной деятельности — урок, лекция, лабораторная работа, консультация, зачет, семина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по степени участия преподавателя — самостоятельная, формы взаимообучения, программированное обу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Все виды деятельности обучаемых, являющихся пользователями интернета, можно условно разделить на три групп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1) поиск информации — работа с браузерами, базами данных, справочными системами и т. п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2) общение — электронная почта, чаты, списки рассылки, on-line форумы, видеоконферен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3) публикация в сети — создание веб-страниц, сай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0:43:12Z</dcterms:created>
  <dc:creator>Admin</dc:creator>
  <dc:description/>
  <dc:language>en-US</dc:language>
  <cp:lastModifiedBy>231m</cp:lastModifiedBy>
  <dcterms:modified xsi:type="dcterms:W3CDTF">2019-05-13T04:48:58Z</dcterms:modified>
  <cp:revision>147</cp:revision>
  <dc:subject/>
  <dc:title>Презентация PowerPoint</dc:title>
</cp:coreProperties>
</file>