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6A73-A18F-4A2F-81E8-F146E94258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E62E-0326-46A9-B237-FF9E734EC4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4235-61DF-408C-83B7-3720732A89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834-64A9-4F40-9735-759D6BE2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6BF-2F5A-44AC-811C-261082DF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E16-E180-4A23-A040-12E7BFFA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4BA-64FA-4141-8A9B-F0D14428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7C8-F5C8-4313-A06B-ABDD749A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BC0-485C-45F0-BFE7-3924A248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7F9-885C-46A1-9339-6170C271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D46-5233-4D0B-8FE4-16880AFE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C78-74EF-41B1-8D27-C2EF1E32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DF8-9DAF-4778-90DE-199AE352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E6F-1996-4582-BA52-A8A4AF3C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5C4-1D88-49ED-BE2F-C9B82DFF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55BB-6604-4C7D-9545-D93A437608A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2356920"/>
            <a:ext cx="727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13f9"/>
                </a:solidFill>
                <a:latin typeface="Times New Roman"/>
                <a:ea typeface="Times New Roman"/>
              </a:rPr>
              <a:t>Применение электронных образовательных ресурсов в учебном процес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071800" y="4429080"/>
            <a:ext cx="51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13f9"/>
                </a:solidFill>
                <a:latin typeface="Times New Roman"/>
                <a:ea typeface="Times New Roman"/>
              </a:rPr>
              <a:t>Мастер-класс для молодых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13f9"/>
                </a:solidFill>
                <a:latin typeface="Times New Roman"/>
                <a:ea typeface="Times New Roman"/>
              </a:rPr>
              <a:t>Автор: Цыренова С.Б., учитель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5"/>
          <p:cNvGrpSpPr/>
          <p:nvPr/>
        </p:nvGrpSpPr>
        <p:grpSpPr>
          <a:xfrm>
            <a:off x="0" y="0"/>
            <a:ext cx="9147240" cy="1928880"/>
            <a:chOff x="0" y="0"/>
            <a:chExt cx="9147240" cy="1928880"/>
          </a:xfrm>
        </p:grpSpPr>
        <p:sp>
          <p:nvSpPr>
            <p:cNvPr id="51" name="Прямоугольник 6"/>
            <p:cNvSpPr/>
            <p:nvPr/>
          </p:nvSpPr>
          <p:spPr>
            <a:xfrm>
              <a:off x="0" y="0"/>
              <a:ext cx="9144360" cy="91116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рямоугольник 7"/>
            <p:cNvSpPr/>
            <p:nvPr/>
          </p:nvSpPr>
          <p:spPr>
            <a:xfrm>
              <a:off x="0" y="1073160"/>
              <a:ext cx="9144360" cy="1476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оугольник 8"/>
            <p:cNvSpPr/>
            <p:nvPr/>
          </p:nvSpPr>
          <p:spPr>
            <a:xfrm>
              <a:off x="0" y="1236600"/>
              <a:ext cx="9144360" cy="145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оугольник 9"/>
            <p:cNvSpPr/>
            <p:nvPr/>
          </p:nvSpPr>
          <p:spPr>
            <a:xfrm>
              <a:off x="0" y="1398600"/>
              <a:ext cx="9144360" cy="10296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оугольник 10"/>
            <p:cNvSpPr/>
            <p:nvPr/>
          </p:nvSpPr>
          <p:spPr>
            <a:xfrm>
              <a:off x="2880" y="1560600"/>
              <a:ext cx="9144360" cy="1029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оугольник 11"/>
            <p:cNvSpPr/>
            <p:nvPr/>
          </p:nvSpPr>
          <p:spPr>
            <a:xfrm>
              <a:off x="0" y="1722600"/>
              <a:ext cx="9144360" cy="10296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оугольник 12"/>
            <p:cNvSpPr/>
            <p:nvPr/>
          </p:nvSpPr>
          <p:spPr>
            <a:xfrm>
              <a:off x="2880" y="1825920"/>
              <a:ext cx="9144360" cy="1029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Прямоугольник 13"/>
          <p:cNvSpPr/>
          <p:nvPr/>
        </p:nvSpPr>
        <p:spPr>
          <a:xfrm>
            <a:off x="500040" y="0"/>
            <a:ext cx="7643880" cy="857160"/>
          </a:xfrm>
          <a:prstGeom prst="rect">
            <a:avLst/>
          </a:prstGeom>
          <a:solidFill>
            <a:srgbClr val="4413f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У «Цаган – Мори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539640" y="1700280"/>
            <a:ext cx="835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именение ЭОР на уроках позволяет повысить его эффективность, сделать занятия более наглядными и интересными. При помощи ЭОР стало возможным обогатить урок качественным иллюстративным материалом, показать те процессы и явления, которые отдалены от нас во времени и пространстве, моделировать</a:t>
            </a: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химические процессы и явления, которые практически невозможно показать в школьной лаборатории, но они могут быть показаны с помощью компью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граммы-тренажеры выполняют функции дидактических материалов и могут отслеживать ход решения и сообщать об ошиб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Системы виртуального эксперимента позволяют ученику проводить такие эксперименты, которые в реальности были бы невозможны по соображениям безопасности и по временным характерист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"/>
          <p:cNvPicPr/>
          <p:nvPr/>
        </p:nvPicPr>
        <p:blipFill>
          <a:blip r:embed="rId1"/>
          <a:stretch/>
        </p:blipFill>
        <p:spPr>
          <a:xfrm>
            <a:off x="25560" y="189000"/>
            <a:ext cx="9144000" cy="8748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2208960" y="257040"/>
            <a:ext cx="45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ы и обучающие возможности Э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826920" y="692280"/>
            <a:ext cx="7777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, serif"/>
              </a:rPr>
              <a:t>Виды и обучающие возможности Э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граммные системы контроля знаний, к которым относятся опросники и тесты это быстрая удобная, беспристрастная и автоматизированная обработка полученных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бучающие и развивающие игры содержат разнообразные задания, в процессе которых дети развивают пространственное воображение, память и тонкие двигательные навы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Электронные энциклопедии поддерживают удобную систему поиска по ключевым словам и понятиям; систему навигации на основе гиперссылок; возможность включать в себя аудио- и видеофрагм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именение презентаций расширяет диапазон условий для креативной деятельности обучающихся и психологического роста личности, развивая самостоятельность и повышая самооценку. Презентации активно используются и для представления ученических про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 ряду электронных средств учебного назначения особое значение имеют учебно-методические комплексы (УМК, мультимедиа курс). Основой УМК (мультимедиа курса) является его интерактивная часть, которая может быть реализована только на компьют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395280" y="260280"/>
            <a:ext cx="8569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еимущества ЭОР по сравнению с другими средствам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спользование ЭОР позволяет организовать интересную внеурочную деятельность и внеклассную работу, обеспечить подготовку к ЕГЭ и ОГЭ, быстро и объективно проверить знания обучающихся. Для большинства учителей ЭОР являются самым надежным, быстрым, удобным комплексом для нахождения материала. С помощью ЭОР учитель может вносить разнообразие в учебный процесс, что способствует активному восприятию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спользование компьютерных моделей позволяет раскрыть существенные связи изучаемого объекта, выявить его закономерности, что ведёт к лучшему усвоению материала. Ученик может исследовать явление, изменяя его параметры, сравнивать полученные результаты, анализировать их, 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Таким образом, электронные образовательные ресурсы и формируемая на их базе </a:t>
            </a:r>
            <a:r>
              <a:rPr b="0" lang="ru-RU" sz="1800" spc="-1" strike="noStrike">
                <a:solidFill>
                  <a:srgbClr val="c00000"/>
                </a:solidFill>
                <a:latin typeface="Times New Roman, serif"/>
              </a:rPr>
              <a:t>новая информационно-образовательная сре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меют немалый потенциал </a:t>
            </a:r>
            <a:r>
              <a:rPr b="0" lang="ru-RU" sz="1800" spc="-1" strike="noStrike">
                <a:solidFill>
                  <a:srgbClr val="c00000"/>
                </a:solidFill>
                <a:latin typeface="Times New Roman, serif"/>
              </a:rPr>
              <a:t>для повышения качества обуч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. Однако он будет реализован в полной мере только в том случае, если обучение будет строиться с ориентацией на инновационную модель, важнейшими характеристиками которой являются </a:t>
            </a:r>
            <a:r>
              <a:rPr b="0" lang="ru-RU" sz="1800" spc="-1" strike="noStrike">
                <a:solidFill>
                  <a:srgbClr val="376092"/>
                </a:solidFill>
                <a:latin typeface="Times New Roman, serif"/>
              </a:rPr>
              <a:t>системно-деятельностый подход, личностно ориентированная направленность, установка на развитие творческих способностей детей с учетом здоровьесберегающи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Выгнутая вправо стрелка 17"/>
          <p:cNvSpPr/>
          <p:nvPr/>
        </p:nvSpPr>
        <p:spPr>
          <a:xfrm>
            <a:off x="7454880" y="3146400"/>
            <a:ext cx="1293840" cy="1711440"/>
          </a:xfrm>
          <a:custGeom>
            <a:avLst/>
            <a:gdLst>
              <a:gd name="textAreaLeft" fmla="*/ 173160 w 1293840"/>
              <a:gd name="textAreaRight" fmla="*/ 1120680 w 1293840"/>
              <a:gd name="textAreaTop" fmla="*/ 306360 h 1711440"/>
              <a:gd name="textAreaBottom" fmla="*/ 1243080 h 171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38" stAng="-5400000" swAng="5400000"/>
                <a:lnTo>
                  <a:pt x="21600" y="11821"/>
                </a:lnTo>
                <a:arcTo wR="21600" hR="7738" stAng="0" swAng="3253089"/>
                <a:lnTo>
                  <a:pt x="5400" y="21354"/>
                </a:lnTo>
                <a:lnTo>
                  <a:pt x="0" y="17518"/>
                </a:lnTo>
                <a:lnTo>
                  <a:pt x="5400" y="13189"/>
                </a:lnTo>
                <a:lnTo>
                  <a:pt x="5400" y="15230"/>
                </a:lnTo>
                <a:arcTo wR="21600" hR="7738" stAng="3253089" swAng="-2917311"/>
                <a:lnTo>
                  <a:pt x="20835" y="9780"/>
                </a:lnTo>
                <a:arcTo wR="21600" hR="7738" stAng="-335778" swAng="-5064222"/>
                <a:close/>
              </a:path>
              <a:path fill="darkenLess" w="21600" h="21600">
                <a:moveTo>
                  <a:pt x="0" y="0"/>
                </a:moveTo>
                <a:arcTo wR="21600" hR="7738" stAng="-5400000" swAng="5400000"/>
                <a:lnTo>
                  <a:pt x="21600" y="11821"/>
                </a:lnTo>
                <a:arcTo wR="21600" hR="7738" stAng="0" swAng="-335778"/>
                <a:lnTo>
                  <a:pt x="20835" y="9780"/>
                </a:lnTo>
                <a:arcTo wR="21600" hR="7738" stAng="-335778" swAng="-5064222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11" descr=""/>
          <p:cNvPicPr/>
          <p:nvPr/>
        </p:nvPicPr>
        <p:blipFill>
          <a:blip r:embed="rId1"/>
          <a:stretch/>
        </p:blipFill>
        <p:spPr>
          <a:xfrm>
            <a:off x="-158760" y="811080"/>
            <a:ext cx="3230640" cy="7495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2"/>
          <p:cNvSpPr/>
          <p:nvPr/>
        </p:nvSpPr>
        <p:spPr>
          <a:xfrm>
            <a:off x="841320" y="493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на занятиях теоретического обуч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Выгнутая влево стрелка 14"/>
          <p:cNvSpPr/>
          <p:nvPr/>
        </p:nvSpPr>
        <p:spPr>
          <a:xfrm>
            <a:off x="324000" y="3230640"/>
            <a:ext cx="1406520" cy="1566720"/>
          </a:xfrm>
          <a:custGeom>
            <a:avLst/>
            <a:gdLst>
              <a:gd name="textAreaLeft" fmla="*/ 188280 w 1406520"/>
              <a:gd name="textAreaRight" fmla="*/ 1218240 w 1406520"/>
              <a:gd name="textAreaTop" fmla="*/ 259560 h 1566720"/>
              <a:gd name="textAreaBottom" fmla="*/ 1131120 h 156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65" stAng="-5400000" swAng="-5400000"/>
                <a:lnTo>
                  <a:pt x="0" y="12012"/>
                </a:lnTo>
                <a:arcTo wR="21600" hR="7165" stAng="10800000" swAng="-3126094"/>
                <a:lnTo>
                  <a:pt x="16200" y="21372"/>
                </a:lnTo>
                <a:lnTo>
                  <a:pt x="21600" y="16753"/>
                </a:lnTo>
                <a:lnTo>
                  <a:pt x="16200" y="11677"/>
                </a:lnTo>
                <a:lnTo>
                  <a:pt x="16200" y="14101"/>
                </a:lnTo>
                <a:arcTo wR="21600" hR="7165" stAng="7673906" swAng="2718146"/>
                <a:lnTo>
                  <a:pt x="1273" y="9588"/>
                </a:lnTo>
                <a:arcTo wR="21600" hR="7165" stAng="-10392052" swAng="4992052"/>
                <a:close/>
              </a:path>
              <a:path fill="darkenLess" w="21600" h="21600">
                <a:moveTo>
                  <a:pt x="21600" y="0"/>
                </a:moveTo>
                <a:arcTo wR="21600" hR="7165" stAng="-5400000" swAng="-5400000"/>
                <a:lnTo>
                  <a:pt x="0" y="7165"/>
                </a:lnTo>
                <a:arcTo wR="21600" hR="7165" stAng="10800000" swAng="-407948"/>
                <a:lnTo>
                  <a:pt x="1273" y="9588"/>
                </a:lnTo>
                <a:arcTo wR="21600" hR="7165" stAng="-10392052" swAng="4992052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"/>
          <p:cNvSpPr/>
          <p:nvPr/>
        </p:nvSpPr>
        <p:spPr>
          <a:xfrm>
            <a:off x="6062760" y="2744640"/>
            <a:ext cx="2181240" cy="1150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дагогический поиск эффективных средств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8"/>
          <p:cNvSpPr/>
          <p:nvPr/>
        </p:nvSpPr>
        <p:spPr>
          <a:xfrm>
            <a:off x="755640" y="2744640"/>
            <a:ext cx="2232000" cy="1150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3132000" y="2004840"/>
            <a:ext cx="2808360" cy="1152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лобальная информатизация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Штриховая стрелка вправо 22"/>
          <p:cNvSpPr/>
          <p:nvPr/>
        </p:nvSpPr>
        <p:spPr>
          <a:xfrm rot="5400000">
            <a:off x="4143600" y="3358080"/>
            <a:ext cx="711360" cy="5763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4"/>
          <p:cNvSpPr/>
          <p:nvPr/>
        </p:nvSpPr>
        <p:spPr>
          <a:xfrm>
            <a:off x="2286000" y="4221000"/>
            <a:ext cx="4705200" cy="1152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МЕНЕНИЕ Э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Группа 25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121" name="Прямоугольник 26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27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оугольник 28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рямоугольник 29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рямоугольник 30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рямоугольник 31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рямоугольник 32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34"/>
            <p:cNvSpPr/>
            <p:nvPr/>
          </p:nvSpPr>
          <p:spPr>
            <a:xfrm>
              <a:off x="841320" y="47520"/>
              <a:ext cx="8305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Calibri"/>
                </a:rPr>
                <a:t>Применение электронных образовательных ресурсов в учебном процесс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руппа 21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130" name="Прямоугольник 22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23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Прямоугольник 24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оугольник 25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оугольник 26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оугольник 27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оугольник 28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Скругленный прямоугольник 31"/>
          <p:cNvSpPr/>
          <p:nvPr/>
        </p:nvSpPr>
        <p:spPr>
          <a:xfrm>
            <a:off x="2692440" y="2198520"/>
            <a:ext cx="37512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низ 32"/>
          <p:cNvSpPr/>
          <p:nvPr/>
        </p:nvSpPr>
        <p:spPr>
          <a:xfrm rot="2343000">
            <a:off x="2426760" y="3102120"/>
            <a:ext cx="405000" cy="865080"/>
          </a:xfrm>
          <a:prstGeom prst="downArrow">
            <a:avLst>
              <a:gd name="adj1" fmla="val 50000"/>
              <a:gd name="adj2" fmla="val 4996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386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33"/>
          <p:cNvSpPr/>
          <p:nvPr/>
        </p:nvSpPr>
        <p:spPr>
          <a:xfrm>
            <a:off x="4237200" y="3222720"/>
            <a:ext cx="404640" cy="8636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низ 34"/>
          <p:cNvSpPr/>
          <p:nvPr/>
        </p:nvSpPr>
        <p:spPr>
          <a:xfrm rot="20149200">
            <a:off x="6178320" y="3177720"/>
            <a:ext cx="406440" cy="86364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7652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35"/>
          <p:cNvSpPr/>
          <p:nvPr/>
        </p:nvSpPr>
        <p:spPr>
          <a:xfrm>
            <a:off x="179280" y="3997440"/>
            <a:ext cx="2305080" cy="73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36"/>
          <p:cNvSpPr/>
          <p:nvPr/>
        </p:nvSpPr>
        <p:spPr>
          <a:xfrm>
            <a:off x="2629080" y="4165560"/>
            <a:ext cx="3619440" cy="135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37"/>
          <p:cNvSpPr/>
          <p:nvPr/>
        </p:nvSpPr>
        <p:spPr>
          <a:xfrm>
            <a:off x="6381720" y="4086360"/>
            <a:ext cx="2511360" cy="7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еучеб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38" descr=""/>
          <p:cNvPicPr/>
          <p:nvPr/>
        </p:nvPicPr>
        <p:blipFill>
          <a:blip r:embed="rId1"/>
          <a:stretch/>
        </p:blipFill>
        <p:spPr>
          <a:xfrm>
            <a:off x="-158760" y="811080"/>
            <a:ext cx="5705640" cy="7495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9"/>
          <p:cNvSpPr/>
          <p:nvPr/>
        </p:nvSpPr>
        <p:spPr>
          <a:xfrm>
            <a:off x="841320" y="493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в учебном процес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Группа 21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147" name="Прямоугольник 22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ямоугольник 23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оугольник 24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Прямоугольник 25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Прямоугольник 26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Прямоугольник 27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рямоугольник 28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рямоугольник 30"/>
            <p:cNvSpPr/>
            <p:nvPr/>
          </p:nvSpPr>
          <p:spPr>
            <a:xfrm>
              <a:off x="841320" y="47520"/>
              <a:ext cx="8305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Calibri"/>
                </a:rPr>
                <a:t>Применение электронных образовательных ресурсов в  учебном процесс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1"/>
          <p:cNvSpPr/>
          <p:nvPr/>
        </p:nvSpPr>
        <p:spPr>
          <a:xfrm>
            <a:off x="324000" y="9968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проектирования учебного занятия с применением ЭОР преподавателю важ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1908000" y="2690640"/>
            <a:ext cx="6840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читься осуществлять поиск и отбор ЭОР в соответствии с имеющимися условия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ять целесообразность использования ЭОР на различных этапах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Documents and Settings\Admin\Рабочий стол\luckyoliver-3362817-blog-3d_silver_exclamation_mark1 (1).jpg"/>
          <p:cNvPicPr/>
          <p:nvPr/>
        </p:nvPicPr>
        <p:blipFill>
          <a:blip r:embed="rId1"/>
          <a:stretch/>
        </p:blipFill>
        <p:spPr>
          <a:xfrm>
            <a:off x="237960" y="3200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3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159" name="Прямоугольник 4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5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6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7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8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оугольник 9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10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Прямоугольник 11"/>
          <p:cNvSpPr/>
          <p:nvPr/>
        </p:nvSpPr>
        <p:spPr>
          <a:xfrm>
            <a:off x="841320" y="493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в учебном процес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244080" y="714240"/>
            <a:ext cx="85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ические приемы по использованию Э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0" y="12142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Изучение новой 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ск информации в Интерн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текста и составление схемы или табл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ск ответов на вопросы, поставленные учите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мотр и обсуждение видеофрагмента (презент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Использование электронной поч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е выполнение практического задания, контрольной работы, теста с последующей отправкой на электронный адрес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Использование в работе дистанционного курса в РСД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олнение заданий с оперативной обратной связью (автоматическая проверка, проверка учителе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142920" y="1000080"/>
            <a:ext cx="8715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Контроль знан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тестов с самопровер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ые виктор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Работа над проек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туальные библиоте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туальные музе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ные информационные образовательные серве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йты средств массовой информа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циклопедии и справо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Группа 2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171" name="Прямоугольник 3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оугольник 4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оугольник 5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Прямоугольник 6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оугольник 7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оугольник 8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оугольник 9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10"/>
          <p:cNvSpPr/>
          <p:nvPr/>
        </p:nvSpPr>
        <p:spPr>
          <a:xfrm>
            <a:off x="841320" y="493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в учебном процес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Группа 2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180" name="Прямоугольник 6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Прямоугольник 7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Прямоугольник 8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Прямоугольник 9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0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11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12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оугольник 2"/>
          <p:cNvSpPr/>
          <p:nvPr/>
        </p:nvSpPr>
        <p:spPr>
          <a:xfrm>
            <a:off x="256320" y="1158840"/>
            <a:ext cx="1130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fipi.ru/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3" descr=""/>
          <p:cNvPicPr/>
          <p:nvPr/>
        </p:nvPicPr>
        <p:blipFill>
          <a:blip r:embed="rId1"/>
          <a:stretch/>
        </p:blipFill>
        <p:spPr>
          <a:xfrm>
            <a:off x="1582560" y="938160"/>
            <a:ext cx="6140520" cy="514368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1"/>
          <p:cNvSpPr/>
          <p:nvPr/>
        </p:nvSpPr>
        <p:spPr>
          <a:xfrm>
            <a:off x="1928520" y="597996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ылки на ЭОР на каждом слай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1116000" y="17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сылки на ЭОР лучших образовательных прак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"/>
          <p:cNvPicPr/>
          <p:nvPr/>
        </p:nvPicPr>
        <p:blipFill>
          <a:blip r:embed="rId1"/>
          <a:stretch/>
        </p:blipFill>
        <p:spPr>
          <a:xfrm>
            <a:off x="884160" y="857160"/>
            <a:ext cx="7375680" cy="514368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2"/>
          <p:cNvSpPr/>
          <p:nvPr/>
        </p:nvSpPr>
        <p:spPr>
          <a:xfrm>
            <a:off x="3843360" y="919080"/>
            <a:ext cx="457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e-learning.oblcit.ru/moodle24/course/category.php?id=4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1" descr=""/>
          <p:cNvPicPr/>
          <p:nvPr/>
        </p:nvPicPr>
        <p:blipFill>
          <a:blip r:embed="rId2"/>
          <a:stretch/>
        </p:blipFill>
        <p:spPr>
          <a:xfrm>
            <a:off x="0" y="-54000"/>
            <a:ext cx="9144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24000" y="836640"/>
            <a:ext cx="849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ЭОР– это хранилище информации, в котором можно найти почти все ответы на нужные нам вопросы. Данные хранилища насчитывают более 130 000 образовательных и социокультурных ресурсов, большая часть которых ориентирована на решение задач основного общего и среднего (полного) общего образ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 этой связи рекомендуется максимально широкое использование в 5-11 классах электронной базы ресурсов федеральных образовательных порталов, предназначенных для некоммерческого использования в системе образования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ЭОР – это обучающая программная система комплексного назначения, обеспечивающая непрерывность и полноту дидактического цикла процесса обучения: теоретический материал, контроль уровня знаний и умений, информационно-поисковую деятельность, математическое и имитационное моделирование с компьютерной визуализацией, сервисные функции при условии осуществления интерактивной обратной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3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61" name="Прямоугольник 4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рямоугольник 5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оугольник 6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оугольник 7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оугольник 8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оугольник 9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оугольник 10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Прямоугольник 12"/>
          <p:cNvSpPr/>
          <p:nvPr/>
        </p:nvSpPr>
        <p:spPr>
          <a:xfrm>
            <a:off x="1116000" y="-23760"/>
            <a:ext cx="784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в учебном процес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2374920" y="857160"/>
            <a:ext cx="5294160" cy="514368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2"/>
          <p:cNvSpPr/>
          <p:nvPr/>
        </p:nvSpPr>
        <p:spPr>
          <a:xfrm>
            <a:off x="270000" y="1011240"/>
            <a:ext cx="210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edu54.ru/community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1" descr=""/>
          <p:cNvPicPr/>
          <p:nvPr/>
        </p:nvPicPr>
        <p:blipFill>
          <a:blip r:embed="rId2"/>
          <a:stretch/>
        </p:blipFill>
        <p:spPr>
          <a:xfrm>
            <a:off x="-19080" y="-57240"/>
            <a:ext cx="914400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"/>
          <p:cNvPicPr/>
          <p:nvPr/>
        </p:nvPicPr>
        <p:blipFill>
          <a:blip r:embed="rId1"/>
          <a:stretch/>
        </p:blipFill>
        <p:spPr>
          <a:xfrm>
            <a:off x="1806480" y="946080"/>
            <a:ext cx="5618160" cy="51436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2"/>
          <p:cNvSpPr/>
          <p:nvPr/>
        </p:nvSpPr>
        <p:spPr>
          <a:xfrm>
            <a:off x="196560" y="995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edu54.ru/videocast/?category=131578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1" descr=""/>
          <p:cNvPicPr/>
          <p:nvPr/>
        </p:nvPicPr>
        <p:blipFill>
          <a:blip r:embed="rId2"/>
          <a:stretch/>
        </p:blipFill>
        <p:spPr>
          <a:xfrm>
            <a:off x="42840" y="-6480"/>
            <a:ext cx="914400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596880" y="857160"/>
            <a:ext cx="7950240" cy="514368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2"/>
          <p:cNvSpPr/>
          <p:nvPr/>
        </p:nvSpPr>
        <p:spPr>
          <a:xfrm>
            <a:off x="235080" y="1208160"/>
            <a:ext cx="234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school-collection.edu.ru/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1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1" descr=""/>
          <p:cNvPicPr/>
          <p:nvPr/>
        </p:nvPicPr>
        <p:blipFill>
          <a:blip r:embed="rId1"/>
          <a:stretch/>
        </p:blipFill>
        <p:spPr>
          <a:xfrm>
            <a:off x="1957320" y="949320"/>
            <a:ext cx="6229440" cy="514368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2"/>
          <p:cNvSpPr/>
          <p:nvPr/>
        </p:nvSpPr>
        <p:spPr>
          <a:xfrm>
            <a:off x="130320" y="949320"/>
            <a:ext cx="183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s://interneturok.ru/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"/>
          <p:cNvPicPr/>
          <p:nvPr/>
        </p:nvPicPr>
        <p:blipFill>
          <a:blip r:embed="rId1"/>
          <a:stretch/>
        </p:blipFill>
        <p:spPr>
          <a:xfrm>
            <a:off x="1039680" y="1098720"/>
            <a:ext cx="7182000" cy="514332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2"/>
          <p:cNvSpPr/>
          <p:nvPr/>
        </p:nvSpPr>
        <p:spPr>
          <a:xfrm>
            <a:off x="291960" y="109872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s://learningapps.org/index.php?overview&amp;s=&amp;category=0&amp;tool=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2"/>
          <a:stretch/>
        </p:blipFill>
        <p:spPr>
          <a:xfrm>
            <a:off x="4680" y="0"/>
            <a:ext cx="9144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Группа 10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70" name="Прямоугольник 3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оугольник 5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6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оугольник 7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оугольник 8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оугольник 9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Заголовок 1"/>
          <p:cNvSpPr/>
          <p:nvPr/>
        </p:nvSpPr>
        <p:spPr>
          <a:xfrm>
            <a:off x="42840" y="981000"/>
            <a:ext cx="899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13f9"/>
                </a:solidFill>
                <a:latin typeface="Calibri"/>
              </a:rPr>
              <a:t>Электронный образовательный ресурс (ЭОР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это учебный материал, предназначенный для образовательных целей и представленный в цифровой, электронной, «компьютерной»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Admin\Рабочий стол\notv_2010.jpg"/>
          <p:cNvPicPr/>
          <p:nvPr/>
        </p:nvPicPr>
        <p:blipFill>
          <a:blip r:embed="rId1"/>
          <a:srcRect l="0" t="3020" r="0" b="0"/>
          <a:stretch/>
        </p:blipFill>
        <p:spPr>
          <a:xfrm>
            <a:off x="2916360" y="2997360"/>
            <a:ext cx="2832120" cy="26049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3"/>
          <p:cNvSpPr/>
          <p:nvPr/>
        </p:nvSpPr>
        <p:spPr>
          <a:xfrm>
            <a:off x="836640" y="785880"/>
            <a:ext cx="830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в учебном процес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4"/>
          <p:cNvSpPr/>
          <p:nvPr/>
        </p:nvSpPr>
        <p:spPr>
          <a:xfrm>
            <a:off x="841320" y="493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в учебном процес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3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81" name="Прямоугольник 4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оугольник 5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оугольник 6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оугольник 7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оугольник 8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оугольник 9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оугольник 10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Прямоугольник 11"/>
          <p:cNvSpPr/>
          <p:nvPr/>
        </p:nvSpPr>
        <p:spPr>
          <a:xfrm>
            <a:off x="841320" y="493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, serif"/>
              </a:rPr>
              <a:t>Дидактические принципы применения Э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991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ак и в традиционном обучении, современные электронные образовательные ресурсы (ЭОР) базируются на известных дидактических принципах и правилах: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, serif"/>
              </a:rPr>
              <a:t>Интерактивнос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о время занятий учащийся должен выполнить ряд интерактивных действий: просмотр и прослушивание учебного материала, навигацию, их копирование, обращение к справочной системе, что способствует повышению эффективности сознания и памяти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, serif"/>
              </a:rPr>
              <a:t>Практическая ориентированнос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о всем разделам и учебным модулям представлен мощный блок учебных заданий практической направленности – практические работы, учебные задачи, тестовые вопросы, лабораторные работы, которые становятся универсальным тренингом для обучающих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539640" y="112536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, serif"/>
              </a:rPr>
              <a:t>Доступ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етодика изложения материала доступна для восприятия и позволяет осуществлять обучение, как с помощью учителя, так и самостоятель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аучность изложения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зложение материала опирается на новейшие представления наук, которые в нем интегрированы, включая ИКТ, как базиса новых образовательных технолог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, serif"/>
              </a:rPr>
              <a:t>Последовательность из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Диалоговый интерфейс, система ссылок позволяет инициировать любое обращение по пройденной или по последующей учебной информации, а также к любой справочной и энциклопедическ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, serif"/>
              </a:rPr>
              <a:t>Модульность и вариативность из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атериал разбит на учебные модули (в основе модулей - темы) и микромодули (в основе микромодулей - понятия). Модульность позволяет выстраивать преподавание и обучение индивидуально, вариативно, а также в зависимости от решаемых задач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826920" y="1197000"/>
            <a:ext cx="7848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Преимущества применения Э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ЭОР очень удобно классифицировать, материал представляется на экране компьютера, а не на бумаге. ЭОР имеют хорошо построенную нелинейную систему навигации в виде гипертекстов, целиком состоят из визуального или звукового фрагмента. Учебные материалы представляются множеством различных способов: с помощью графики, фото, видео, анимации и зву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Таким образом, ЭОР представляет собой эффективный механизм, способствующий более быстрому запоминанию материала, благодаря активации зрительной, слуховой и моторной памяти. Тестовое содержание лекций позволяет обучающимся самостоятельно проверить уровень усвоения материала. Для учителей использование наглядных моделей, интерактивных анимации помогает проще и доходчивее объяснить суть сложных явлений, продемонстрировать «виртуальные» опыты и эксперименты, без инвентаря и лаборантов. Кроме того, ЭОР позволяют выполнять более полноценные домашние задания по предмету – от виртуального посещения музея до лабораторного эксперимента, и тут же провести аттестацию собственных знаний, умений и нав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468360" y="770040"/>
            <a:ext cx="856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еобходимо помнить, что применение инновационных процессов обучения заключается не только в повышении качества образования, но и в укреплении здоровья обучающихся и в создании психологического комфорта участникам образовательного процесса. Очень важно обеспечить сохранение здоровья детей при использовании ЭОР и компьютерн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 соответствии с требованиями СанПиН 2.4.2.2821-10, продолжительность непрерывного использования в образовательном процессе технических средств обучения в 8-11 классах составл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смотр статических изображений на учебных досках и экранах отраженного свечения - 2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смотр телепередач -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смотр динамических изображений на учебных досках и экранах отраженного свечения -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работа с изображением на индивидуальном мониторе компьютера и клавиатурой - 2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слушивание аудиозаписи - 2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слушивание аудиозаписи в наушниках - 25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ходя из новых требований, наиболее правильным является такой урок, на котором равномерно чередуются различные формы работы. Работа с тетрадью и учебником чередуется с работой с компьютером, работой с интерактивной доской.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Применение ЭОР не отменяет традиционные формы и методы обучения, а лишь дополняет их, повышая эффективность и качеств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3"/>
          <p:cNvGrpSpPr/>
          <p:nvPr/>
        </p:nvGrpSpPr>
        <p:grpSpPr>
          <a:xfrm>
            <a:off x="0" y="-85680"/>
            <a:ext cx="9147240" cy="855720"/>
            <a:chOff x="0" y="-85680"/>
            <a:chExt cx="9147240" cy="855720"/>
          </a:xfrm>
        </p:grpSpPr>
        <p:sp>
          <p:nvSpPr>
            <p:cNvPr id="96" name="Прямоугольник 4"/>
            <p:cNvSpPr/>
            <p:nvPr/>
          </p:nvSpPr>
          <p:spPr>
            <a:xfrm>
              <a:off x="0" y="-8568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рямоугольник 5"/>
            <p:cNvSpPr/>
            <p:nvPr/>
          </p:nvSpPr>
          <p:spPr>
            <a:xfrm>
              <a:off x="0" y="39060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рямоугольник 6"/>
            <p:cNvSpPr/>
            <p:nvPr/>
          </p:nvSpPr>
          <p:spPr>
            <a:xfrm>
              <a:off x="0" y="46224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оугольник 7"/>
            <p:cNvSpPr/>
            <p:nvPr/>
          </p:nvSpPr>
          <p:spPr>
            <a:xfrm>
              <a:off x="0" y="53532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оугольник 8"/>
            <p:cNvSpPr/>
            <p:nvPr/>
          </p:nvSpPr>
          <p:spPr>
            <a:xfrm>
              <a:off x="2880" y="60660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9"/>
            <p:cNvSpPr/>
            <p:nvPr/>
          </p:nvSpPr>
          <p:spPr>
            <a:xfrm>
              <a:off x="0" y="67824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ик 10"/>
            <p:cNvSpPr/>
            <p:nvPr/>
          </p:nvSpPr>
          <p:spPr>
            <a:xfrm>
              <a:off x="2880" y="72432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Прямоугольник 12"/>
          <p:cNvSpPr/>
          <p:nvPr/>
        </p:nvSpPr>
        <p:spPr>
          <a:xfrm>
            <a:off x="3355920" y="-1440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, serif"/>
              </a:rPr>
              <a:t>ЭОР и здоровь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468360" y="11592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Методика проектирования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дним из основополагающих моментов в использовании компьютера и ИК-технологий на уроке является проектирование самого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1 эта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риентиров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а первом этапе проектирования урока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пределить контингент слуша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учесть возрастную групп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учесть уровень компьютерной грамо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2 эта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Постановка целей и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ужно понять и сформулировать, какие цели и задачи мы ставим перед обучающимися, какие навыки планируем у них сформировать, чему хотим обучить на данном конкретном уроке. Целью является конечный результат данного урока, к которому мы стремимся, в то время как задачи обучения — это этапы выполняемых работ, действия, которые мы совершаем для достижения поставленной цели. Компьютер является лишь средством обучения, который выполняет на уроке определённые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3 эта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Выбор темы и отбор 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пределив целевую аудиторию и сформулировав цели, необходимо отобрать тематическое содержание урока, которое позволит достичь вышеназванных целей. То есть нужно сформулировать основные критерии отбора темы, которые, по сути, будут являться кратчайшим путем достижения 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395280" y="26028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4 этап. Форма и содержание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Формы обучения всегда имеют четко очерченное содержание и в то же время они зависят от различных условий, например, количество обучающихся в классе влияет на выбор учителем таких форм обучения, как индивидуальные, групповые и фронта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Различают формы обу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о месту проведения занятий — школьные, внешкольные, дистанцион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о времени — классные, внекласс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о виду учебной деятельности — урок, лекция, лабораторная работа, консультация, зачет, семина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о степени участия преподавателя — самостоятельная, формы взаимообучения, программированное обу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се виды деятельности обучаемых, являющихся пользователями интернета, можно условно разделить на три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1) поиск информации — работа с браузерами, базами данных, справочными системами и т. п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2) общение — электронная почта, чаты, списки рассылки, on-line форумы, видеоконфере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3) публикация в сети — создание веб-страниц, сай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43:12Z</dcterms:created>
  <dc:creator>Admin</dc:creator>
  <dc:description/>
  <dc:language>en-US</dc:language>
  <cp:lastModifiedBy>231m</cp:lastModifiedBy>
  <dcterms:modified xsi:type="dcterms:W3CDTF">2019-05-13T04:48:58Z</dcterms:modified>
  <cp:revision>147</cp:revision>
  <dc:subject/>
  <dc:title>Презентация PowerPoint</dc:title>
</cp:coreProperties>
</file>