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11.gif" ContentType="image/gif"/>
  <Override PartName="/ppt/media/image5.png" ContentType="image/png"/>
  <Override PartName="/ppt/media/image12.gif" ContentType="image/gif"/>
  <Override PartName="/ppt/media/drumroll.wav" ContentType="audio/x-wav"/>
  <Override PartName="/ppt/media/image13.gif" ContentType="image/gif"/>
  <Override PartName="/ppt/media/chimes.wav" ContentType="audio/x-wav"/>
  <Override PartName="/ppt/media/suction.wav" ContentType="audio/x-wav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1DC-EC46-4D70-BB9D-3CB0E186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4CD-C167-4576-9CEC-11DE4B24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84A-1F70-4D6D-919B-6F3D09B8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57E-4963-4354-B176-20BCA514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58CA-6D32-48F9-8DCB-67CD2CEE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F804-7059-41F1-A711-4C84F99E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98AF-0252-42CB-83A6-6C45B273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2136-769F-4CBD-A6D5-8A66BC83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DE36-FDE4-4B44-967C-7E111DCE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4F7B-8305-4A6E-BDA9-369D26EE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37EB-343C-4809-AAF5-5AE69603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B52-75D3-44E4-B344-42330BB6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DC76-0BC5-4882-9437-EE7AB011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7995-B890-4DEF-B349-74FDDDB2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5403-640B-489C-A051-7EA3D2F9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FC36-CE50-45E9-9E02-37731007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3B42-70AC-4DD7-82D1-A6658869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1C0C1-08B4-41B5-BDE5-98BD0A0D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118D-4BCE-4354-B1C3-B6B8E58B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7069-3954-4283-BC98-36A438DD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4E83-812A-40E8-9A12-CA2EB20B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5AE8-8B3F-40F8-A331-2F89A1A3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FC2-B302-4FC1-8225-CAEDC3E7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08A6-BE3D-467B-A13A-AD371FEE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F1BA-3A85-43D2-973F-DAA0B108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5C6C-8664-40DD-B636-EB10AA68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190A-A6CF-49BF-996C-C3B71E0F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8C5B-7248-49A5-B571-58ABA36D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007A-3027-4D50-850A-CB56615C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442C0-54F9-4F52-A0CD-0C3CDF77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C6BD-79B3-42A9-A36A-BFA8F7AB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FC06F-BD00-4C5E-B96F-323FF609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5F9D8-B38F-4EC1-9683-B77676AF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7035-C1F5-4587-BF8C-07678AFC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FAAE-6797-4121-B6A7-A5F259D6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678A-A75B-42F5-BFF2-0B769CB4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73F8-9264-4F34-AB43-6420EE4D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B64EC-2375-4B82-B835-9F04BD6B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72C2-C0D9-4C36-A46D-29EACA72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6C34-537B-4BED-AD5E-419A0F0C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C43C-0CB8-435B-B5CE-072CDFCC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26F0E-0812-46D4-87AF-C7A4A068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2719-A821-4D0A-815C-D06D49CD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077-C4FF-4DEC-9196-B4A969C2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AE6-FC3D-472B-A175-3C531FA6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992-FE9A-4ED7-9FDF-B88B4118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7EF-DB0F-403C-801D-185696C7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CC0-CA5B-4354-A99B-8CC82BA0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f6fe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78A3-5077-4908-B82F-EBB5752334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f6fe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B22F-4987-464A-9909-15CA5ED5D8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f6fe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71CA-85FC-49CB-A553-9E2443F539DD}" type="slidenum">
              <a:rPr b="0" lang="ru-RU" sz="12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f6fe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с одним вырезанным скругленным углом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ый треугольник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олилиния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олилиния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8cdd7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2655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2655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3202-461A-49B0-B0E3-474483F5944C}" type="slidenum">
              <a:rPr b="0" lang="ru-RU" sz="1200" spc="-1" strike="noStrike">
                <a:solidFill>
                  <a:srgbClr val="62655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3"/>
          <p:cNvSpPr/>
          <p:nvPr/>
        </p:nvSpPr>
        <p:spPr>
          <a:xfrm>
            <a:off x="4911840" y="5589720"/>
            <a:ext cx="29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1150920" y="1314360"/>
            <a:ext cx="7516800" cy="26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Прямая и обратн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порциональны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висимости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385920" y="279360"/>
            <a:ext cx="1908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Times New Roman"/>
              </a:rPr>
              <a:t>6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71" name="Picture 11" descr="052a"/>
          <p:cNvPicPr/>
          <p:nvPr/>
        </p:nvPicPr>
        <p:blipFill>
          <a:blip r:embed="rId1"/>
          <a:stretch/>
        </p:blipFill>
        <p:spPr>
          <a:xfrm>
            <a:off x="0" y="4915080"/>
            <a:ext cx="2521080" cy="172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38120" y="324000"/>
            <a:ext cx="820728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Arial"/>
              </a:rPr>
              <a:t>Краткое решение задач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3600" spc="-1" strike="noStrike">
                <a:solidFill>
                  <a:srgbClr val="000052"/>
                </a:solidFill>
                <a:latin typeface="Arial"/>
              </a:rPr>
              <a:t>размеры          ч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52"/>
                </a:solidFill>
                <a:latin typeface="Arial"/>
              </a:rPr>
              <a:t>Ширина             13 см                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52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52"/>
                </a:solidFill>
                <a:latin typeface="Arial"/>
              </a:rPr>
              <a:t>Длина                  х см                 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rcRect l="7079" t="13596" r="11142" b="0"/>
          <a:stretch/>
        </p:blipFill>
        <p:spPr>
          <a:xfrm>
            <a:off x="411120" y="368280"/>
            <a:ext cx="81662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707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073c"/>
                </a:solidFill>
                <a:latin typeface="Georgia"/>
              </a:rPr>
              <a:t>Для отопления здания школы заготовлено угля на 180 дней при норме расхода 0,6 т угля в день. На сколько дней хватит этого запаса, если его расходовать ежедневно по 0,5 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4"/>
          <p:cNvSpPr txBox="1"/>
          <p:nvPr/>
        </p:nvSpPr>
        <p:spPr>
          <a:xfrm>
            <a:off x="836640" y="279360"/>
            <a:ext cx="71294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Решите задачу</a:t>
            </a:r>
            <a:endParaRPr b="0" i="1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41280" y="3922560"/>
                <a:ext cx="19353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6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2457360" y="3959280"/>
                <a:ext cx="21146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4751280" y="4194000"/>
                <a:ext cx="1665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Rectangle 9"/>
          <p:cNvSpPr/>
          <p:nvPr/>
        </p:nvSpPr>
        <p:spPr>
          <a:xfrm>
            <a:off x="971640" y="1358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  <a:ea typeface="Times New Roman"/>
              </a:rPr>
              <a:t>Краткая запис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1908000" y="1033560"/>
            <a:ext cx="147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1908000" y="1033560"/>
            <a:ext cx="147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971640" y="1449360"/>
          <a:ext cx="6840360" cy="2505240"/>
        </p:xfrm>
        <a:graphic>
          <a:graphicData uri="http://schemas.openxmlformats.org/drawingml/2006/table">
            <a:tbl>
              <a:tblPr/>
              <a:tblGrid>
                <a:gridCol w="2279520"/>
                <a:gridCol w="2281320"/>
                <a:gridCol w="22795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Масса (т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за 1 д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      </a:t>
                      </a: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дн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        </a:t>
                      </a:r>
                      <a:r>
                        <a:rPr b="1" i="1" lang="ru-RU" sz="2400" spc="-1" strike="noStrike">
                          <a:solidFill>
                            <a:srgbClr val="990000"/>
                          </a:solidFill>
                          <a:latin typeface="Georgia"/>
                          <a:ea typeface="Times New Roman"/>
                        </a:rPr>
                        <a:t>По нор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Georgia"/>
                          <a:ea typeface="Times New Roman"/>
                        </a:rPr>
                        <a:t>0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Georgia"/>
                          <a:ea typeface="Times New Roman"/>
                        </a:rPr>
                        <a:t>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Georgia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Georgia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38"/>
          <p:cNvSpPr/>
          <p:nvPr/>
        </p:nvSpPr>
        <p:spPr>
          <a:xfrm>
            <a:off x="206280" y="3518280"/>
            <a:ext cx="571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b10f0"/>
                </a:solidFill>
                <a:latin typeface="Georgia"/>
                <a:ea typeface="Times New Roman"/>
              </a:rPr>
              <a:t>Составим пропорц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9"/>
          <p:cNvSpPr/>
          <p:nvPr/>
        </p:nvSpPr>
        <p:spPr>
          <a:xfrm>
            <a:off x="1513080" y="42836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718080" y="42836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1"/>
          <p:cNvSpPr/>
          <p:nvPr/>
        </p:nvSpPr>
        <p:spPr>
          <a:xfrm>
            <a:off x="387000" y="536292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b10f0"/>
                </a:solidFill>
                <a:latin typeface="Times New Roman"/>
                <a:ea typeface="Times New Roman"/>
              </a:rPr>
              <a:t>Ответ: 216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90"/>
          <p:cNvSpPr/>
          <p:nvPr/>
        </p:nvSpPr>
        <p:spPr>
          <a:xfrm>
            <a:off x="3132000" y="274680"/>
            <a:ext cx="409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Georgia"/>
              </a:rPr>
              <a:t>Реше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2"/>
          <p:cNvSpPr/>
          <p:nvPr/>
        </p:nvSpPr>
        <p:spPr>
          <a:xfrm>
            <a:off x="3851280" y="2798640"/>
            <a:ext cx="0" cy="586080"/>
          </a:xfrm>
          <a:prstGeom prst="line">
            <a:avLst/>
          </a:prstGeom>
          <a:ln w="28440">
            <a:solidFill>
              <a:srgbClr val="2aa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94"/>
          <p:cNvSpPr/>
          <p:nvPr/>
        </p:nvSpPr>
        <p:spPr>
          <a:xfrm flipV="1">
            <a:off x="6012000" y="2798640"/>
            <a:ext cx="0" cy="586080"/>
          </a:xfrm>
          <a:prstGeom prst="line">
            <a:avLst/>
          </a:prstGeom>
          <a:ln w="28440">
            <a:solidFill>
              <a:srgbClr val="2aac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3300"/>
                </a:solidFill>
                <a:latin typeface="Monotype Corsiva"/>
              </a:rPr>
              <a:t>Решите уравне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1731960" y="1660680"/>
                <a:ext cx="4505400" cy="42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:0,24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,06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,06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0,06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0,06;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: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12"/>
          <p:cNvSpPr/>
          <p:nvPr/>
        </p:nvSpPr>
        <p:spPr>
          <a:xfrm>
            <a:off x="250920" y="1089000"/>
            <a:ext cx="2746440" cy="3060720"/>
          </a:xfrm>
          <a:custGeom>
            <a:avLst/>
            <a:gdLst>
              <a:gd name="textAreaLeft" fmla="*/ 133920 w 2746440"/>
              <a:gd name="textAreaRight" fmla="*/ 2612520 w 2746440"/>
              <a:gd name="textAreaTop" fmla="*/ 133920 h 3060720"/>
              <a:gd name="textAreaBottom" fmla="*/ 2926800 h 3060720"/>
            </a:gdLst>
            <a:ahLst/>
            <a:rect l="textAreaLeft" t="textAreaTop" r="textAreaRight" b="textAreaBottom"/>
            <a:pathLst>
              <a:path w="21600" h="24071">
                <a:moveTo>
                  <a:pt x="3600" y="0"/>
                </a:moveTo>
                <a:arcTo wR="3600" hR="3600" stAng="16200000" swAng="-5400000"/>
                <a:lnTo>
                  <a:pt x="0" y="20471"/>
                </a:lnTo>
                <a:arcTo wR="3600" hR="3600" stAng="10800000" swAng="-5400000"/>
                <a:lnTo>
                  <a:pt x="18000" y="24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0920" y="1089000"/>
            <a:ext cx="30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297000" y="1133640"/>
            <a:ext cx="292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341280" y="1042920"/>
            <a:ext cx="283536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№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На путь от одного поселка до другого со скоростью 12,5 км/ч велосипедист затратил 0,7 ч. С какой скоростью он должен был ехать, чтобы преодолеть этот путь за 0,5 ч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3267000" y="1089000"/>
            <a:ext cx="2565360" cy="2744640"/>
          </a:xfrm>
          <a:custGeom>
            <a:avLst/>
            <a:gdLst>
              <a:gd name="textAreaLeft" fmla="*/ 124920 w 2565360"/>
              <a:gd name="textAreaRight" fmla="*/ 2440440 w 2565360"/>
              <a:gd name="textAreaTop" fmla="*/ 124920 h 2744640"/>
              <a:gd name="textAreaBottom" fmla="*/ 2619720 h 274464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762360" y="122400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402000" y="1224000"/>
            <a:ext cx="2295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№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2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Из 5 кг свежих слив получается 1,5 кг чернослив. Сколько чернослива получится их 17,5 кг свежих сли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21"/>
          <p:cNvSpPr/>
          <p:nvPr/>
        </p:nvSpPr>
        <p:spPr>
          <a:xfrm>
            <a:off x="6058080" y="1089000"/>
            <a:ext cx="2700000" cy="3014640"/>
          </a:xfrm>
          <a:custGeom>
            <a:avLst/>
            <a:gdLst>
              <a:gd name="textAreaLeft" fmla="*/ 131760 w 2700000"/>
              <a:gd name="textAreaRight" fmla="*/ 2568240 w 2700000"/>
              <a:gd name="textAreaTop" fmla="*/ 131760 h 3014640"/>
              <a:gd name="textAreaBottom" fmla="*/ 2882880 h 3014640"/>
            </a:gdLst>
            <a:ahLst/>
            <a:rect l="textAreaLeft" t="textAreaTop" r="textAreaRight" b="textAreaBottom"/>
            <a:pathLst>
              <a:path w="21600" h="24117">
                <a:moveTo>
                  <a:pt x="3600" y="0"/>
                </a:moveTo>
                <a:arcTo wR="3600" hR="3600" stAng="16200000" swAng="-5400000"/>
                <a:lnTo>
                  <a:pt x="0" y="20517"/>
                </a:lnTo>
                <a:arcTo wR="3600" hR="3600" stAng="10800000" swAng="-5400000"/>
                <a:lnTo>
                  <a:pt x="18000" y="241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6146640" y="1133640"/>
            <a:ext cx="2656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№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3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Автомобиль проехал 500 км, истратив 35л бензина. Сколько литров бензина потребуется, чтобы проехать 420 к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23"/>
          <p:cNvSpPr/>
          <p:nvPr/>
        </p:nvSpPr>
        <p:spPr>
          <a:xfrm>
            <a:off x="250920" y="4329000"/>
            <a:ext cx="3690720" cy="2025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341280" y="4419720"/>
            <a:ext cx="355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Monotype Corsiva"/>
                <a:ea typeface="Times New Roman"/>
              </a:rPr>
              <a:t>№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Monotype Corsiva"/>
                <a:ea typeface="Times New Roman"/>
              </a:rPr>
              <a:t>4.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9900"/>
                </a:solidFill>
                <a:latin typeface="Monotype Corsiva"/>
                <a:ea typeface="Times New Roman"/>
              </a:rPr>
              <a:t>За 2 ч поймали 12 карасей. Сколько карасей поймают за 3 ч?</a:t>
            </a:r>
            <a:r>
              <a:rPr b="1" i="1" lang="ru-RU" sz="2400" spc="-1" strike="noStrike">
                <a:solidFill>
                  <a:srgbClr val="0099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30"/>
          <p:cNvGrpSpPr/>
          <p:nvPr/>
        </p:nvGrpSpPr>
        <p:grpSpPr>
          <a:xfrm>
            <a:off x="4527720" y="4419720"/>
            <a:ext cx="4410000" cy="2336400"/>
            <a:chOff x="4527720" y="4419720"/>
            <a:chExt cx="4410000" cy="2336400"/>
          </a:xfrm>
        </p:grpSpPr>
        <p:sp>
          <p:nvSpPr>
            <p:cNvPr id="258" name="AutoShape 25"/>
            <p:cNvSpPr/>
            <p:nvPr/>
          </p:nvSpPr>
          <p:spPr>
            <a:xfrm>
              <a:off x="4527720" y="4419720"/>
              <a:ext cx="4410000" cy="202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efff"/>
                </a:gs>
                <a:gs pos="100000">
                  <a:srgbClr val="ff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26"/>
            <p:cNvSpPr/>
            <p:nvPr/>
          </p:nvSpPr>
          <p:spPr>
            <a:xfrm>
              <a:off x="4707000" y="4599000"/>
              <a:ext cx="405108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№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5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ru-RU" sz="1800" spc="-1" strike="noStrike">
                  <a:solidFill>
                    <a:srgbClr val="800000"/>
                  </a:solidFill>
                  <a:latin typeface="Arial"/>
                </a:rPr>
                <a:t>Шесть маляров могут выполнить некоторую работу за 18 дней. Сколько еще маляров надо пригласить, чтобы работа была выполнена за 12 дней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WordArt 27"/>
          <p:cNvSpPr txBox="1"/>
          <p:nvPr/>
        </p:nvSpPr>
        <p:spPr>
          <a:xfrm>
            <a:off x="2322360" y="142920"/>
            <a:ext cx="638352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Самостоятельная работа</a:t>
            </a:r>
            <a:endParaRPr b="1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701640" y="59364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Решите задачи, составляя пропо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15" descr="sova.gif"/>
          <p:cNvPicPr/>
          <p:nvPr/>
        </p:nvPicPr>
        <p:blipFill>
          <a:blip r:embed="rId1"/>
          <a:stretch/>
        </p:blipFill>
        <p:spPr>
          <a:xfrm rot="20765400">
            <a:off x="115560" y="0"/>
            <a:ext cx="12160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96640" y="279360"/>
            <a:ext cx="780588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Решения задач из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908000" y="1022400"/>
            <a:ext cx="147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1908000" y="1022400"/>
            <a:ext cx="1476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87"/>
          <p:cNvSpPr/>
          <p:nvPr/>
        </p:nvSpPr>
        <p:spPr>
          <a:xfrm>
            <a:off x="298800" y="9072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8"/>
          <p:cNvSpPr/>
          <p:nvPr/>
        </p:nvSpPr>
        <p:spPr>
          <a:xfrm>
            <a:off x="929520" y="122328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93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95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97000" y="1673280"/>
          <a:ext cx="3689280" cy="1736640"/>
        </p:xfrm>
        <a:graphic>
          <a:graphicData uri="http://schemas.openxmlformats.org/drawingml/2006/table">
            <a:tbl>
              <a:tblPr/>
              <a:tblGrid>
                <a:gridCol w="1844640"/>
                <a:gridCol w="184464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Скорость (км/ч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ремя (ч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Line 114"/>
          <p:cNvSpPr/>
          <p:nvPr/>
        </p:nvSpPr>
        <p:spPr>
          <a:xfrm flipV="1">
            <a:off x="836640" y="2663640"/>
            <a:ext cx="0" cy="585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15"/>
          <p:cNvSpPr/>
          <p:nvPr/>
        </p:nvSpPr>
        <p:spPr>
          <a:xfrm>
            <a:off x="2681280" y="2708280"/>
            <a:ext cx="0" cy="63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1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16"/>
              <p:cNvSpPr txBox="1"/>
              <p:nvPr/>
            </p:nvSpPr>
            <p:spPr>
              <a:xfrm>
                <a:off x="701640" y="3473280"/>
                <a:ext cx="16653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,7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18"/>
              <p:cNvSpPr txBox="1"/>
              <p:nvPr/>
            </p:nvSpPr>
            <p:spPr>
              <a:xfrm>
                <a:off x="792000" y="4441680"/>
                <a:ext cx="18892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0,7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Rectangle 12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20"/>
              <p:cNvSpPr txBox="1"/>
              <p:nvPr/>
            </p:nvSpPr>
            <p:spPr>
              <a:xfrm>
                <a:off x="927000" y="5408640"/>
                <a:ext cx="14842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122"/>
          <p:cNvSpPr/>
          <p:nvPr/>
        </p:nvSpPr>
        <p:spPr>
          <a:xfrm>
            <a:off x="836640" y="619200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Ответ: 17,5 км/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125" descr="051"/>
          <p:cNvPicPr/>
          <p:nvPr/>
        </p:nvPicPr>
        <p:blipFill>
          <a:blip r:embed="rId1"/>
          <a:stretch/>
        </p:blipFill>
        <p:spPr>
          <a:xfrm>
            <a:off x="162000" y="0"/>
            <a:ext cx="957240" cy="9907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26"/>
          <p:cNvSpPr/>
          <p:nvPr/>
        </p:nvSpPr>
        <p:spPr>
          <a:xfrm>
            <a:off x="5294880" y="9072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7"/>
          <p:cNvSpPr/>
          <p:nvPr/>
        </p:nvSpPr>
        <p:spPr>
          <a:xfrm>
            <a:off x="5565240" y="126756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32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34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111640" y="1628640"/>
          <a:ext cx="2952720" cy="173700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Сливы (кг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Чернослив (кг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Line 154"/>
          <p:cNvSpPr/>
          <p:nvPr/>
        </p:nvSpPr>
        <p:spPr>
          <a:xfrm>
            <a:off x="5427720" y="2573280"/>
            <a:ext cx="0" cy="63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55"/>
          <p:cNvSpPr/>
          <p:nvPr/>
        </p:nvSpPr>
        <p:spPr>
          <a:xfrm>
            <a:off x="6958080" y="2573280"/>
            <a:ext cx="0" cy="63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58"/>
              <p:cNvSpPr txBox="1"/>
              <p:nvPr/>
            </p:nvSpPr>
            <p:spPr>
              <a:xfrm>
                <a:off x="5337000" y="3429000"/>
                <a:ext cx="1530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57"/>
              <p:cNvSpPr txBox="1"/>
              <p:nvPr/>
            </p:nvSpPr>
            <p:spPr>
              <a:xfrm>
                <a:off x="5427720" y="4419720"/>
                <a:ext cx="1800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,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56"/>
              <p:cNvSpPr txBox="1"/>
              <p:nvPr/>
            </p:nvSpPr>
            <p:spPr>
              <a:xfrm>
                <a:off x="5427720" y="5364000"/>
                <a:ext cx="15746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Rectangle 159"/>
          <p:cNvSpPr/>
          <p:nvPr/>
        </p:nvSpPr>
        <p:spPr>
          <a:xfrm>
            <a:off x="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160"/>
          <p:cNvSpPr/>
          <p:nvPr/>
        </p:nvSpPr>
        <p:spPr>
          <a:xfrm>
            <a:off x="2368440" y="3756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61"/>
          <p:cNvSpPr/>
          <p:nvPr/>
        </p:nvSpPr>
        <p:spPr>
          <a:xfrm>
            <a:off x="1800" y="358020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62"/>
          <p:cNvSpPr/>
          <p:nvPr/>
        </p:nvSpPr>
        <p:spPr>
          <a:xfrm>
            <a:off x="7003440" y="54522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63"/>
          <p:cNvSpPr/>
          <p:nvPr/>
        </p:nvSpPr>
        <p:spPr>
          <a:xfrm>
            <a:off x="5292720" y="6158520"/>
            <a:ext cx="23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Ответ: 5,25 к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64"/>
          <p:cNvSpPr/>
          <p:nvPr/>
        </p:nvSpPr>
        <p:spPr>
          <a:xfrm>
            <a:off x="2683080" y="459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65"/>
          <p:cNvSpPr/>
          <p:nvPr/>
        </p:nvSpPr>
        <p:spPr>
          <a:xfrm>
            <a:off x="6823080" y="3607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6"/>
          <p:cNvSpPr/>
          <p:nvPr/>
        </p:nvSpPr>
        <p:spPr>
          <a:xfrm>
            <a:off x="7183440" y="4553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13" descr="94087a008b0d7e9243e6b1ddf3ccbc94"/>
          <p:cNvPicPr/>
          <p:nvPr/>
        </p:nvPicPr>
        <p:blipFill>
          <a:blip r:embed="rId2"/>
          <a:stretch/>
        </p:blipFill>
        <p:spPr>
          <a:xfrm>
            <a:off x="4211640" y="144936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94087a008b0d7e9243e6b1ddf3ccbc94"/>
          <p:cNvPicPr/>
          <p:nvPr/>
        </p:nvPicPr>
        <p:blipFill>
          <a:blip r:embed="rId3"/>
          <a:stretch/>
        </p:blipFill>
        <p:spPr>
          <a:xfrm>
            <a:off x="4167360" y="2168640"/>
            <a:ext cx="495000" cy="495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3" descr="94087a008b0d7e9243e6b1ddf3ccbc94"/>
          <p:cNvPicPr/>
          <p:nvPr/>
        </p:nvPicPr>
        <p:blipFill>
          <a:blip r:embed="rId4"/>
          <a:stretch/>
        </p:blipFill>
        <p:spPr>
          <a:xfrm>
            <a:off x="4211640" y="2933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94087a008b0d7e9243e6b1ddf3ccbc94"/>
          <p:cNvPicPr/>
          <p:nvPr/>
        </p:nvPicPr>
        <p:blipFill>
          <a:blip r:embed="rId5"/>
          <a:stretch/>
        </p:blipFill>
        <p:spPr>
          <a:xfrm>
            <a:off x="4211640" y="365436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94087a008b0d7e9243e6b1ddf3ccbc94"/>
          <p:cNvPicPr/>
          <p:nvPr/>
        </p:nvPicPr>
        <p:blipFill>
          <a:blip r:embed="rId6"/>
          <a:stretch/>
        </p:blipFill>
        <p:spPr>
          <a:xfrm>
            <a:off x="4211640" y="437364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94087a008b0d7e9243e6b1ddf3ccbc94"/>
          <p:cNvPicPr/>
          <p:nvPr/>
        </p:nvPicPr>
        <p:blipFill>
          <a:blip r:embed="rId7"/>
          <a:stretch/>
        </p:blipFill>
        <p:spPr>
          <a:xfrm>
            <a:off x="4257720" y="509436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94087a008b0d7e9243e6b1ddf3ccbc94"/>
          <p:cNvPicPr/>
          <p:nvPr/>
        </p:nvPicPr>
        <p:blipFill>
          <a:blip r:embed="rId8"/>
          <a:stretch/>
        </p:blipFill>
        <p:spPr>
          <a:xfrm>
            <a:off x="4257720" y="5815080"/>
            <a:ext cx="4953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06640" y="274680"/>
            <a:ext cx="758016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Monotype Corsiva"/>
              </a:rPr>
              <a:t>Решения задач из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298800" y="90720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5518800" y="8629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929520" y="122328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5744520" y="122328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3095640" y="297504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85920" y="1628640"/>
          <a:ext cx="2952720" cy="173700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</a:tblGrid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Расстояние (км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Бензин (л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Line 34"/>
          <p:cNvSpPr/>
          <p:nvPr/>
        </p:nvSpPr>
        <p:spPr>
          <a:xfrm>
            <a:off x="746280" y="2664000"/>
            <a:ext cx="0" cy="53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5"/>
          <p:cNvSpPr/>
          <p:nvPr/>
        </p:nvSpPr>
        <p:spPr>
          <a:xfrm>
            <a:off x="2276640" y="2708280"/>
            <a:ext cx="0" cy="53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8"/>
              <p:cNvSpPr txBox="1"/>
              <p:nvPr/>
            </p:nvSpPr>
            <p:spPr>
              <a:xfrm>
                <a:off x="522360" y="3473280"/>
                <a:ext cx="18000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7"/>
              <p:cNvSpPr txBox="1"/>
              <p:nvPr/>
            </p:nvSpPr>
            <p:spPr>
              <a:xfrm>
                <a:off x="611280" y="4464000"/>
                <a:ext cx="1890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6"/>
              <p:cNvSpPr txBox="1"/>
              <p:nvPr/>
            </p:nvSpPr>
            <p:spPr>
              <a:xfrm>
                <a:off x="701640" y="5454720"/>
                <a:ext cx="14842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,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Rectangle 39"/>
          <p:cNvSpPr/>
          <p:nvPr/>
        </p:nvSpPr>
        <p:spPr>
          <a:xfrm>
            <a:off x="0" y="237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0"/>
          <p:cNvSpPr/>
          <p:nvPr/>
        </p:nvSpPr>
        <p:spPr>
          <a:xfrm>
            <a:off x="1800" y="276444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522360" y="596160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вет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9,4 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47"/>
          <p:cNvSpPr/>
          <p:nvPr/>
        </p:nvSpPr>
        <p:spPr>
          <a:xfrm>
            <a:off x="3095640" y="286848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49"/>
          <p:cNvSpPr/>
          <p:nvPr/>
        </p:nvSpPr>
        <p:spPr>
          <a:xfrm>
            <a:off x="3095640" y="286848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111640" y="1584360"/>
          <a:ext cx="3691080" cy="1798560"/>
        </p:xfrm>
        <a:graphic>
          <a:graphicData uri="http://schemas.openxmlformats.org/drawingml/2006/table">
            <a:tbl>
              <a:tblPr/>
              <a:tblGrid>
                <a:gridCol w="1846440"/>
                <a:gridCol w="1844640"/>
              </a:tblGrid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оличество маля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2200"/>
                      </a:br>
                      <a:r>
                        <a:rPr b="1" i="1" lang="ru-RU" sz="22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 (дни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ru-RU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Line 74"/>
          <p:cNvSpPr/>
          <p:nvPr/>
        </p:nvSpPr>
        <p:spPr>
          <a:xfrm flipV="1">
            <a:off x="5742000" y="2572920"/>
            <a:ext cx="0" cy="63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75"/>
          <p:cNvSpPr/>
          <p:nvPr/>
        </p:nvSpPr>
        <p:spPr>
          <a:xfrm>
            <a:off x="7542360" y="2619360"/>
            <a:ext cx="0" cy="53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78"/>
              <p:cNvSpPr txBox="1"/>
              <p:nvPr/>
            </p:nvSpPr>
            <p:spPr>
              <a:xfrm>
                <a:off x="5337000" y="3473280"/>
                <a:ext cx="13957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77"/>
              <p:cNvSpPr txBox="1"/>
              <p:nvPr/>
            </p:nvSpPr>
            <p:spPr>
              <a:xfrm>
                <a:off x="7002360" y="3564000"/>
                <a:ext cx="13953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6"/>
              <p:cNvSpPr txBox="1"/>
              <p:nvPr/>
            </p:nvSpPr>
            <p:spPr>
              <a:xfrm>
                <a:off x="5337000" y="4508640"/>
                <a:ext cx="10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9" name="Rectangle 79"/>
          <p:cNvSpPr/>
          <p:nvPr/>
        </p:nvSpPr>
        <p:spPr>
          <a:xfrm>
            <a:off x="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80"/>
          <p:cNvSpPr/>
          <p:nvPr/>
        </p:nvSpPr>
        <p:spPr>
          <a:xfrm>
            <a:off x="1800" y="266760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81"/>
          <p:cNvSpPr/>
          <p:nvPr/>
        </p:nvSpPr>
        <p:spPr>
          <a:xfrm>
            <a:off x="1800" y="336276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3"/>
          <p:cNvSpPr/>
          <p:nvPr/>
        </p:nvSpPr>
        <p:spPr>
          <a:xfrm>
            <a:off x="6372360" y="4598280"/>
            <a:ext cx="29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ляров выполнят работу за 12 дн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84"/>
          <p:cNvSpPr/>
          <p:nvPr/>
        </p:nvSpPr>
        <p:spPr>
          <a:xfrm>
            <a:off x="5203440" y="5272560"/>
            <a:ext cx="3467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)9 -6=3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маляра нужно ещё 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пригласи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85"/>
          <p:cNvSpPr/>
          <p:nvPr/>
        </p:nvSpPr>
        <p:spPr>
          <a:xfrm>
            <a:off x="5294160" y="612828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Ответ: 3 маля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794088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Дополнительная задач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701640" y="998640"/>
            <a:ext cx="81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Georgia"/>
              </a:rPr>
              <a:t>№</a:t>
            </a:r>
            <a:r>
              <a:rPr b="0" i="1" lang="ru-RU" sz="2400" spc="-1" strike="noStrike" u="sng">
                <a:solidFill>
                  <a:srgbClr val="cc0000"/>
                </a:solidFill>
                <a:uFillTx/>
                <a:latin typeface="Georgia"/>
              </a:rPr>
              <a:t>6.</a:t>
            </a:r>
            <a:r>
              <a:rPr b="0" i="1" lang="ru-RU" sz="2400" spc="-1" strike="noStrike">
                <a:solidFill>
                  <a:srgbClr val="0000cc"/>
                </a:solidFill>
                <a:latin typeface="Georgia"/>
              </a:rPr>
              <a:t>	</a:t>
            </a:r>
            <a:r>
              <a:rPr b="0" i="1" lang="ru-RU" sz="2400" spc="-1" strike="noStrike">
                <a:solidFill>
                  <a:srgbClr val="0000cc"/>
                </a:solidFill>
                <a:latin typeface="Georgia"/>
              </a:rPr>
              <a:t>Горнорудному предприятию требуется закупить на определённую сумму денег 5 новых машин по цене 12 тыс. руб. за одну. Сколько таких машин сможет купить предприятие, если цена за одну машину станет  15 тыс. рубл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3494520" y="288864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ешение: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927000" y="3249000"/>
            <a:ext cx="29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Краткая запис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 flipV="1">
            <a:off x="3560760" y="348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Line 8"/>
          <p:cNvSpPr/>
          <p:nvPr/>
        </p:nvSpPr>
        <p:spPr>
          <a:xfrm>
            <a:off x="4935600" y="35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3095640" y="286848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3095640" y="2868480"/>
            <a:ext cx="147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880920" y="3608280"/>
          <a:ext cx="4681800" cy="1616040"/>
        </p:xfrm>
        <a:graphic>
          <a:graphicData uri="http://schemas.openxmlformats.org/drawingml/2006/table">
            <a:tbl>
              <a:tblPr/>
              <a:tblGrid>
                <a:gridCol w="2341800"/>
                <a:gridCol w="2340000"/>
              </a:tblGrid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Количество машин (ш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Цена (тыс.руб.)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i="1" lang="ru-RU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Line 38"/>
          <p:cNvSpPr/>
          <p:nvPr/>
        </p:nvSpPr>
        <p:spPr>
          <a:xfrm flipV="1">
            <a:off x="1827360" y="4419720"/>
            <a:ext cx="0" cy="674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39"/>
          <p:cNvSpPr/>
          <p:nvPr/>
        </p:nvSpPr>
        <p:spPr>
          <a:xfrm>
            <a:off x="4032360" y="4419720"/>
            <a:ext cx="0" cy="676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42"/>
              <p:cNvSpPr txBox="1"/>
              <p:nvPr/>
            </p:nvSpPr>
            <p:spPr>
              <a:xfrm>
                <a:off x="880920" y="5499000"/>
                <a:ext cx="18892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1"/>
              <p:cNvSpPr txBox="1"/>
              <p:nvPr/>
            </p:nvSpPr>
            <p:spPr>
              <a:xfrm>
                <a:off x="3132000" y="5499000"/>
                <a:ext cx="14842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0"/>
              <p:cNvSpPr txBox="1"/>
              <p:nvPr/>
            </p:nvSpPr>
            <p:spPr>
              <a:xfrm>
                <a:off x="4751280" y="5543640"/>
                <a:ext cx="1035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Rectangle 43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45"/>
          <p:cNvSpPr/>
          <p:nvPr/>
        </p:nvSpPr>
        <p:spPr>
          <a:xfrm>
            <a:off x="2727360" y="5677200"/>
            <a:ext cx="56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46"/>
          <p:cNvSpPr/>
          <p:nvPr/>
        </p:nvSpPr>
        <p:spPr>
          <a:xfrm>
            <a:off x="5877000" y="5608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51"/>
          <p:cNvSpPr/>
          <p:nvPr/>
        </p:nvSpPr>
        <p:spPr>
          <a:xfrm>
            <a:off x="4527720" y="5677200"/>
            <a:ext cx="56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2"/>
          <p:cNvSpPr/>
          <p:nvPr/>
        </p:nvSpPr>
        <p:spPr>
          <a:xfrm>
            <a:off x="1197000" y="63093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Ответ: 4 ма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42840" y="1300320"/>
                <a:ext cx="2578320" cy="43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:</m:t>
                        </m:r>
                        <m:r>
                          <m:t xml:space="preserve">6</m:t>
                        </m:r>
                      </m:e>
                      <m:e/>
                      <m:e>
                        <m:r>
                          <m:t xml:space="preserve">5</m:t>
                        </m:r>
                        <m:r>
                          <m:t xml:space="preserve">: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:</m:t>
                        </m:r>
                        <m:r>
                          <m:t xml:space="preserve">6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: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: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0" y="266688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594400" y="1739880"/>
                <a:ext cx="1200240" cy="35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299760" y="273276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Группа 20"/>
          <p:cNvGrpSpPr/>
          <p:nvPr/>
        </p:nvGrpSpPr>
        <p:grpSpPr>
          <a:xfrm>
            <a:off x="927000" y="1251000"/>
            <a:ext cx="603360" cy="642600"/>
            <a:chOff x="927000" y="1251000"/>
            <a:chExt cx="603360" cy="642600"/>
          </a:xfrm>
        </p:grpSpPr>
        <p:sp>
          <p:nvSpPr>
            <p:cNvPr id="179" name="Rectangle 8"/>
            <p:cNvSpPr/>
            <p:nvPr/>
          </p:nvSpPr>
          <p:spPr>
            <a:xfrm>
              <a:off x="927000" y="1251000"/>
              <a:ext cx="603360" cy="488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1080720" y="125100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Прямоугольник 14"/>
          <p:cNvSpPr/>
          <p:nvPr/>
        </p:nvSpPr>
        <p:spPr>
          <a:xfrm>
            <a:off x="1104840" y="40644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неизвестный член пропор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Группа 26"/>
          <p:cNvGrpSpPr/>
          <p:nvPr/>
        </p:nvGrpSpPr>
        <p:grpSpPr>
          <a:xfrm>
            <a:off x="2482920" y="2228760"/>
            <a:ext cx="603360" cy="642600"/>
            <a:chOff x="2482920" y="2228760"/>
            <a:chExt cx="603360" cy="642600"/>
          </a:xfrm>
        </p:grpSpPr>
        <p:sp>
          <p:nvSpPr>
            <p:cNvPr id="183" name="Rectangle 8"/>
            <p:cNvSpPr/>
            <p:nvPr/>
          </p:nvSpPr>
          <p:spPr>
            <a:xfrm>
              <a:off x="2482920" y="2228760"/>
              <a:ext cx="603360" cy="489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4"/>
            <p:cNvSpPr/>
            <p:nvPr/>
          </p:nvSpPr>
          <p:spPr>
            <a:xfrm>
              <a:off x="2636640" y="222876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Группа 30"/>
          <p:cNvGrpSpPr/>
          <p:nvPr/>
        </p:nvGrpSpPr>
        <p:grpSpPr>
          <a:xfrm>
            <a:off x="1193760" y="3206880"/>
            <a:ext cx="603360" cy="642600"/>
            <a:chOff x="1193760" y="3206880"/>
            <a:chExt cx="603360" cy="642600"/>
          </a:xfrm>
        </p:grpSpPr>
        <p:sp>
          <p:nvSpPr>
            <p:cNvPr id="186" name="Rectangle 8"/>
            <p:cNvSpPr/>
            <p:nvPr/>
          </p:nvSpPr>
          <p:spPr>
            <a:xfrm>
              <a:off x="1193760" y="3206880"/>
              <a:ext cx="603360" cy="488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1347480" y="320688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Группа 34"/>
          <p:cNvGrpSpPr/>
          <p:nvPr/>
        </p:nvGrpSpPr>
        <p:grpSpPr>
          <a:xfrm>
            <a:off x="2793960" y="4140360"/>
            <a:ext cx="603360" cy="642600"/>
            <a:chOff x="2793960" y="4140360"/>
            <a:chExt cx="603360" cy="642600"/>
          </a:xfrm>
        </p:grpSpPr>
        <p:sp>
          <p:nvSpPr>
            <p:cNvPr id="189" name="Rectangle 8"/>
            <p:cNvSpPr/>
            <p:nvPr/>
          </p:nvSpPr>
          <p:spPr>
            <a:xfrm>
              <a:off x="2793960" y="4140360"/>
              <a:ext cx="603360" cy="488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2947680" y="414036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Группа 37"/>
          <p:cNvGrpSpPr/>
          <p:nvPr/>
        </p:nvGrpSpPr>
        <p:grpSpPr>
          <a:xfrm>
            <a:off x="793800" y="5207040"/>
            <a:ext cx="603360" cy="642600"/>
            <a:chOff x="793800" y="5207040"/>
            <a:chExt cx="603360" cy="642600"/>
          </a:xfrm>
        </p:grpSpPr>
        <p:sp>
          <p:nvSpPr>
            <p:cNvPr id="192" name="Rectangle 8"/>
            <p:cNvSpPr/>
            <p:nvPr/>
          </p:nvSpPr>
          <p:spPr>
            <a:xfrm>
              <a:off x="793800" y="5207040"/>
              <a:ext cx="603360" cy="488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4"/>
            <p:cNvSpPr/>
            <p:nvPr/>
          </p:nvSpPr>
          <p:spPr>
            <a:xfrm>
              <a:off x="947520" y="520704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Группа 40"/>
          <p:cNvGrpSpPr/>
          <p:nvPr/>
        </p:nvGrpSpPr>
        <p:grpSpPr>
          <a:xfrm>
            <a:off x="5518080" y="2244600"/>
            <a:ext cx="603360" cy="642600"/>
            <a:chOff x="5518080" y="2244600"/>
            <a:chExt cx="603360" cy="642600"/>
          </a:xfrm>
        </p:grpSpPr>
        <p:sp>
          <p:nvSpPr>
            <p:cNvPr id="195" name="Rectangle 8"/>
            <p:cNvSpPr/>
            <p:nvPr/>
          </p:nvSpPr>
          <p:spPr>
            <a:xfrm>
              <a:off x="5518080" y="2244600"/>
              <a:ext cx="603360" cy="489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5671800" y="224460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Группа 43"/>
          <p:cNvGrpSpPr/>
          <p:nvPr/>
        </p:nvGrpSpPr>
        <p:grpSpPr>
          <a:xfrm>
            <a:off x="6350040" y="2984400"/>
            <a:ext cx="603360" cy="642600"/>
            <a:chOff x="6350040" y="2984400"/>
            <a:chExt cx="603360" cy="642600"/>
          </a:xfrm>
        </p:grpSpPr>
        <p:sp>
          <p:nvSpPr>
            <p:cNvPr id="198" name="Rectangle 8"/>
            <p:cNvSpPr/>
            <p:nvPr/>
          </p:nvSpPr>
          <p:spPr>
            <a:xfrm>
              <a:off x="6350040" y="2984400"/>
              <a:ext cx="603360" cy="489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6503760" y="298440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Группа 46"/>
          <p:cNvGrpSpPr/>
          <p:nvPr/>
        </p:nvGrpSpPr>
        <p:grpSpPr>
          <a:xfrm>
            <a:off x="5638680" y="4317840"/>
            <a:ext cx="603360" cy="642600"/>
            <a:chOff x="5638680" y="4317840"/>
            <a:chExt cx="603360" cy="642600"/>
          </a:xfrm>
        </p:grpSpPr>
        <p:sp>
          <p:nvSpPr>
            <p:cNvPr id="201" name="Rectangle 8"/>
            <p:cNvSpPr/>
            <p:nvPr/>
          </p:nvSpPr>
          <p:spPr>
            <a:xfrm>
              <a:off x="5638680" y="4317840"/>
              <a:ext cx="603360" cy="4892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5792400" y="4317840"/>
              <a:ext cx="3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Constantia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WordArt 4"/>
          <p:cNvSpPr txBox="1"/>
          <p:nvPr/>
        </p:nvSpPr>
        <p:spPr>
          <a:xfrm>
            <a:off x="1871640" y="279360"/>
            <a:ext cx="531036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Рефлексия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355" name="Rectangle 6"/>
          <p:cNvSpPr/>
          <p:nvPr/>
        </p:nvSpPr>
        <p:spPr>
          <a:xfrm rot="20509800">
            <a:off x="-198000" y="2032200"/>
            <a:ext cx="440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Оцените свою работу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 rot="1153800">
            <a:off x="4160520" y="2034000"/>
            <a:ext cx="440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omic Sans MS"/>
              </a:rPr>
              <a:t>Удовлетворены ли вы результатом своей рабо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10" descr="36_2_25"/>
          <p:cNvPicPr/>
          <p:nvPr/>
        </p:nvPicPr>
        <p:blipFill>
          <a:blip r:embed="rId1"/>
          <a:stretch/>
        </p:blipFill>
        <p:spPr>
          <a:xfrm>
            <a:off x="2997360" y="2843280"/>
            <a:ext cx="1620720" cy="1620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36_2_24"/>
          <p:cNvPicPr/>
          <p:nvPr/>
        </p:nvPicPr>
        <p:blipFill>
          <a:blip r:embed="rId2"/>
          <a:stretch/>
        </p:blipFill>
        <p:spPr>
          <a:xfrm>
            <a:off x="566640" y="40147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36_2_19"/>
          <p:cNvPicPr/>
          <p:nvPr/>
        </p:nvPicPr>
        <p:blipFill>
          <a:blip r:embed="rId3"/>
          <a:stretch/>
        </p:blipFill>
        <p:spPr>
          <a:xfrm>
            <a:off x="5877000" y="4148280"/>
            <a:ext cx="1217520" cy="1217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3"/>
          <p:cNvSpPr/>
          <p:nvPr/>
        </p:nvSpPr>
        <p:spPr>
          <a:xfrm>
            <a:off x="3627360" y="4419720"/>
            <a:ext cx="6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971640" y="563400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5877000" y="5543640"/>
            <a:ext cx="20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Не зна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4"/>
          <p:cNvSpPr txBox="1"/>
          <p:nvPr/>
        </p:nvSpPr>
        <p:spPr>
          <a:xfrm>
            <a:off x="1150920" y="233280"/>
            <a:ext cx="630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Georgia"/>
              </a:rPr>
              <a:t>Домашнее задние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Georgia"/>
              <a:ea typeface="Georgia"/>
            </a:endParaRPr>
          </a:p>
        </p:txBody>
      </p:sp>
      <p:sp>
        <p:nvSpPr>
          <p:cNvPr id="364" name="WordArt 5"/>
          <p:cNvSpPr txBox="1"/>
          <p:nvPr/>
        </p:nvSpPr>
        <p:spPr>
          <a:xfrm rot="20650200">
            <a:off x="2644920" y="2546280"/>
            <a:ext cx="2700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№ </a:t>
            </a: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812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365" name="WordArt 6"/>
          <p:cNvSpPr txBox="1"/>
          <p:nvPr/>
        </p:nvSpPr>
        <p:spPr>
          <a:xfrm rot="1145400">
            <a:off x="5595840" y="1925280"/>
            <a:ext cx="256536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latin typeface="Georgia"/>
              </a:rPr>
              <a:t>№ </a:t>
            </a: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9900"/>
                </a:solidFill>
                <a:latin typeface="Georgia"/>
              </a:rPr>
              <a:t>816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9900"/>
              </a:solidFill>
              <a:latin typeface="Georgia"/>
              <a:ea typeface="Georgia"/>
            </a:endParaRPr>
          </a:p>
        </p:txBody>
      </p:sp>
      <p:sp>
        <p:nvSpPr>
          <p:cNvPr id="366" name="WordArt 7"/>
          <p:cNvSpPr txBox="1"/>
          <p:nvPr/>
        </p:nvSpPr>
        <p:spPr>
          <a:xfrm rot="21168600">
            <a:off x="502920" y="2048040"/>
            <a:ext cx="2475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ff"/>
                </a:solidFill>
                <a:latin typeface="Georgia"/>
              </a:rPr>
              <a:t>№ </a:t>
            </a: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3333ff"/>
                </a:solidFill>
                <a:latin typeface="Georgia"/>
              </a:rPr>
              <a:t>818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3333ff"/>
              </a:solidFill>
              <a:latin typeface="Georgia"/>
              <a:ea typeface="Georgia"/>
            </a:endParaRPr>
          </a:p>
        </p:txBody>
      </p:sp>
      <p:pic>
        <p:nvPicPr>
          <p:cNvPr id="367" name="Picture 56" descr="gl_elbfa_levo"/>
          <p:cNvPicPr/>
          <p:nvPr/>
        </p:nvPicPr>
        <p:blipFill>
          <a:blip r:embed="rId1"/>
          <a:stretch/>
        </p:blipFill>
        <p:spPr>
          <a:xfrm>
            <a:off x="250920" y="279360"/>
            <a:ext cx="1009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4"/>
          <p:cNvSpPr txBox="1"/>
          <p:nvPr/>
        </p:nvSpPr>
        <p:spPr>
          <a:xfrm rot="20890200">
            <a:off x="45684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e7030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e7030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701640" y="819000"/>
            <a:ext cx="7335720" cy="45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исла надо вставить, чтобы получить верную пропорцию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  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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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4 : 6; 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  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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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4800" spc="-1" strike="noStrike">
                <a:solidFill>
                  <a:srgbClr val="000000"/>
                </a:solidFill>
                <a:latin typeface="Symbol"/>
                <a:ea typeface="Symbol"/>
              </a:rPr>
              <a:t>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5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241280" y="907920"/>
            <a:ext cx="67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верную пропорцию из чисел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 12, 6 и 5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97000" y="9032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Georgia"/>
              </a:rPr>
              <a:t>а</a:t>
            </a: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) Велосипедист за 3ч проезжает 75км. За сколько времени проедет велосипедист 125км с той же скор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Georgia"/>
              </a:rPr>
              <a:t>б) 8 одинаковых труб заполняют бассейн за 25 минуты. За сколько минут заполнят бассейн 10 таких труб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Georgia"/>
              </a:rPr>
              <a:t>в) Бригада из 8 рабочих выполняет задание за 15 дней. Сколько рабочих сможет выполнить это задание за 10 дней, работая с той же производительность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2"/>
                </a:solidFill>
                <a:latin typeface="Georgia"/>
              </a:rPr>
              <a:t>г) Из 5,6 кг помидоров получают 2 л томатного соуса. Сколько литров соуса можно получить из 54 кг поми</a:t>
            </a:r>
            <a:r>
              <a:rPr b="1" i="1" lang="ru-RU" sz="2000" spc="-1" strike="noStrike">
                <a:solidFill>
                  <a:srgbClr val="000052"/>
                </a:solidFill>
                <a:latin typeface="Georgia"/>
              </a:rPr>
              <a:t>дор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72960" y="36828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Составить пропорции для решения зада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5"/>
          <p:cNvSpPr txBox="1"/>
          <p:nvPr/>
        </p:nvSpPr>
        <p:spPr>
          <a:xfrm>
            <a:off x="1736640" y="27936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latin typeface="Georgia"/>
              </a:rPr>
              <a:t>Ответы:</a:t>
            </a:r>
            <a:endParaRPr b="1" i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993366"/>
              </a:solidFill>
              <a:latin typeface="Georgia"/>
              <a:ea typeface="Georgia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062000" y="1584360"/>
            <a:ext cx="27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)  3:х=75:1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165680" y="267660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b10f0"/>
                </a:solidFill>
                <a:latin typeface="Georgia"/>
              </a:rPr>
              <a:t>б)  8 :10= Х :2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5021280" y="1538280"/>
            <a:ext cx="28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)  8 : х=10 :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5178600" y="26319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Georgia"/>
              </a:rPr>
              <a:t>г)  5,6 :54=2 : 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rcRect l="0" t="2450" r="20362" b="7587"/>
          <a:stretch/>
        </p:blipFill>
        <p:spPr>
          <a:xfrm>
            <a:off x="250920" y="368280"/>
            <a:ext cx="877716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C:\Users\Алёна\Desktop\z12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31640" y="388800"/>
            <a:ext cx="8180640" cy="59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mat.1september.ru/1999/no1_11.gif"/>
          <p:cNvPicPr/>
          <p:nvPr/>
        </p:nvPicPr>
        <p:blipFill>
          <a:blip r:embed="rId1"/>
          <a:stretch/>
        </p:blipFill>
        <p:spPr>
          <a:xfrm>
            <a:off x="1685880" y="620640"/>
            <a:ext cx="54468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6:02:45Z</dcterms:created>
  <dc:creator>Алёна</dc:creator>
  <dc:description/>
  <dc:language>en-US</dc:language>
  <cp:lastModifiedBy>Алёна</cp:lastModifiedBy>
  <dcterms:modified xsi:type="dcterms:W3CDTF">2016-12-19T15:41:06Z</dcterms:modified>
  <cp:revision>92</cp:revision>
  <dc:subject/>
  <dc:title>Слайд 1</dc:title>
</cp:coreProperties>
</file>