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8.gif" ContentType="image/gif"/>
  <Override PartName="/ppt/media/image11.gif" ContentType="image/gif"/>
  <Override PartName="/ppt/media/image5.png" ContentType="image/png"/>
  <Override PartName="/ppt/media/image12.gif" ContentType="image/gif"/>
  <Override PartName="/ppt/media/drumroll.wav" ContentType="audio/x-wav"/>
  <Override PartName="/ppt/media/image13.gif" ContentType="image/gif"/>
  <Override PartName="/ppt/media/chimes.wav" ContentType="audio/x-wav"/>
  <Override PartName="/ppt/media/suction.wav" ContentType="audio/x-wav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3AF-6DC4-43E9-BEFD-F83FEE24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681A-5D0F-435B-9DBB-FF1F134F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0C78-7560-40D3-9F66-533C8468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5CD7-5070-4299-97BC-F1ED441A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1C6D-AA1E-4E4C-8BE6-FCB197C3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3A3F-20FC-4005-AB2B-0A757895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0F4B-B834-4B32-AC57-316D990F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070D-2EE9-40AE-9788-32546ED4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320B-CD08-4556-AAB7-3B22624F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91A4-5909-486B-920A-E630D7E1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427C-F163-426E-941A-E6C5D365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25D-D389-467E-AAE3-42EE5DBD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0137-2DA2-44D2-9B3E-1F4DBC85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4995-0B40-4ADB-B9D9-02A68725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B73C-4BE9-4B4C-A755-B3FBE0FB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5F26-1CDC-4631-B729-A121F7E4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B18C-98A8-483B-94A0-A0D13359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1DCE4-0458-4473-B4EB-7FF52054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AA40D-8C0C-4440-AB20-5969F595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C155C-BD5A-46FC-BF3A-5989AB96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2C2C3-6B22-4C5D-B757-8B302C20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002D3-C930-4FBD-893E-69B21023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D5B8-9E85-48D0-A03E-451D3BA2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5E953-90AE-44C7-9959-449DEA2A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DA60D-07E8-44FE-BA81-5CDB31E5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4E64A-06F2-4D43-AF2C-CCCDEA05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5C983-A95F-4617-9929-24803D45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F850F-F9D3-4A77-AE79-CFABDA81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87DEE-6642-4F97-BF84-85B3C8C3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F6873-9CF5-4FAB-8562-5F756858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F6203-9D68-4B25-BE5C-FE16DE02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E6CBE-C5EC-4122-97FC-EA792FB2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D8FCF-E6DF-4D16-9CFE-5B3B2BD8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D6B0-4223-4854-802E-4CBE7A4B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30D67-98B0-4AC8-BAD3-B9497B7F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28A2E-2781-4BC0-B513-110D0A5D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4EC1A-05FD-4A8C-86E2-A55F67C0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00A6B-7606-4554-A340-752E4550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FA5D7-179B-4F2C-8393-CDE9871D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1164F-3152-40AC-B0C4-4DBE6072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9BA4D-1F9D-43C8-BDCB-691BB8E6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02140-696E-44E3-A804-B5D21FC6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9D109-5C98-4C54-BCBD-BB28EF8A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7FC-487E-4328-B48A-58D3A6FE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27E-CADB-45B0-980F-27836625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0F99-FD38-47E4-8C60-873F36A9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26DF-DC42-45D0-9A5C-6701B283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EA9-1646-4929-BB23-216B80CA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f6fe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6595-2D68-4E39-AC12-C5BD0BDDA8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f6fe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E085-C045-4344-874D-30F7B50CD7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f6fe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6551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D65A-AE1C-498C-9A81-69E2C28914C3}" type="slidenum">
              <a:rPr b="0" lang="ru-RU" sz="1200" spc="-1" strike="noStrike">
                <a:solidFill>
                  <a:srgbClr val="62655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f6fe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олилиния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олилиния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6551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255F-544F-4F12-9CA1-8A31CF5B0757}" type="slidenum">
              <a:rPr b="0" lang="ru-RU" sz="1200" spc="-1" strike="noStrike">
                <a:solidFill>
                  <a:srgbClr val="62655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3"/>
          <p:cNvSpPr/>
          <p:nvPr/>
        </p:nvSpPr>
        <p:spPr>
          <a:xfrm>
            <a:off x="4911840" y="5589720"/>
            <a:ext cx="297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WordArt 6"/>
          <p:cNvSpPr txBox="1"/>
          <p:nvPr/>
        </p:nvSpPr>
        <p:spPr>
          <a:xfrm>
            <a:off x="1150920" y="1314360"/>
            <a:ext cx="7516800" cy="261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Прямая и обратн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порциональны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висимости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WordArt 7"/>
          <p:cNvSpPr txBox="1"/>
          <p:nvPr/>
        </p:nvSpPr>
        <p:spPr>
          <a:xfrm>
            <a:off x="385920" y="279360"/>
            <a:ext cx="190800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Times New Roman"/>
              </a:rPr>
              <a:t>6 кла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pic>
        <p:nvPicPr>
          <p:cNvPr id="171" name="Picture 11" descr="052a"/>
          <p:cNvPicPr/>
          <p:nvPr/>
        </p:nvPicPr>
        <p:blipFill>
          <a:blip r:embed="rId1"/>
          <a:stretch/>
        </p:blipFill>
        <p:spPr>
          <a:xfrm>
            <a:off x="0" y="4915080"/>
            <a:ext cx="2521080" cy="172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animClr clrSpc="rgb">
                                      <p:cBhvr>
                                        <p:cTn id="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set>
                                      <p:cBhvr>
                                        <p:cTn id="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438120" y="324000"/>
            <a:ext cx="820728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61616"/>
                </a:solidFill>
                <a:latin typeface="Arial"/>
              </a:rPr>
              <a:t>Краткое решение задачи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3600" spc="-1" strike="noStrike">
                <a:solidFill>
                  <a:srgbClr val="000052"/>
                </a:solidFill>
                <a:latin typeface="Arial"/>
              </a:rPr>
              <a:t>размеры          ча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52"/>
                </a:solidFill>
                <a:latin typeface="Arial"/>
              </a:rPr>
              <a:t>Ширина             13 см                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52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52"/>
                </a:solidFill>
                <a:latin typeface="Arial"/>
              </a:rPr>
              <a:t>Длина                  х см                 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rcRect l="7079" t="13596" r="11142" b="0"/>
          <a:stretch/>
        </p:blipFill>
        <p:spPr>
          <a:xfrm>
            <a:off x="411120" y="368280"/>
            <a:ext cx="816624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e707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073c"/>
                </a:solidFill>
                <a:latin typeface="Georgia"/>
              </a:rPr>
              <a:t>Для отопления здания школы заготовлено угля на 180 дней при норме расхода 0,6 т угля в день. На сколько дней хватит этого запаса, если его расходовать ежедневно по 0,5 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836640" y="279360"/>
            <a:ext cx="71294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Georgia"/>
              </a:rPr>
              <a:t>Решите задачу</a:t>
            </a:r>
            <a:endParaRPr b="0" i="1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341280" y="3922560"/>
                <a:ext cx="193536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6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5"/>
              <p:cNvSpPr txBox="1"/>
              <p:nvPr/>
            </p:nvSpPr>
            <p:spPr>
              <a:xfrm>
                <a:off x="2457360" y="3959280"/>
                <a:ext cx="211464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,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4751280" y="4194000"/>
                <a:ext cx="1665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Rectangle 9"/>
          <p:cNvSpPr/>
          <p:nvPr/>
        </p:nvSpPr>
        <p:spPr>
          <a:xfrm>
            <a:off x="971640" y="1358280"/>
            <a:ext cx="78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  <a:ea typeface="Times New Roman"/>
              </a:rPr>
              <a:t>Краткая запис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1908000" y="1033560"/>
            <a:ext cx="1476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1908000" y="1033560"/>
            <a:ext cx="1476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971640" y="1449360"/>
          <a:ext cx="6840360" cy="2505240"/>
        </p:xfrm>
        <a:graphic>
          <a:graphicData uri="http://schemas.openxmlformats.org/drawingml/2006/table">
            <a:tbl>
              <a:tblPr/>
              <a:tblGrid>
                <a:gridCol w="2279520"/>
                <a:gridCol w="2281320"/>
                <a:gridCol w="22795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00"/>
                          </a:solidFill>
                          <a:latin typeface="Georgia"/>
                          <a:ea typeface="Times New Roman"/>
                        </a:rPr>
                        <a:t>Масса (т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00"/>
                          </a:solidFill>
                          <a:latin typeface="Georgia"/>
                          <a:ea typeface="Times New Roman"/>
                        </a:rPr>
                        <a:t>за 1 ден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00"/>
                          </a:solidFill>
                          <a:latin typeface="Georgia"/>
                          <a:ea typeface="Times New Roman"/>
                        </a:rPr>
                        <a:t>      </a:t>
                      </a:r>
                      <a:r>
                        <a:rPr b="1" i="1" lang="ru-RU" sz="2400" spc="-1" strike="noStrike">
                          <a:solidFill>
                            <a:srgbClr val="990000"/>
                          </a:solidFill>
                          <a:latin typeface="Georgia"/>
                          <a:ea typeface="Times New Roman"/>
                        </a:rPr>
                        <a:t>Количеств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00"/>
                          </a:solidFill>
                          <a:latin typeface="Georgia"/>
                          <a:ea typeface="Times New Roman"/>
                        </a:rPr>
                        <a:t>дн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00"/>
                          </a:solidFill>
                          <a:latin typeface="Georgia"/>
                          <a:ea typeface="Times New Roman"/>
                        </a:rPr>
                        <a:t>        </a:t>
                      </a:r>
                      <a:r>
                        <a:rPr b="1" i="1" lang="ru-RU" sz="2400" spc="-1" strike="noStrike">
                          <a:solidFill>
                            <a:srgbClr val="990000"/>
                          </a:solidFill>
                          <a:latin typeface="Georgia"/>
                          <a:ea typeface="Times New Roman"/>
                        </a:rPr>
                        <a:t>По норм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Georgia"/>
                          <a:ea typeface="Times New Roman"/>
                        </a:rPr>
                        <a:t>0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Georgia"/>
                          <a:ea typeface="Times New Roman"/>
                        </a:rPr>
                        <a:t>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Georgia"/>
                          <a:ea typeface="Times New Roman"/>
                        </a:rPr>
                        <a:t>0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Georgia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Rectangle 38"/>
          <p:cNvSpPr/>
          <p:nvPr/>
        </p:nvSpPr>
        <p:spPr>
          <a:xfrm>
            <a:off x="206280" y="3518280"/>
            <a:ext cx="57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b10f0"/>
                </a:solidFill>
                <a:latin typeface="Georgia"/>
                <a:ea typeface="Times New Roman"/>
              </a:rPr>
              <a:t>Составим пропорцию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39"/>
          <p:cNvSpPr/>
          <p:nvPr/>
        </p:nvSpPr>
        <p:spPr>
          <a:xfrm>
            <a:off x="1513080" y="428364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718080" y="428364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41"/>
          <p:cNvSpPr/>
          <p:nvPr/>
        </p:nvSpPr>
        <p:spPr>
          <a:xfrm>
            <a:off x="387000" y="536292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b10f0"/>
                </a:solidFill>
                <a:latin typeface="Times New Roman"/>
                <a:ea typeface="Times New Roman"/>
              </a:rPr>
              <a:t>Ответ: 216 д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90"/>
          <p:cNvSpPr/>
          <p:nvPr/>
        </p:nvSpPr>
        <p:spPr>
          <a:xfrm>
            <a:off x="3132000" y="274680"/>
            <a:ext cx="409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ff"/>
                </a:solidFill>
                <a:latin typeface="Georgia"/>
              </a:rPr>
              <a:t>Решени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92"/>
          <p:cNvSpPr/>
          <p:nvPr/>
        </p:nvSpPr>
        <p:spPr>
          <a:xfrm>
            <a:off x="3851280" y="2798640"/>
            <a:ext cx="0" cy="586080"/>
          </a:xfrm>
          <a:prstGeom prst="line">
            <a:avLst/>
          </a:prstGeom>
          <a:ln w="28440">
            <a:solidFill>
              <a:srgbClr val="2aac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94"/>
          <p:cNvSpPr/>
          <p:nvPr/>
        </p:nvSpPr>
        <p:spPr>
          <a:xfrm flipV="1">
            <a:off x="6012000" y="2798640"/>
            <a:ext cx="0" cy="586080"/>
          </a:xfrm>
          <a:prstGeom prst="line">
            <a:avLst/>
          </a:prstGeom>
          <a:ln w="28440">
            <a:solidFill>
              <a:srgbClr val="2aac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3300"/>
                </a:solidFill>
                <a:latin typeface="Monotype Corsiva"/>
              </a:rPr>
              <a:t>Решите уравнени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4"/>
              <p:cNvSpPr txBox="1"/>
              <p:nvPr/>
            </p:nvSpPr>
            <p:spPr>
              <a:xfrm>
                <a:off x="1731960" y="1660680"/>
                <a:ext cx="4505400" cy="423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:0,24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0,06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0,06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0,06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1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0,06;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:0,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12"/>
          <p:cNvSpPr/>
          <p:nvPr/>
        </p:nvSpPr>
        <p:spPr>
          <a:xfrm>
            <a:off x="250920" y="1089000"/>
            <a:ext cx="2746440" cy="3060720"/>
          </a:xfrm>
          <a:custGeom>
            <a:avLst/>
            <a:gdLst>
              <a:gd name="textAreaLeft" fmla="*/ 133920 w 2746440"/>
              <a:gd name="textAreaRight" fmla="*/ 2612520 w 2746440"/>
              <a:gd name="textAreaTop" fmla="*/ 133920 h 3060720"/>
              <a:gd name="textAreaBottom" fmla="*/ 2926800 h 3060720"/>
            </a:gdLst>
            <a:ahLst/>
            <a:rect l="textAreaLeft" t="textAreaTop" r="textAreaRight" b="textAreaBottom"/>
            <a:pathLst>
              <a:path w="21600" h="24071">
                <a:moveTo>
                  <a:pt x="3600" y="0"/>
                </a:moveTo>
                <a:arcTo wR="3600" hR="3600" stAng="16200000" swAng="-5400000"/>
                <a:lnTo>
                  <a:pt x="0" y="20471"/>
                </a:lnTo>
                <a:arcTo wR="3600" hR="3600" stAng="10800000" swAng="-5400000"/>
                <a:lnTo>
                  <a:pt x="18000" y="240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0920" y="1089000"/>
            <a:ext cx="30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297000" y="1133640"/>
            <a:ext cx="2925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341280" y="1042920"/>
            <a:ext cx="283536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№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.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На путь от одного поселка до другого со скоростью 12,5 км/ч велосипедист затратил 0,7 ч. С какой скоростью он должен был ехать, чтобы преодолеть этот путь за 0,5 ч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18"/>
          <p:cNvSpPr/>
          <p:nvPr/>
        </p:nvSpPr>
        <p:spPr>
          <a:xfrm>
            <a:off x="3267000" y="1089000"/>
            <a:ext cx="2565360" cy="2744640"/>
          </a:xfrm>
          <a:custGeom>
            <a:avLst/>
            <a:gdLst>
              <a:gd name="textAreaLeft" fmla="*/ 124920 w 2565360"/>
              <a:gd name="textAreaRight" fmla="*/ 2440440 w 2565360"/>
              <a:gd name="textAreaTop" fmla="*/ 124920 h 2744640"/>
              <a:gd name="textAreaBottom" fmla="*/ 2619720 h 2744640"/>
            </a:gdLst>
            <a:ahLst/>
            <a:rect l="textAreaLeft" t="textAreaTop" r="textAreaRight" b="textAreaBottom"/>
            <a:pathLst>
              <a:path w="21600" h="23109">
                <a:moveTo>
                  <a:pt x="3600" y="0"/>
                </a:moveTo>
                <a:arcTo wR="3600" hR="3600" stAng="16200000" swAng="-5400000"/>
                <a:lnTo>
                  <a:pt x="0" y="19509"/>
                </a:lnTo>
                <a:arcTo wR="3600" hR="3600" stAng="10800000" swAng="-5400000"/>
                <a:lnTo>
                  <a:pt x="18000" y="23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3762360" y="1224000"/>
            <a:ext cx="16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3402000" y="1224000"/>
            <a:ext cx="22953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№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2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Из 5 кг свежих слив получается 1,5 кг чернослив. Сколько чернослива получится их 17,5 кг свежих сли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21"/>
          <p:cNvSpPr/>
          <p:nvPr/>
        </p:nvSpPr>
        <p:spPr>
          <a:xfrm>
            <a:off x="6058080" y="1089000"/>
            <a:ext cx="2700000" cy="3014640"/>
          </a:xfrm>
          <a:custGeom>
            <a:avLst/>
            <a:gdLst>
              <a:gd name="textAreaLeft" fmla="*/ 131760 w 2700000"/>
              <a:gd name="textAreaRight" fmla="*/ 2568240 w 2700000"/>
              <a:gd name="textAreaTop" fmla="*/ 131760 h 3014640"/>
              <a:gd name="textAreaBottom" fmla="*/ 2882880 h 3014640"/>
            </a:gdLst>
            <a:ahLst/>
            <a:rect l="textAreaLeft" t="textAreaTop" r="textAreaRight" b="textAreaBottom"/>
            <a:pathLst>
              <a:path w="21600" h="24117">
                <a:moveTo>
                  <a:pt x="3600" y="0"/>
                </a:moveTo>
                <a:arcTo wR="3600" hR="3600" stAng="16200000" swAng="-5400000"/>
                <a:lnTo>
                  <a:pt x="0" y="20517"/>
                </a:lnTo>
                <a:arcTo wR="3600" hR="3600" stAng="10800000" swAng="-5400000"/>
                <a:lnTo>
                  <a:pt x="18000" y="241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6146640" y="1133640"/>
            <a:ext cx="2656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№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3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Автомобиль проехал 500 км, истратив 35л бензина. Сколько литров бензина потребуется, чтобы проехать 420 к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23"/>
          <p:cNvSpPr/>
          <p:nvPr/>
        </p:nvSpPr>
        <p:spPr>
          <a:xfrm>
            <a:off x="250920" y="4329000"/>
            <a:ext cx="3690720" cy="2025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341280" y="4419720"/>
            <a:ext cx="355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Monotype Corsiva"/>
                <a:ea typeface="Times New Roman"/>
              </a:rPr>
              <a:t>№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Monotype Corsiva"/>
                <a:ea typeface="Times New Roman"/>
              </a:rPr>
              <a:t>4.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9900"/>
                </a:solidFill>
                <a:latin typeface="Monotype Corsiva"/>
                <a:ea typeface="Times New Roman"/>
              </a:rPr>
              <a:t>За 2 ч поймали 12 карасей. Сколько карасей поймают за 3 ч?</a:t>
            </a:r>
            <a:r>
              <a:rPr b="1" i="1" lang="ru-RU" sz="2400" spc="-1" strike="noStrike">
                <a:solidFill>
                  <a:srgbClr val="0099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30"/>
          <p:cNvGrpSpPr/>
          <p:nvPr/>
        </p:nvGrpSpPr>
        <p:grpSpPr>
          <a:xfrm>
            <a:off x="4527720" y="4419720"/>
            <a:ext cx="4410000" cy="2336400"/>
            <a:chOff x="4527720" y="4419720"/>
            <a:chExt cx="4410000" cy="2336400"/>
          </a:xfrm>
        </p:grpSpPr>
        <p:sp>
          <p:nvSpPr>
            <p:cNvPr id="258" name="AutoShape 25"/>
            <p:cNvSpPr/>
            <p:nvPr/>
          </p:nvSpPr>
          <p:spPr>
            <a:xfrm>
              <a:off x="4527720" y="4419720"/>
              <a:ext cx="4410000" cy="202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efff"/>
                </a:gs>
                <a:gs pos="100000">
                  <a:srgbClr val="ffcc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26"/>
            <p:cNvSpPr/>
            <p:nvPr/>
          </p:nvSpPr>
          <p:spPr>
            <a:xfrm>
              <a:off x="4707000" y="4599000"/>
              <a:ext cx="4051080" cy="21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№</a:t>
              </a:r>
              <a:r>
                <a:rPr b="1" i="1" lang="ru-RU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5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ru-RU" sz="1800" spc="-1" strike="noStrike">
                  <a:solidFill>
                    <a:srgbClr val="800000"/>
                  </a:solidFill>
                  <a:latin typeface="Arial"/>
                </a:rPr>
                <a:t>Шесть маляров могут выполнить некоторую работу за 18 дней. Сколько еще маляров надо пригласить, чтобы работа была выполнена за 12 дней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WordArt 27"/>
          <p:cNvSpPr txBox="1"/>
          <p:nvPr/>
        </p:nvSpPr>
        <p:spPr>
          <a:xfrm>
            <a:off x="2322360" y="142920"/>
            <a:ext cx="638352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Самостоятельная работа</a:t>
            </a:r>
            <a:endParaRPr b="1" lang="en-US" sz="1800" spc="1" strike="noStrike">
              <a:ln w="19080">
                <a:solidFill>
                  <a:srgbClr val="ff3300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sp>
        <p:nvSpPr>
          <p:cNvPr id="261" name="Text Box 28"/>
          <p:cNvSpPr/>
          <p:nvPr/>
        </p:nvSpPr>
        <p:spPr>
          <a:xfrm>
            <a:off x="701640" y="59364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Решите задачи, составляя пропор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Рисунок 15" descr="sova.gif"/>
          <p:cNvPicPr/>
          <p:nvPr/>
        </p:nvPicPr>
        <p:blipFill>
          <a:blip r:embed="rId1"/>
          <a:stretch/>
        </p:blipFill>
        <p:spPr>
          <a:xfrm rot="20765400">
            <a:off x="115560" y="0"/>
            <a:ext cx="121608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96640" y="279360"/>
            <a:ext cx="780588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Monotype Corsiva"/>
              </a:rPr>
              <a:t>Решения задач из самостоятель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908000" y="1022400"/>
            <a:ext cx="1476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6"/>
          <p:cNvSpPr/>
          <p:nvPr/>
        </p:nvSpPr>
        <p:spPr>
          <a:xfrm>
            <a:off x="1908000" y="1022400"/>
            <a:ext cx="1476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87"/>
          <p:cNvSpPr/>
          <p:nvPr/>
        </p:nvSpPr>
        <p:spPr>
          <a:xfrm>
            <a:off x="298800" y="90720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ешение: №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88"/>
          <p:cNvSpPr/>
          <p:nvPr/>
        </p:nvSpPr>
        <p:spPr>
          <a:xfrm>
            <a:off x="929520" y="1223280"/>
            <a:ext cx="20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Краткая запис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93"/>
          <p:cNvSpPr/>
          <p:nvPr/>
        </p:nvSpPr>
        <p:spPr>
          <a:xfrm>
            <a:off x="3095640" y="2975040"/>
            <a:ext cx="147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95"/>
          <p:cNvSpPr/>
          <p:nvPr/>
        </p:nvSpPr>
        <p:spPr>
          <a:xfrm>
            <a:off x="3095640" y="2975040"/>
            <a:ext cx="147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97000" y="1673280"/>
          <a:ext cx="3689280" cy="1736640"/>
        </p:xfrm>
        <a:graphic>
          <a:graphicData uri="http://schemas.openxmlformats.org/drawingml/2006/table">
            <a:tbl>
              <a:tblPr/>
              <a:tblGrid>
                <a:gridCol w="1844640"/>
                <a:gridCol w="1844640"/>
              </a:tblGrid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Скорость (км/ч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Время (ч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Line 114"/>
          <p:cNvSpPr/>
          <p:nvPr/>
        </p:nvSpPr>
        <p:spPr>
          <a:xfrm flipV="1">
            <a:off x="836640" y="2663640"/>
            <a:ext cx="0" cy="585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15"/>
          <p:cNvSpPr/>
          <p:nvPr/>
        </p:nvSpPr>
        <p:spPr>
          <a:xfrm>
            <a:off x="2681280" y="2708280"/>
            <a:ext cx="0" cy="63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116"/>
              <p:cNvSpPr txBox="1"/>
              <p:nvPr/>
            </p:nvSpPr>
            <p:spPr>
              <a:xfrm>
                <a:off x="701640" y="3473280"/>
                <a:ext cx="166536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,7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18"/>
              <p:cNvSpPr txBox="1"/>
              <p:nvPr/>
            </p:nvSpPr>
            <p:spPr>
              <a:xfrm>
                <a:off x="792000" y="4441680"/>
                <a:ext cx="18892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0,7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Rectangle 12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120"/>
              <p:cNvSpPr txBox="1"/>
              <p:nvPr/>
            </p:nvSpPr>
            <p:spPr>
              <a:xfrm>
                <a:off x="927000" y="5408640"/>
                <a:ext cx="14842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Rectangle 122"/>
          <p:cNvSpPr/>
          <p:nvPr/>
        </p:nvSpPr>
        <p:spPr>
          <a:xfrm>
            <a:off x="836640" y="619200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твет: 17,5 км/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125" descr="051"/>
          <p:cNvPicPr/>
          <p:nvPr/>
        </p:nvPicPr>
        <p:blipFill>
          <a:blip r:embed="rId1"/>
          <a:stretch/>
        </p:blipFill>
        <p:spPr>
          <a:xfrm>
            <a:off x="162000" y="0"/>
            <a:ext cx="957240" cy="99072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126"/>
          <p:cNvSpPr/>
          <p:nvPr/>
        </p:nvSpPr>
        <p:spPr>
          <a:xfrm>
            <a:off x="5294880" y="90720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ешение: №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127"/>
          <p:cNvSpPr/>
          <p:nvPr/>
        </p:nvSpPr>
        <p:spPr>
          <a:xfrm>
            <a:off x="5565240" y="1267560"/>
            <a:ext cx="20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Краткая запис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32"/>
          <p:cNvSpPr/>
          <p:nvPr/>
        </p:nvSpPr>
        <p:spPr>
          <a:xfrm>
            <a:off x="3095640" y="2975040"/>
            <a:ext cx="147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34"/>
          <p:cNvSpPr/>
          <p:nvPr/>
        </p:nvSpPr>
        <p:spPr>
          <a:xfrm>
            <a:off x="3095640" y="2975040"/>
            <a:ext cx="147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111640" y="1628640"/>
          <a:ext cx="2952720" cy="1737000"/>
        </p:xfrm>
        <a:graphic>
          <a:graphicData uri="http://schemas.openxmlformats.org/drawingml/2006/table">
            <a:tbl>
              <a:tblPr/>
              <a:tblGrid>
                <a:gridCol w="1476360"/>
                <a:gridCol w="1476360"/>
              </a:tblGrid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Сливы (кг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Чернослив (кг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17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i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Line 154"/>
          <p:cNvSpPr/>
          <p:nvPr/>
        </p:nvSpPr>
        <p:spPr>
          <a:xfrm>
            <a:off x="5427720" y="2573280"/>
            <a:ext cx="0" cy="63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155"/>
          <p:cNvSpPr/>
          <p:nvPr/>
        </p:nvSpPr>
        <p:spPr>
          <a:xfrm>
            <a:off x="6958080" y="2573280"/>
            <a:ext cx="0" cy="63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158"/>
              <p:cNvSpPr txBox="1"/>
              <p:nvPr/>
            </p:nvSpPr>
            <p:spPr>
              <a:xfrm>
                <a:off x="5337000" y="3429000"/>
                <a:ext cx="153036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,5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57"/>
              <p:cNvSpPr txBox="1"/>
              <p:nvPr/>
            </p:nvSpPr>
            <p:spPr>
              <a:xfrm>
                <a:off x="5427720" y="4419720"/>
                <a:ext cx="1800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1,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156"/>
              <p:cNvSpPr txBox="1"/>
              <p:nvPr/>
            </p:nvSpPr>
            <p:spPr>
              <a:xfrm>
                <a:off x="5427720" y="5364000"/>
                <a:ext cx="157464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Rectangle 159"/>
          <p:cNvSpPr/>
          <p:nvPr/>
        </p:nvSpPr>
        <p:spPr>
          <a:xfrm>
            <a:off x="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160"/>
          <p:cNvSpPr/>
          <p:nvPr/>
        </p:nvSpPr>
        <p:spPr>
          <a:xfrm>
            <a:off x="2368440" y="3756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161"/>
          <p:cNvSpPr/>
          <p:nvPr/>
        </p:nvSpPr>
        <p:spPr>
          <a:xfrm>
            <a:off x="1800" y="358020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162"/>
          <p:cNvSpPr/>
          <p:nvPr/>
        </p:nvSpPr>
        <p:spPr>
          <a:xfrm>
            <a:off x="7003440" y="54522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63"/>
          <p:cNvSpPr/>
          <p:nvPr/>
        </p:nvSpPr>
        <p:spPr>
          <a:xfrm>
            <a:off x="5292720" y="6158520"/>
            <a:ext cx="23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Ответ: 5,25 к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164"/>
          <p:cNvSpPr/>
          <p:nvPr/>
        </p:nvSpPr>
        <p:spPr>
          <a:xfrm>
            <a:off x="2683080" y="4597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165"/>
          <p:cNvSpPr/>
          <p:nvPr/>
        </p:nvSpPr>
        <p:spPr>
          <a:xfrm>
            <a:off x="6823080" y="3607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66"/>
          <p:cNvSpPr/>
          <p:nvPr/>
        </p:nvSpPr>
        <p:spPr>
          <a:xfrm>
            <a:off x="7183440" y="4553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13" descr="94087a008b0d7e9243e6b1ddf3ccbc94"/>
          <p:cNvPicPr/>
          <p:nvPr/>
        </p:nvPicPr>
        <p:blipFill>
          <a:blip r:embed="rId2"/>
          <a:stretch/>
        </p:blipFill>
        <p:spPr>
          <a:xfrm>
            <a:off x="4211640" y="144936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3" descr="94087a008b0d7e9243e6b1ddf3ccbc94"/>
          <p:cNvPicPr/>
          <p:nvPr/>
        </p:nvPicPr>
        <p:blipFill>
          <a:blip r:embed="rId3"/>
          <a:stretch/>
        </p:blipFill>
        <p:spPr>
          <a:xfrm>
            <a:off x="4167360" y="2168640"/>
            <a:ext cx="495000" cy="4953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3" descr="94087a008b0d7e9243e6b1ddf3ccbc94"/>
          <p:cNvPicPr/>
          <p:nvPr/>
        </p:nvPicPr>
        <p:blipFill>
          <a:blip r:embed="rId4"/>
          <a:stretch/>
        </p:blipFill>
        <p:spPr>
          <a:xfrm>
            <a:off x="4211640" y="293364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" descr="94087a008b0d7e9243e6b1ddf3ccbc94"/>
          <p:cNvPicPr/>
          <p:nvPr/>
        </p:nvPicPr>
        <p:blipFill>
          <a:blip r:embed="rId5"/>
          <a:stretch/>
        </p:blipFill>
        <p:spPr>
          <a:xfrm>
            <a:off x="4211640" y="365436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94087a008b0d7e9243e6b1ddf3ccbc94"/>
          <p:cNvPicPr/>
          <p:nvPr/>
        </p:nvPicPr>
        <p:blipFill>
          <a:blip r:embed="rId6"/>
          <a:stretch/>
        </p:blipFill>
        <p:spPr>
          <a:xfrm>
            <a:off x="4211640" y="437364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3" descr="94087a008b0d7e9243e6b1ddf3ccbc94"/>
          <p:cNvPicPr/>
          <p:nvPr/>
        </p:nvPicPr>
        <p:blipFill>
          <a:blip r:embed="rId7"/>
          <a:stretch/>
        </p:blipFill>
        <p:spPr>
          <a:xfrm>
            <a:off x="4257720" y="509436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94087a008b0d7e9243e6b1ddf3ccbc94"/>
          <p:cNvPicPr/>
          <p:nvPr/>
        </p:nvPicPr>
        <p:blipFill>
          <a:blip r:embed="rId8"/>
          <a:stretch/>
        </p:blipFill>
        <p:spPr>
          <a:xfrm>
            <a:off x="4257720" y="5815080"/>
            <a:ext cx="4953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06640" y="274680"/>
            <a:ext cx="758016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Monotype Corsiva"/>
              </a:rPr>
              <a:t>Решения задач из самостоятель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298800" y="90720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ешение: №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5518800" y="86292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ешение: №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929520" y="1223280"/>
            <a:ext cx="20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Краткая запис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5744520" y="1223280"/>
            <a:ext cx="20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Краткая запис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3"/>
          <p:cNvSpPr/>
          <p:nvPr/>
        </p:nvSpPr>
        <p:spPr>
          <a:xfrm>
            <a:off x="3095640" y="2975040"/>
            <a:ext cx="147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3095640" y="2975040"/>
            <a:ext cx="147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85920" y="1628640"/>
          <a:ext cx="2952720" cy="1737000"/>
        </p:xfrm>
        <a:graphic>
          <a:graphicData uri="http://schemas.openxmlformats.org/drawingml/2006/table">
            <a:tbl>
              <a:tblPr/>
              <a:tblGrid>
                <a:gridCol w="1476360"/>
                <a:gridCol w="1476360"/>
              </a:tblGrid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Расстояние (км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Бензин (л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i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Line 34"/>
          <p:cNvSpPr/>
          <p:nvPr/>
        </p:nvSpPr>
        <p:spPr>
          <a:xfrm>
            <a:off x="746280" y="2664000"/>
            <a:ext cx="0" cy="539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35"/>
          <p:cNvSpPr/>
          <p:nvPr/>
        </p:nvSpPr>
        <p:spPr>
          <a:xfrm>
            <a:off x="2276640" y="2708280"/>
            <a:ext cx="0" cy="539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38"/>
              <p:cNvSpPr txBox="1"/>
              <p:nvPr/>
            </p:nvSpPr>
            <p:spPr>
              <a:xfrm>
                <a:off x="522360" y="3473280"/>
                <a:ext cx="18000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37"/>
              <p:cNvSpPr txBox="1"/>
              <p:nvPr/>
            </p:nvSpPr>
            <p:spPr>
              <a:xfrm>
                <a:off x="611280" y="4464000"/>
                <a:ext cx="18907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36"/>
              <p:cNvSpPr txBox="1"/>
              <p:nvPr/>
            </p:nvSpPr>
            <p:spPr>
              <a:xfrm>
                <a:off x="701640" y="5454720"/>
                <a:ext cx="14842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,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Rectangle 39"/>
          <p:cNvSpPr/>
          <p:nvPr/>
        </p:nvSpPr>
        <p:spPr>
          <a:xfrm>
            <a:off x="0" y="237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40"/>
          <p:cNvSpPr/>
          <p:nvPr/>
        </p:nvSpPr>
        <p:spPr>
          <a:xfrm>
            <a:off x="1800" y="276444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42"/>
          <p:cNvSpPr/>
          <p:nvPr/>
        </p:nvSpPr>
        <p:spPr>
          <a:xfrm>
            <a:off x="522360" y="596160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твет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29,4 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47"/>
          <p:cNvSpPr/>
          <p:nvPr/>
        </p:nvSpPr>
        <p:spPr>
          <a:xfrm>
            <a:off x="3095640" y="2868480"/>
            <a:ext cx="147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49"/>
          <p:cNvSpPr/>
          <p:nvPr/>
        </p:nvSpPr>
        <p:spPr>
          <a:xfrm>
            <a:off x="3095640" y="2868480"/>
            <a:ext cx="147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111640" y="1584360"/>
          <a:ext cx="3691080" cy="1798560"/>
        </p:xfrm>
        <a:graphic>
          <a:graphicData uri="http://schemas.openxmlformats.org/drawingml/2006/table">
            <a:tbl>
              <a:tblPr/>
              <a:tblGrid>
                <a:gridCol w="1846440"/>
                <a:gridCol w="1844640"/>
              </a:tblGrid>
              <a:tr h="76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Количество маля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br>
                        <a:rPr sz="2200"/>
                      </a:br>
                      <a:r>
                        <a:rPr b="1" i="1" lang="ru-RU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 (дни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i="1" lang="ru-RU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Line 74"/>
          <p:cNvSpPr/>
          <p:nvPr/>
        </p:nvSpPr>
        <p:spPr>
          <a:xfrm flipV="1">
            <a:off x="5742000" y="2572920"/>
            <a:ext cx="0" cy="63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75"/>
          <p:cNvSpPr/>
          <p:nvPr/>
        </p:nvSpPr>
        <p:spPr>
          <a:xfrm>
            <a:off x="7542360" y="2619360"/>
            <a:ext cx="0" cy="539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78"/>
              <p:cNvSpPr txBox="1"/>
              <p:nvPr/>
            </p:nvSpPr>
            <p:spPr>
              <a:xfrm>
                <a:off x="5337000" y="3473280"/>
                <a:ext cx="139572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77"/>
              <p:cNvSpPr txBox="1"/>
              <p:nvPr/>
            </p:nvSpPr>
            <p:spPr>
              <a:xfrm>
                <a:off x="7002360" y="3564000"/>
                <a:ext cx="13953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76"/>
              <p:cNvSpPr txBox="1"/>
              <p:nvPr/>
            </p:nvSpPr>
            <p:spPr>
              <a:xfrm>
                <a:off x="5337000" y="4508640"/>
                <a:ext cx="1081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Rectangle 79"/>
          <p:cNvSpPr/>
          <p:nvPr/>
        </p:nvSpPr>
        <p:spPr>
          <a:xfrm>
            <a:off x="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80"/>
          <p:cNvSpPr/>
          <p:nvPr/>
        </p:nvSpPr>
        <p:spPr>
          <a:xfrm>
            <a:off x="1800" y="266760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81"/>
          <p:cNvSpPr/>
          <p:nvPr/>
        </p:nvSpPr>
        <p:spPr>
          <a:xfrm>
            <a:off x="1800" y="336276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83"/>
          <p:cNvSpPr/>
          <p:nvPr/>
        </p:nvSpPr>
        <p:spPr>
          <a:xfrm>
            <a:off x="6372360" y="4598280"/>
            <a:ext cx="29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аляров выполнят работу за 12 дней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84"/>
          <p:cNvSpPr/>
          <p:nvPr/>
        </p:nvSpPr>
        <p:spPr>
          <a:xfrm>
            <a:off x="5203440" y="5272560"/>
            <a:ext cx="3467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1)9 -6=3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маляра нужно ещё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пригласить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85"/>
          <p:cNvSpPr/>
          <p:nvPr/>
        </p:nvSpPr>
        <p:spPr>
          <a:xfrm>
            <a:off x="5294160" y="6128280"/>
            <a:ext cx="26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Times New Roman"/>
              </a:rPr>
              <a:t>Ответ: 3 маля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31640" y="0"/>
            <a:ext cx="794088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Monotype Corsiva"/>
              </a:rPr>
              <a:t>Дополнительная задач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701640" y="998640"/>
            <a:ext cx="81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cc0000"/>
                </a:solidFill>
                <a:uFillTx/>
                <a:latin typeface="Georgia"/>
              </a:rPr>
              <a:t>№</a:t>
            </a:r>
            <a:r>
              <a:rPr b="0" i="1" lang="ru-RU" sz="2400" spc="-1" strike="noStrike" u="sng">
                <a:solidFill>
                  <a:srgbClr val="cc0000"/>
                </a:solidFill>
                <a:uFillTx/>
                <a:latin typeface="Georgia"/>
              </a:rPr>
              <a:t>6.</a:t>
            </a:r>
            <a:r>
              <a:rPr b="0" i="1" lang="ru-RU" sz="2400" spc="-1" strike="noStrike">
                <a:solidFill>
                  <a:srgbClr val="0000cc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cc"/>
                </a:solidFill>
                <a:latin typeface="Georgia"/>
              </a:rPr>
              <a:t>Горнорудному предприятию требуется закупить на определённую сумму денег 5 новых машин по цене 12 тыс. руб. за одну. Сколько таких машин сможет купить предприятие, если цена за одну машину станет  15 тыс. рубле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3494520" y="288864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ешение: №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927000" y="3249000"/>
            <a:ext cx="29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Краткая запис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Line 9"/>
          <p:cNvSpPr/>
          <p:nvPr/>
        </p:nvSpPr>
        <p:spPr>
          <a:xfrm flipV="1">
            <a:off x="3560760" y="348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Line 8"/>
          <p:cNvSpPr/>
          <p:nvPr/>
        </p:nvSpPr>
        <p:spPr>
          <a:xfrm>
            <a:off x="4935600" y="35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3095640" y="2868480"/>
            <a:ext cx="147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3095640" y="2868480"/>
            <a:ext cx="147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880920" y="3608280"/>
          <a:ext cx="4681800" cy="1616040"/>
        </p:xfrm>
        <a:graphic>
          <a:graphicData uri="http://schemas.openxmlformats.org/drawingml/2006/table">
            <a:tbl>
              <a:tblPr/>
              <a:tblGrid>
                <a:gridCol w="2341800"/>
                <a:gridCol w="234000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оличество машин (ш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Цена (тыс.руб.)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i="1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Line 38"/>
          <p:cNvSpPr/>
          <p:nvPr/>
        </p:nvSpPr>
        <p:spPr>
          <a:xfrm flipV="1">
            <a:off x="1827360" y="4419720"/>
            <a:ext cx="0" cy="674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39"/>
          <p:cNvSpPr/>
          <p:nvPr/>
        </p:nvSpPr>
        <p:spPr>
          <a:xfrm>
            <a:off x="4032360" y="4419720"/>
            <a:ext cx="0" cy="676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42"/>
              <p:cNvSpPr txBox="1"/>
              <p:nvPr/>
            </p:nvSpPr>
            <p:spPr>
              <a:xfrm>
                <a:off x="880920" y="5499000"/>
                <a:ext cx="188928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41"/>
              <p:cNvSpPr txBox="1"/>
              <p:nvPr/>
            </p:nvSpPr>
            <p:spPr>
              <a:xfrm>
                <a:off x="3132000" y="5499000"/>
                <a:ext cx="14842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40"/>
              <p:cNvSpPr txBox="1"/>
              <p:nvPr/>
            </p:nvSpPr>
            <p:spPr>
              <a:xfrm>
                <a:off x="4751280" y="5543640"/>
                <a:ext cx="1035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Rectangle 43"/>
          <p:cNvSpPr/>
          <p:nvPr/>
        </p:nvSpPr>
        <p:spPr>
          <a:xfrm>
            <a:off x="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45"/>
          <p:cNvSpPr/>
          <p:nvPr/>
        </p:nvSpPr>
        <p:spPr>
          <a:xfrm>
            <a:off x="2727360" y="5677200"/>
            <a:ext cx="56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46"/>
          <p:cNvSpPr/>
          <p:nvPr/>
        </p:nvSpPr>
        <p:spPr>
          <a:xfrm>
            <a:off x="5877000" y="56080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ш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51"/>
          <p:cNvSpPr/>
          <p:nvPr/>
        </p:nvSpPr>
        <p:spPr>
          <a:xfrm>
            <a:off x="4527720" y="5677200"/>
            <a:ext cx="56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52"/>
          <p:cNvSpPr/>
          <p:nvPr/>
        </p:nvSpPr>
        <p:spPr>
          <a:xfrm>
            <a:off x="1197000" y="63093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Monotype Corsiva"/>
              </a:rPr>
              <a:t>Ответ: 4 маш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942840" y="1300320"/>
                <a:ext cx="2578320" cy="43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:</m:t>
                        </m:r>
                        <m:r>
                          <m:t xml:space="preserve">6</m:t>
                        </m:r>
                      </m:e>
                      <m:e/>
                      <m:e>
                        <m:r>
                          <m:t xml:space="preserve">5</m:t>
                        </m:r>
                        <m:r>
                          <m:t xml:space="preserve">: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:</m:t>
                        </m:r>
                        <m:r>
                          <m:t xml:space="preserve">6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: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: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3"/>
              <p:cNvSpPr txBox="1"/>
              <p:nvPr/>
            </p:nvSpPr>
            <p:spPr>
              <a:xfrm>
                <a:off x="0" y="266688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5594400" y="1739880"/>
                <a:ext cx="1200240" cy="35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299760" y="2732760"/>
            <a:ext cx="25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Группа 20"/>
          <p:cNvGrpSpPr/>
          <p:nvPr/>
        </p:nvGrpSpPr>
        <p:grpSpPr>
          <a:xfrm>
            <a:off x="927000" y="1251000"/>
            <a:ext cx="603360" cy="642600"/>
            <a:chOff x="927000" y="1251000"/>
            <a:chExt cx="603360" cy="642600"/>
          </a:xfrm>
        </p:grpSpPr>
        <p:sp>
          <p:nvSpPr>
            <p:cNvPr id="179" name="Rectangle 8"/>
            <p:cNvSpPr/>
            <p:nvPr/>
          </p:nvSpPr>
          <p:spPr>
            <a:xfrm>
              <a:off x="927000" y="1251000"/>
              <a:ext cx="603360" cy="488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4"/>
            <p:cNvSpPr/>
            <p:nvPr/>
          </p:nvSpPr>
          <p:spPr>
            <a:xfrm>
              <a:off x="1080720" y="1251000"/>
              <a:ext cx="3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Constantia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Прямоугольник 14"/>
          <p:cNvSpPr/>
          <p:nvPr/>
        </p:nvSpPr>
        <p:spPr>
          <a:xfrm>
            <a:off x="1104840" y="406440"/>
            <a:ext cx="75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неизвестный член пропор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Группа 26"/>
          <p:cNvGrpSpPr/>
          <p:nvPr/>
        </p:nvGrpSpPr>
        <p:grpSpPr>
          <a:xfrm>
            <a:off x="2482920" y="2228760"/>
            <a:ext cx="603360" cy="642600"/>
            <a:chOff x="2482920" y="2228760"/>
            <a:chExt cx="603360" cy="642600"/>
          </a:xfrm>
        </p:grpSpPr>
        <p:sp>
          <p:nvSpPr>
            <p:cNvPr id="183" name="Rectangle 8"/>
            <p:cNvSpPr/>
            <p:nvPr/>
          </p:nvSpPr>
          <p:spPr>
            <a:xfrm>
              <a:off x="2482920" y="2228760"/>
              <a:ext cx="603360" cy="4892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14"/>
            <p:cNvSpPr/>
            <p:nvPr/>
          </p:nvSpPr>
          <p:spPr>
            <a:xfrm>
              <a:off x="2636640" y="2228760"/>
              <a:ext cx="3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Constantia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Группа 30"/>
          <p:cNvGrpSpPr/>
          <p:nvPr/>
        </p:nvGrpSpPr>
        <p:grpSpPr>
          <a:xfrm>
            <a:off x="1193760" y="3206880"/>
            <a:ext cx="603360" cy="642600"/>
            <a:chOff x="1193760" y="3206880"/>
            <a:chExt cx="603360" cy="642600"/>
          </a:xfrm>
        </p:grpSpPr>
        <p:sp>
          <p:nvSpPr>
            <p:cNvPr id="186" name="Rectangle 8"/>
            <p:cNvSpPr/>
            <p:nvPr/>
          </p:nvSpPr>
          <p:spPr>
            <a:xfrm>
              <a:off x="1193760" y="3206880"/>
              <a:ext cx="603360" cy="488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14"/>
            <p:cNvSpPr/>
            <p:nvPr/>
          </p:nvSpPr>
          <p:spPr>
            <a:xfrm>
              <a:off x="1347480" y="3206880"/>
              <a:ext cx="3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Constantia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Группа 34"/>
          <p:cNvGrpSpPr/>
          <p:nvPr/>
        </p:nvGrpSpPr>
        <p:grpSpPr>
          <a:xfrm>
            <a:off x="2793960" y="4140360"/>
            <a:ext cx="603360" cy="642600"/>
            <a:chOff x="2793960" y="4140360"/>
            <a:chExt cx="603360" cy="642600"/>
          </a:xfrm>
        </p:grpSpPr>
        <p:sp>
          <p:nvSpPr>
            <p:cNvPr id="189" name="Rectangle 8"/>
            <p:cNvSpPr/>
            <p:nvPr/>
          </p:nvSpPr>
          <p:spPr>
            <a:xfrm>
              <a:off x="2793960" y="4140360"/>
              <a:ext cx="603360" cy="488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2947680" y="4140360"/>
              <a:ext cx="3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Constantia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Группа 37"/>
          <p:cNvGrpSpPr/>
          <p:nvPr/>
        </p:nvGrpSpPr>
        <p:grpSpPr>
          <a:xfrm>
            <a:off x="793800" y="5207040"/>
            <a:ext cx="603360" cy="642600"/>
            <a:chOff x="793800" y="5207040"/>
            <a:chExt cx="603360" cy="642600"/>
          </a:xfrm>
        </p:grpSpPr>
        <p:sp>
          <p:nvSpPr>
            <p:cNvPr id="192" name="Rectangle 8"/>
            <p:cNvSpPr/>
            <p:nvPr/>
          </p:nvSpPr>
          <p:spPr>
            <a:xfrm>
              <a:off x="793800" y="5207040"/>
              <a:ext cx="603360" cy="488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4"/>
            <p:cNvSpPr/>
            <p:nvPr/>
          </p:nvSpPr>
          <p:spPr>
            <a:xfrm>
              <a:off x="947520" y="5207040"/>
              <a:ext cx="3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Constantia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Группа 40"/>
          <p:cNvGrpSpPr/>
          <p:nvPr/>
        </p:nvGrpSpPr>
        <p:grpSpPr>
          <a:xfrm>
            <a:off x="5518080" y="2244600"/>
            <a:ext cx="603360" cy="642600"/>
            <a:chOff x="5518080" y="2244600"/>
            <a:chExt cx="603360" cy="642600"/>
          </a:xfrm>
        </p:grpSpPr>
        <p:sp>
          <p:nvSpPr>
            <p:cNvPr id="195" name="Rectangle 8"/>
            <p:cNvSpPr/>
            <p:nvPr/>
          </p:nvSpPr>
          <p:spPr>
            <a:xfrm>
              <a:off x="5518080" y="2244600"/>
              <a:ext cx="603360" cy="4892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14"/>
            <p:cNvSpPr/>
            <p:nvPr/>
          </p:nvSpPr>
          <p:spPr>
            <a:xfrm>
              <a:off x="5671800" y="2244600"/>
              <a:ext cx="3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Constantia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" name="Группа 43"/>
          <p:cNvGrpSpPr/>
          <p:nvPr/>
        </p:nvGrpSpPr>
        <p:grpSpPr>
          <a:xfrm>
            <a:off x="6350040" y="2984400"/>
            <a:ext cx="603360" cy="642600"/>
            <a:chOff x="6350040" y="2984400"/>
            <a:chExt cx="603360" cy="642600"/>
          </a:xfrm>
        </p:grpSpPr>
        <p:sp>
          <p:nvSpPr>
            <p:cNvPr id="198" name="Rectangle 8"/>
            <p:cNvSpPr/>
            <p:nvPr/>
          </p:nvSpPr>
          <p:spPr>
            <a:xfrm>
              <a:off x="6350040" y="2984400"/>
              <a:ext cx="603360" cy="4892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14"/>
            <p:cNvSpPr/>
            <p:nvPr/>
          </p:nvSpPr>
          <p:spPr>
            <a:xfrm>
              <a:off x="6503760" y="2984400"/>
              <a:ext cx="3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Constantia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Группа 46"/>
          <p:cNvGrpSpPr/>
          <p:nvPr/>
        </p:nvGrpSpPr>
        <p:grpSpPr>
          <a:xfrm>
            <a:off x="5638680" y="4317840"/>
            <a:ext cx="603360" cy="642600"/>
            <a:chOff x="5638680" y="4317840"/>
            <a:chExt cx="603360" cy="642600"/>
          </a:xfrm>
        </p:grpSpPr>
        <p:sp>
          <p:nvSpPr>
            <p:cNvPr id="201" name="Rectangle 8"/>
            <p:cNvSpPr/>
            <p:nvPr/>
          </p:nvSpPr>
          <p:spPr>
            <a:xfrm>
              <a:off x="5638680" y="4317840"/>
              <a:ext cx="603360" cy="4892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14"/>
            <p:cNvSpPr/>
            <p:nvPr/>
          </p:nvSpPr>
          <p:spPr>
            <a:xfrm>
              <a:off x="5792400" y="4317840"/>
              <a:ext cx="3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Constantia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WordArt 4"/>
          <p:cNvSpPr txBox="1"/>
          <p:nvPr/>
        </p:nvSpPr>
        <p:spPr>
          <a:xfrm>
            <a:off x="1871640" y="279360"/>
            <a:ext cx="531036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Georgia"/>
              </a:rPr>
              <a:t>Рефлексия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Georgia"/>
              <a:ea typeface="Georgia"/>
            </a:endParaRPr>
          </a:p>
        </p:txBody>
      </p:sp>
      <p:sp>
        <p:nvSpPr>
          <p:cNvPr id="355" name="Rectangle 6"/>
          <p:cNvSpPr/>
          <p:nvPr/>
        </p:nvSpPr>
        <p:spPr>
          <a:xfrm rot="20509800">
            <a:off x="-198000" y="2032200"/>
            <a:ext cx="440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omic Sans MS"/>
              </a:rPr>
              <a:t>Оцените свою работу на уро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9"/>
          <p:cNvSpPr/>
          <p:nvPr/>
        </p:nvSpPr>
        <p:spPr>
          <a:xfrm rot="1153800">
            <a:off x="4160520" y="2034000"/>
            <a:ext cx="440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omic Sans MS"/>
              </a:rPr>
              <a:t>Удовлетворены ли вы результатом своей работ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10" descr="36_2_25"/>
          <p:cNvPicPr/>
          <p:nvPr/>
        </p:nvPicPr>
        <p:blipFill>
          <a:blip r:embed="rId1"/>
          <a:stretch/>
        </p:blipFill>
        <p:spPr>
          <a:xfrm>
            <a:off x="2997360" y="2843280"/>
            <a:ext cx="1620720" cy="16207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1" descr="36_2_24"/>
          <p:cNvPicPr/>
          <p:nvPr/>
        </p:nvPicPr>
        <p:blipFill>
          <a:blip r:embed="rId2"/>
          <a:stretch/>
        </p:blipFill>
        <p:spPr>
          <a:xfrm>
            <a:off x="566640" y="401472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2" descr="36_2_19"/>
          <p:cNvPicPr/>
          <p:nvPr/>
        </p:nvPicPr>
        <p:blipFill>
          <a:blip r:embed="rId3"/>
          <a:stretch/>
        </p:blipFill>
        <p:spPr>
          <a:xfrm>
            <a:off x="5877000" y="4148280"/>
            <a:ext cx="1217520" cy="12175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13"/>
          <p:cNvSpPr/>
          <p:nvPr/>
        </p:nvSpPr>
        <p:spPr>
          <a:xfrm>
            <a:off x="3627360" y="4419720"/>
            <a:ext cx="6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971640" y="5634000"/>
            <a:ext cx="9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5877000" y="5543640"/>
            <a:ext cx="20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Не зна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4"/>
          <p:cNvSpPr txBox="1"/>
          <p:nvPr/>
        </p:nvSpPr>
        <p:spPr>
          <a:xfrm>
            <a:off x="1150920" y="233280"/>
            <a:ext cx="630072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Домашнее задние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  <p:sp>
        <p:nvSpPr>
          <p:cNvPr id="364" name="WordArt 5"/>
          <p:cNvSpPr txBox="1"/>
          <p:nvPr/>
        </p:nvSpPr>
        <p:spPr>
          <a:xfrm rot="20650200">
            <a:off x="2644920" y="2546280"/>
            <a:ext cx="270036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Georgia"/>
              </a:rPr>
              <a:t>№ </a:t>
            </a: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Georgia"/>
              </a:rPr>
              <a:t>812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Georgia"/>
              <a:ea typeface="Georgia"/>
            </a:endParaRPr>
          </a:p>
        </p:txBody>
      </p:sp>
      <p:sp>
        <p:nvSpPr>
          <p:cNvPr id="365" name="WordArt 6"/>
          <p:cNvSpPr txBox="1"/>
          <p:nvPr/>
        </p:nvSpPr>
        <p:spPr>
          <a:xfrm rot="1145400">
            <a:off x="5595840" y="1925280"/>
            <a:ext cx="25653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9900"/>
                </a:solidFill>
                <a:latin typeface="Georgia"/>
              </a:rPr>
              <a:t>№ </a:t>
            </a: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9900"/>
                </a:solidFill>
                <a:latin typeface="Georgia"/>
              </a:rPr>
              <a:t>816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9900"/>
              </a:solidFill>
              <a:latin typeface="Georgia"/>
              <a:ea typeface="Georgia"/>
            </a:endParaRPr>
          </a:p>
        </p:txBody>
      </p:sp>
      <p:sp>
        <p:nvSpPr>
          <p:cNvPr id="366" name="WordArt 7"/>
          <p:cNvSpPr txBox="1"/>
          <p:nvPr/>
        </p:nvSpPr>
        <p:spPr>
          <a:xfrm rot="21168600">
            <a:off x="502920" y="2048040"/>
            <a:ext cx="24750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3333ff"/>
                </a:solidFill>
                <a:latin typeface="Georgia"/>
              </a:rPr>
              <a:t>№ </a:t>
            </a: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3333ff"/>
                </a:solidFill>
                <a:latin typeface="Georgia"/>
              </a:rPr>
              <a:t>818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3333ff"/>
              </a:solidFill>
              <a:latin typeface="Georgia"/>
              <a:ea typeface="Georgia"/>
            </a:endParaRPr>
          </a:p>
        </p:txBody>
      </p:sp>
      <p:pic>
        <p:nvPicPr>
          <p:cNvPr id="367" name="Picture 56" descr="gl_elbfa_levo"/>
          <p:cNvPicPr/>
          <p:nvPr/>
        </p:nvPicPr>
        <p:blipFill>
          <a:blip r:embed="rId1"/>
          <a:stretch/>
        </p:blipFill>
        <p:spPr>
          <a:xfrm>
            <a:off x="250920" y="279360"/>
            <a:ext cx="1009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WordArt 4"/>
          <p:cNvSpPr txBox="1"/>
          <p:nvPr/>
        </p:nvSpPr>
        <p:spPr>
          <a:xfrm rot="20890200">
            <a:off x="456840" y="1600200"/>
            <a:ext cx="8229600" cy="452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e7030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пасибо  за  урок!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e7030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701640" y="819000"/>
            <a:ext cx="7335720" cy="45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числа надо вставить, чтобы получить верную пропорцию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   </a:t>
            </a:r>
            <a:r>
              <a:rPr b="1" lang="ru-RU" sz="4800" spc="-1" strike="noStrike">
                <a:solidFill>
                  <a:srgbClr val="000000"/>
                </a:solidFill>
                <a:latin typeface="Symbol"/>
                <a:ea typeface="Symbol"/>
              </a:rPr>
              <a:t>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1" lang="ru-RU" sz="4800" spc="-1" strike="noStrike">
                <a:solidFill>
                  <a:srgbClr val="000000"/>
                </a:solidFill>
                <a:latin typeface="Symbol"/>
                <a:ea typeface="Symbol"/>
              </a:rPr>
              <a:t>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4 : 6; 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   </a:t>
            </a:r>
            <a:r>
              <a:rPr b="1" lang="ru-RU" sz="4800" spc="-1" strike="noStrike">
                <a:solidFill>
                  <a:srgbClr val="000000"/>
                </a:solidFill>
                <a:latin typeface="Symbol"/>
                <a:ea typeface="Symbol"/>
              </a:rPr>
              <a:t>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1" lang="ru-RU" sz="4800" spc="-1" strike="noStrike">
                <a:solidFill>
                  <a:srgbClr val="000000"/>
                </a:solidFill>
                <a:latin typeface="Symbol"/>
                <a:ea typeface="Symbol"/>
              </a:rPr>
              <a:t>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4800" spc="-1" strike="noStrike">
                <a:solidFill>
                  <a:srgbClr val="000000"/>
                </a:solidFill>
                <a:latin typeface="Symbol"/>
                <a:ea typeface="Symbol"/>
              </a:rPr>
              <a:t>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5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1241280" y="907920"/>
            <a:ext cx="6796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верную пропорцию из чисел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, 12, 6 и 5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97000" y="9032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а</a:t>
            </a: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) Велосипедист за 3ч проезжает 75км. За сколько времени проедет велосипедист 125км с той же скоростью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Georgia"/>
              </a:rPr>
              <a:t>б) 8 одинаковых труб заполняют бассейн за 25 минуты. За сколько минут заполнят бассейн 10 таких труб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в) Бригада из 8 рабочих выполняет задание за 15 дней. Сколько рабочих сможет выполнить это задание за 10 дней, работая с той же производительностью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2"/>
                </a:solidFill>
                <a:latin typeface="Georgia"/>
              </a:rPr>
              <a:t>г) Из 5,6 кг помидоров получают 2 л томатного соуса. Сколько литров соуса можно получить из 54 кг поми</a:t>
            </a:r>
            <a:r>
              <a:rPr b="1" i="1" lang="ru-RU" sz="2000" spc="-1" strike="noStrike">
                <a:solidFill>
                  <a:srgbClr val="000052"/>
                </a:solidFill>
                <a:latin typeface="Georgia"/>
              </a:rPr>
              <a:t>дор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72960" y="368280"/>
            <a:ext cx="84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Составить пропорции для решения задач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5"/>
          <p:cNvSpPr txBox="1"/>
          <p:nvPr/>
        </p:nvSpPr>
        <p:spPr>
          <a:xfrm>
            <a:off x="1736640" y="279360"/>
            <a:ext cx="540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Georgia"/>
              </a:rPr>
              <a:t>Ответы: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Georgia"/>
              <a:ea typeface="Georgia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1062000" y="1584360"/>
            <a:ext cx="27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а)  3:х=75:1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1165680" y="2676600"/>
            <a:ext cx="27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b10f0"/>
                </a:solidFill>
                <a:latin typeface="Georgia"/>
              </a:rPr>
              <a:t>б)  8 :10= Х :2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5021280" y="1538280"/>
            <a:ext cx="28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в)  8 : х=10 :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5178600" y="263196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ff"/>
                </a:solidFill>
                <a:latin typeface="Georgia"/>
              </a:rPr>
              <a:t>г)  5,6 :54=2 : 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rcRect l="0" t="2450" r="20362" b="7587"/>
          <a:stretch/>
        </p:blipFill>
        <p:spPr>
          <a:xfrm>
            <a:off x="250920" y="368280"/>
            <a:ext cx="877716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8" descr="C:\Users\Алёна\Desktop\z12.jp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31640" y="388800"/>
            <a:ext cx="8180640" cy="59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http://mat.1september.ru/1999/no1_11.gif"/>
          <p:cNvPicPr/>
          <p:nvPr/>
        </p:nvPicPr>
        <p:blipFill>
          <a:blip r:embed="rId1"/>
          <a:stretch/>
        </p:blipFill>
        <p:spPr>
          <a:xfrm>
            <a:off x="1685880" y="620640"/>
            <a:ext cx="54468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6:02:45Z</dcterms:created>
  <dc:creator>Алёна</dc:creator>
  <dc:description/>
  <dc:language>en-US</dc:language>
  <cp:lastModifiedBy>Алёна</cp:lastModifiedBy>
  <dcterms:modified xsi:type="dcterms:W3CDTF">2016-12-19T15:41:06Z</dcterms:modified>
  <cp:revision>92</cp:revision>
  <dc:subject/>
  <dc:title>Слайд 1</dc:title>
</cp:coreProperties>
</file>