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6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6C1-B7E5-4976-905E-D51A07F0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4CE-0FE3-4114-AA68-8E0EF403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3F1-8CE3-45FA-8D63-32222021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3CB-8601-4F70-B5EF-D294DD60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2984-746B-45B9-82CA-A81836CF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938B-A469-4231-9C1F-01C8BA3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9465-FDB9-4C14-A5E5-525305B9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014D-25F8-45CB-9F2A-8C649C27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8C7B-0B4A-44C5-8762-6502EB97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554E-FC39-4207-B660-D5B056B5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9FA5-9399-40FD-BD6D-70559E0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FF0-99B9-4520-A28C-26723F21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1854-2264-4060-A65A-FE7999A6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7182-8A69-42B0-B305-37C613F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72B6-E4D7-4EA1-B740-71DA508D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7BA4-1FCB-4EE9-8EDF-3E47425A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D98C-4D71-4F71-925E-9A679B87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1FA-ACA1-4D27-AE3B-A80CC723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2DED-79B5-466E-A4D7-F5BAB575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F12-9744-45E9-8A52-47728508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134-DF46-4983-ADF8-E02CF3F0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FB2-B447-4A64-80C6-042190BB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4DD-614D-4822-8487-F549DD23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D8A-03F0-4270-840C-D20785F3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8370-DDC2-4534-B74C-109EF06B183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120" y="2235240"/>
                    <a:ext cx="71280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600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600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A8BD-DDAB-463E-8998-CA5A4EDBC1E8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7720" y="1628640"/>
            <a:ext cx="63007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dobe Garamond Pro Bold"/>
              </a:rPr>
              <a:t>Странички ожившей   истории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708360" y="5373360"/>
            <a:ext cx="507528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 Black"/>
              </a:rPr>
              <a:t>Проект реализовала воспитатель Синькова С.Ю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Прямоугольник 1"/>
          <p:cNvSpPr/>
          <p:nvPr/>
        </p:nvSpPr>
        <p:spPr>
          <a:xfrm>
            <a:off x="1908000" y="189000"/>
            <a:ext cx="6580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«СВЕТЛЯЧОК» (С.ПАДУН), ФИЛИАЛ</a:t>
            </a:r>
            <a:endParaRPr b="0" lang="en-US" sz="11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НОМНОГО УЧРЕЖДЕНИЯ ДОШКОЛЬНОГО ОБРАЗОВАНИЯ</a:t>
            </a:r>
            <a:endParaRPr b="0" lang="en-US" sz="11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ЗАВОДОУКОВСКИЙ ГОРОДСКОЙ ОКРУГ</a:t>
            </a:r>
            <a:endParaRPr b="0" lang="en-US" sz="11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ЕНТР РАЗВИТИЯ РЕБЁНКА – ДЕТСКИЙ САД «СВЕТЛЯЧОК»</a:t>
            </a:r>
            <a:endParaRPr b="0" lang="en-US" sz="11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2"/>
          <a:stretch/>
        </p:blipFill>
        <p:spPr>
          <a:xfrm>
            <a:off x="2987640" y="3286080"/>
            <a:ext cx="4660920" cy="1963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0578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Досуг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Picture 8" descr="DSCN2706"/>
          <p:cNvPicPr/>
          <p:nvPr/>
        </p:nvPicPr>
        <p:blipFill>
          <a:blip r:embed="rId2"/>
          <a:stretch/>
        </p:blipFill>
        <p:spPr>
          <a:xfrm rot="335400">
            <a:off x="1979640" y="184428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387" name="Объект 2" descr=""/>
          <p:cNvPicPr/>
          <p:nvPr/>
        </p:nvPicPr>
        <p:blipFill>
          <a:blip r:embed="rId3"/>
          <a:stretch/>
        </p:blipFill>
        <p:spPr>
          <a:xfrm rot="21252000">
            <a:off x="5578200" y="1545840"/>
            <a:ext cx="2808360" cy="4259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7448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660033"/>
              </a:solidFill>
              <a:latin typeface="Arial Black"/>
            </a:endParaRPr>
          </a:p>
        </p:txBody>
      </p:sp>
      <p:pic>
        <p:nvPicPr>
          <p:cNvPr id="390" name="Picture 9" descr=""/>
          <p:cNvPicPr/>
          <p:nvPr/>
        </p:nvPicPr>
        <p:blipFill>
          <a:blip r:embed="rId2"/>
          <a:stretch/>
        </p:blipFill>
        <p:spPr>
          <a:xfrm rot="381600">
            <a:off x="5003640" y="3284640"/>
            <a:ext cx="3888000" cy="2916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"/>
          <p:cNvPicPr/>
          <p:nvPr/>
        </p:nvPicPr>
        <p:blipFill>
          <a:blip r:embed="rId3"/>
          <a:stretch/>
        </p:blipFill>
        <p:spPr>
          <a:xfrm rot="21230400">
            <a:off x="2339640" y="1699920"/>
            <a:ext cx="3672000" cy="2752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451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Минутки общения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4" name="Picture 6" descr="DSCN2728"/>
          <p:cNvPicPr/>
          <p:nvPr/>
        </p:nvPicPr>
        <p:blipFill>
          <a:blip r:embed="rId2"/>
          <a:stretch/>
        </p:blipFill>
        <p:spPr>
          <a:xfrm>
            <a:off x="1835280" y="1197000"/>
            <a:ext cx="3632040" cy="2519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SCN2742"/>
          <p:cNvPicPr/>
          <p:nvPr/>
        </p:nvPicPr>
        <p:blipFill>
          <a:blip r:embed="rId3"/>
          <a:stretch/>
        </p:blipFill>
        <p:spPr>
          <a:xfrm>
            <a:off x="4506840" y="3573360"/>
            <a:ext cx="4178520" cy="2894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67694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Игровая деятельнос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2"/>
          <a:stretch/>
        </p:blipFill>
        <p:spPr>
          <a:xfrm rot="21155400">
            <a:off x="1763280" y="2421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3" descr="DSCN2751"/>
          <p:cNvPicPr/>
          <p:nvPr/>
        </p:nvPicPr>
        <p:blipFill>
          <a:blip r:embed="rId3"/>
          <a:stretch/>
        </p:blipFill>
        <p:spPr>
          <a:xfrm>
            <a:off x="5745240" y="1628640"/>
            <a:ext cx="3236760" cy="4314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6720" y="-360"/>
            <a:ext cx="82072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Моделировани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13" descr="DSCN2719"/>
          <p:cNvPicPr/>
          <p:nvPr/>
        </p:nvPicPr>
        <p:blipFill>
          <a:blip r:embed="rId2"/>
          <a:stretch/>
        </p:blipFill>
        <p:spPr>
          <a:xfrm>
            <a:off x="5195880" y="98100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6" descr="DSCN2755"/>
          <p:cNvPicPr/>
          <p:nvPr/>
        </p:nvPicPr>
        <p:blipFill>
          <a:blip r:embed="rId3"/>
          <a:stretch/>
        </p:blipFill>
        <p:spPr>
          <a:xfrm>
            <a:off x="1187280" y="981000"/>
            <a:ext cx="3454560" cy="2592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7" descr="DSCN2756"/>
          <p:cNvPicPr/>
          <p:nvPr/>
        </p:nvPicPr>
        <p:blipFill>
          <a:blip r:embed="rId4"/>
          <a:stretch/>
        </p:blipFill>
        <p:spPr>
          <a:xfrm>
            <a:off x="1258920" y="381960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DSCN2749"/>
          <p:cNvPicPr/>
          <p:nvPr/>
        </p:nvPicPr>
        <p:blipFill>
          <a:blip r:embed="rId5"/>
          <a:stretch/>
        </p:blipFill>
        <p:spPr>
          <a:xfrm>
            <a:off x="5148360" y="3860640"/>
            <a:ext cx="3671640" cy="2606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696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660033"/>
              </a:solidFill>
              <a:latin typeface="Arial Black"/>
            </a:endParaRPr>
          </a:p>
        </p:txBody>
      </p:sp>
      <p:pic>
        <p:nvPicPr>
          <p:cNvPr id="408" name="Picture 9" descr="DSCN2741"/>
          <p:cNvPicPr/>
          <p:nvPr/>
        </p:nvPicPr>
        <p:blipFill>
          <a:blip r:embed="rId2"/>
          <a:stretch/>
        </p:blipFill>
        <p:spPr>
          <a:xfrm rot="5817000">
            <a:off x="4848840" y="2288160"/>
            <a:ext cx="4435560" cy="35481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DSCN2745"/>
          <p:cNvPicPr/>
          <p:nvPr/>
        </p:nvPicPr>
        <p:blipFill>
          <a:blip r:embed="rId3"/>
          <a:stretch/>
        </p:blipFill>
        <p:spPr>
          <a:xfrm rot="4744800">
            <a:off x="1807920" y="180036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DSCN2744"/>
          <p:cNvPicPr/>
          <p:nvPr/>
        </p:nvPicPr>
        <p:blipFill>
          <a:blip r:embed="rId4"/>
          <a:stretch/>
        </p:blipFill>
        <p:spPr>
          <a:xfrm rot="6598200">
            <a:off x="3073320" y="4135320"/>
            <a:ext cx="2763720" cy="2071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 rot="489000">
            <a:off x="1860480" y="186480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DSCN2750"/>
          <p:cNvPicPr/>
          <p:nvPr/>
        </p:nvPicPr>
        <p:blipFill>
          <a:blip r:embed="rId3"/>
          <a:stretch/>
        </p:blipFill>
        <p:spPr>
          <a:xfrm rot="672600">
            <a:off x="5659560" y="1951200"/>
            <a:ext cx="2904840" cy="331452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2"/>
          <p:cNvSpPr/>
          <p:nvPr/>
        </p:nvSpPr>
        <p:spPr>
          <a:xfrm>
            <a:off x="2929320" y="333360"/>
            <a:ext cx="32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Практикум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22160" y="-360"/>
            <a:ext cx="75214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Экскурсии, </a:t>
            </a: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целевые прогулки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7" name="Picture 9" descr="DSCN2720"/>
          <p:cNvPicPr/>
          <p:nvPr/>
        </p:nvPicPr>
        <p:blipFill>
          <a:blip r:embed="rId2"/>
          <a:stretch/>
        </p:blipFill>
        <p:spPr>
          <a:xfrm>
            <a:off x="2050920" y="1584360"/>
            <a:ext cx="3313080" cy="2671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DSCN2721"/>
          <p:cNvPicPr/>
          <p:nvPr/>
        </p:nvPicPr>
        <p:blipFill>
          <a:blip r:embed="rId3"/>
          <a:stretch/>
        </p:blipFill>
        <p:spPr>
          <a:xfrm>
            <a:off x="5724360" y="1628640"/>
            <a:ext cx="3227400" cy="2421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DSCN2725"/>
          <p:cNvPicPr/>
          <p:nvPr/>
        </p:nvPicPr>
        <p:blipFill>
          <a:blip r:embed="rId4"/>
          <a:stretch/>
        </p:blipFill>
        <p:spPr>
          <a:xfrm>
            <a:off x="3924360" y="3933720"/>
            <a:ext cx="3457440" cy="259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1" name="Объект 3" descr=""/>
          <p:cNvPicPr/>
          <p:nvPr/>
        </p:nvPicPr>
        <p:blipFill>
          <a:blip r:embed="rId2"/>
          <a:stretch/>
        </p:blipFill>
        <p:spPr>
          <a:xfrm rot="20678400">
            <a:off x="2268000" y="1483920"/>
            <a:ext cx="2928960" cy="39067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4" descr=""/>
          <p:cNvPicPr/>
          <p:nvPr/>
        </p:nvPicPr>
        <p:blipFill>
          <a:blip r:embed="rId3"/>
          <a:stretch/>
        </p:blipFill>
        <p:spPr>
          <a:xfrm rot="20859000">
            <a:off x="5580000" y="333000"/>
            <a:ext cx="3014640" cy="33559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5" descr=""/>
          <p:cNvPicPr/>
          <p:nvPr/>
        </p:nvPicPr>
        <p:blipFill>
          <a:blip r:embed="rId4"/>
          <a:stretch/>
        </p:blipFill>
        <p:spPr>
          <a:xfrm rot="20695200">
            <a:off x="5148360" y="3715920"/>
            <a:ext cx="3600360" cy="2698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50880" y="188640"/>
            <a:ext cx="75931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Музейная работа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6" name="Picture 6" descr="DSCN2746"/>
          <p:cNvPicPr/>
          <p:nvPr/>
        </p:nvPicPr>
        <p:blipFill>
          <a:blip r:embed="rId2"/>
          <a:stretch/>
        </p:blipFill>
        <p:spPr>
          <a:xfrm rot="19787400">
            <a:off x="4211280" y="286236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DSCN2743"/>
          <p:cNvPicPr/>
          <p:nvPr/>
        </p:nvPicPr>
        <p:blipFill>
          <a:blip r:embed="rId3"/>
          <a:stretch/>
        </p:blipFill>
        <p:spPr>
          <a:xfrm rot="19758000">
            <a:off x="1090080" y="1782720"/>
            <a:ext cx="4392720" cy="3292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1260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7" descr=""/>
          <p:cNvPicPr/>
          <p:nvPr/>
        </p:nvPicPr>
        <p:blipFill>
          <a:blip r:embed="rId2"/>
          <a:stretch/>
        </p:blipFill>
        <p:spPr>
          <a:xfrm>
            <a:off x="2554200" y="324000"/>
            <a:ext cx="4889520" cy="8586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979640" y="170028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Дети подготовительной к школе групп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Родители(законные представители)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Педагог подготовительной групп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85840" indent="-285840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Музыкальный руководител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Прямоугольник 5" descr=""/>
          <p:cNvPicPr/>
          <p:nvPr/>
        </p:nvPicPr>
        <p:blipFill>
          <a:blip r:embed="rId3"/>
          <a:stretch/>
        </p:blipFill>
        <p:spPr>
          <a:xfrm>
            <a:off x="2779560" y="4211640"/>
            <a:ext cx="4840560" cy="860400"/>
          </a:xfrm>
          <a:prstGeom prst="rect">
            <a:avLst/>
          </a:prstGeom>
          <a:ln w="0">
            <a:noFill/>
          </a:ln>
        </p:spPr>
      </p:pic>
      <p:sp>
        <p:nvSpPr>
          <p:cNvPr id="359" name="Прямоугольник 4"/>
          <p:cNvSpPr/>
          <p:nvPr/>
        </p:nvSpPr>
        <p:spPr>
          <a:xfrm>
            <a:off x="2487600" y="5229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01.03.2019-09.05.2019 г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5214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0" name="Рисунок 1" descr=""/>
          <p:cNvPicPr/>
          <p:nvPr/>
        </p:nvPicPr>
        <p:blipFill>
          <a:blip r:embed="rId2"/>
          <a:stretch/>
        </p:blipFill>
        <p:spPr>
          <a:xfrm>
            <a:off x="1790640" y="765000"/>
            <a:ext cx="4680000" cy="31197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3"/>
          <a:stretch/>
        </p:blipFill>
        <p:spPr>
          <a:xfrm>
            <a:off x="3564000" y="3141720"/>
            <a:ext cx="5257800" cy="35067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"/>
          <p:cNvSpPr/>
          <p:nvPr/>
        </p:nvSpPr>
        <p:spPr>
          <a:xfrm>
            <a:off x="1550880" y="7920"/>
            <a:ext cx="75931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Работа с социумом</a:t>
            </a:r>
            <a:br>
              <a:rPr sz="24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оугольник 2" descr=""/>
          <p:cNvPicPr/>
          <p:nvPr/>
        </p:nvPicPr>
        <p:blipFill>
          <a:blip r:embed="rId2"/>
          <a:stretch/>
        </p:blipFill>
        <p:spPr>
          <a:xfrm>
            <a:off x="2481120" y="6480"/>
            <a:ext cx="5029200" cy="107316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5" descr=""/>
          <p:cNvPicPr/>
          <p:nvPr/>
        </p:nvPicPr>
        <p:blipFill>
          <a:blip r:embed="rId3"/>
          <a:stretch/>
        </p:blipFill>
        <p:spPr>
          <a:xfrm>
            <a:off x="1908000" y="988920"/>
            <a:ext cx="4091040" cy="306864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6" descr=""/>
          <p:cNvPicPr/>
          <p:nvPr/>
        </p:nvPicPr>
        <p:blipFill>
          <a:blip r:embed="rId4"/>
          <a:stretch/>
        </p:blipFill>
        <p:spPr>
          <a:xfrm>
            <a:off x="4403880" y="3403440"/>
            <a:ext cx="4427280" cy="3321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834920" y="0"/>
            <a:ext cx="6481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             </a:t>
            </a: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Информационная корзина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9" name="Объект 2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Вывод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692360" y="1700280"/>
            <a:ext cx="6983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Активное вовлечение семей воспитанников в совместную поисковую и творческую работу в изучении военной истории родного края, пополнились  знания о подвигах ветеранов ВОВ, тружеников тыл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push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Перспектива 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692360" y="1700280"/>
            <a:ext cx="6983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Скоординировать совместную работу с организациями и социальными партнерами по патриотическом воспитанию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8" name="Picture 6" descr="753"/>
          <p:cNvPicPr/>
          <p:nvPr/>
        </p:nvPicPr>
        <p:blipFill>
          <a:blip r:embed="rId2"/>
          <a:stretch/>
        </p:blipFill>
        <p:spPr>
          <a:xfrm rot="20836800">
            <a:off x="2216160" y="2007720"/>
            <a:ext cx="2558880" cy="3745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1" descr="s19-9"/>
          <p:cNvPicPr/>
          <p:nvPr/>
        </p:nvPicPr>
        <p:blipFill>
          <a:blip r:embed="rId3"/>
          <a:stretch/>
        </p:blipFill>
        <p:spPr>
          <a:xfrm rot="655800">
            <a:off x="5632560" y="2163600"/>
            <a:ext cx="2898720" cy="3108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43196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Актуальность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979280" y="549360"/>
            <a:ext cx="7164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no Pro Smbd Display"/>
              </a:rPr>
              <a:t>Патриотическое воспитание дошкольников – актуальная проблема в условиях современной России. Изменилась не только жизнь, но и мы сами. В течение последних десятилетий радикально переосмыслено само понятие патриотического воспитания дошкольников, его содержание, цели и задачи. Чувство любви к Родине – это одно из самых сильных чувств, без него человек ущербен, не ощущает своих корней. А почувствует ли он привязанность к родной земле или отдалится от нее, это уже зависит от обстоятельств жизни и воспитания. Поэтому важно, чтобы ребенок уже в дошкольном возрасте почувствовал личную ответственность за родную землю и ее будущее. Таким образом, было принято решение разработать и реализовать проект «Ожившие странички истории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886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319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Значимая для детей проблема, на решение которой направлен проект: </a:t>
            </a:r>
            <a:r>
              <a:rPr b="0" i="1" lang="ru-RU" sz="2400" spc="-1" strike="noStrike">
                <a:solidFill>
                  <a:srgbClr val="ff0000"/>
                </a:solidFill>
                <a:latin typeface="Arial Black"/>
              </a:rPr>
              <a:t>дефицит знаний о военной истории своей Родины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087"/>
          <p:cNvPicPr/>
          <p:nvPr/>
        </p:nvPicPr>
        <p:blipFill>
          <a:blip r:embed="rId2"/>
          <a:stretch/>
        </p:blipFill>
        <p:spPr>
          <a:xfrm>
            <a:off x="5940360" y="1484280"/>
            <a:ext cx="294660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0403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Цель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68360" y="1673280"/>
            <a:ext cx="6407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 Black"/>
              </a:rPr>
              <a:t>формирование у дошкольников уважения к военной истории России, гражданских позиций, воспитанию патриотизма и чувства гордости за свою Родину.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295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             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07640" y="1052280"/>
            <a:ext cx="698508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 Black"/>
              </a:rPr>
              <a:t>формировать толерантность, уважение к защитникам Родины, чувство гордости за свой народ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 Black"/>
              </a:rPr>
              <a:t>воспитывать патриотические чувства к героическим событиям прошлых лет, уважения к ветеранам, труженикам тыла, вынесшим на своих плечах тяготы войн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 Black"/>
              </a:rPr>
              <a:t>приобщить родителей (законных представителей) к реализации проекта (рассказать о прадедушках, прабабушках, участвовавших в боевых действиях и переживших войну);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2"/>
          <a:stretch/>
        </p:blipFill>
        <p:spPr>
          <a:xfrm>
            <a:off x="3995640" y="4249800"/>
            <a:ext cx="331308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ФОРМЫ РАБОТЫ С ДЕТЬМИ В РАМКАХ РЕАЛИЗАЦИИ ОСНОВНОГО ЭТАПА ПРОЕКТ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050920" y="1557000"/>
            <a:ext cx="68421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                  </a:t>
            </a:r>
            <a:r>
              <a:rPr b="0" lang="ru-RU" sz="2400" spc="-1" strike="noStrike">
                <a:solidFill>
                  <a:srgbClr val="660033"/>
                </a:solidFill>
                <a:latin typeface="Arial Black"/>
              </a:rPr>
              <a:t>Видеотек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601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601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2340000" y="2178000"/>
            <a:ext cx="5919840" cy="3900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6912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 Black"/>
              </a:rPr>
              <a:t>Образовательная деятельность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Picture 5" descr="DSCN2064"/>
          <p:cNvPicPr/>
          <p:nvPr/>
        </p:nvPicPr>
        <p:blipFill>
          <a:blip r:embed="rId2"/>
          <a:stretch/>
        </p:blipFill>
        <p:spPr>
          <a:xfrm>
            <a:off x="2556000" y="2205000"/>
            <a:ext cx="580212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DSCN2672"/>
          <p:cNvPicPr/>
          <p:nvPr/>
        </p:nvPicPr>
        <p:blipFill>
          <a:blip r:embed="rId2"/>
          <a:stretch/>
        </p:blipFill>
        <p:spPr>
          <a:xfrm rot="843600">
            <a:off x="4659120" y="2079360"/>
            <a:ext cx="4093920" cy="3070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DSCN2671"/>
          <p:cNvPicPr/>
          <p:nvPr/>
        </p:nvPicPr>
        <p:blipFill>
          <a:blip r:embed="rId3"/>
          <a:stretch/>
        </p:blipFill>
        <p:spPr>
          <a:xfrm rot="4971000">
            <a:off x="1487160" y="2187360"/>
            <a:ext cx="418644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11:21:48Z</dcterms:created>
  <dc:creator>Rasta - XP™</dc:creator>
  <dc:description/>
  <dc:language>en-US</dc:language>
  <cp:lastModifiedBy>елена костенко</cp:lastModifiedBy>
  <dcterms:modified xsi:type="dcterms:W3CDTF">2019-05-13T15:20:09Z</dcterms:modified>
  <cp:revision>24</cp:revision>
  <dc:subject/>
  <dc:title>Странички ожившей истории</dc:title>
</cp:coreProperties>
</file>