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6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C95-7FBD-4A96-A822-7356B26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CE4-0E95-498F-B51E-F08AC4C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11F-CB04-4A96-8CEC-60DDBC74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C32-E96B-412D-8021-3FD80B22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2ADD-5031-4178-9AB7-2EF596AA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B6EA-3598-4473-842C-9A86D4CF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5FE0-339C-4595-8C17-F955396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F851-02D1-4192-BFB5-B1315DE9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C1B-D8BB-49DA-BCE5-4265F17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E271-E0AF-4F00-A4CE-2AF63BE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D48-A97E-4FC6-9E6C-CC26C9B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1B2-F317-4059-89F4-CCB1710B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8D75-6C33-4B39-A6C4-8E82DDD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C2D1-141A-4FCE-9520-FCF4AD3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9902-557D-45BE-B4F2-1CA13423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22D-DE28-4C8F-982D-3724BC6B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4DC7-28EC-4E36-A7B6-5CFEF937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485-4790-4379-86DC-65AAD78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524-0611-4CFE-A47C-E1ADC4B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B23-AAE7-4E29-80A9-11771B3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AA1-C01D-4D1C-A059-0593B53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721-CE0C-4572-95FE-9F0ED2D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CBC-2197-4170-BB51-1C8E2C8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0EB-8D50-45F9-BB4E-C34DBF0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5D9C-40E0-420D-95A7-1C944A8D420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8F7-9585-4298-8D4E-BAF120DE7ED9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7720" y="1628640"/>
            <a:ext cx="63007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dobe Garamond Pro Bold"/>
              </a:rPr>
              <a:t>Странички ожившей   истории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708360" y="5373360"/>
            <a:ext cx="50752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Проект реализовала воспитатель Синькова С.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Прямоугольник 1"/>
          <p:cNvSpPr/>
          <p:nvPr/>
        </p:nvSpPr>
        <p:spPr>
          <a:xfrm>
            <a:off x="1908000" y="189000"/>
            <a:ext cx="6580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«СВЕТЛЯЧОК» (С.ПАДУН), ФИЛИАЛ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ГО УЧРЕЖДЕНИЯ ДОШКОЛЬНОГО ОБРАЗОВАНИЯ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ЗАВОДОУКОВСКИЙ ГОРОДСКОЙ ОКРУГ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РЕБЁНКА – ДЕТСКИЙ САД «СВЕТЛЯЧОК»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2987640" y="3286080"/>
            <a:ext cx="466092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057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Досуг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Picture 8" descr="DSCN2706"/>
          <p:cNvPicPr/>
          <p:nvPr/>
        </p:nvPicPr>
        <p:blipFill>
          <a:blip r:embed="rId2"/>
          <a:stretch/>
        </p:blipFill>
        <p:spPr>
          <a:xfrm rot="335400">
            <a:off x="1979640" y="1844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387" name="Объект 2" descr=""/>
          <p:cNvPicPr/>
          <p:nvPr/>
        </p:nvPicPr>
        <p:blipFill>
          <a:blip r:embed="rId3"/>
          <a:stretch/>
        </p:blipFill>
        <p:spPr>
          <a:xfrm rot="21252000">
            <a:off x="5578200" y="1545840"/>
            <a:ext cx="2808360" cy="425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7448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660033"/>
              </a:solidFill>
              <a:latin typeface="Arial Black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2"/>
          <a:stretch/>
        </p:blipFill>
        <p:spPr>
          <a:xfrm rot="381600">
            <a:off x="5003640" y="3284640"/>
            <a:ext cx="3888000" cy="29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"/>
          <p:cNvPicPr/>
          <p:nvPr/>
        </p:nvPicPr>
        <p:blipFill>
          <a:blip r:embed="rId3"/>
          <a:stretch/>
        </p:blipFill>
        <p:spPr>
          <a:xfrm rot="21230400">
            <a:off x="2339640" y="169992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45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инутки общения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6" descr="DSCN2728"/>
          <p:cNvPicPr/>
          <p:nvPr/>
        </p:nvPicPr>
        <p:blipFill>
          <a:blip r:embed="rId2"/>
          <a:stretch/>
        </p:blipFill>
        <p:spPr>
          <a:xfrm>
            <a:off x="1835280" y="1197000"/>
            <a:ext cx="3632040" cy="2519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SCN2742"/>
          <p:cNvPicPr/>
          <p:nvPr/>
        </p:nvPicPr>
        <p:blipFill>
          <a:blip r:embed="rId3"/>
          <a:stretch/>
        </p:blipFill>
        <p:spPr>
          <a:xfrm>
            <a:off x="4506840" y="3573360"/>
            <a:ext cx="4178520" cy="289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7694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Игровая деятельн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 rot="21155400">
            <a:off x="1763280" y="2421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DSCN2751"/>
          <p:cNvPicPr/>
          <p:nvPr/>
        </p:nvPicPr>
        <p:blipFill>
          <a:blip r:embed="rId3"/>
          <a:stretch/>
        </p:blipFill>
        <p:spPr>
          <a:xfrm>
            <a:off x="5745240" y="1628640"/>
            <a:ext cx="32367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оделирова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13" descr="DSCN2719"/>
          <p:cNvPicPr/>
          <p:nvPr/>
        </p:nvPicPr>
        <p:blipFill>
          <a:blip r:embed="rId2"/>
          <a:stretch/>
        </p:blipFill>
        <p:spPr>
          <a:xfrm>
            <a:off x="5195880" y="98100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DSCN2755"/>
          <p:cNvPicPr/>
          <p:nvPr/>
        </p:nvPicPr>
        <p:blipFill>
          <a:blip r:embed="rId3"/>
          <a:stretch/>
        </p:blipFill>
        <p:spPr>
          <a:xfrm>
            <a:off x="1187280" y="981000"/>
            <a:ext cx="3454560" cy="25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DSCN2756"/>
          <p:cNvPicPr/>
          <p:nvPr/>
        </p:nvPicPr>
        <p:blipFill>
          <a:blip r:embed="rId4"/>
          <a:stretch/>
        </p:blipFill>
        <p:spPr>
          <a:xfrm>
            <a:off x="1258920" y="38196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DSCN2749"/>
          <p:cNvPicPr/>
          <p:nvPr/>
        </p:nvPicPr>
        <p:blipFill>
          <a:blip r:embed="rId5"/>
          <a:stretch/>
        </p:blipFill>
        <p:spPr>
          <a:xfrm>
            <a:off x="5148360" y="3860640"/>
            <a:ext cx="367164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69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660033"/>
              </a:solidFill>
              <a:latin typeface="Arial Black"/>
            </a:endParaRPr>
          </a:p>
        </p:txBody>
      </p:sp>
      <p:pic>
        <p:nvPicPr>
          <p:cNvPr id="408" name="Picture 9" descr="DSCN2741"/>
          <p:cNvPicPr/>
          <p:nvPr/>
        </p:nvPicPr>
        <p:blipFill>
          <a:blip r:embed="rId2"/>
          <a:stretch/>
        </p:blipFill>
        <p:spPr>
          <a:xfrm rot="5817000">
            <a:off x="4848840" y="228816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DSCN2745"/>
          <p:cNvPicPr/>
          <p:nvPr/>
        </p:nvPicPr>
        <p:blipFill>
          <a:blip r:embed="rId3"/>
          <a:stretch/>
        </p:blipFill>
        <p:spPr>
          <a:xfrm rot="4744800">
            <a:off x="1807920" y="1800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DSCN2744"/>
          <p:cNvPicPr/>
          <p:nvPr/>
        </p:nvPicPr>
        <p:blipFill>
          <a:blip r:embed="rId4"/>
          <a:stretch/>
        </p:blipFill>
        <p:spPr>
          <a:xfrm rot="6598200">
            <a:off x="3073320" y="4135320"/>
            <a:ext cx="276372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 rot="489000">
            <a:off x="1860480" y="186480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SCN2750"/>
          <p:cNvPicPr/>
          <p:nvPr/>
        </p:nvPicPr>
        <p:blipFill>
          <a:blip r:embed="rId3"/>
          <a:stretch/>
        </p:blipFill>
        <p:spPr>
          <a:xfrm rot="672600">
            <a:off x="5659560" y="1951200"/>
            <a:ext cx="2904840" cy="331452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2"/>
          <p:cNvSpPr/>
          <p:nvPr/>
        </p:nvSpPr>
        <p:spPr>
          <a:xfrm>
            <a:off x="2929320" y="33336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Практикум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22160" y="-360"/>
            <a:ext cx="7521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Экскурсии, 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целевые прогулк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7" name="Picture 9" descr="DSCN2720"/>
          <p:cNvPicPr/>
          <p:nvPr/>
        </p:nvPicPr>
        <p:blipFill>
          <a:blip r:embed="rId2"/>
          <a:stretch/>
        </p:blipFill>
        <p:spPr>
          <a:xfrm>
            <a:off x="2050920" y="1584360"/>
            <a:ext cx="3313080" cy="2671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DSCN2721"/>
          <p:cNvPicPr/>
          <p:nvPr/>
        </p:nvPicPr>
        <p:blipFill>
          <a:blip r:embed="rId3"/>
          <a:stretch/>
        </p:blipFill>
        <p:spPr>
          <a:xfrm>
            <a:off x="5724360" y="162864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DSCN2725"/>
          <p:cNvPicPr/>
          <p:nvPr/>
        </p:nvPicPr>
        <p:blipFill>
          <a:blip r:embed="rId4"/>
          <a:stretch/>
        </p:blipFill>
        <p:spPr>
          <a:xfrm>
            <a:off x="3924360" y="393372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Объект 3" descr=""/>
          <p:cNvPicPr/>
          <p:nvPr/>
        </p:nvPicPr>
        <p:blipFill>
          <a:blip r:embed="rId2"/>
          <a:stretch/>
        </p:blipFill>
        <p:spPr>
          <a:xfrm rot="20678400">
            <a:off x="2268000" y="1483920"/>
            <a:ext cx="2928960" cy="39067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4" descr=""/>
          <p:cNvPicPr/>
          <p:nvPr/>
        </p:nvPicPr>
        <p:blipFill>
          <a:blip r:embed="rId3"/>
          <a:stretch/>
        </p:blipFill>
        <p:spPr>
          <a:xfrm rot="20859000">
            <a:off x="5580000" y="333000"/>
            <a:ext cx="3014640" cy="33559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"/>
          <p:cNvPicPr/>
          <p:nvPr/>
        </p:nvPicPr>
        <p:blipFill>
          <a:blip r:embed="rId4"/>
          <a:stretch/>
        </p:blipFill>
        <p:spPr>
          <a:xfrm rot="20695200">
            <a:off x="5148360" y="3715920"/>
            <a:ext cx="3600360" cy="269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50880" y="188640"/>
            <a:ext cx="75931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узейная работа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6" name="Picture 6" descr="DSCN2746"/>
          <p:cNvPicPr/>
          <p:nvPr/>
        </p:nvPicPr>
        <p:blipFill>
          <a:blip r:embed="rId2"/>
          <a:stretch/>
        </p:blipFill>
        <p:spPr>
          <a:xfrm rot="19787400">
            <a:off x="4211280" y="286236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DSCN2743"/>
          <p:cNvPicPr/>
          <p:nvPr/>
        </p:nvPicPr>
        <p:blipFill>
          <a:blip r:embed="rId3"/>
          <a:stretch/>
        </p:blipFill>
        <p:spPr>
          <a:xfrm rot="19758000">
            <a:off x="1090080" y="1782720"/>
            <a:ext cx="439272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1260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2554200" y="324000"/>
            <a:ext cx="4889520" cy="858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979640" y="170028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Дети подготовительной к школе групп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Родители(законные представители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Педагог подготовительной групп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Музыкальный руководител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Прямоугольник 5" descr=""/>
          <p:cNvPicPr/>
          <p:nvPr/>
        </p:nvPicPr>
        <p:blipFill>
          <a:blip r:embed="rId3"/>
          <a:stretch/>
        </p:blipFill>
        <p:spPr>
          <a:xfrm>
            <a:off x="2779560" y="4211640"/>
            <a:ext cx="4840560" cy="8604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2487600" y="522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01.03.2019-09.05.2019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21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2"/>
          <a:stretch/>
        </p:blipFill>
        <p:spPr>
          <a:xfrm>
            <a:off x="1790640" y="765000"/>
            <a:ext cx="4680000" cy="31197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5257800" cy="35067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"/>
          <p:cNvSpPr/>
          <p:nvPr/>
        </p:nvSpPr>
        <p:spPr>
          <a:xfrm>
            <a:off x="1550880" y="7920"/>
            <a:ext cx="7593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Работа с социумом</a:t>
            </a:r>
            <a:br>
              <a:rPr sz="24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2" descr=""/>
          <p:cNvPicPr/>
          <p:nvPr/>
        </p:nvPicPr>
        <p:blipFill>
          <a:blip r:embed="rId2"/>
          <a:stretch/>
        </p:blipFill>
        <p:spPr>
          <a:xfrm>
            <a:off x="2481120" y="6480"/>
            <a:ext cx="5029200" cy="10731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5" descr=""/>
          <p:cNvPicPr/>
          <p:nvPr/>
        </p:nvPicPr>
        <p:blipFill>
          <a:blip r:embed="rId3"/>
          <a:stretch/>
        </p:blipFill>
        <p:spPr>
          <a:xfrm>
            <a:off x="1908000" y="98892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"/>
          <p:cNvPicPr/>
          <p:nvPr/>
        </p:nvPicPr>
        <p:blipFill>
          <a:blip r:embed="rId4"/>
          <a:stretch/>
        </p:blipFill>
        <p:spPr>
          <a:xfrm>
            <a:off x="4403880" y="3403440"/>
            <a:ext cx="4427280" cy="3321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4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Информационная корзина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9" name="Объект 2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Вывод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692360" y="1700280"/>
            <a:ext cx="6983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Активное вовлечение семей воспитанников в совместную поисковую и творческую работу в изучении военной истории родного края, пополнились  знания о подвигах ветеранов ВОВ, тружеников ты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Перспектива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692360" y="1700280"/>
            <a:ext cx="6983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координировать совместную работу с организациями и социальными партнерами по патриотическом воспитанию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8" name="Picture 6" descr="753"/>
          <p:cNvPicPr/>
          <p:nvPr/>
        </p:nvPicPr>
        <p:blipFill>
          <a:blip r:embed="rId2"/>
          <a:stretch/>
        </p:blipFill>
        <p:spPr>
          <a:xfrm rot="20836800">
            <a:off x="2216160" y="2007720"/>
            <a:ext cx="2558880" cy="3745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1" descr="s19-9"/>
          <p:cNvPicPr/>
          <p:nvPr/>
        </p:nvPicPr>
        <p:blipFill>
          <a:blip r:embed="rId3"/>
          <a:stretch/>
        </p:blipFill>
        <p:spPr>
          <a:xfrm rot="655800">
            <a:off x="5632560" y="2163600"/>
            <a:ext cx="289872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4319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79280" y="549360"/>
            <a:ext cx="7164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no Pro Smbd Display"/>
              </a:rPr>
              <a:t>Патриотическое воспитание дошкольников – актуальная проблема в условиях современной России. Изменилась не только жизнь, но и мы сами. В течение последних десятилетий радикально переосмыслено само понятие патриотического воспитания дошкольников, его содержание, цели и задачи. Чувство любви к Родине – это одно из самых сильных чувств, без него человек ущербен, не ощущает своих корней. А почувствует ли он привязанность к родной земле или отдалится от нее, это уже зависит от обстоятельств жизни и воспитания. Поэтому важно, чтобы ребенок уже в дошкольном возрасте почувствовал личную ответственность за родную землю и ее будущее. Таким образом, было принято решение разработать и реализовать проект «Ожившие странички истори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886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319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Значимая для детей проблема, на решение которой направлен проект: </a:t>
            </a: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дефицит знаний о военной истории своей Роди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087"/>
          <p:cNvPicPr/>
          <p:nvPr/>
        </p:nvPicPr>
        <p:blipFill>
          <a:blip r:embed="rId2"/>
          <a:stretch/>
        </p:blipFill>
        <p:spPr>
          <a:xfrm>
            <a:off x="5940360" y="1484280"/>
            <a:ext cx="2946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0403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68360" y="1673280"/>
            <a:ext cx="64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 Black"/>
              </a:rPr>
              <a:t>формирование у дошкольников уважения к военной истории России, гражданских позиций, воспитанию патриотизма и чувства гордости за свою Родину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295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07640" y="1052280"/>
            <a:ext cx="6985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формировать толерантность, уважение к защитникам Родины, чувство гордости за свой народ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воспитывать патриотические чувства к героическим событиям прошлых лет, уважения к ветеранам, труженикам тыла, вынесшим на своих плечах тяготы войн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приобщить родителей (законных представителей) к реализации проекта (рассказать о прадедушках, прабабушках, участвовавших в боевых действиях и переживших войну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3995640" y="424980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ФОРМЫ РАБОТЫ С ДЕТЬМИ В РАМКАХ РЕАЛИЗАЦИИ ОСНОВНОГО ЭТАПА ПРОЕК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050920" y="1557000"/>
            <a:ext cx="68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Видеоте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2340000" y="2178000"/>
            <a:ext cx="591984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12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Образовательная деятельност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Picture 5" descr="DSCN2064"/>
          <p:cNvPicPr/>
          <p:nvPr/>
        </p:nvPicPr>
        <p:blipFill>
          <a:blip r:embed="rId2"/>
          <a:stretch/>
        </p:blipFill>
        <p:spPr>
          <a:xfrm>
            <a:off x="2556000" y="2205000"/>
            <a:ext cx="580212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DSCN2672"/>
          <p:cNvPicPr/>
          <p:nvPr/>
        </p:nvPicPr>
        <p:blipFill>
          <a:blip r:embed="rId2"/>
          <a:stretch/>
        </p:blipFill>
        <p:spPr>
          <a:xfrm rot="843600">
            <a:off x="4659120" y="2079360"/>
            <a:ext cx="4093920" cy="3070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DSCN2671"/>
          <p:cNvPicPr/>
          <p:nvPr/>
        </p:nvPicPr>
        <p:blipFill>
          <a:blip r:embed="rId3"/>
          <a:stretch/>
        </p:blipFill>
        <p:spPr>
          <a:xfrm rot="4971000">
            <a:off x="1487160" y="2187360"/>
            <a:ext cx="4186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1:21:48Z</dcterms:created>
  <dc:creator>Rasta - XP™</dc:creator>
  <dc:description/>
  <dc:language>en-US</dc:language>
  <cp:lastModifiedBy>елена костенко</cp:lastModifiedBy>
  <dcterms:modified xsi:type="dcterms:W3CDTF">2019-05-13T15:20:09Z</dcterms:modified>
  <cp:revision>24</cp:revision>
  <dc:subject/>
  <dc:title>Странички ожившей истории</dc:title>
</cp:coreProperties>
</file>