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5.png" ContentType="image/png"/>
  <Override PartName="/ppt/media/image13.wmf" ContentType="image/x-wmf"/>
  <Override PartName="/ppt/media/image10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9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.gif" ContentType="image/gif"/>
  <Override PartName="/ppt/media/image3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DF7-A96A-4258-B9F9-0A34CDE0D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49EE-4745-4AC0-BBEF-C1897105E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9AD5-1163-49D0-BC35-998DB2AC9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454-D8C0-4FCB-B695-5262D748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15F-82A0-4434-8FEF-EB804BD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6AA-17BA-4345-809A-537907DD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94E-F09E-4357-9F43-F141F538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C84-3973-4BA4-95EF-DB49090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6EC-41BA-4BE6-91CD-2D3254B1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1FF-993C-495C-9F1E-ED239AF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264-604E-4408-825B-1C4B95A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CD1-F604-404F-AFE7-FCE3213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A4E-3B2E-4495-B9B5-0FFFB07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AAC-3173-4189-B5BD-A3D947B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3F0-86D9-4781-B690-BB786F0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4F7-A349-4D71-B3D7-AA4AE742B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29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shkolazhizni.ru/img/content/i66/66111_o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7;&#1086;&#1097;&#1077;&#1085;&#1082;&#1086;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ic.megashara.com/screenshots/1177131__00_03_1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.М.Зощенко «Е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еатральные маски"/>
          <p:cNvPicPr/>
          <p:nvPr/>
        </p:nvPicPr>
        <p:blipFill>
          <a:blip r:embed="rId1"/>
          <a:stretch/>
        </p:blipFill>
        <p:spPr>
          <a:xfrm>
            <a:off x="1042920" y="333360"/>
            <a:ext cx="170496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Большие анимированные новогодние ёлки (20шт.)"/>
          <p:cNvPicPr/>
          <p:nvPr/>
        </p:nvPicPr>
        <p:blipFill>
          <a:blip r:embed="rId2"/>
          <a:stretch/>
        </p:blipFill>
        <p:spPr>
          <a:xfrm>
            <a:off x="6300720" y="3933720"/>
            <a:ext cx="19494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Users\формоза\Pictures\елка6.jpg"/>
          <p:cNvPicPr/>
          <p:nvPr/>
        </p:nvPicPr>
        <p:blipFill>
          <a:blip r:embed="rId1"/>
          <a:stretch/>
        </p:blipFill>
        <p:spPr>
          <a:xfrm>
            <a:off x="1619280" y="109440"/>
            <a:ext cx="60483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формоза\Pictures\елка4.jpg"/>
          <p:cNvPicPr/>
          <p:nvPr/>
        </p:nvPicPr>
        <p:blipFill>
          <a:blip r:embed="rId1"/>
          <a:stretch/>
        </p:blipFill>
        <p:spPr>
          <a:xfrm>
            <a:off x="2340000" y="333360"/>
            <a:ext cx="5113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формоза\Pictures\елка5.jpg"/>
          <p:cNvPicPr/>
          <p:nvPr/>
        </p:nvPicPr>
        <p:blipFill>
          <a:blip r:embed="rId1"/>
          <a:stretch/>
        </p:blipFill>
        <p:spPr>
          <a:xfrm>
            <a:off x="1012680" y="981000"/>
            <a:ext cx="7339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формоза\Pictures\елка.jpg"/>
          <p:cNvPicPr/>
          <p:nvPr/>
        </p:nvPicPr>
        <p:blipFill>
          <a:blip r:embed="rId1"/>
          <a:stretch/>
        </p:blipFill>
        <p:spPr>
          <a:xfrm>
            <a:off x="1722600" y="333360"/>
            <a:ext cx="55861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формоза\Pictures\елка 6.jpg"/>
          <p:cNvPicPr/>
          <p:nvPr/>
        </p:nvPicPr>
        <p:blipFill>
          <a:blip r:embed="rId1"/>
          <a:stretch/>
        </p:blipFill>
        <p:spPr>
          <a:xfrm>
            <a:off x="2124000" y="404640"/>
            <a:ext cx="4608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22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22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97164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mbria Math"/>
              </a:rPr>
              <a:t>Тепло родного оч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718560" y="177336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что и клад, если в семье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611280" y="2708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ни дерево, пока молодо, а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тей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учи, пока зел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84360" y="429264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то неправильно воспитывает своих детей, тот расплачивается слезами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8"/>
          <p:cNvSpPr/>
          <p:nvPr/>
        </p:nvSpPr>
        <p:spPr>
          <a:xfrm>
            <a:off x="1224000" y="1197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т, мне, быть может, не удалось стать очень хорошим. Это очень трудно. Но к этому, дети, я всегда стреми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ихаил 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3"/>
          <p:cNvSpPr/>
          <p:nvPr/>
        </p:nvSpPr>
        <p:spPr>
          <a:xfrm>
            <a:off x="755640" y="549360"/>
            <a:ext cx="1800360" cy="18000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755640" y="2637000"/>
            <a:ext cx="1800360" cy="180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5"/>
          <p:cNvSpPr/>
          <p:nvPr/>
        </p:nvSpPr>
        <p:spPr>
          <a:xfrm>
            <a:off x="755640" y="4724280"/>
            <a:ext cx="1800360" cy="180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3293280" y="105264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154680" y="3068640"/>
            <a:ext cx="46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3225960" y="530064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ртист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http://priroda77.narod.ru/pictures/salyt/fe_we_19.gif"/>
          <p:cNvPicPr/>
          <p:nvPr/>
        </p:nvPicPr>
        <p:blipFill>
          <a:blip r:embed="rId1"/>
          <a:stretch/>
        </p:blipFill>
        <p:spPr>
          <a:xfrm>
            <a:off x="6732720" y="-387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3995640" y="907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priroda77.narod.ru/pictures/salyt/fe_we_19.gif"/>
          <p:cNvPicPr/>
          <p:nvPr/>
        </p:nvPicPr>
        <p:blipFill>
          <a:blip r:embed="rId3"/>
          <a:stretch/>
        </p:blipFill>
        <p:spPr>
          <a:xfrm>
            <a:off x="104292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priroda77.narod.ru/pictures/salyt/fe_we_19.gif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priroda77.narod.ru/pictures/salyt/fe_we_19.gif"/>
          <p:cNvPicPr/>
          <p:nvPr/>
        </p:nvPicPr>
        <p:blipFill>
          <a:blip r:embed="rId5"/>
          <a:stretch/>
        </p:blipFill>
        <p:spPr>
          <a:xfrm>
            <a:off x="4932360" y="3716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684360" y="14842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У ёлки иголки кол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1484280"/>
            <a:ext cx="208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ё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069720" y="1484280"/>
            <a:ext cx="124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й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017960" y="1484280"/>
            <a:ext cx="206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сне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99160" y="148428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ыв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538560" y="2637000"/>
            <a:ext cx="143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щ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619280" y="2637000"/>
            <a:ext cx="291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моро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21360" y="2637000"/>
            <a:ext cx="196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йф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879160" y="2637000"/>
            <a:ext cx="26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8168760" y="2637000"/>
            <a:ext cx="91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250920" y="530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Сыплет снегопад с неба сне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krassota.com/i/fon/fon1.gif"/>
          <p:cNvPicPr/>
          <p:nvPr/>
        </p:nvPicPr>
        <p:blipFill>
          <a:blip r:embed="rId1"/>
          <a:stretch/>
        </p:blipFill>
        <p:spPr>
          <a:xfrm>
            <a:off x="7734240" y="692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krassota.com/i/fon/fon1.gif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krassota.com/i/fon/fon1.gif"/>
          <p:cNvPicPr/>
          <p:nvPr/>
        </p:nvPicPr>
        <p:blipFill>
          <a:blip r:embed="rId3"/>
          <a:stretch/>
        </p:blipFill>
        <p:spPr>
          <a:xfrm>
            <a:off x="3276720" y="3284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krassota.com/i/fon/fon1.gif"/>
          <p:cNvPicPr/>
          <p:nvPr/>
        </p:nvPicPr>
        <p:blipFill>
          <a:blip r:embed="rId4"/>
          <a:stretch/>
        </p:blipFill>
        <p:spPr>
          <a:xfrm>
            <a:off x="7631280" y="4149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krassota.com/i/fon/fon1.gif"/>
          <p:cNvPicPr/>
          <p:nvPr/>
        </p:nvPicPr>
        <p:blipFill>
          <a:blip r:embed="rId5"/>
          <a:stretch/>
        </p:blipFill>
        <p:spPr>
          <a:xfrm>
            <a:off x="7886880" y="84456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 Math"/>
              </a:rPr>
              <a:t>М.М.Зощен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 Math"/>
              </a:rPr>
              <a:t>(1894-19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2808360" cy="41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5" descr="Михаилу Зощенко 2 года. Фотография"/>
          <p:cNvPicPr/>
          <p:nvPr/>
        </p:nvPicPr>
        <p:blipFill>
          <a:blip r:embed="rId2"/>
          <a:stretch/>
        </p:blipFill>
        <p:spPr>
          <a:xfrm>
            <a:off x="5364000" y="333360"/>
            <a:ext cx="2170440" cy="307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2" name="Picture 5" descr="Картинка 6 из 43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2421000"/>
            <a:ext cx="2457360" cy="380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rcRect l="27860" t="2815" r="28595" b="18443"/>
          <a:stretch/>
        </p:blipFill>
        <p:spPr>
          <a:xfrm>
            <a:off x="324000" y="189000"/>
            <a:ext cx="5271840" cy="47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7860" t="2815" r="27679" b="18443"/>
          <a:stretch/>
        </p:blipFill>
        <p:spPr>
          <a:xfrm>
            <a:off x="2340000" y="1490760"/>
            <a:ext cx="655308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upload.wikimedia.org/wikipedia/ru/thumb/b/b9/%D0%97%D0%BE%D1%89%D0%B5%D0%BD%D0%BA%D0%BE.JPG/220px-%D0%97%D0%BE%D1%89%D0%B5%D0%BD%D0%BA%D0%B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89000"/>
            <a:ext cx="56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5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549360"/>
            <a:ext cx="5904000" cy="446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орь Ильин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ер театра и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_1.mp3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1868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4920" y="1125000"/>
            <a:ext cx="5483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олотушный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34000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ной 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39640" y="23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линновяз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639520" y="28526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о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70120" cy="1819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691920" y="479736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ремон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552240" y="5516640"/>
            <a:ext cx="68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являть излишнюю мягк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с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550800" y="342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асти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2859840" y="3573360"/>
            <a:ext cx="62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дитерское издел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фруктовой массы и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2"/>
          <p:cNvSpPr/>
          <p:nvPr/>
        </p:nvSpPr>
        <p:spPr>
          <a:xfrm flipH="1">
            <a:off x="1979640" y="1125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5"/>
          <p:cNvSpPr/>
          <p:nvPr/>
        </p:nvSpPr>
        <p:spPr>
          <a:xfrm flipH="1">
            <a:off x="2771280" y="2349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7"/>
          <p:cNvSpPr/>
          <p:nvPr/>
        </p:nvSpPr>
        <p:spPr>
          <a:xfrm flipH="1">
            <a:off x="1835280" y="3429000"/>
            <a:ext cx="72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2340000" y="4797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900000" y="2852640"/>
          <a:ext cx="7632720" cy="35989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Прямоугольник 6"/>
          <p:cNvSpPr/>
          <p:nvPr/>
        </p:nvSpPr>
        <p:spPr>
          <a:xfrm>
            <a:off x="2053800" y="364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652360" y="364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628640" y="41497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5005800" y="4076640"/>
            <a:ext cx="34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ельно малень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1483920" y="47242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бой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6230520" y="472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1550160" y="51577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ла высоко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500364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чего нельзя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1551960" y="55897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ально съе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5794200" y="55897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сыв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1838520" y="60930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ремо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5515560" y="602136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ть не заре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формоза\Pictures\елка1.jpg"/>
          <p:cNvPicPr/>
          <p:nvPr/>
        </p:nvPicPr>
        <p:blipFill>
          <a:blip r:embed="rId1"/>
          <a:stretch/>
        </p:blipFill>
        <p:spPr>
          <a:xfrm>
            <a:off x="1979640" y="311040"/>
            <a:ext cx="518472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Наталия</cp:lastModifiedBy>
  <dcterms:modified xsi:type="dcterms:W3CDTF">2019-01-28T09:50:42Z</dcterms:modified>
  <cp:revision>68</cp:revision>
  <dc:subject/>
  <dc:title>Слайд 1</dc:title>
</cp:coreProperties>
</file>