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EA9-A4E8-4D9E-B247-FA4A276D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ECA-D1E8-4DA9-856A-AF03D51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6CD-1480-48E5-A860-D603DDB1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9DB-26C1-4235-99ED-9EB87927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5CE-9444-4D26-95F8-D20A722B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1C9-17DE-47E7-B9AB-94938CF7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BDD-4697-44F7-86BE-FE97121C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541-D513-473B-B819-44970A65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5EC-EE92-4A74-9855-6DBA944A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6E3-9F6A-4B71-AEA8-124BFE0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E22-95BF-4F24-B705-6DC7B070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BCB-55D6-4769-A781-F087C7D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64BD-BAC8-4377-A774-BBAE0B6568E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85120" y="3581280"/>
            <a:ext cx="2411280" cy="304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5791320"/>
            <a:ext cx="838080" cy="79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38680" y="5105520"/>
            <a:ext cx="917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3880" y="576360"/>
            <a:ext cx="81421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дактическая игра «Футбо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тем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Таблица умножения» 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Горская Т. 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БОУ СОШ № 5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-533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743200" y="4876920"/>
            <a:ext cx="2054160" cy="1673280"/>
            <a:chOff x="2743200" y="4876920"/>
            <a:chExt cx="2054160" cy="1673280"/>
          </a:xfrm>
        </p:grpSpPr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8954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8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447920" y="1066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9х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" y="4952880"/>
            <a:ext cx="2054160" cy="1673280"/>
            <a:chOff x="457200" y="4952880"/>
            <a:chExt cx="2054160" cy="1673280"/>
          </a:xfrm>
        </p:grpSpPr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0948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8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fill="hold">
          <p:childTnLst>
            <p:seq>
              <p:cTn id="314" dur="indefinite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5" dur="indefinite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dur="indefinite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29" dur="indefinite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32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dur="indefinite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39" dur="indefinite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819520" y="4952880"/>
            <a:ext cx="2054160" cy="1673280"/>
            <a:chOff x="2819520" y="4952880"/>
            <a:chExt cx="2054160" cy="167328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971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37160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х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3520" y="4952880"/>
            <a:ext cx="2054160" cy="1673280"/>
            <a:chOff x="533520" y="4952880"/>
            <a:chExt cx="2054160" cy="1673280"/>
          </a:xfrm>
        </p:grpSpPr>
        <p:pic>
          <p:nvPicPr>
            <p:cNvPr id="214" name="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85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fill="hold">
          <p:childTnLst>
            <p:seq>
              <p:cTn id="353" dur="indefinite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54" dur="indefinite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dur="indefinite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68" dur="indefinite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37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dur="indefinite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78" dur="indefinite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71600" y="1066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х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fill="hold">
          <p:childTnLst>
            <p:seq>
              <p:cTn id="392" dur="indefinite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93" dur="indefinite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dur="indefinite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07" dur="indefinite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410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dur="indefinite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17" dur="indefinite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457200"/>
            <a:ext cx="4647960" cy="304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2895480" y="4800600"/>
            <a:ext cx="2054520" cy="1673280"/>
            <a:chOff x="2895480" y="4800600"/>
            <a:chExt cx="2054520" cy="1673280"/>
          </a:xfrm>
        </p:grpSpPr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2895480" y="480060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048120" y="495288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6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371600" y="11430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х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fill="hold">
          <p:childTnLst>
            <p:seq>
              <p:cTn id="431" dur="indefinite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32" dur="indefinite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dur="indefinite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46" dur="indefinite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125 -0.55555 E">
                                      <p:cBhvr>
                                        <p:cTn id="449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dur="indefinite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56" dur="indefinite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7200" y="4952880"/>
            <a:ext cx="2054160" cy="1673280"/>
            <a:chOff x="457200" y="4952880"/>
            <a:chExt cx="2054160" cy="1673280"/>
          </a:xfrm>
        </p:grpSpPr>
        <p:pic>
          <p:nvPicPr>
            <p:cNvPr id="261" name="" descr=""/>
            <p:cNvPicPr/>
            <p:nvPr/>
          </p:nvPicPr>
          <p:blipFill>
            <a:blip r:embed="rId4"/>
            <a:stretch/>
          </p:blipFill>
          <p:spPr>
            <a:xfrm>
              <a:off x="45720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0948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371600" y="9907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х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43200" y="4876920"/>
            <a:ext cx="2054160" cy="1673280"/>
            <a:chOff x="2743200" y="4876920"/>
            <a:chExt cx="2054160" cy="1673280"/>
          </a:xfrm>
        </p:grpSpPr>
        <p:pic>
          <p:nvPicPr>
            <p:cNvPr id="265" name="" descr=""/>
            <p:cNvPicPr/>
            <p:nvPr/>
          </p:nvPicPr>
          <p:blipFill>
            <a:blip r:embed="rId5"/>
            <a:stretch/>
          </p:blipFill>
          <p:spPr>
            <a:xfrm>
              <a:off x="27432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8954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fill="hold">
          <p:childTnLst>
            <p:seq>
              <p:cTn id="470" dur="indefinite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71" dur="indefinite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dur="indefinite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85" dur="indefinite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0625 -0.56666 E">
                                      <p:cBhvr>
                                        <p:cTn id="488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dur="indefinite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95" dur="indefinite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666880" y="4876920"/>
            <a:ext cx="2054520" cy="1673280"/>
            <a:chOff x="2666880" y="4876920"/>
            <a:chExt cx="2054520" cy="1673280"/>
          </a:xfrm>
        </p:grpSpPr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81952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" y="4876920"/>
            <a:ext cx="2054160" cy="1673280"/>
            <a:chOff x="228600" y="4876920"/>
            <a:chExt cx="2054160" cy="1673280"/>
          </a:xfrm>
        </p:grpSpPr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2286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808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fill="hold">
          <p:childTnLst>
            <p:seq>
              <p:cTn id="509" dur="indefinite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10" dur="indefinite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dur="indefinite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24" dur="indefinite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22083 -0.56666 E">
                                      <p:cBhvr>
                                        <p:cTn id="527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dur="indefinite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34" dur="indefinite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3059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2408400" cy="3276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594360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6248520" y="3657600"/>
            <a:ext cx="2681280" cy="297180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56386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0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54100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хочешь ещё поиграть, наж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fill="hold">
          <p:childTnLst>
            <p:seq>
              <p:cTn id="548" dur="indefinite" nodeType="mainSeq">
                <p:childTnLst>
                  <p:par>
                    <p:cTn id="549" dur="indefinite" fill="hold">
                      <p:stCondLst>
                        <p:cond delay="0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371600" y="1295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х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335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dur="indefinite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dur="indefinite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7" dur="indefinite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dur="indefinite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dur="indefinite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287280" y="4952880"/>
            <a:ext cx="2224080" cy="1673280"/>
            <a:chOff x="287280" y="4952880"/>
            <a:chExt cx="2224080" cy="16732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287280" y="4952880"/>
              <a:ext cx="18115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2520" y="5105520"/>
              <a:ext cx="2058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819520" y="4952880"/>
            <a:ext cx="2054160" cy="1673280"/>
            <a:chOff x="2819520" y="4952880"/>
            <a:chExt cx="2054160" cy="1673280"/>
          </a:xfrm>
        </p:grpSpPr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971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029200" y="4952880"/>
            <a:ext cx="2054160" cy="1673280"/>
            <a:chOff x="5029200" y="4952880"/>
            <a:chExt cx="2054160" cy="167328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8148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fill="hold">
          <p:childTnLst>
            <p:seq>
              <p:cTn id="41" dur="indefinite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2" dur="indefinite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dur="indefinite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6" dur="indefinite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dur="indefinite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6" dur="indefinite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371600" y="12952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х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76920" y="4876920"/>
            <a:ext cx="2054160" cy="1673280"/>
            <a:chOff x="4876920" y="4876920"/>
            <a:chExt cx="2054160" cy="1673280"/>
          </a:xfrm>
        </p:grpSpPr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48769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0292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fill="hold">
          <p:childTnLst>
            <p:seq>
              <p:cTn id="80" dur="indefinite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1" dur="indefinite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dur="indefinite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5" dur="indefinite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2083 -0.53333 E">
                                      <p:cBhvr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dur="indefinite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5" dur="indefinite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19520" y="4952880"/>
            <a:ext cx="2054160" cy="1673280"/>
            <a:chOff x="2819520" y="4952880"/>
            <a:chExt cx="2054160" cy="167328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971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47920" y="9144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4952880"/>
            <a:ext cx="2054160" cy="1673280"/>
            <a:chOff x="533520" y="4952880"/>
            <a:chExt cx="2054160" cy="1673280"/>
          </a:xfrm>
        </p:grpSpPr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580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fill="hold">
          <p:childTnLst>
            <p:seq>
              <p:cTn id="119" dur="indefinite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0" dur="indefinite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dur="indefinite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4" dur="indefinite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137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dur="indefinite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4" dur="indefinite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666880" y="4876920"/>
            <a:ext cx="2054520" cy="1673280"/>
            <a:chOff x="2666880" y="4876920"/>
            <a:chExt cx="2054520" cy="167328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1952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06668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х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4876920"/>
            <a:ext cx="2054160" cy="1673280"/>
            <a:chOff x="533520" y="4876920"/>
            <a:chExt cx="2054160" cy="1673280"/>
          </a:xfrm>
        </p:grpSpPr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85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1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fill="hold">
          <p:childTnLst>
            <p:seq>
              <p:cTn id="158" dur="indefinite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9" dur="indefinite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dur="indefinite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73" dur="indefinite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4584 -0.53333 E">
                                      <p:cBhvr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dur="indefinite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3" dur="indefinite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447920" y="10666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х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3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fill="hold">
          <p:childTnLst>
            <p:seq>
              <p:cTn id="197" dur="indefinite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98" dur="indefinite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dur="indefinite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12" dur="indefinite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1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dur="indefinite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22" dur="indefinite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105520" y="4876920"/>
            <a:ext cx="2054160" cy="1673280"/>
            <a:chOff x="5105520" y="4876920"/>
            <a:chExt cx="2054160" cy="167328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257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80880" y="4952880"/>
            <a:ext cx="2054520" cy="1673280"/>
            <a:chOff x="380880" y="4952880"/>
            <a:chExt cx="2054520" cy="167328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38088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3352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5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295280" y="9144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  <a:ea typeface="Arial"/>
              </a:rPr>
              <a:t>х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666880" y="4952880"/>
            <a:ext cx="2054520" cy="1673280"/>
            <a:chOff x="2666880" y="4952880"/>
            <a:chExt cx="2054520" cy="167328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2666880" y="495288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819520" y="510552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4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fill="hold">
          <p:childTnLst>
            <p:seq>
              <p:cTn id="236" dur="indefinite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7" dur="indefinite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dur="indefinite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51" dur="indefinite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5417 -0.57777 E">
                                      <p:cBhvr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dur="indefinite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61" dur="indefinite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819520" y="4876920"/>
            <a:ext cx="2054160" cy="1673280"/>
            <a:chOff x="2819520" y="4876920"/>
            <a:chExt cx="2054160" cy="1673280"/>
          </a:xfrm>
        </p:grpSpPr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97180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85800" y="4876920"/>
            <a:ext cx="2054160" cy="1673280"/>
            <a:chOff x="685800" y="4876920"/>
            <a:chExt cx="2054160" cy="167328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838080" y="502920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8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371600" y="1371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8х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876920" y="4800600"/>
            <a:ext cx="2054160" cy="1673280"/>
            <a:chOff x="4876920" y="4800600"/>
            <a:chExt cx="2054160" cy="1673280"/>
          </a:xfrm>
        </p:grpSpPr>
        <p:pic>
          <p:nvPicPr>
            <p:cNvPr id="180" name="" descr=""/>
            <p:cNvPicPr/>
            <p:nvPr/>
          </p:nvPicPr>
          <p:blipFill>
            <a:blip r:embed="rId5"/>
            <a:stretch/>
          </p:blipFill>
          <p:spPr>
            <a:xfrm>
              <a:off x="4876920" y="4800600"/>
              <a:ext cx="167328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029200" y="4952880"/>
              <a:ext cx="190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Arial"/>
                </a:rPr>
                <a:t>7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fill="hold">
          <p:childTnLst>
            <p:seq>
              <p:cTn id="275" dur="indefinite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76" dur="indefinite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dur="indefinite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0" dur="indefinite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2875 -0.53333 E">
                                      <p:cBhvr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dur="indefinite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0" dur="indefinite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9-05-14T19:07:3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