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7258-D269-469E-8CB4-8FB74CF25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BA3A-8F26-4EDB-8CB5-31BA2D3FE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D10A-E827-442A-B23D-CF9FFCDF8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EA94-7EBD-4927-B343-4419A5018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3229-9B43-49DB-9DAE-D40682C4C0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F8DB-02B1-4705-97A2-788A9AF70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789A-D81E-4622-BC39-80569898A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7CE1-F036-4C35-A31C-B7BC39CD3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4471-A09B-4639-99AF-33B49BEA4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7D63-3D53-416E-9BBA-8862E6905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4541-158E-45F9-979A-F567F5382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7237-F9DD-4266-9418-E336DF130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C1578C-02B9-4C8B-AC47-152025BEA57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559320" y="35712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755640" y="1413000"/>
            <a:ext cx="7929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360360" y="1297080"/>
            <a:ext cx="82152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1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66"/>
                    </a:gs>
                  </a:gsLst>
                  <a:lin ang="10800000"/>
                </a:gradFill>
                <a:latin typeface="Georgia"/>
              </a:rPr>
              <a:t>«  Использование </a:t>
            </a:r>
            <a:endParaRPr b="1" i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66"/>
                  </a:gs>
                </a:gsLst>
                <a:lin ang="108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66"/>
                    </a:gs>
                  </a:gsLst>
                  <a:lin ang="10800000"/>
                </a:gradFill>
                <a:latin typeface="Georgia"/>
              </a:rPr>
              <a:t>игровых технологий на уроках </a:t>
            </a:r>
            <a:endParaRPr b="1" i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66"/>
                  </a:gs>
                </a:gsLst>
                <a:lin ang="108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66"/>
                    </a:gs>
                  </a:gsLst>
                  <a:lin ang="10800000"/>
                </a:gradFill>
                <a:latin typeface="Georgia"/>
              </a:rPr>
              <a:t>физической культуры»</a:t>
            </a:r>
            <a:endParaRPr b="1" i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66"/>
                  </a:gs>
                </a:gsLst>
                <a:lin ang="10800000"/>
              </a:gradFill>
              <a:latin typeface="Georgia"/>
              <a:ea typeface="Georgi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500720" y="456876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cadc24"/>
                </a:solidFill>
                <a:uFillTx/>
                <a:latin typeface="Arial"/>
              </a:rPr>
              <a:t>Выполнила</a:t>
            </a:r>
            <a:r>
              <a:rPr b="1" lang="ru-RU" sz="1800" spc="-1" strike="noStrike">
                <a:solidFill>
                  <a:srgbClr val="cadc24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adc24"/>
                </a:solidFill>
                <a:latin typeface="Arial"/>
              </a:rPr>
              <a:t>Воробьева Д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adc24"/>
                </a:solidFill>
                <a:latin typeface="Arial"/>
              </a:rPr>
              <a:t>Студентка 49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503280" y="3816360"/>
            <a:ext cx="4419720" cy="2649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  <a:ea typeface="Lucida Sans Unicode"/>
              </a:rPr>
              <a:t>Игровые технологии используются дл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57200" y="1905120"/>
            <a:ext cx="433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развития физических качест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формирования умений и навыков в выполнении физических упражн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активизации и совершенствовании основных психических процессов.</a:t>
            </a:r>
            <a:r>
              <a:rPr b="0" lang="ru-RU" sz="2800" spc="-1" strike="noStrike">
                <a:solidFill>
                  <a:srgbClr val="d60093"/>
                </a:solidFill>
                <a:latin typeface="Times New Roman"/>
                <a:ea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967280" y="1852560"/>
            <a:ext cx="3787920" cy="341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Times New Roman"/>
                <a:ea typeface="Lucida Sans Unicode"/>
              </a:rPr>
              <a:t>Игровая деятельность использу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03280" y="20048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ачестве самостоятельных технологий для освоения понятия темы и даже раз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элементы более обширной технолог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ачестве урока или его ча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технология внеклассной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Times New Roman"/>
                <a:ea typeface="Lucida Sans Unicode"/>
              </a:rPr>
              <a:t>При проведении игры необходимо соблюдать следующие прав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24000" y="1844640"/>
            <a:ext cx="641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Простота и доступ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Ребенок  -  активный участник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Безопасность используемого инвент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Игра не должна унижать достоинства играющ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Учитывать принцип: от трудного к легкому; от сложного, к прост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659640" y="2060640"/>
            <a:ext cx="1968480" cy="194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732720" y="4653000"/>
            <a:ext cx="19429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3:51:47Z</dcterms:created>
  <dc:creator>User</dc:creator>
  <dc:description/>
  <dc:language>en-US</dc:language>
  <cp:lastModifiedBy>Валерия Гробова</cp:lastModifiedBy>
  <dcterms:modified xsi:type="dcterms:W3CDTF">2019-05-14T15:50:33Z</dcterms:modified>
  <cp:revision>72</cp:revision>
  <dc:subject/>
  <dc:title>Слайд 1</dc:title>
</cp:coreProperties>
</file>