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167B-8E6B-45EF-92B6-10263E458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5CB7-9693-4C86-A5B4-D24C32F75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FBC9-8B3C-4636-BBFE-A18656D05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DAC2-DBA1-4D7F-B715-60B228915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2E13-F7E9-44A3-88A1-C23F171DA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1A02-10BD-4C45-B12D-462F1E7F9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3648-6825-41A2-B63E-8F9859077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812-420D-4B71-A8AB-100765F52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D2B5-B4EB-49DC-95FD-D3B608A6A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17F7-68E4-4360-A8BF-E10BA2656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6A48-A813-40F8-B83E-E63091A5F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D498-BDE7-4772-872B-C3DC29635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F4AF16-58B0-4A4C-B40A-D353DC9BCB0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59320" y="35712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55640" y="1413000"/>
            <a:ext cx="7929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360360" y="1297080"/>
            <a:ext cx="8215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«  Использование 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игровых технологий на уроках 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физической культуры»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500720" y="456876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cadc24"/>
                </a:solidFill>
                <a:uFillTx/>
                <a:latin typeface="Arial"/>
              </a:rPr>
              <a:t>Выполнила</a:t>
            </a:r>
            <a:r>
              <a:rPr b="1" lang="ru-RU" sz="1800" spc="-1" strike="noStrike">
                <a:solidFill>
                  <a:srgbClr val="cadc2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adc24"/>
                </a:solidFill>
                <a:latin typeface="Arial"/>
              </a:rPr>
              <a:t>Воробьева Д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adc24"/>
                </a:solidFill>
                <a:latin typeface="Arial"/>
              </a:rPr>
              <a:t>Студентка 49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03280" y="3816360"/>
            <a:ext cx="441972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развития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активизации и совершенствовании основных психических процессов.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967280" y="1852560"/>
            <a:ext cx="3787920" cy="341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Игровая деятельность использу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03280" y="2004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элементы более обширной техн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ачестве урока или его ч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При проведении игры необходимо соблюдать следующи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4000" y="1844640"/>
            <a:ext cx="641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ростота и доступ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Ребенок  -  активный участник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Безопасность используемого инвент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Игра не должна унижать достоинства игр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96848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732720" y="4653000"/>
            <a:ext cx="1942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3:51:47Z</dcterms:created>
  <dc:creator>User</dc:creator>
  <dc:description/>
  <dc:language>en-US</dc:language>
  <cp:lastModifiedBy>Валерия Гробова</cp:lastModifiedBy>
  <dcterms:modified xsi:type="dcterms:W3CDTF">2019-05-14T15:50:33Z</dcterms:modified>
  <cp:revision>72</cp:revision>
  <dc:subject/>
  <dc:title>Слайд 1</dc:title>
</cp:coreProperties>
</file>