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BCB-A72C-4020-AB86-F4683FF3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06B-1C40-48D6-BA17-587A9C10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9BB-00FF-462E-9225-E9EFBF34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4E9-CFCC-446B-82DA-14C501AE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ED0-B086-4967-8732-91B8F152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ED8-240E-438F-A17C-855C61C6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94B-98BD-49CC-9D19-99A26F42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81B-36F0-428A-BF3C-90040B37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710-DBE9-454B-B709-7BEDEC88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D83-A838-48A5-88CC-0A88C390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318-491B-491D-8CC1-16C58984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448-D50D-40D0-B9A6-67C7CAB4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72A1-9EA2-4A81-9861-61A32FC1F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05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Казанский  соб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7058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гский гранит, олонецкий мрамо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88000" y="3716280"/>
            <a:ext cx="3168720" cy="2490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332000" y="3716280"/>
            <a:ext cx="2665440" cy="2494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971640" y="105264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8209080" cy="5112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44000" y="-4206600"/>
            <a:ext cx="4428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336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чили строительство собора в сентябре 1811 года. Строили храм 10 лет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24280"/>
            <a:ext cx="842472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лавное украшение собора –колоннада. Она состоит из 96 колонн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04528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86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ор увенчали медным куполом на высоком бараб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11200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19280" y="404280"/>
            <a:ext cx="360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верху купола возвели башенку - фонарик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ар – яблоко и золочёный кр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43084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7777080" cy="4608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333360"/>
            <a:ext cx="756144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трова. Их сорок д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вокруг река Не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доход. Ледоход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доль Невы лёд плывё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ь -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г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ский со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б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- Ка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л Грибо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до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олон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да – ряд ко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л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рхи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тор – чел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, к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ый руков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 стр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ель-ством с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- Каменотёс –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тер, к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ый у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ет из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ня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ать  к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л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ны,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ти двор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ц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лавные со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7150" t="8832" r="8569" b="9316"/>
          <a:stretch/>
        </p:blipFill>
        <p:spPr>
          <a:xfrm>
            <a:off x="468360" y="2997360"/>
            <a:ext cx="5111640" cy="3205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0" y="1484280"/>
            <a:ext cx="4032360" cy="326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40360" y="4869000"/>
            <a:ext cx="2808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евский соб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205000"/>
            <a:ext cx="3456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занский соб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бор находится на Невском проспекте около канала Грибоедов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7774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соборе хранится икона Казанской Божьей мате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7201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рхи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т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тор Казанского собора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д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р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й Ни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к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орович Воро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ин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056040" cy="410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356000" y="476280"/>
            <a:ext cx="3311640" cy="174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356000" y="2276640"/>
            <a:ext cx="33116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рхи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тор – чел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, к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ый руков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 стр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тель-ством с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- Каменотёс –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тер, к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ый у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ет из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ня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де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лать  ко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л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ны,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ти двор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ца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408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менотёс Сам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с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 Су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х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3691080" cy="431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16000" y="422100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24000" y="1125360"/>
            <a:ext cx="4032000" cy="2733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5734080"/>
            <a:ext cx="45352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ина Василия Тропини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троительстве собора использовали пудостский кам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3743280" cy="222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3317760" cy="218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11280" y="3645000"/>
            <a:ext cx="2252520" cy="273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059280" y="3645000"/>
            <a:ext cx="54720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7993080" cy="5008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96000" y="-1159200"/>
            <a:ext cx="1090440" cy="31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404640"/>
            <a:ext cx="7056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достский кам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ковый туф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ывается в карьере у деревни Пудос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оль реки Ижор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23:40:12Z</dcterms:created>
  <dc:creator>татьяна</dc:creator>
  <dc:description/>
  <dc:language>en-US</dc:language>
  <cp:lastModifiedBy>татьяна</cp:lastModifiedBy>
  <dcterms:modified xsi:type="dcterms:W3CDTF">2019-05-13T21:13:00Z</dcterms:modified>
  <cp:revision>15</cp:revision>
  <dc:subject/>
  <dc:title>Санкт - Петербург</dc:title>
</cp:coreProperties>
</file>