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752-E49E-4DE5-A9D1-7E3CF788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EBD-5666-4308-A01F-644D451F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E0C-3D4F-4946-8EDB-C41EA548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2DB-53B3-4C5B-8458-D17767B8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CD7-8627-4033-8A2F-FD8136BC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1D7-83C1-44B1-9DDF-4BEF6FFC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B8A-793B-4486-B630-B661BDC8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BC9-C36B-4467-A1FE-8A87AFED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2AA-D30A-4F51-A435-27CF6871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6A2-0E8A-4F8E-9CAF-1B010B21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FD2-C4E7-4DE9-87EC-4ABE63E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0C2-24BF-49B4-AC8B-350D43BE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B1A9-5665-49D7-BA91-76FDF2E28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05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занский  соб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705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гский гранит, олонецкий мрамо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3716280"/>
            <a:ext cx="3168720" cy="2490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332000" y="3716280"/>
            <a:ext cx="2665440" cy="2494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971640" y="105264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209080" cy="5112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44000" y="-4206600"/>
            <a:ext cx="4428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33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чили строительство собора в сентябре 1811 года. Строили храм 10 ле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42472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авное украшение собора –колоннада. Она состоит из 96 колонн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0452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86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ор увенчали медным куполом на высоком бараб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11200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19280" y="404280"/>
            <a:ext cx="360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верху купола возвели башенку - фонарик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ар – яблоко и золочёный кр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43084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7777080" cy="4608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333360"/>
            <a:ext cx="7561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трова. Их сорок д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вокруг река Не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доход. Ледоход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доль Невы лёд плывё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ь -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г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ский со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б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- Ка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 Грибо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олон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а – ряд ко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рхи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р – чел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,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ый руков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 стр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ель-ством с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- Каменотёс –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тер,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ый у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ет из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я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ать 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л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ны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ти двор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авные со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7150" t="8832" r="8569" b="9316"/>
          <a:stretch/>
        </p:blipFill>
        <p:spPr>
          <a:xfrm>
            <a:off x="468360" y="2997360"/>
            <a:ext cx="5111640" cy="32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032360" cy="326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0360" y="4869000"/>
            <a:ext cx="2808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евский со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205000"/>
            <a:ext cx="345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занский соб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ор находится на Невском проспекте около канала Грибоедов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777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соборе хранится икона Казанской Божьей мате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7201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рхи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т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тор Казанского собора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д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р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й Ни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к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рович Воро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ин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056040" cy="410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56000" y="476280"/>
            <a:ext cx="3311640" cy="174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356000" y="2276640"/>
            <a:ext cx="33116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рхи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р – чел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,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ый руков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 стр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ель-ством с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- Каменотёс –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тер,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ый у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ет из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я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ать 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л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ны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ти двор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менотёс Сам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 Су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х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3691080" cy="43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24000" y="1125360"/>
            <a:ext cx="4032000" cy="273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5734080"/>
            <a:ext cx="45352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а Василия Тропини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троительстве собора использовали пудостский кам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3743280" cy="222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3317760" cy="218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11280" y="3645000"/>
            <a:ext cx="2252520" cy="273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059280" y="3645000"/>
            <a:ext cx="5472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7993080" cy="5008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6000" y="-1159200"/>
            <a:ext cx="1090440" cy="31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404640"/>
            <a:ext cx="705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достский кам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ковый туф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ывается в карьере у деревни Пудос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оль реки Ижор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23:40:12Z</dcterms:created>
  <dc:creator>татьяна</dc:creator>
  <dc:description/>
  <dc:language>en-US</dc:language>
  <cp:lastModifiedBy>татьяна</cp:lastModifiedBy>
  <dcterms:modified xsi:type="dcterms:W3CDTF">2019-05-13T21:13:00Z</dcterms:modified>
  <cp:revision>15</cp:revision>
  <dc:subject/>
  <dc:title>Санкт - Петербург</dc:title>
</cp:coreProperties>
</file>