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333D-6C6C-48CF-9E8C-1E012575A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85C-02EA-4E9D-B0F6-C27CEE3F7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895-70A1-4CA7-8BEC-34593B00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AAB-C457-4A0A-BC09-4FE140D1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E7E-D234-4E31-A593-E3BD74DA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CA7-6AC0-480D-A5EC-0A3F628D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2CF-8F4C-48BD-AF90-0E20197C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585-B551-48D9-8EEB-CA60555C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D44-F8E5-4CAE-A999-8FAC5772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91A-0077-4725-A9FF-91DEEBFB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D9A-CCC5-486C-B3F8-FECD2C5A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2E3-D00D-4D55-811F-76F78B9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C70-3EB6-49F9-BADB-DF45E10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D05-DDED-49DB-99B0-2753291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5984-C3C5-48F2-8769-B9A54EEFD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85640" y="1634760"/>
            <a:ext cx="70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«НРАВСТВЕННОСТЬ И ПАТРИОТИЗМ – ВАЖНЫЕ СРЕДСТВА ВОСПИТАНИЯ И ОБУЧЕНИ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                                           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старший 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Ковтун Ж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3849840"/>
            <a:ext cx="4214880" cy="281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69960" y="1886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306a"/>
                </a:solidFill>
                <a:latin typeface="Calibri"/>
              </a:rPr>
              <a:t>Муниципальное дошкольное образовательное учреждение «Региональный детский сад «Сказка»</a:t>
            </a:r>
            <a:br>
              <a:rPr sz="2000"/>
            </a:br>
            <a:r>
              <a:rPr b="0" lang="ru-RU" sz="2000" spc="-1" strike="noStrike">
                <a:solidFill>
                  <a:srgbClr val="21306a"/>
                </a:solidFill>
                <a:latin typeface="Calibri"/>
              </a:rPr>
              <a:t> села Крымское Сакского района Республики Кр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425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ципы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856880" y="571320"/>
            <a:ext cx="6675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3"/>
          <p:cNvGrpSpPr/>
          <p:nvPr/>
        </p:nvGrpSpPr>
        <p:grpSpPr>
          <a:xfrm>
            <a:off x="214200" y="1204920"/>
            <a:ext cx="8174160" cy="4840200"/>
            <a:chOff x="214200" y="1204920"/>
            <a:chExt cx="8174160" cy="4840200"/>
          </a:xfrm>
        </p:grpSpPr>
        <p:sp>
          <p:nvSpPr>
            <p:cNvPr id="73" name="Равнобедренный треугольник 14"/>
            <p:cNvSpPr/>
            <p:nvPr/>
          </p:nvSpPr>
          <p:spPr>
            <a:xfrm>
              <a:off x="214200" y="1204920"/>
              <a:ext cx="4840560" cy="484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f8ff"/>
                </a:gs>
                <a:gs pos="100000">
                  <a:srgbClr val="defdff"/>
                </a:gs>
              </a:gsLst>
              <a:lin ang="16200000"/>
            </a:gradFill>
            <a:ln w="9360">
              <a:solidFill>
                <a:srgbClr val="58c9f1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олилиния 15"/>
            <p:cNvSpPr/>
            <p:nvPr/>
          </p:nvSpPr>
          <p:spPr>
            <a:xfrm>
              <a:off x="2195280" y="1214280"/>
              <a:ext cx="6193080" cy="466560"/>
            </a:xfrm>
            <a:prstGeom prst="pie">
              <a:avLst/>
            </a:prstGeom>
            <a:gradFill rotWithShape="0">
              <a:gsLst>
                <a:gs pos="0">
                  <a:srgbClr val="d3ff90"/>
                </a:gs>
                <a:gs pos="100000">
                  <a:srgbClr val="f2ffdf"/>
                </a:gs>
              </a:gsLst>
              <a:lin ang="16200000"/>
            </a:gradFill>
            <a:ln w="9360">
              <a:solidFill>
                <a:srgbClr val="a4e84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231840" bIns="2318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индивидуального подхода к дет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16"/>
            <p:cNvSpPr/>
            <p:nvPr/>
          </p:nvSpPr>
          <p:spPr>
            <a:xfrm>
              <a:off x="2195280" y="1782720"/>
              <a:ext cx="6193080" cy="401400"/>
            </a:xfrm>
            <a:prstGeom prst="pie">
              <a:avLst/>
            </a:prstGeom>
            <a:gradFill rotWithShape="0">
              <a:gsLst>
                <a:gs pos="0">
                  <a:srgbClr val="ffaa7b"/>
                </a:gs>
                <a:gs pos="100000">
                  <a:srgbClr val="ffe5d8"/>
                </a:gs>
              </a:gsLst>
              <a:lin ang="16200000"/>
            </a:gradFill>
            <a:ln w="9360">
              <a:solidFill>
                <a:srgbClr val="ff7c1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166680" bIns="1666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сотрудни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17"/>
            <p:cNvSpPr/>
            <p:nvPr/>
          </p:nvSpPr>
          <p:spPr>
            <a:xfrm>
              <a:off x="2195280" y="2280960"/>
              <a:ext cx="6193080" cy="407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58c9f1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173160" bIns="1731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интегр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21"/>
            <p:cNvSpPr/>
            <p:nvPr/>
          </p:nvSpPr>
          <p:spPr>
            <a:xfrm>
              <a:off x="2153880" y="3860640"/>
              <a:ext cx="6234480" cy="431640"/>
            </a:xfrm>
            <a:prstGeom prst="pie">
              <a:avLst/>
            </a:prstGeom>
            <a:solidFill>
              <a:srgbClr val="66ffff"/>
            </a:solidFill>
            <a:ln w="9360">
              <a:solidFill>
                <a:srgbClr val="58c9f1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196920" bIns="1969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личностно-ориентированного подх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Полилиния 18"/>
          <p:cNvSpPr/>
          <p:nvPr/>
        </p:nvSpPr>
        <p:spPr>
          <a:xfrm>
            <a:off x="2173320" y="4365720"/>
            <a:ext cx="6219720" cy="465120"/>
          </a:xfrm>
          <a:prstGeom prst="pie">
            <a:avLst/>
          </a:prstGeom>
          <a:solidFill>
            <a:srgbClr val="ffcca6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0400" bIns="2304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ного под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лилиния 19"/>
          <p:cNvSpPr/>
          <p:nvPr/>
        </p:nvSpPr>
        <p:spPr>
          <a:xfrm>
            <a:off x="2178000" y="4941720"/>
            <a:ext cx="6227640" cy="465480"/>
          </a:xfrm>
          <a:prstGeom prst="pie">
            <a:avLst/>
          </a:prstGeom>
          <a:solidFill>
            <a:srgbClr val="ffff99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0760" bIns="23076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омпетентности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2"/>
          <p:cNvSpPr/>
          <p:nvPr/>
        </p:nvSpPr>
        <p:spPr>
          <a:xfrm>
            <a:off x="2168640" y="3357720"/>
            <a:ext cx="6219720" cy="431640"/>
          </a:xfrm>
          <a:prstGeom prst="pie">
            <a:avLst/>
          </a:prstGeom>
          <a:solidFill>
            <a:srgbClr val="ccccff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196920" bIns="1969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оступ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23"/>
          <p:cNvSpPr/>
          <p:nvPr/>
        </p:nvSpPr>
        <p:spPr>
          <a:xfrm>
            <a:off x="2168640" y="2781360"/>
            <a:ext cx="6219720" cy="503280"/>
          </a:xfrm>
          <a:prstGeom prst="pie">
            <a:avLst/>
          </a:prstGeom>
          <a:solidFill>
            <a:srgbClr val="99ff99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5080" bIns="2350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атичности и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лилиния 24"/>
          <p:cNvSpPr/>
          <p:nvPr/>
        </p:nvSpPr>
        <p:spPr>
          <a:xfrm>
            <a:off x="2195640" y="5540400"/>
            <a:ext cx="6229080" cy="465120"/>
          </a:xfrm>
          <a:prstGeom prst="pie">
            <a:avLst/>
          </a:prstGeom>
          <a:solidFill>
            <a:srgbClr val="dcf7ba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0400" bIns="2304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гровой подачи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3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677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нравственного развития дошколь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детство (до 6,5 лет)- «золотое время» в эмоциональной жизни ребенка (спонтанность выражения чувств, эмоциональная бесконфликтность, подверженность быстрым сменам одномоментных впечатлений, свобода выражения чувств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 развития моральных качеств, которые уменьшаются с возрастом: душевная целостность, моральная чистота, непосредственность, простодушие, искренность,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рад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окружающему миру: представления о нем носят одушевленный характер-весь мир для ребенка полон жизн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детство-период наибольшей обучаемости и податливости  педагогическим влияни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восприимчивость к социальным воздействиям, подражаем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общении - важная социальная потребност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ая привязанность к близким, эмоциональная зависимость от взросл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215120" y="501984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нравственно-патриотического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5" descr=""/>
          <p:cNvPicPr/>
          <p:nvPr/>
        </p:nvPicPr>
        <p:blipFill>
          <a:blip r:embed="rId2"/>
          <a:stretch/>
        </p:blipFill>
        <p:spPr>
          <a:xfrm>
            <a:off x="901800" y="1189080"/>
            <a:ext cx="7778520" cy="527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Loner\Рабочий стол\клипарты\sun103.png"/>
          <p:cNvPicPr/>
          <p:nvPr/>
        </p:nvPicPr>
        <p:blipFill>
          <a:blip r:embed="rId3"/>
          <a:stretch/>
        </p:blipFill>
        <p:spPr>
          <a:xfrm>
            <a:off x="0" y="3000240"/>
            <a:ext cx="2357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0000" y="18900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14" descr=""/>
          <p:cNvPicPr/>
          <p:nvPr/>
        </p:nvPicPr>
        <p:blipFill>
          <a:blip r:embed="rId2"/>
          <a:stretch/>
        </p:blipFill>
        <p:spPr>
          <a:xfrm>
            <a:off x="1212840" y="596880"/>
            <a:ext cx="7534440" cy="623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Loner\Рабочий стол\клипарты\sun103.png"/>
          <p:cNvPicPr/>
          <p:nvPr/>
        </p:nvPicPr>
        <p:blipFill>
          <a:blip r:embed="rId3"/>
          <a:stretch/>
        </p:blipFill>
        <p:spPr>
          <a:xfrm>
            <a:off x="0" y="4857840"/>
            <a:ext cx="23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56880" y="189000"/>
            <a:ext cx="6675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 при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1" descr=""/>
          <p:cNvPicPr/>
          <p:nvPr/>
        </p:nvPicPr>
        <p:blipFill>
          <a:blip r:embed="rId2"/>
          <a:stretch/>
        </p:blipFill>
        <p:spPr>
          <a:xfrm>
            <a:off x="2163600" y="1096920"/>
            <a:ext cx="6778800" cy="546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Loner\Рабочий стол\клипарты\sun103.png"/>
          <p:cNvPicPr/>
          <p:nvPr/>
        </p:nvPicPr>
        <p:blipFill>
          <a:blip r:embed="rId3"/>
          <a:stretch/>
        </p:blipFill>
        <p:spPr>
          <a:xfrm>
            <a:off x="0" y="4000680"/>
            <a:ext cx="2286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ре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(уголок русской культуры, символика государства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личный опыт, ближайшее окружение (от любви к дому -до любви к Родине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окрашенность, воздействие на чувства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трех компонентов: интеллектуального, чувственно- эмоционального и действенно-практического (узнавать-созерцать-созида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творческой деятельности как средства выражения чувств и эмоций ( изо, драматизация, концерты и выступления перед публикой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с семь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7216920" y="4998960"/>
            <a:ext cx="1927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81043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ОЛЬКО ТОТ, КТО ЛЮБИТ, ЦЕНИТ И УВАЖАЕТ НАКОПЛЕННОЕ И СОХРАНЕННОЕ ПРЕДШЕСТВУЮЩИМ ПОКОЛЕНИЕМ, МОЖЕТ ЛЮБИТЬ РОДИНУ, УЗНАТЬ ЕЕ, СТАТЬ ПОДЛИННЫМ ПАТРИОТ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МИХАЛ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108000" y="4653000"/>
            <a:ext cx="1925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4584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нравственных чувств у старших дошкольников/Под ред. А.М. Виноградовой.- М., 1991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иков А.Д. Растите детей патриотами.- М., 1980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ая Р.И., Виноградова Н.Ф., Козлова С.А. Родной край. -М., 1990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ева О.Л., Маханева М.Д. Приобщение детей к истокам русской народной культуры: Программа. – СПб: Детство-Пресс, 199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к Э. П., Кочнева Н. Н.. Мой родной дом. - М., 2004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а Л.С., Бударина Т.А., Маркеева О.А., Корепанова О.Н. и др. Знакомство детей с русским народным творчеством. – СПб: Детство-Пресс, 199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лина Л.А. Народные игры в детском саду. – М.: ТЦ Сфера, 200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анева М.Д. Нравственно-патриотическое воспитание дошкольников. – М.: ТЦ Сфера, 200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2" descr="F:\клипарты\sun10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одзаголовок 6" descr=""/>
          <p:cNvPicPr/>
          <p:nvPr/>
        </p:nvPicPr>
        <p:blipFill>
          <a:blip r:embed="rId3"/>
          <a:stretch/>
        </p:blipFill>
        <p:spPr>
          <a:xfrm>
            <a:off x="426960" y="3571920"/>
            <a:ext cx="85042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68360" y="260280"/>
            <a:ext cx="8567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учит маленького 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еловек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удь равнодушным к людям, ломай дерев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ирай красоту, выше всего ставь свое лично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дело в одной, в очень важной закономерности нравственно-патриотическог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человека учат добру - учат умело, умно, настойчиво, требовательно, в результате будет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т злу (очень редко, но бывает 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зультате будет з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т ни добру, ни злу - все равно будет з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ому, что и человеком его надо воспит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. 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870120" y="333360"/>
            <a:ext cx="828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К РОДНОМУ КРАЮ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НОЙ КУЛЬТУРЕ, РОДНОЙ РЕЧИ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ИНАЕТСЯ С МАЛОГО –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ВИ К СВОЕЙ СЕМЬЕ, К СВОЕМУ ЖИЛИЩУ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СВОЕМУ ДЕТСКОМУ САДУ.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ЕПЕННО РАСШИРЯЯСЬ, ЭТА ЛЮБОВЬ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ХОДИТ В ЛЮБОВЬ К РОДНОЙ СТРАНЕ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ЕЕ ИСТОРИИ, ПРОШЛОМУ И НАСТОЯЩЕМУ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 ВСЕМУ ЧЕЛОВЕЧЕСТВУ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.С. ЛИХА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6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03280" y="189000"/>
            <a:ext cx="84200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временных условиях, когда происходят глубочайшие изменения в жизни общества, одним из центральных направлений работы с подрастающим поколением становится патриотическое воспитание. Сейчас, в период нестабильности в обществе, возникает необходимость вернуться к лучшим традициям нашего народа, к его вековым корням, к таким вечным понятиям, как род, родство, Ро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вство патриотизма многогранно по своему содержанию: это и любовь к родным местам, и гордость за свой народ, и ощущение неразрывности с окружающим, и желание сохранить, приумножить богатство 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патриотом – значит ощущать себя неотъемлемой частью Отечества. Это сложное чувство возникает еще в дошкольном детстве, когда закладываются основы ценностного отношения к окружающему миру, и формируется в ребёнке постепенно, в ходе воспитания любви к своим ближним, к детскому саду, к родным местам, родной стране. Дошкольный возраст как период становления личности имеет свои потенциальные возможности для формирования высших нравственных чувств, к которым и относится чувство патрио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9" name="Содержимое 2"/>
          <p:cNvSpPr/>
          <p:nvPr/>
        </p:nvSpPr>
        <p:spPr>
          <a:xfrm>
            <a:off x="142920" y="285840"/>
            <a:ext cx="900108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  </a:t>
            </a:r>
            <a:r>
              <a:rPr b="1" i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равственно - патриотическое воспитание детей – одно из важных условий успешного развития современного российского общества, главным ориентиром которого должны стать вечные абсолютные общечеловеческие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 Black"/>
                <a:ea typeface="Arial Unicode MS"/>
              </a:rPr>
              <a:t>«Истина – Добро -Красот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69000"/>
            <a:ext cx="3059280" cy="198900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340000" y="420840"/>
            <a:ext cx="637380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федеральном образовательном стандарте дошкольного образования ставятся цели по патриотическому воспитан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 условий для становления основ патриотического сознания детей, возможности позитивной социализации ребенка, его всестороннего личностного, морально-нравственного и познавательного развития, развитие инициативы и творческих способностей на основе соответствующих дошкольному возрасту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kirovipk.ru/sites/default/files/novost/222_0.jpg"/>
          <p:cNvPicPr/>
          <p:nvPr/>
        </p:nvPicPr>
        <p:blipFill>
          <a:blip r:embed="rId3"/>
          <a:stretch/>
        </p:blipFill>
        <p:spPr>
          <a:xfrm>
            <a:off x="333360" y="285840"/>
            <a:ext cx="22845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4000" y="499680"/>
            <a:ext cx="8424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сть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нутренняя мораль, принятие на себя ответственности за свои поступки, то есть действовать согласно своей сове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семье, дому,  родным местам, Родине, гордость за свой народ, толерантное отношение к другим людям, желание сохранить, приумножить богатство своей стр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-патриотическое  воспитание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заимодействие взрослого и детей в совместной деятельности и общении, направленное на раскрытие и формирование в ребенке общечеловеческих нравственных качеств личности, приобщение к истокам национальной региональной культуры, природе родного края, воспитание эмоционально-действенного отношения , чувства сопричастности, привязанности к окружающи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715160" y="2571840"/>
            <a:ext cx="1214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равственно-патриотического воспита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840" y="907560"/>
            <a:ext cx="7358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и привязанности к своей семье, дому, детскому саду, улице, городу, Родине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природе и всему живом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имволами государства (герб, флаг, гимн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знаний о правах челове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 и гордости за достижения стран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олерантности, чувства уважения к другим народам, традици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важения к труд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гуманного отношения (доброжелательности, уважения, внимательности, отзывчивости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оллективистских чувств и взаимоотношени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творческого начала, развитие воображения ребенка посредством вовлечения его в активный процесс позн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500960" y="471492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527960" y="5084640"/>
            <a:ext cx="1616040" cy="18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s://ds03.infourok.ru/uploads/ex/0cfb/00022fda-ed4c1624/img7.jpg"/>
          <p:cNvPicPr/>
          <p:nvPr/>
        </p:nvPicPr>
        <p:blipFill>
          <a:blip r:embed="rId3"/>
          <a:stretch/>
        </p:blipFill>
        <p:spPr>
          <a:xfrm>
            <a:off x="684360" y="3240"/>
            <a:ext cx="7127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44:45Z</dcterms:created>
  <dc:creator>Александр</dc:creator>
  <dc:description/>
  <dc:language>en-US</dc:language>
  <cp:lastModifiedBy>Admin</cp:lastModifiedBy>
  <dcterms:modified xsi:type="dcterms:W3CDTF">2019-04-23T13:54:24Z</dcterms:modified>
  <cp:revision>68</cp:revision>
  <dc:subject/>
  <dc:title>Нравственно - патриотическое воспитание детей Дошкольного возраста Старший воспитатель Н.П. Ковалева</dc:title>
</cp:coreProperties>
</file>