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2CD4-D911-407F-9A03-BC2FCA412C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5A62-96E2-4190-9559-DE3FCF1CFC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B77F-EE12-49BB-8F0E-3CD1908A8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ABA2-B72C-411A-9B73-CA0042CA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779C-266E-487D-9E08-30D0434AF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25BA-9C8B-47C8-8B40-13C9C0360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08CB-AA87-425A-A362-E83148A3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8C7D-E0A2-49B7-A2FF-930497D6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52FC-E182-4B47-BF5A-150F11AC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A5CC-8B55-489E-8568-CC9B3A7E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7C3F-C765-4FF5-ACF4-FEAD3B7C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D698-0D3E-47BF-86FA-CF287227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A7D0-7FDC-4943-BAE3-8CAE9EFC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7E40-3E4E-4624-9E5E-FC9331C7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4E4B-E237-478E-865A-73B9F37849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85640" y="1634760"/>
            <a:ext cx="70563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alibri"/>
              </a:rPr>
              <a:t>«НРАВСТВЕННОСТЬ И ПАТРИОТИЗМ – ВАЖНЫЕ СРЕДСТВА ВОСПИТАНИЯ И ОБУЧЕНИЯ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                                            </a:t>
            </a:r>
            <a:r>
              <a:rPr b="1" lang="ru-RU" sz="2400" spc="-1" strike="noStrike">
                <a:solidFill>
                  <a:srgbClr val="21306a"/>
                </a:solidFill>
                <a:latin typeface="Calibri"/>
              </a:rPr>
              <a:t>         </a:t>
            </a:r>
            <a:r>
              <a:rPr b="1" lang="ru-RU" sz="2400" spc="-1" strike="noStrike">
                <a:solidFill>
                  <a:srgbClr val="21306a"/>
                </a:solidFill>
                <a:latin typeface="Calibri"/>
              </a:rPr>
              <a:t>Подготовил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306a"/>
                </a:solidFill>
                <a:latin typeface="Calibri"/>
              </a:rPr>
              <a:t>                                                   </a:t>
            </a:r>
            <a:r>
              <a:rPr b="1" lang="ru-RU" sz="2400" spc="-1" strike="noStrike">
                <a:solidFill>
                  <a:srgbClr val="21306a"/>
                </a:solidFill>
                <a:latin typeface="Calibri"/>
              </a:rPr>
              <a:t>старший воспитател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306a"/>
                </a:solidFill>
                <a:latin typeface="Calibri"/>
              </a:rPr>
              <a:t>                                                        </a:t>
            </a:r>
            <a:r>
              <a:rPr b="1" lang="ru-RU" sz="2400" spc="-1" strike="noStrike">
                <a:solidFill>
                  <a:srgbClr val="21306a"/>
                </a:solidFill>
                <a:latin typeface="Calibri"/>
              </a:rPr>
              <a:t>Ковтун Ж.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Documents and Settings\Loner\Рабочий стол\клипарты\sun103.png"/>
          <p:cNvPicPr/>
          <p:nvPr/>
        </p:nvPicPr>
        <p:blipFill>
          <a:blip r:embed="rId2"/>
          <a:stretch/>
        </p:blipFill>
        <p:spPr>
          <a:xfrm>
            <a:off x="0" y="3849840"/>
            <a:ext cx="4214880" cy="2815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669960" y="18864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306a"/>
                </a:solidFill>
                <a:latin typeface="Calibri"/>
              </a:rPr>
              <a:t>Муниципальное дошкольное образовательное учреждение «Региональный детский сад «Сказка»</a:t>
            </a:r>
            <a:br>
              <a:rPr sz="2000"/>
            </a:br>
            <a:r>
              <a:rPr b="0" lang="ru-RU" sz="2000" spc="-1" strike="noStrike">
                <a:solidFill>
                  <a:srgbClr val="21306a"/>
                </a:solidFill>
                <a:latin typeface="Calibri"/>
              </a:rPr>
              <a:t> села Крымское Сакского района Республики Кры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6920" y="142560"/>
            <a:ext cx="77724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нципы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856880" y="571320"/>
            <a:ext cx="667548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Группа 13"/>
          <p:cNvGrpSpPr/>
          <p:nvPr/>
        </p:nvGrpSpPr>
        <p:grpSpPr>
          <a:xfrm>
            <a:off x="214200" y="1204920"/>
            <a:ext cx="8174160" cy="4840200"/>
            <a:chOff x="214200" y="1204920"/>
            <a:chExt cx="8174160" cy="4840200"/>
          </a:xfrm>
        </p:grpSpPr>
        <p:sp>
          <p:nvSpPr>
            <p:cNvPr id="73" name="Равнобедренный треугольник 14"/>
            <p:cNvSpPr/>
            <p:nvPr/>
          </p:nvSpPr>
          <p:spPr>
            <a:xfrm>
              <a:off x="214200" y="1204920"/>
              <a:ext cx="4840560" cy="48402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0f8ff"/>
                </a:gs>
                <a:gs pos="100000">
                  <a:srgbClr val="defdff"/>
                </a:gs>
              </a:gsLst>
              <a:lin ang="16200000"/>
            </a:gradFill>
            <a:ln w="9360">
              <a:solidFill>
                <a:srgbClr val="58c9f1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Полилиния 15"/>
            <p:cNvSpPr/>
            <p:nvPr/>
          </p:nvSpPr>
          <p:spPr>
            <a:xfrm>
              <a:off x="2195280" y="1214280"/>
              <a:ext cx="6193080" cy="466560"/>
            </a:xfrm>
            <a:prstGeom prst="pie">
              <a:avLst/>
            </a:prstGeom>
            <a:gradFill rotWithShape="0">
              <a:gsLst>
                <a:gs pos="0">
                  <a:srgbClr val="d3ff90"/>
                </a:gs>
                <a:gs pos="100000">
                  <a:srgbClr val="f2ffdf"/>
                </a:gs>
              </a:gsLst>
              <a:lin ang="16200000"/>
            </a:gradFill>
            <a:ln w="9360">
              <a:solidFill>
                <a:srgbClr val="a4e84c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35080" rIns="235080" tIns="231840" bIns="23184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2089080"/>
                  <a:tab algn="l" pos="4178160"/>
                  <a:tab algn="l" pos="6267600"/>
                  <a:tab algn="l" pos="8356680"/>
                  <a:tab algn="l" pos="1044576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нцип индивидуального подхода к детя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Полилиния 16"/>
            <p:cNvSpPr/>
            <p:nvPr/>
          </p:nvSpPr>
          <p:spPr>
            <a:xfrm>
              <a:off x="2195280" y="1782720"/>
              <a:ext cx="6193080" cy="401400"/>
            </a:xfrm>
            <a:prstGeom prst="pie">
              <a:avLst/>
            </a:prstGeom>
            <a:gradFill rotWithShape="0">
              <a:gsLst>
                <a:gs pos="0">
                  <a:srgbClr val="ffaa7b"/>
                </a:gs>
                <a:gs pos="100000">
                  <a:srgbClr val="ffe5d8"/>
                </a:gs>
              </a:gsLst>
              <a:lin ang="16200000"/>
            </a:gradFill>
            <a:ln w="9360">
              <a:solidFill>
                <a:srgbClr val="ff7c1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35080" rIns="235080" tIns="166680" bIns="16668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2089080"/>
                  <a:tab algn="l" pos="4178160"/>
                  <a:tab algn="l" pos="6267600"/>
                  <a:tab algn="l" pos="8356680"/>
                  <a:tab algn="l" pos="1044576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нцип сотруднич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Полилиния 17"/>
            <p:cNvSpPr/>
            <p:nvPr/>
          </p:nvSpPr>
          <p:spPr>
            <a:xfrm>
              <a:off x="2195280" y="2280960"/>
              <a:ext cx="6193080" cy="407880"/>
            </a:xfrm>
            <a:prstGeom prst="pie">
              <a:avLst/>
            </a:prstGeom>
            <a:solidFill>
              <a:srgbClr val="ffff99"/>
            </a:solidFill>
            <a:ln w="9360">
              <a:solidFill>
                <a:srgbClr val="58c9f1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35080" rIns="235080" tIns="173160" bIns="1731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2089080"/>
                  <a:tab algn="l" pos="4178160"/>
                  <a:tab algn="l" pos="6267600"/>
                  <a:tab algn="l" pos="8356680"/>
                  <a:tab algn="l" pos="1044576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нцип интеграци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Полилиния 21"/>
            <p:cNvSpPr/>
            <p:nvPr/>
          </p:nvSpPr>
          <p:spPr>
            <a:xfrm>
              <a:off x="2153880" y="3860640"/>
              <a:ext cx="6234480" cy="431640"/>
            </a:xfrm>
            <a:prstGeom prst="pie">
              <a:avLst/>
            </a:prstGeom>
            <a:solidFill>
              <a:srgbClr val="66ffff"/>
            </a:solidFill>
            <a:ln w="9360">
              <a:solidFill>
                <a:srgbClr val="58c9f1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35080" rIns="235080" tIns="196920" bIns="1969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2089080"/>
                  <a:tab algn="l" pos="4178160"/>
                  <a:tab algn="l" pos="6267600"/>
                  <a:tab algn="l" pos="8356680"/>
                  <a:tab algn="l" pos="1044576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нцип личностно-ориентированного подход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Полилиния 18"/>
          <p:cNvSpPr/>
          <p:nvPr/>
        </p:nvSpPr>
        <p:spPr>
          <a:xfrm>
            <a:off x="2173320" y="4365720"/>
            <a:ext cx="6219720" cy="465120"/>
          </a:xfrm>
          <a:prstGeom prst="pie">
            <a:avLst/>
          </a:prstGeom>
          <a:solidFill>
            <a:srgbClr val="ffcca6"/>
          </a:solidFill>
          <a:ln w="9360">
            <a:solidFill>
              <a:srgbClr val="58c9f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35080" rIns="235080" tIns="230400" bIns="23040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2089080"/>
                <a:tab algn="l" pos="4178160"/>
                <a:tab algn="l" pos="6267600"/>
                <a:tab algn="l" pos="8356680"/>
                <a:tab algn="l" pos="10445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деятельностного подх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олилиния 19"/>
          <p:cNvSpPr/>
          <p:nvPr/>
        </p:nvSpPr>
        <p:spPr>
          <a:xfrm>
            <a:off x="2178000" y="4941720"/>
            <a:ext cx="6227640" cy="465480"/>
          </a:xfrm>
          <a:prstGeom prst="pie">
            <a:avLst/>
          </a:prstGeom>
          <a:solidFill>
            <a:srgbClr val="ffff99"/>
          </a:solidFill>
          <a:ln w="9360">
            <a:solidFill>
              <a:srgbClr val="58c9f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35080" rIns="235080" tIns="230760" bIns="23076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2089080"/>
                <a:tab algn="l" pos="4178160"/>
                <a:tab algn="l" pos="6267600"/>
                <a:tab algn="l" pos="8356680"/>
                <a:tab algn="l" pos="10445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компетентности педаг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олилиния 22"/>
          <p:cNvSpPr/>
          <p:nvPr/>
        </p:nvSpPr>
        <p:spPr>
          <a:xfrm>
            <a:off x="2168640" y="3357720"/>
            <a:ext cx="6219720" cy="431640"/>
          </a:xfrm>
          <a:prstGeom prst="pie">
            <a:avLst/>
          </a:prstGeom>
          <a:solidFill>
            <a:srgbClr val="ccccff"/>
          </a:solidFill>
          <a:ln w="9360">
            <a:solidFill>
              <a:srgbClr val="58c9f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35080" rIns="235080" tIns="196920" bIns="19692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2089080"/>
                <a:tab algn="l" pos="4178160"/>
                <a:tab algn="l" pos="6267600"/>
                <a:tab algn="l" pos="8356680"/>
                <a:tab algn="l" pos="10445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доступ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олилиния 23"/>
          <p:cNvSpPr/>
          <p:nvPr/>
        </p:nvSpPr>
        <p:spPr>
          <a:xfrm>
            <a:off x="2168640" y="2781360"/>
            <a:ext cx="6219720" cy="503280"/>
          </a:xfrm>
          <a:prstGeom prst="pie">
            <a:avLst/>
          </a:prstGeom>
          <a:solidFill>
            <a:srgbClr val="99ff99"/>
          </a:solidFill>
          <a:ln w="9360">
            <a:solidFill>
              <a:srgbClr val="58c9f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35080" rIns="235080" tIns="235080" bIns="23508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2089080"/>
                <a:tab algn="l" pos="4178160"/>
                <a:tab algn="l" pos="6267600"/>
                <a:tab algn="l" pos="8356680"/>
                <a:tab algn="l" pos="10445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систематичности и последова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олилиния 24"/>
          <p:cNvSpPr/>
          <p:nvPr/>
        </p:nvSpPr>
        <p:spPr>
          <a:xfrm>
            <a:off x="2195640" y="5540400"/>
            <a:ext cx="6229080" cy="465120"/>
          </a:xfrm>
          <a:prstGeom prst="pie">
            <a:avLst/>
          </a:prstGeom>
          <a:solidFill>
            <a:srgbClr val="dcf7ba"/>
          </a:solidFill>
          <a:ln w="9360">
            <a:solidFill>
              <a:srgbClr val="58c9f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35080" rIns="235080" tIns="230400" bIns="23040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2089080"/>
                <a:tab algn="l" pos="4178160"/>
                <a:tab algn="l" pos="6267600"/>
                <a:tab algn="l" pos="8356680"/>
                <a:tab algn="l" pos="10445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игровой подачи 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C:\Documents and Settings\Loner\Рабочий стол\клипарты\sun103.png"/>
          <p:cNvPicPr/>
          <p:nvPr/>
        </p:nvPicPr>
        <p:blipFill>
          <a:blip r:embed="rId2"/>
          <a:stretch/>
        </p:blipFill>
        <p:spPr>
          <a:xfrm>
            <a:off x="0" y="4857840"/>
            <a:ext cx="23572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6774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зрастные особенности нравственного развития дошкольник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нее детство (до 6,5 лет)- «золотое время» в эмоциональной жизни ребенка (спонтанность выражения чувств, эмоциональная бесконфликтность, подверженность быстрым сменам одномоментных впечатлений, свобода выражения чувств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к развития моральных качеств, которые уменьшаются с возрастом: душевная целостность, моральная чистота, непосредственность, простодушие, искренность,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радани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е к окружающему миру: представления о нем носят одушевленный характер-весь мир для ребенка полон жизн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ое детство-период наибольшей обучаемости и податливости  педагогическим влияниям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ная восприимчивость к социальным воздействиям, подражаемост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ь в общении - важная социальная потребность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ожденная привязанность к близким, эмоциональная зависимость от взрослы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Documents and Settings\Loner\Рабочий стол\клипарты\sun103.png"/>
          <p:cNvPicPr/>
          <p:nvPr/>
        </p:nvPicPr>
        <p:blipFill>
          <a:blip r:embed="rId2"/>
          <a:stretch/>
        </p:blipFill>
        <p:spPr>
          <a:xfrm>
            <a:off x="7215120" y="5019840"/>
            <a:ext cx="19288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920" y="601560"/>
            <a:ext cx="777240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00000" y="549000"/>
            <a:ext cx="7632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редства нравственно-патриотического воспит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Схема 5" descr=""/>
          <p:cNvPicPr/>
          <p:nvPr/>
        </p:nvPicPr>
        <p:blipFill>
          <a:blip r:embed="rId2"/>
          <a:stretch/>
        </p:blipFill>
        <p:spPr>
          <a:xfrm>
            <a:off x="901800" y="1189080"/>
            <a:ext cx="7778520" cy="5272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Documents and Settings\Loner\Рабочий стол\клипарты\sun103.png"/>
          <p:cNvPicPr/>
          <p:nvPr/>
        </p:nvPicPr>
        <p:blipFill>
          <a:blip r:embed="rId3"/>
          <a:stretch/>
        </p:blipFill>
        <p:spPr>
          <a:xfrm>
            <a:off x="0" y="3000240"/>
            <a:ext cx="23572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601560"/>
            <a:ext cx="777240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00000" y="189000"/>
            <a:ext cx="76327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ы рабо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Содержимое 14" descr=""/>
          <p:cNvPicPr/>
          <p:nvPr/>
        </p:nvPicPr>
        <p:blipFill>
          <a:blip r:embed="rId2"/>
          <a:stretch/>
        </p:blipFill>
        <p:spPr>
          <a:xfrm>
            <a:off x="1212840" y="596880"/>
            <a:ext cx="7534440" cy="6230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Documents and Settings\Loner\Рабочий стол\клипарты\sun103.png"/>
          <p:cNvPicPr/>
          <p:nvPr/>
        </p:nvPicPr>
        <p:blipFill>
          <a:blip r:embed="rId3"/>
          <a:stretch/>
        </p:blipFill>
        <p:spPr>
          <a:xfrm>
            <a:off x="0" y="4857840"/>
            <a:ext cx="23572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601560"/>
            <a:ext cx="777240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856880" y="189000"/>
            <a:ext cx="667548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оды и прие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Схема 1" descr=""/>
          <p:cNvPicPr/>
          <p:nvPr/>
        </p:nvPicPr>
        <p:blipFill>
          <a:blip r:embed="rId2"/>
          <a:stretch/>
        </p:blipFill>
        <p:spPr>
          <a:xfrm>
            <a:off x="2163600" y="1096920"/>
            <a:ext cx="6778800" cy="5469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Documents and Settings\Loner\Рабочий стол\клипарты\sun103.png"/>
          <p:cNvPicPr/>
          <p:nvPr/>
        </p:nvPicPr>
        <p:blipFill>
          <a:blip r:embed="rId3"/>
          <a:stretch/>
        </p:blipFill>
        <p:spPr>
          <a:xfrm>
            <a:off x="0" y="4000680"/>
            <a:ext cx="228600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50560" y="188640"/>
            <a:ext cx="8713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ловия реализац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предметно-развивающей среды (уголок русской культуры, символика государства и др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ора на личный опыт, ближайшее окружение (от любви к дому -до любви к Родине и т.д.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ая окрашенность, воздействие на чувства ребен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трех компонентов: интеллектуального, чувственно- эмоционального и действенно-практического (узнавать-созерцать-созидать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творческой деятельности как средства выражения чувств и эмоций ( изо, драматизация, концерты и выступления перед публикой и др.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трудничество с семь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Рисунок 1" descr=""/>
          <p:cNvPicPr/>
          <p:nvPr/>
        </p:nvPicPr>
        <p:blipFill>
          <a:blip r:embed="rId2"/>
          <a:stretch/>
        </p:blipFill>
        <p:spPr>
          <a:xfrm>
            <a:off x="7216920" y="4998960"/>
            <a:ext cx="192708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549000"/>
            <a:ext cx="81043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ТОЛЬКО ТОТ, КТО ЛЮБИТ, ЦЕНИТ И УВАЖАЕТ НАКОПЛЕННОЕ И СОХРАНЕННОЕ ПРЕДШЕСТВУЮЩИМ ПОКОЛЕНИЕМ, МОЖЕТ ЛЮБИТЬ РОДИНУ, УЗНАТЬ ЕЕ, СТАТЬ ПОДЛИННЫМ ПАТРИОТОМ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.МИХАЛ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Рисунок 1" descr=""/>
          <p:cNvPicPr/>
          <p:nvPr/>
        </p:nvPicPr>
        <p:blipFill>
          <a:blip r:embed="rId2"/>
          <a:stretch/>
        </p:blipFill>
        <p:spPr>
          <a:xfrm>
            <a:off x="108000" y="4653000"/>
            <a:ext cx="192564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45840" y="259920"/>
            <a:ext cx="8497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тератур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нравственных чувств у старших дошкольников/Под ред. А.М. Виноградовой.- М., 1991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риков А.Д. Растите детей патриотами.- М., 1980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ковская Р.И., Виноградова Н.Ф., Козлова С.А. Родной край. -М., 1990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язева О.Л., Маханева М.Д. Приобщение детей к истокам русской народной культуры: Программа. – СПб: Детство-Пресс, 1999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тик Э. П., Кочнева Н. Н.. Мой родной дом. - М., 2004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рина Л.С., Бударина Т.А., Маркеева О.А., Корепанова О.Н. и др. Знакомство детей с русским народным творчеством. – СПб: Детство-Пресс, 1999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ялина Л.А. Народные игры в детском саду. – М.: ТЦ Сфера, 2009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ханева М.Д. Нравственно-патриотическое воспитание дошкольников. – М.: ТЦ Сфера, 2009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601560"/>
            <a:ext cx="7772400" cy="1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04" name="Picture 2" descr="F:\клипарты\sun10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Подзаголовок 6" descr=""/>
          <p:cNvPicPr/>
          <p:nvPr/>
        </p:nvPicPr>
        <p:blipFill>
          <a:blip r:embed="rId3"/>
          <a:stretch/>
        </p:blipFill>
        <p:spPr>
          <a:xfrm>
            <a:off x="426960" y="3571920"/>
            <a:ext cx="850428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Loner\Рабочий стол\клипарты\sun103.png"/>
          <p:cNvPicPr/>
          <p:nvPr/>
        </p:nvPicPr>
        <p:blipFill>
          <a:blip r:embed="rId2"/>
          <a:stretch/>
        </p:blipFill>
        <p:spPr>
          <a:xfrm>
            <a:off x="0" y="4857840"/>
            <a:ext cx="2500200" cy="20001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2"/>
          <p:cNvSpPr/>
          <p:nvPr/>
        </p:nvSpPr>
        <p:spPr>
          <a:xfrm>
            <a:off x="468360" y="260280"/>
            <a:ext cx="8567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49280" indent="5400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икто не учит маленького </a:t>
            </a: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человека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49280" indent="5400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Будь равнодушным к людям, ломай деревь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49280" indent="5400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пирай красоту, выше всего ставь свое лично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49280" indent="5400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 дело в одной, в очень важной закономерности нравственно-патриотического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49280" indent="5400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ли человека учат добру - учат умело, умно, настойчиво, требовательно, в результате будет добр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49280" indent="5400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т злу (очень редко, но бывает и та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49280" indent="5400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результате будет з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49280" indent="5400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учат ни добру, ни злу - все равно будет зл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49280" indent="5400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тому, что и человеком его надо воспитат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49280" indent="5400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                                              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В. А. Сухомл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Loner\Рабочий стол\клипарты\sun103.png"/>
          <p:cNvPicPr/>
          <p:nvPr/>
        </p:nvPicPr>
        <p:blipFill>
          <a:blip r:embed="rId2"/>
          <a:stretch/>
        </p:blipFill>
        <p:spPr>
          <a:xfrm>
            <a:off x="0" y="4857840"/>
            <a:ext cx="2500200" cy="200016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1"/>
          <p:cNvSpPr/>
          <p:nvPr/>
        </p:nvSpPr>
        <p:spPr>
          <a:xfrm>
            <a:off x="870120" y="333360"/>
            <a:ext cx="8281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ЮБОВЬ К РОДНОМУ КРАЮ, 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ДНОЙ КУЛЬТУРЕ, РОДНОЙ РЕЧИ 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ЧИНАЕТСЯ С МАЛОГО – 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ЮБВИ К СВОЕЙ СЕМЬЕ, К СВОЕМУ ЖИЛИЩУ, 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СВОЕМУ ДЕТСКОМУ САДУ. 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ТЕПЕННО РАСШИРЯЯСЬ, ЭТА ЛЮБОВЬ 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ХОДИТ В ЛЮБОВЬ К РОДНОЙ СТРАНЕ, 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ЕЕ ИСТОРИИ, ПРОШЛОМУ И НАСТОЯЩЕМУ, 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 ВСЕМУ ЧЕЛОВЕЧЕСТВУ.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.С. ЛИХАЧ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56" name="Picture 2" descr="C:\Documents and Settings\Loner\Рабочий стол\клипарты\sun103.png"/>
          <p:cNvPicPr/>
          <p:nvPr/>
        </p:nvPicPr>
        <p:blipFill>
          <a:blip r:embed="rId2"/>
          <a:stretch/>
        </p:blipFill>
        <p:spPr>
          <a:xfrm>
            <a:off x="0" y="4857840"/>
            <a:ext cx="2500200" cy="20001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1"/>
          <p:cNvSpPr/>
          <p:nvPr/>
        </p:nvSpPr>
        <p:spPr>
          <a:xfrm>
            <a:off x="503280" y="189000"/>
            <a:ext cx="842004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овременных условиях, когда происходят глубочайшие изменения в жизни общества, одним из центральных направлений работы с подрастающим поколением становится патриотическое воспитание. Сейчас, в период нестабильности в обществе, возникает необходимость вернуться к лучшим традициям нашего народа, к его вековым корням, к таким вечным понятиям, как род, родство, Род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увство патриотизма многогранно по своему содержанию: это и любовь к родным местам, и гордость за свой народ, и ощущение неразрывности с окружающим, и желание сохранить, приумножить богатство своей ст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ыть патриотом – значит ощущать себя неотъемлемой частью Отечества. Это сложное чувство возникает еще в дошкольном детстве, когда закладываются основы ценностного отношения к окружающему миру, и формируется в ребёнке постепенно, в ходе воспитания любви к своим ближним, к детскому саду, к родным местам, родной стране. Дошкольный возраст как период становления личности имеет свои потенциальные возможности для формирования высших нравственных чувств, к которым и относится чувство патриот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Documents and Settings\Loner\Рабочий стол\клипарты\sun103.png"/>
          <p:cNvPicPr/>
          <p:nvPr/>
        </p:nvPicPr>
        <p:blipFill>
          <a:blip r:embed="rId2"/>
          <a:stretch/>
        </p:blipFill>
        <p:spPr>
          <a:xfrm>
            <a:off x="0" y="4857840"/>
            <a:ext cx="2500200" cy="2000160"/>
          </a:xfrm>
          <a:prstGeom prst="rect">
            <a:avLst/>
          </a:prstGeom>
          <a:ln w="0">
            <a:noFill/>
          </a:ln>
        </p:spPr>
      </p:pic>
      <p:sp>
        <p:nvSpPr>
          <p:cNvPr id="59" name="Содержимое 2"/>
          <p:cNvSpPr/>
          <p:nvPr/>
        </p:nvSpPr>
        <p:spPr>
          <a:xfrm>
            <a:off x="142920" y="285840"/>
            <a:ext cx="9001080" cy="58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  </a:t>
            </a:r>
            <a:r>
              <a:rPr b="1" i="1" lang="ru-RU" sz="3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Нравственно - патриотическое воспитание детей – одно из важных условий успешного развития современного российского общества, главным ориентиром которого должны стать вечные абсолютные общечеловеческие цен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 Black"/>
                <a:ea typeface="Arial Unicode MS"/>
              </a:rPr>
              <a:t>«Истина – Добро -Красота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Documents and Settings\Loner\Рабочий стол\клипарты\sun103.png"/>
          <p:cNvPicPr/>
          <p:nvPr/>
        </p:nvPicPr>
        <p:blipFill>
          <a:blip r:embed="rId2"/>
          <a:stretch/>
        </p:blipFill>
        <p:spPr>
          <a:xfrm>
            <a:off x="0" y="4869000"/>
            <a:ext cx="3059280" cy="1989000"/>
          </a:xfrm>
          <a:prstGeom prst="rect">
            <a:avLst/>
          </a:prstGeom>
          <a:ln w="0">
            <a:noFill/>
          </a:ln>
        </p:spPr>
      </p:pic>
      <p:sp>
        <p:nvSpPr>
          <p:cNvPr id="61" name="Содержимое 2"/>
          <p:cNvSpPr/>
          <p:nvPr/>
        </p:nvSpPr>
        <p:spPr>
          <a:xfrm>
            <a:off x="2340000" y="420840"/>
            <a:ext cx="6373800" cy="63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 федеральном образовательном стандарте дошкольного образования ставятся цели по патриотическому воспитанию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оздание условий для становления основ патриотического сознания детей, возможности позитивной социализации ребенка, его всестороннего личностного, морально-нравственного и познавательного развития, развитие инициативы и творческих способностей на основе соответствующих дошкольному возрасту видов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://kirovipk.ru/sites/default/files/novost/222_0.jpg"/>
          <p:cNvPicPr/>
          <p:nvPr/>
        </p:nvPicPr>
        <p:blipFill>
          <a:blip r:embed="rId3"/>
          <a:stretch/>
        </p:blipFill>
        <p:spPr>
          <a:xfrm>
            <a:off x="333360" y="285840"/>
            <a:ext cx="228456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24000" y="499680"/>
            <a:ext cx="84247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равственность –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внутренняя мораль, принятие на себя ответственности за свои поступки, то есть действовать согласно своей совест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триотизм –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вь к семье, дому,  родным местам, Родине, гордость за свой народ, толерантное отношение к другим людям, желание сохранить, приумножить богатство своей стран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равственно-патриотическое  воспитание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заимодействие взрослого и детей в совместной деятельности и общении, направленное на раскрытие и формирование в ребенке общечеловеческих нравственных качеств личности, приобщение к истокам национальной региональной культуры, природе родного края, воспитание эмоционально-действенного отношения , чувства сопричастности, привязанности к окружающи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Documents and Settings\Loner\Рабочий стол\клипарты\sun103.png"/>
          <p:cNvPicPr/>
          <p:nvPr/>
        </p:nvPicPr>
        <p:blipFill>
          <a:blip r:embed="rId2"/>
          <a:stretch/>
        </p:blipFill>
        <p:spPr>
          <a:xfrm>
            <a:off x="7715160" y="2571840"/>
            <a:ext cx="12146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 нравственно-патриотического воспитания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3840" y="907560"/>
            <a:ext cx="735804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любви и привязанности к своей семье, дому, детскому саду, улице, городу, Родине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бережного отношения к природе и всему живому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символами государства (герб, флаг, гимн)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элементарных знаний о правах человека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чувства ответственности и гордости за достижения страны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толерантности, чувства уважения к другим народам, традициям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уважения к труду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гуманного отношения (доброжелательности, уважения, внимательности, отзывчивости)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коллективистских чувств и взаимоотношений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вление творческого начала, развитие воображения ребенка посредством вовлечения его в активный процесс познания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Documents and Settings\Loner\Рабочий стол\клипарты\sun103.png"/>
          <p:cNvPicPr/>
          <p:nvPr/>
        </p:nvPicPr>
        <p:blipFill>
          <a:blip r:embed="rId2"/>
          <a:stretch/>
        </p:blipFill>
        <p:spPr>
          <a:xfrm>
            <a:off x="7500960" y="4714920"/>
            <a:ext cx="15001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Documents and Settings\Loner\Рабочий стол\клипарты\sun103.png"/>
          <p:cNvPicPr/>
          <p:nvPr/>
        </p:nvPicPr>
        <p:blipFill>
          <a:blip r:embed="rId2"/>
          <a:stretch/>
        </p:blipFill>
        <p:spPr>
          <a:xfrm>
            <a:off x="7527960" y="5084640"/>
            <a:ext cx="1616040" cy="1857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https://ds03.infourok.ru/uploads/ex/0cfb/00022fda-ed4c1624/img7.jpg"/>
          <p:cNvPicPr/>
          <p:nvPr/>
        </p:nvPicPr>
        <p:blipFill>
          <a:blip r:embed="rId3"/>
          <a:stretch/>
        </p:blipFill>
        <p:spPr>
          <a:xfrm>
            <a:off x="684360" y="3240"/>
            <a:ext cx="712764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1T14:44:45Z</dcterms:created>
  <dc:creator>Александр</dc:creator>
  <dc:description/>
  <dc:language>en-US</dc:language>
  <cp:lastModifiedBy>Admin</cp:lastModifiedBy>
  <dcterms:modified xsi:type="dcterms:W3CDTF">2019-04-23T13:54:24Z</dcterms:modified>
  <cp:revision>68</cp:revision>
  <dc:subject/>
  <dc:title>Нравственно - патриотическое воспитание детей Дошкольного возраста Старший воспитатель Н.П. Ковалева</dc:title>
</cp:coreProperties>
</file>