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D15-F57C-44DD-BC67-74CD5842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983-112E-4732-806A-5FA6248E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DD1-9B69-41F9-9761-5F19951F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ECC-195D-4ACC-817B-26A43929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C08E-022F-4004-BB00-3B9CBB28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B2CE-606C-412C-A802-9FA3A57A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A952-10B2-4D46-8C41-72F33ED5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E490-25C6-4074-BB77-A8F4A820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E8BE-DD73-489D-9B9E-D7A9222E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CF4F-96E8-424C-9244-CDB4130E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A237-3BBD-41D2-833C-F5AD2D2D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92D-851B-44CC-9183-8273AE81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4B07-AC62-45AF-A046-354EB42F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98B3-FAC3-4F6F-B427-434A0C39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C290-42F3-426D-875C-21EAFAC9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D103-E5D6-41B4-A65B-898254B4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0A7F-8352-43B3-8C88-248C34AE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47F-8414-4A8D-B289-25349B59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F64-6E32-433A-A14D-606526B4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4A9-C416-4119-B3CF-793E346A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06A-876E-4A3B-9095-3F0FBE80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DA0-2427-4BAB-9F05-D85CD5B9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55B-6947-4093-B78E-75797187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C81-E677-4C93-9ADE-C4F5D061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8893-2F2D-4C3E-ABD2-7F69CBED1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D2FA-9C90-4C41-9498-7565A3749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66"/>
                </a:solidFill>
                <a:latin typeface="Arial Black"/>
              </a:rPr>
              <a:t>МУНИЦИПАЛЬНОЕ БЮДЖЕТНОЕ ОБРАЗОВАТЕЛЬНОЕ УЧРЕЖДЕНИЕ ДОПОЛНИТЕЛЬНОГО ОБРАЗОВАНИЯ «КОММУНАРСКАЯ ДЕТСКО-ЮНОШЕСКАЯ СПОРТИВНАЯ ШКОЛА»</a:t>
            </a:r>
            <a:endParaRPr b="0" i="1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ВОЗЬМЁМСЯ ЗА РУКИ, ДРУЗЬЯ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уководитель проекта: тренер – преподавател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.Н. Сергач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4876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 Black"/>
              </a:rPr>
              <a:t>ПРОДУКТ ПРОЕКТА</a:t>
            </a:r>
            <a:br>
              <a:rPr sz="1600"/>
            </a:br>
            <a:r>
              <a:rPr b="0" lang="en-US" sz="1600" spc="-1" strike="noStrike">
                <a:solidFill>
                  <a:srgbClr val="336666"/>
                </a:solidFill>
                <a:latin typeface="Arial Black"/>
              </a:rPr>
              <a:t> «ОСЕННЯЯ ЛЕГКОАТЛЕТИЧЕСКАЯ ЭСТАФЕТА </a:t>
            </a:r>
            <a:br>
              <a:rPr sz="1600"/>
            </a:br>
            <a:r>
              <a:rPr b="0" lang="en-US" sz="1600" spc="-1" strike="noStrike">
                <a:solidFill>
                  <a:srgbClr val="336666"/>
                </a:solidFill>
                <a:latin typeface="Arial Black"/>
              </a:rPr>
              <a:t>ДЛЯ ОБУЧАЮЩИХСЯ 4 – 11 КЛАССОВ»</a:t>
            </a:r>
            <a:endParaRPr b="0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73392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419720" y="1676520"/>
            <a:ext cx="41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"/>
              </a:rPr>
              <a:t>ПРОДУКТ ПРОЕКТА</a:t>
            </a:r>
            <a:br>
              <a:rPr sz="1600"/>
            </a:b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МАЙСКАЯ ЭСТАФЕТА, ПОСВЯЩЁННАЯ «Дню ПОБЕ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40388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66"/>
                </a:solidFill>
                <a:latin typeface="Arial Black"/>
              </a:rPr>
              <a:t>ПРОДУКТ ПРОЕКТА</a:t>
            </a:r>
            <a:br>
              <a:rPr sz="1600"/>
            </a:br>
            <a:r>
              <a:rPr b="0" lang="en-US" sz="1600" spc="-1" strike="noStrike">
                <a:solidFill>
                  <a:srgbClr val="336666"/>
                </a:solidFill>
                <a:latin typeface="Arial Black"/>
              </a:rPr>
              <a:t>ПЕРВЕНСТВО ГОРОДА КОММУНАРА </a:t>
            </a:r>
            <a:br>
              <a:rPr sz="1600"/>
            </a:br>
            <a:r>
              <a:rPr b="0" lang="en-US" sz="1600" spc="-1" strike="noStrike">
                <a:solidFill>
                  <a:srgbClr val="336666"/>
                </a:solidFill>
                <a:latin typeface="Arial Black"/>
              </a:rPr>
              <a:t>ПО ПЛАВАНИЮ</a:t>
            </a:r>
            <a:endParaRPr b="0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648320" y="4343400"/>
            <a:ext cx="388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66"/>
                </a:solidFill>
                <a:latin typeface="Arial"/>
              </a:rPr>
              <a:t>ПРОДУКТ ПРОЕКТА</a:t>
            </a:r>
            <a:br>
              <a:rPr sz="1800"/>
            </a:b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ЛЕГКОАТЛЕТИЧЕСКОЕ ПЕРВЕНСТВО ДЛЯ ОБУЧАЮЩИХСЯ 1 – 4 КЛАССОВ ШКОЛ ГОРОДА, ПОСВЯЩЁННОЕ </a:t>
            </a:r>
            <a:br>
              <a:rPr sz="1800"/>
            </a:b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«ДНЮ ЗАЩИТЫ ДЕТ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14300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9:42:56Z</dcterms:created>
  <dc:creator>Пользователь</dc:creator>
  <dc:description/>
  <dc:language>en-US</dc:language>
  <cp:lastModifiedBy>Пользователь</cp:lastModifiedBy>
  <dcterms:modified xsi:type="dcterms:W3CDTF">2019-05-14T09:35:4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