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686-9C60-4C4D-9E3D-215712D2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7EE-05A7-4C62-8D7D-34FBAE84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A0B-A9DF-4D2C-82ED-AAB992C6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0B6-509C-47B3-8EC8-5C548826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99C6-C635-49C7-B2C6-B7A37539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0F0A-3A74-4E57-8F06-5084EF84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2D45-B34F-451F-9915-085B63F3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2F77-8539-4532-9158-4525F248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008B-F122-453D-8AFD-B3102FD4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C749-43A7-478D-8C30-2CF97E31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A42E-44A5-4EFF-AF25-0BE5A348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DC1-F99D-4266-BA6A-EDBADD7A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BD7C-A26E-46AE-856D-928F3D4D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413C-6ECF-43D6-BDD5-6459F6F6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E620-EC1F-4D17-B3CC-38C637EC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D0C2-A579-4D14-B682-8CD00FB9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9429-32E9-4584-B300-97019384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F0F-FAED-48F8-B780-CA4DDF64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32C-DC81-4F50-8474-419E36D5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4B3-83B6-4754-8ED0-18E297F9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5A8-7E1D-465B-84CC-EDDE7D4B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DF9-9037-48FA-9313-90FE32BC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AF35-58C1-45DE-8914-97EBD05E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638-EE16-4B83-B54E-6F64EBA3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D997-AAAE-46B3-BE3E-3823E3260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7622-6983-49C3-8C64-C1DB0E1BF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66"/>
                </a:solidFill>
                <a:latin typeface="Arial Black"/>
              </a:rPr>
              <a:t>МУНИЦИПАЛЬНОЕ БЮДЖЕТНОЕ ОБРАЗОВАТЕЛЬНОЕ УЧРЕЖДЕНИЕ ДОПОЛНИТЕЛЬНОГО ОБРАЗОВАНИЯ «КОММУНАРСКАЯ ДЕТСКО-ЮНОШЕСКАЯ СПОРТИВНАЯ ШКОЛА»</a:t>
            </a:r>
            <a:endParaRPr b="0" i="1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ВОЗЬМЁМСЯ ЗА РУКИ, ДРУЗЬЯ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уководитель проекта: тренер – преподавател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.Н. Сергач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4876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 Black"/>
              </a:rPr>
              <a:t>ПРОДУКТ ПРОЕКТА</a:t>
            </a:r>
            <a:br>
              <a:rPr sz="1600"/>
            </a:br>
            <a:r>
              <a:rPr b="0" lang="en-US" sz="1600" spc="-1" strike="noStrike">
                <a:solidFill>
                  <a:srgbClr val="336666"/>
                </a:solidFill>
                <a:latin typeface="Arial Black"/>
              </a:rPr>
              <a:t> «ОСЕННЯЯ ЛЕГКОАТЛЕТИЧЕСКАЯ ЭСТАФЕТА </a:t>
            </a:r>
            <a:br>
              <a:rPr sz="1600"/>
            </a:br>
            <a:r>
              <a:rPr b="0" lang="en-US" sz="1600" spc="-1" strike="noStrike">
                <a:solidFill>
                  <a:srgbClr val="336666"/>
                </a:solidFill>
                <a:latin typeface="Arial Black"/>
              </a:rPr>
              <a:t>ДЛЯ ОБУЧАЮЩИХСЯ 4 – 11 КЛАССОВ»</a:t>
            </a:r>
            <a:endParaRPr b="0" lang="en-US" sz="16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73392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19720" y="1676520"/>
            <a:ext cx="41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ПРОДУКТ ПРОЕКТА</a:t>
            </a:r>
            <a:br>
              <a:rPr sz="1600"/>
            </a:br>
            <a:r>
              <a:rPr b="0" lang="en-US" sz="1600" spc="-1" strike="noStrike">
                <a:solidFill>
                  <a:srgbClr val="336666"/>
                </a:solidFill>
                <a:latin typeface="Arial"/>
              </a:rPr>
              <a:t>МАЙСКАЯ ЭСТАФЕТА, ПОСВЯЩЁННАЯ «Дню ПОБЕ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52880" y="2819520"/>
            <a:ext cx="4038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 Black"/>
              </a:rPr>
              <a:t>ПРОДУКТ ПРОЕКТА</a:t>
            </a:r>
            <a:br>
              <a:rPr sz="1600"/>
            </a:br>
            <a:r>
              <a:rPr b="0" lang="en-US" sz="1600" spc="-1" strike="noStrike">
                <a:solidFill>
                  <a:srgbClr val="336666"/>
                </a:solidFill>
                <a:latin typeface="Arial Black"/>
              </a:rPr>
              <a:t>ПЕРВЕНСТВО ГОРОДА КОММУНАРА </a:t>
            </a:r>
            <a:br>
              <a:rPr sz="1600"/>
            </a:br>
            <a:r>
              <a:rPr b="0" lang="en-US" sz="1600" spc="-1" strike="noStrike">
                <a:solidFill>
                  <a:srgbClr val="336666"/>
                </a:solidFill>
                <a:latin typeface="Arial Black"/>
              </a:rPr>
              <a:t>ПО ПЛАВАНИЮ</a:t>
            </a:r>
            <a:endParaRPr b="0" lang="en-US" sz="16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48320" y="4343400"/>
            <a:ext cx="388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ПРОДУКТ ПРОЕКТА</a:t>
            </a:r>
            <a:br>
              <a:rPr sz="1800"/>
            </a:b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ЛЕГКОАТЛЕТИЧЕСКОЕ ПЕРВЕНСТВО ДЛЯ ОБУЧАЮЩИХСЯ 1 – 4 КЛАССОВ ШКОЛ ГОРОДА, ПОСВЯЩЁННОЕ </a:t>
            </a:r>
            <a:br>
              <a:rPr sz="1800"/>
            </a:b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«ДНЮ ЗАЩИТЫ ДЕТ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3T09:42:56Z</dcterms:created>
  <dc:creator>Пользователь</dc:creator>
  <dc:description/>
  <dc:language>en-US</dc:language>
  <cp:lastModifiedBy>Пользователь</cp:lastModifiedBy>
  <dcterms:modified xsi:type="dcterms:W3CDTF">2019-05-14T09:35:4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