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EC20F-C6F3-4F87-8848-559C771CF7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67427-0498-4F5C-AB9B-0FDAD1A2FD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B443A-7EE7-4EA5-8A45-E83B26B19E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42716-AF14-4FBA-94CB-2CC208E4B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DF778-A5CB-4ED8-99FC-8A8BF83B2F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2CA42-8F91-4EE8-A3D3-BAADA61636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74258-5126-420F-A3EF-E432C6DC70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165D3-303A-458E-97C7-AF9109774E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AC6B6-F2C5-453E-B77E-43173EF45E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DBD20-E2A1-446A-8C7E-43AF10D6C5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5E1BC-1939-4295-998B-DC995E13D4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7F313-E8E9-4939-82AE-DAAF80F124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5A928-83BC-419E-B7F6-D324AB76B8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DE44D-BABC-4C01-AD0F-DEF6DAF3A3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8C092-9B1F-46EC-A668-924FA258E3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57DE6-6F20-4ECE-A41C-2BEE919A9A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48085-E6EF-4EB2-BE31-51F365DEAE3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7094-6EB7-4A52-BC51-EF1769CEBCA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094C-1749-434A-8D2D-90229E7522F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5B5E-7D89-4C42-BF8B-CF0437A217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EAF5-055B-476D-B8B0-563E755627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E8AC-D5E6-42ED-ABFA-15EC8BC97C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70D07-0E6F-4D22-B06C-A18E43FC0CB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B376-02F0-4F78-AD6E-635DE28ECA5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2A66-CD88-4717-9F81-2EC19B93783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290F-87CE-4AC0-96EA-4DA310653F7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BC77-7692-4E94-B2DD-434643E34F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6CFE-EB0A-41B6-B815-3C47552CB44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9095-3C27-48F2-B1EA-109B5615A14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333D-F13D-4AD4-8B6B-488B33051C4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27B7F-E327-40E8-B51C-6DC43D62A8D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AE0A8-4062-450F-94E6-3A4C8FFDA52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37461-925D-41F2-BCBD-182BF1EA90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A1355-09F5-4E20-9116-748EC2CAFBE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BDC0F-47DA-4060-BFB0-42348DD657F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011DA-710E-4DC0-BB68-BFACE5BA9D8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A7B86-CEC7-458D-A005-D5D9D41723C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6697E-CC1C-4BC7-B955-00832713D6E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844B2-A219-413C-9734-7606A2898A3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FD00E-1DFB-4F1B-9213-B141B472FD6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F352C-B110-4602-9B20-156FF070AA4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7F01D-A483-4B06-84B3-BC5EC90487A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23706-3D8E-440C-AB51-22B95A8CDB8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D17BE-F126-4F63-A896-39DA4C0C76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DB988-BC82-4111-ADA6-7ACFAD7E09B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F4603-6D9E-4CB1-8D67-73C593EDAC6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BA581-5E5B-4465-9731-2E41FD55A11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BD37C-83A2-4D0F-81CA-8386438E7DE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E9CBC-907F-477A-90B1-0468AC4AF1D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279F1-8F99-4978-A291-FD70CACABBF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4E109-75BE-46F1-95CE-3BFEA391F90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BDE79-0370-49EC-9470-D2FAA8D3A19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8BCBD-7080-4C8C-A671-70B2FADD617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071E4-D114-429C-9E8F-0797F91FEEF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238CF-1334-4538-8E7B-0223715295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32BCB-ED25-4419-8C37-C2B28743919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FFB1B-BEC8-4AB1-AB62-67CC5B9CF95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6FC1-37A2-4DDB-95D6-827E4D53E42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5D42-46A8-4BC4-B597-79975D31E76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74FF-C23B-46C5-B1B6-B91FDC26C7C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4FB2-280C-47B3-ABC7-2B0DCB5624C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127B-B5C6-4B11-8D91-034B326B548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3327-FBC5-410C-83C9-1BD7348DECC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0F79-BD49-4AF2-A260-FE7F4692D91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DEEE-73E4-4F55-B961-1BCAAB8FA23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E7E4-44DC-4E36-A659-87CB170ED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38D2B-9B21-4533-8772-7B9FB698AD3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D397-BDC6-4CF7-88BC-26997A58029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2545-9AD0-4CA5-8570-90133230E52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BA69-0EDC-4934-8A6B-92A6B470913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2B640-493B-4A9C-93AA-C0DFC216192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ADC19-44C9-479B-AAFC-FD4AC93C1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17600" cy="6856560"/>
            <a:chOff x="0" y="0"/>
            <a:chExt cx="761760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7160" y="1981080"/>
              <a:ext cx="7390440" cy="317520"/>
              <a:chOff x="227160" y="1981080"/>
              <a:chExt cx="7390440" cy="317520"/>
            </a:xfrm>
          </p:grpSpPr>
          <p:sp>
            <p:nvSpPr>
              <p:cNvPr id="5" name=""/>
              <p:cNvSpPr/>
              <p:nvPr/>
            </p:nvSpPr>
            <p:spPr>
              <a:xfrm>
                <a:off x="609120" y="1981080"/>
                <a:ext cx="7008480" cy="316080"/>
              </a:xfrm>
              <a:prstGeom prst="roundRect">
                <a:avLst>
                  <a:gd name="adj" fmla="val 1666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7160" y="1981080"/>
                <a:ext cx="3916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376884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2000"/>
          </a:bodyPr>
          <a:p>
            <a:pPr marL="2469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3366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D689362-B3BB-43B0-ADAD-29F2FCF2B992}" type="slidenum">
              <a:rPr b="0" lang="ru-RU" sz="1800" spc="-1" strike="noStrike">
                <a:solidFill>
                  <a:srgbClr val="003366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7617600" cy="6856560"/>
            <a:chOff x="0" y="0"/>
            <a:chExt cx="7617600" cy="6856560"/>
          </a:xfrm>
        </p:grpSpPr>
        <p:grpSp>
          <p:nvGrpSpPr>
            <p:cNvPr id="49" name="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50" name="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227160" y="1981080"/>
              <a:ext cx="7390440" cy="317520"/>
              <a:chOff x="227160" y="1981080"/>
              <a:chExt cx="7390440" cy="317520"/>
            </a:xfrm>
          </p:grpSpPr>
          <p:sp>
            <p:nvSpPr>
              <p:cNvPr id="53" name=""/>
              <p:cNvSpPr/>
              <p:nvPr/>
            </p:nvSpPr>
            <p:spPr>
              <a:xfrm>
                <a:off x="609120" y="1981080"/>
                <a:ext cx="7008480" cy="316080"/>
              </a:xfrm>
              <a:prstGeom prst="roundRect">
                <a:avLst>
                  <a:gd name="adj" fmla="val 1666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>
                <a:off x="227160" y="1981080"/>
                <a:ext cx="3916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376884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2000"/>
          </a:bodyPr>
          <a:p>
            <a:pPr marL="2469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2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3366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2E02F2-E62A-443B-92C2-7D225E073AD2}" type="slidenum">
              <a:rPr b="0" lang="ru-RU" sz="1800" spc="-1" strike="noStrike">
                <a:solidFill>
                  <a:srgbClr val="003366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7617600" cy="6856560"/>
            <a:chOff x="0" y="0"/>
            <a:chExt cx="7617600" cy="6856560"/>
          </a:xfrm>
        </p:grpSpPr>
        <p:grpSp>
          <p:nvGrpSpPr>
            <p:cNvPr id="97" name="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98" name="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27160" y="1981080"/>
              <a:ext cx="7390440" cy="317520"/>
              <a:chOff x="227160" y="1981080"/>
              <a:chExt cx="7390440" cy="317520"/>
            </a:xfrm>
          </p:grpSpPr>
          <p:sp>
            <p:nvSpPr>
              <p:cNvPr id="101" name=""/>
              <p:cNvSpPr/>
              <p:nvPr/>
            </p:nvSpPr>
            <p:spPr>
              <a:xfrm>
                <a:off x="609120" y="1981080"/>
                <a:ext cx="7008480" cy="316080"/>
              </a:xfrm>
              <a:prstGeom prst="roundRect">
                <a:avLst>
                  <a:gd name="adj" fmla="val 1666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227160" y="1981080"/>
                <a:ext cx="3916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2220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2220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2220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2220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2220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2220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3366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522A69F-93CC-44B5-B7B8-83A49BF0A578}" type="slidenum">
              <a:rPr b="0" lang="ru-RU" sz="1800" spc="-1" strike="noStrike">
                <a:solidFill>
                  <a:srgbClr val="003366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0" y="0"/>
            <a:ext cx="7617600" cy="6856560"/>
            <a:chOff x="0" y="0"/>
            <a:chExt cx="7617600" cy="6856560"/>
          </a:xfrm>
        </p:grpSpPr>
        <p:grpSp>
          <p:nvGrpSpPr>
            <p:cNvPr id="145" name="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146" name="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227160" y="1981080"/>
              <a:ext cx="7390440" cy="317520"/>
              <a:chOff x="227160" y="1981080"/>
              <a:chExt cx="7390440" cy="317520"/>
            </a:xfrm>
          </p:grpSpPr>
          <p:sp>
            <p:nvSpPr>
              <p:cNvPr id="149" name=""/>
              <p:cNvSpPr/>
              <p:nvPr/>
            </p:nvSpPr>
            <p:spPr>
              <a:xfrm>
                <a:off x="609120" y="1981080"/>
                <a:ext cx="7008480" cy="316080"/>
              </a:xfrm>
              <a:prstGeom prst="roundRect">
                <a:avLst>
                  <a:gd name="adj" fmla="val 1666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227160" y="1981080"/>
                <a:ext cx="3916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" name=""/>
          <p:cNvGrpSpPr/>
          <p:nvPr/>
        </p:nvGrpSpPr>
        <p:grpSpPr>
          <a:xfrm>
            <a:off x="0" y="0"/>
            <a:ext cx="5865840" cy="6856560"/>
            <a:chOff x="0" y="0"/>
            <a:chExt cx="5865840" cy="6856560"/>
          </a:xfrm>
        </p:grpSpPr>
        <p:sp>
          <p:nvSpPr>
            <p:cNvPr id="152" name=""/>
            <p:cNvSpPr/>
            <p:nvPr/>
          </p:nvSpPr>
          <p:spPr>
            <a:xfrm>
              <a:off x="0" y="0"/>
              <a:ext cx="4570560" cy="68565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5800" y="990720"/>
              <a:ext cx="5180040" cy="1903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630600" y="4889520"/>
            <a:ext cx="4876920" cy="317520"/>
            <a:chOff x="3630600" y="4889520"/>
            <a:chExt cx="4876920" cy="317520"/>
          </a:xfrm>
        </p:grpSpPr>
        <p:sp>
          <p:nvSpPr>
            <p:cNvPr id="155" name=""/>
            <p:cNvSpPr/>
            <p:nvPr/>
          </p:nvSpPr>
          <p:spPr>
            <a:xfrm flipH="1">
              <a:off x="3630600" y="4889520"/>
              <a:ext cx="4624560" cy="31572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48680" y="4889520"/>
              <a:ext cx="258840" cy="3175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816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ldNum" idx="4"/>
          </p:nvPr>
        </p:nvSpPr>
        <p:spPr>
          <a:xfrm>
            <a:off x="75960" y="6248160"/>
            <a:ext cx="5857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3366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3F5D645-A273-43BC-B8DC-BFB7F1BE2BFA}" type="slidenum">
              <a:rPr b="0" lang="ru-RU" sz="1800" spc="-1" strike="noStrike">
                <a:solidFill>
                  <a:srgbClr val="003366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0" y="0"/>
            <a:ext cx="7617600" cy="6856560"/>
            <a:chOff x="0" y="0"/>
            <a:chExt cx="7617600" cy="6856560"/>
          </a:xfrm>
        </p:grpSpPr>
        <p:grpSp>
          <p:nvGrpSpPr>
            <p:cNvPr id="199" name="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200" name="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227160" y="1981080"/>
              <a:ext cx="7390440" cy="317520"/>
              <a:chOff x="227160" y="1981080"/>
              <a:chExt cx="7390440" cy="317520"/>
            </a:xfrm>
          </p:grpSpPr>
          <p:sp>
            <p:nvSpPr>
              <p:cNvPr id="203" name=""/>
              <p:cNvSpPr/>
              <p:nvPr/>
            </p:nvSpPr>
            <p:spPr>
              <a:xfrm>
                <a:off x="609120" y="1981080"/>
                <a:ext cx="7008480" cy="316080"/>
              </a:xfrm>
              <a:prstGeom prst="roundRect">
                <a:avLst>
                  <a:gd name="adj" fmla="val 1666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227160" y="1981080"/>
                <a:ext cx="3916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376884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2000"/>
          </a:bodyPr>
          <a:p>
            <a:pPr marL="2469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5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3366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CA2F761-9B06-472B-AE1E-CEDD8410FB23}" type="slidenum">
              <a:rPr b="0" lang="ru-RU" sz="1800" spc="-1" strike="noStrike">
                <a:solidFill>
                  <a:srgbClr val="003366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"/>
          <p:cNvGrpSpPr/>
          <p:nvPr/>
        </p:nvGrpSpPr>
        <p:grpSpPr>
          <a:xfrm>
            <a:off x="0" y="0"/>
            <a:ext cx="7617600" cy="6856560"/>
            <a:chOff x="0" y="0"/>
            <a:chExt cx="7617600" cy="6856560"/>
          </a:xfrm>
        </p:grpSpPr>
        <p:grpSp>
          <p:nvGrpSpPr>
            <p:cNvPr id="247" name="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227160" y="1981080"/>
              <a:ext cx="7390440" cy="317520"/>
              <a:chOff x="227160" y="1981080"/>
              <a:chExt cx="7390440" cy="317520"/>
            </a:xfrm>
          </p:grpSpPr>
          <p:sp>
            <p:nvSpPr>
              <p:cNvPr id="251" name=""/>
              <p:cNvSpPr/>
              <p:nvPr/>
            </p:nvSpPr>
            <p:spPr>
              <a:xfrm>
                <a:off x="609120" y="1981080"/>
                <a:ext cx="7008480" cy="316080"/>
              </a:xfrm>
              <a:prstGeom prst="roundRect">
                <a:avLst>
                  <a:gd name="adj" fmla="val 1666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227160" y="1981080"/>
                <a:ext cx="3916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3366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F390324-503A-4555-AA6D-FEB6E74061D6}" type="slidenum">
              <a:rPr b="0" lang="ru-RU" sz="1800" spc="-1" strike="noStrike">
                <a:solidFill>
                  <a:srgbClr val="003366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6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755640" y="333360"/>
            <a:ext cx="792000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111111"/>
                </a:solidFill>
                <a:latin typeface="Arial"/>
              </a:rPr>
              <a:t>Здоровьесберегающ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111111"/>
                </a:solidFill>
                <a:latin typeface="Arial"/>
              </a:rPr>
              <a:t>технологии 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111111"/>
                </a:solidFill>
                <a:latin typeface="Arial"/>
              </a:rPr>
              <a:t>уроках физической куль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6173640" y="4248000"/>
            <a:ext cx="1746360" cy="1800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647640" y="662040"/>
            <a:ext cx="132084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2640" y="428760"/>
            <a:ext cx="7286760" cy="1000080"/>
          </a:xfrm>
          <a:prstGeom prst="rect">
            <a:avLst/>
          </a:prstGeom>
          <a:solidFill>
            <a:srgbClr val="f5f3a7"/>
          </a:solidFill>
          <a:ln w="76320">
            <a:solidFill>
              <a:srgbClr val="f0eec4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Основные мероприятия здоровьесберегающей деятельности : </a:t>
            </a: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42600" y="1523520"/>
            <a:ext cx="80722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164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рганизация физкультурно-оздоровительных и спортивно-массовых мероприятий;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реализация системы просветительской работы с учениками по формированию у учащихся культуры отношения к своему здоровью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вышение уровня образованности в области физической культуры, спорта и здорового образа жизни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формирование у школьников устойчивого интереса и потребности в регулярных занятиях физической культурой и спортом и навыков здорового образа жизни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431640" y="1258920"/>
            <a:ext cx="600084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363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обучение по темам: Лёгкая атлетика, лыжный спорт, баскетбол, волейбол, футбол, гимнаст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363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использование принципа наглядности, постепенности, доступности нагрузки с учётом возрастных особенностей учащихс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363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использование методики чередования интенсивности и релаксации в обучен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363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учёт физической подготовленности детей и развития физических каче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16000" y="366840"/>
            <a:ext cx="8572320" cy="857160"/>
          </a:xfrm>
          <a:prstGeom prst="flowChartAlternateProcess">
            <a:avLst/>
          </a:prstGeom>
          <a:gradFill rotWithShape="0">
            <a:gsLst>
              <a:gs pos="0">
                <a:srgbClr val="ffff66"/>
              </a:gs>
              <a:gs pos="100000">
                <a:srgbClr val="99663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овательная направ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76240" y="131760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6691320" y="3743280"/>
            <a:ext cx="2021040" cy="244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0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20720" y="1120680"/>
            <a:ext cx="592920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Защита от влияния неблагоприятных условий внешней среды, а также ТБ, проверка инвентаря и оборуд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Укрепление здоровья (развитие и укрепление дыхательной, сердечно-сосудистой, мышечной, нервной  систем). Создание условий для нормальной работы всех органов и систем организ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Повышение сопротивляемости орга-низма к неблагоприятным условиям путём закали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Взаимосвязь с медицинским персо-налом и использование их методи-ческих рекомендаций (распределение школьников на медицинские  группы: основная, подготовительная, спе-циальная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28760" y="360360"/>
            <a:ext cx="8501040" cy="857160"/>
          </a:xfrm>
          <a:prstGeom prst="flowChartAlternateProcess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здоровительная направ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0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209760" y="835200"/>
            <a:ext cx="52866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  <a:ea typeface="Microsoft YaHei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Microsoft YaHei"/>
              </a:rPr>
              <a:t>учет психологических особенностей учащихся согласно их возрастным особенностя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Microsoft YaHei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Microsoft YaHei"/>
              </a:rPr>
              <a:t>создание эмоционально- положи-тельного фона в обучении и общении (спортивные, подвижные игры и игровые упражне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Microsoft YaHei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Microsoft YaHei"/>
              </a:rPr>
              <a:t>стимулирование мотивации на успешность в обучении, оказание поддержки и помощи ребенку в выполнении упражн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Microsoft YaHei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Microsoft YaHei"/>
              </a:rPr>
              <a:t>развитие речи, психических процессов (восприятие, внимание, представление, мышление, память, воображение), а также умственных способностей (наблюдение, сравнение, обобщен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Microsoft YaHei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Microsoft YaHei"/>
              </a:rPr>
              <a:t>получение знаний в различных видах спортив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85840" y="428760"/>
            <a:ext cx="8501040" cy="857160"/>
          </a:xfrm>
          <a:prstGeom prst="flowChartAlternateProcess">
            <a:avLst/>
          </a:prstGeom>
          <a:solidFill>
            <a:srgbClr val="f5f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ательная направ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576360" y="1455840"/>
            <a:ext cx="2630520" cy="20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0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152360" y="1554120"/>
            <a:ext cx="642960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4" marL="174600" indent="-17460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  <a:ea typeface="Microsoft YaHei"/>
              </a:rPr>
              <a:t>требования к расписанию урок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-17460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  <a:ea typeface="Microsoft YaHei"/>
              </a:rPr>
              <a:t>наличие туалетов и умывальников в раздевалках девочек и мальчик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-17460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  <a:ea typeface="Microsoft YaHei"/>
              </a:rPr>
              <a:t>соответствующее освещение, наличие аптеч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-17460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  <a:ea typeface="Microsoft YaHei"/>
              </a:rPr>
              <a:t>требования к спортивному оборудовани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-17460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  <a:ea typeface="Microsoft YaHei"/>
              </a:rPr>
              <a:t>воздушно-тепловой режи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-17460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  <a:ea typeface="Microsoft YaHei"/>
              </a:rPr>
              <a:t>личная гигиена учащихс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-17460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  <a:ea typeface="Microsoft YaHei"/>
              </a:rPr>
              <a:t>наличие у каждого учащегося сменной спортивной обуви и спортивной формы для занятий на уроке физической культуры в зале и соответствующей формы при уроках на свежем воздухе (осень-весна, зим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28760" y="428760"/>
            <a:ext cx="8501040" cy="857160"/>
          </a:xfrm>
          <a:prstGeom prst="flowChartAlternateProcess">
            <a:avLst/>
          </a:prstGeom>
          <a:solidFill>
            <a:srgbClr val="f5f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игиенический реж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0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а Сазикова</cp:lastModifiedBy>
  <dcterms:modified xsi:type="dcterms:W3CDTF">2017-05-10T11:13:06Z</dcterms:modified>
  <cp:revision>0</cp:revision>
  <dc:subject/>
  <dc:title/>
</cp:coreProperties>
</file>