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A2998-5944-4A35-8822-2EC5B66ACB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746280" y="419436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9E055-47C3-4D8B-9E94-8E56C0FFDF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912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62292-3444-48BC-867F-5B94AA46E6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2820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0976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74628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2820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0976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ECFAA-11F0-4F72-8F00-35EC2A6FC3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164F0-6D84-4F53-9F06-C3ED4826601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746280" y="1937880"/>
            <a:ext cx="7635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949BB-FE35-4CDD-8CBE-200FACCBB5B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5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AABEB-A798-4CFF-BF54-BF2E128C1DB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C7F59-6B8D-4FC7-9522-2389EEEA000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8E52D-E409-4015-A278-E5C4427E2F8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71040" y="63468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1E9D6-B140-42B4-B6A9-5A74DC0DDEE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A45A9-D0AB-44C1-B115-9E4FF48F48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746280" y="1937880"/>
            <a:ext cx="7635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63582-7935-4179-B41F-2B0A66B320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5912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BBCCE-2028-4938-8F1F-6F087A8DB64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C5D3F-F390-4451-970F-D8EC75F74C5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746280" y="419436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9A535-F2A6-4A4D-9510-C7F6F9D3303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5912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9C824-8AE4-49B2-8DA1-91E57589871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2820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0976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74628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2820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0976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2B815-CEA4-4E6D-882B-32B86628B14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6B3A-8B13-4730-94F6-0F2A733E209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746280" y="1937880"/>
            <a:ext cx="7635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36E3-0E5B-420C-B1F0-A7951C0A706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5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42C3-DE35-4A3B-9B49-5CF8B46E1BB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0256-FB54-4AD1-B785-0BF6D3176AB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FF39-C3A8-401D-84C0-F45654848F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5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769F5-6898-4CF8-81CD-C59B04EC219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671040" y="63468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14BD-F2AA-4DFE-B0E2-EC725B66206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DCA7-722D-41CE-A5A5-C64DD3A93BB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5912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6F5B-CD00-4A85-B0ED-E50FACB304C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2027-14A1-4AA2-B0E8-735C9277A30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746280" y="419436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7E89-29A4-42A2-8BDA-37AC27B5819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5912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54B3-5912-4121-BACA-E9778856C60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32820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976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74628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32820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90976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674B-A37F-45E7-AD52-C239E2D7105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1A0BAE-42E6-44D4-B75E-637B81EA8DD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746280" y="1937880"/>
            <a:ext cx="7635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AE3992-E66C-4423-BFED-A61AA05D18A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5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0E78F5-32F6-4FE9-9A03-C7804F1221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06A49-06CB-47E8-8427-36C376EBD8F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919358-8FED-4169-AD29-A8BBFD33059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38CB62-6C73-44FD-95CC-E0F41A56B18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671040" y="63468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C7D7CB-0FAB-4F90-92EF-E8B1364A376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FB6509-5438-4780-AA29-CF584998BB2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5912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E3D270-CDF5-4FC0-9B19-8798D9A98C1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1AE8E5-94BD-45FA-9BDF-2D88096BB44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746280" y="419436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66958D-827A-4BAC-B8F8-A44F2BF0511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5912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74D3D7-6F2C-4567-BC61-B3EB6594F23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32820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90976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74628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32820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590976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83F809-7A36-4851-8F63-31CFE58288F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28D4F3-A165-4ADD-A06B-56E3EF6806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70D9E-A868-4703-925E-358425C9FC8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746280" y="1937880"/>
            <a:ext cx="7635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F792B2-4E2D-4EFD-AD5A-89D7781D62F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5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FB883E-CB36-4522-B224-47E0F72A6C3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B33AD1-8D44-4B71-8360-09A36868AB1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1E86ED-1902-43F3-BA9F-BF888D0BC74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71040" y="63468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28368E-8668-4B1F-A1A4-F957335AFA7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9736F1-E512-43D3-8F65-4F90B31394F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5912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B55CC6-AA99-426E-932D-3D1759740D3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747A6A-1A07-4050-BE11-F20270852A1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746280" y="419436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EE68BF-417C-48BA-932C-2EA49E427F6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5912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B34D9C-6E6C-4259-A42C-E37936D104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71040" y="63468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38674-68AE-4B11-92A4-DC364408C83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2820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0976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74628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2820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0976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053334-8DF0-4715-BE64-5130361D312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78175-F5F3-467C-99BA-6E8CA0A64FC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746280" y="1937880"/>
            <a:ext cx="7635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68977-FA6F-49A3-9B74-10AC15FB0EA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5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7221E-F6DD-4AD3-83E3-AC3CA42C9A3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42066-761B-4138-B055-67B25940EA4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6602C-1F22-440B-9419-8C1A131124E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71040" y="63468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504A8-05F6-4D2C-8E81-B888FE1190B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4E461-637C-405F-B3FE-DE13DA171F3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5912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4A83D-0FB6-45B8-BEEA-4EA3D0DB541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EDF12-8CC5-4CA3-9157-82A2831091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0E700-4019-4AFA-BD7B-607154E16E8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746280" y="419436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F66FB-DEAD-438B-9475-C2CA267B64A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5912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3AFC2-9AA1-4B92-9B26-29B0877C413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2820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0976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74628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2820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0976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4437B-A1F8-4DB8-92EE-2CF31627519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746280" y="1937880"/>
            <a:ext cx="7635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5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671040" y="63468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912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635BF-8CAE-4A09-B42B-5F668E346F3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5912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746280" y="419436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59120" y="419436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32820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909760" y="193788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74628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32820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5909760" y="4194360"/>
            <a:ext cx="2458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9120" y="1937880"/>
            <a:ext cx="37260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6280" y="4194360"/>
            <a:ext cx="763560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EDF08-1CD0-433B-8185-0D2D3E1D1A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6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17600" cy="6856560"/>
            <a:chOff x="0" y="0"/>
            <a:chExt cx="7617600" cy="68565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198960" cy="6856560"/>
              <a:chOff x="0" y="0"/>
              <a:chExt cx="3198960" cy="685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0320" cy="68565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1760" cy="116532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7160" y="1981080"/>
              <a:ext cx="7390440" cy="317520"/>
              <a:chOff x="227160" y="1981080"/>
              <a:chExt cx="7390440" cy="317520"/>
            </a:xfrm>
          </p:grpSpPr>
          <p:sp>
            <p:nvSpPr>
              <p:cNvPr id="5" name=""/>
              <p:cNvSpPr/>
              <p:nvPr/>
            </p:nvSpPr>
            <p:spPr>
              <a:xfrm>
                <a:off x="609120" y="1981080"/>
                <a:ext cx="7008480" cy="316080"/>
              </a:xfrm>
              <a:prstGeom prst="roundRect">
                <a:avLst>
                  <a:gd name="adj" fmla="val 16667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7160" y="1981080"/>
                <a:ext cx="391680" cy="3175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7720" y="2362320"/>
            <a:ext cx="376884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2000"/>
          </a:bodyPr>
          <a:p>
            <a:pPr marL="24696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246960" indent="-246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246960" indent="-246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246960" indent="-246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46960" indent="-246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46960" indent="-246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46960" indent="-246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1"/>
          </p:nvPr>
        </p:nvSpPr>
        <p:spPr>
          <a:xfrm>
            <a:off x="83880" y="6242040"/>
            <a:ext cx="5857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3366"/>
                </a:solidFill>
                <a:latin typeface="Arial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2755F7B-D205-41B9-AE26-F3C828D66C5E}" type="slidenum">
              <a:rPr b="0" lang="ru-RU" sz="1800" spc="-1" strike="noStrike">
                <a:solidFill>
                  <a:srgbClr val="003366"/>
                </a:solidFill>
                <a:latin typeface="Arial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6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7617600" cy="6856560"/>
            <a:chOff x="0" y="0"/>
            <a:chExt cx="7617600" cy="6856560"/>
          </a:xfrm>
        </p:grpSpPr>
        <p:grpSp>
          <p:nvGrpSpPr>
            <p:cNvPr id="49" name=""/>
            <p:cNvGrpSpPr/>
            <p:nvPr/>
          </p:nvGrpSpPr>
          <p:grpSpPr>
            <a:xfrm>
              <a:off x="0" y="0"/>
              <a:ext cx="3198960" cy="6856560"/>
              <a:chOff x="0" y="0"/>
              <a:chExt cx="3198960" cy="6856560"/>
            </a:xfrm>
          </p:grpSpPr>
          <p:sp>
            <p:nvSpPr>
              <p:cNvPr id="50" name=""/>
              <p:cNvSpPr/>
              <p:nvPr/>
            </p:nvSpPr>
            <p:spPr>
              <a:xfrm>
                <a:off x="0" y="0"/>
                <a:ext cx="760320" cy="68565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457200" y="0"/>
                <a:ext cx="2741760" cy="116532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227160" y="1981080"/>
              <a:ext cx="7390440" cy="317520"/>
              <a:chOff x="227160" y="1981080"/>
              <a:chExt cx="7390440" cy="317520"/>
            </a:xfrm>
          </p:grpSpPr>
          <p:sp>
            <p:nvSpPr>
              <p:cNvPr id="53" name=""/>
              <p:cNvSpPr/>
              <p:nvPr/>
            </p:nvSpPr>
            <p:spPr>
              <a:xfrm>
                <a:off x="609120" y="1981080"/>
                <a:ext cx="7008480" cy="316080"/>
              </a:xfrm>
              <a:prstGeom prst="roundRect">
                <a:avLst>
                  <a:gd name="adj" fmla="val 16667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flipH="1">
                <a:off x="227160" y="1981080"/>
                <a:ext cx="391680" cy="3175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37720" y="2362320"/>
            <a:ext cx="376884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2000"/>
          </a:bodyPr>
          <a:p>
            <a:pPr marL="24696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246960" indent="-246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246960" indent="-246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246960" indent="-246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46960" indent="-246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46960" indent="-246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46960" indent="-246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sldNum" idx="2"/>
          </p:nvPr>
        </p:nvSpPr>
        <p:spPr>
          <a:xfrm>
            <a:off x="83880" y="6242040"/>
            <a:ext cx="5857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3366"/>
                </a:solidFill>
                <a:latin typeface="Arial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08ECFBA-7611-46D1-B475-FFF283670653}" type="slidenum">
              <a:rPr b="0" lang="ru-RU" sz="1800" spc="-1" strike="noStrike">
                <a:solidFill>
                  <a:srgbClr val="003366"/>
                </a:solidFill>
                <a:latin typeface="Arial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6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7617600" cy="6856560"/>
            <a:chOff x="0" y="0"/>
            <a:chExt cx="7617600" cy="6856560"/>
          </a:xfrm>
        </p:grpSpPr>
        <p:grpSp>
          <p:nvGrpSpPr>
            <p:cNvPr id="97" name=""/>
            <p:cNvGrpSpPr/>
            <p:nvPr/>
          </p:nvGrpSpPr>
          <p:grpSpPr>
            <a:xfrm>
              <a:off x="0" y="0"/>
              <a:ext cx="3198960" cy="6856560"/>
              <a:chOff x="0" y="0"/>
              <a:chExt cx="3198960" cy="6856560"/>
            </a:xfrm>
          </p:grpSpPr>
          <p:sp>
            <p:nvSpPr>
              <p:cNvPr id="98" name=""/>
              <p:cNvSpPr/>
              <p:nvPr/>
            </p:nvSpPr>
            <p:spPr>
              <a:xfrm>
                <a:off x="0" y="0"/>
                <a:ext cx="760320" cy="68565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57200" y="0"/>
                <a:ext cx="2741760" cy="116532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227160" y="1981080"/>
              <a:ext cx="7390440" cy="317520"/>
              <a:chOff x="227160" y="1981080"/>
              <a:chExt cx="7390440" cy="317520"/>
            </a:xfrm>
          </p:grpSpPr>
          <p:sp>
            <p:nvSpPr>
              <p:cNvPr id="101" name=""/>
              <p:cNvSpPr/>
              <p:nvPr/>
            </p:nvSpPr>
            <p:spPr>
              <a:xfrm>
                <a:off x="609120" y="1981080"/>
                <a:ext cx="7008480" cy="316080"/>
              </a:xfrm>
              <a:prstGeom prst="roundRect">
                <a:avLst>
                  <a:gd name="adj" fmla="val 16667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H="1">
                <a:off x="227160" y="1981080"/>
                <a:ext cx="391680" cy="3175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837720" y="2362320"/>
            <a:ext cx="769140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4000"/>
          </a:bodyPr>
          <a:p>
            <a:pPr marL="32220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32220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32220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32220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32220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32220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32220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57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3366"/>
                </a:solidFill>
                <a:latin typeface="Arial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D95D866-D1FE-4ED6-B195-3829CC1159A6}" type="slidenum">
              <a:rPr b="0" lang="ru-RU" sz="1800" spc="-1" strike="noStrike">
                <a:solidFill>
                  <a:srgbClr val="003366"/>
                </a:solidFill>
                <a:latin typeface="Arial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6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0" y="0"/>
            <a:ext cx="7617600" cy="6856560"/>
            <a:chOff x="0" y="0"/>
            <a:chExt cx="7617600" cy="6856560"/>
          </a:xfrm>
        </p:grpSpPr>
        <p:grpSp>
          <p:nvGrpSpPr>
            <p:cNvPr id="145" name=""/>
            <p:cNvGrpSpPr/>
            <p:nvPr/>
          </p:nvGrpSpPr>
          <p:grpSpPr>
            <a:xfrm>
              <a:off x="0" y="0"/>
              <a:ext cx="3198960" cy="6856560"/>
              <a:chOff x="0" y="0"/>
              <a:chExt cx="3198960" cy="6856560"/>
            </a:xfrm>
          </p:grpSpPr>
          <p:sp>
            <p:nvSpPr>
              <p:cNvPr id="146" name=""/>
              <p:cNvSpPr/>
              <p:nvPr/>
            </p:nvSpPr>
            <p:spPr>
              <a:xfrm>
                <a:off x="0" y="0"/>
                <a:ext cx="760320" cy="68565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57200" y="0"/>
                <a:ext cx="2741760" cy="116532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227160" y="1981080"/>
              <a:ext cx="7390440" cy="317520"/>
              <a:chOff x="227160" y="1981080"/>
              <a:chExt cx="7390440" cy="317520"/>
            </a:xfrm>
          </p:grpSpPr>
          <p:sp>
            <p:nvSpPr>
              <p:cNvPr id="149" name=""/>
              <p:cNvSpPr/>
              <p:nvPr/>
            </p:nvSpPr>
            <p:spPr>
              <a:xfrm>
                <a:off x="609120" y="1981080"/>
                <a:ext cx="7008480" cy="316080"/>
              </a:xfrm>
              <a:prstGeom prst="roundRect">
                <a:avLst>
                  <a:gd name="adj" fmla="val 16667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H="1">
                <a:off x="227160" y="1981080"/>
                <a:ext cx="391680" cy="3175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1" name=""/>
          <p:cNvGrpSpPr/>
          <p:nvPr/>
        </p:nvGrpSpPr>
        <p:grpSpPr>
          <a:xfrm>
            <a:off x="0" y="0"/>
            <a:ext cx="5865840" cy="6856560"/>
            <a:chOff x="0" y="0"/>
            <a:chExt cx="5865840" cy="6856560"/>
          </a:xfrm>
        </p:grpSpPr>
        <p:sp>
          <p:nvSpPr>
            <p:cNvPr id="152" name=""/>
            <p:cNvSpPr/>
            <p:nvPr/>
          </p:nvSpPr>
          <p:spPr>
            <a:xfrm>
              <a:off x="0" y="0"/>
              <a:ext cx="4570560" cy="685656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85800" y="990720"/>
              <a:ext cx="5180040" cy="1903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3630600" y="4889520"/>
            <a:ext cx="4876920" cy="317520"/>
            <a:chOff x="3630600" y="4889520"/>
            <a:chExt cx="4876920" cy="317520"/>
          </a:xfrm>
        </p:grpSpPr>
        <p:sp>
          <p:nvSpPr>
            <p:cNvPr id="155" name=""/>
            <p:cNvSpPr/>
            <p:nvPr/>
          </p:nvSpPr>
          <p:spPr>
            <a:xfrm flipH="1">
              <a:off x="3630600" y="4889520"/>
              <a:ext cx="4624560" cy="315720"/>
            </a:xfrm>
            <a:prstGeom prst="roundRect">
              <a:avLst>
                <a:gd name="adj" fmla="val 16667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48680" y="4889520"/>
              <a:ext cx="258840" cy="3175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8160" cy="19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ldNum" idx="4"/>
          </p:nvPr>
        </p:nvSpPr>
        <p:spPr>
          <a:xfrm>
            <a:off x="75960" y="6248160"/>
            <a:ext cx="5857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3366"/>
                </a:solidFill>
                <a:latin typeface="Arial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171BFE8-8F07-48AA-ACC2-7137B3F2339D}" type="slidenum">
              <a:rPr b="0" lang="ru-RU" sz="1800" spc="-1" strike="noStrike">
                <a:solidFill>
                  <a:srgbClr val="003366"/>
                </a:solidFill>
                <a:latin typeface="Arial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6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"/>
          <p:cNvGrpSpPr/>
          <p:nvPr/>
        </p:nvGrpSpPr>
        <p:grpSpPr>
          <a:xfrm>
            <a:off x="0" y="0"/>
            <a:ext cx="7617600" cy="6856560"/>
            <a:chOff x="0" y="0"/>
            <a:chExt cx="7617600" cy="6856560"/>
          </a:xfrm>
        </p:grpSpPr>
        <p:grpSp>
          <p:nvGrpSpPr>
            <p:cNvPr id="199" name=""/>
            <p:cNvGrpSpPr/>
            <p:nvPr/>
          </p:nvGrpSpPr>
          <p:grpSpPr>
            <a:xfrm>
              <a:off x="0" y="0"/>
              <a:ext cx="3198960" cy="6856560"/>
              <a:chOff x="0" y="0"/>
              <a:chExt cx="3198960" cy="6856560"/>
            </a:xfrm>
          </p:grpSpPr>
          <p:sp>
            <p:nvSpPr>
              <p:cNvPr id="200" name=""/>
              <p:cNvSpPr/>
              <p:nvPr/>
            </p:nvSpPr>
            <p:spPr>
              <a:xfrm>
                <a:off x="0" y="0"/>
                <a:ext cx="760320" cy="68565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57200" y="0"/>
                <a:ext cx="2741760" cy="116532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227160" y="1981080"/>
              <a:ext cx="7390440" cy="317520"/>
              <a:chOff x="227160" y="1981080"/>
              <a:chExt cx="7390440" cy="317520"/>
            </a:xfrm>
          </p:grpSpPr>
          <p:sp>
            <p:nvSpPr>
              <p:cNvPr id="203" name=""/>
              <p:cNvSpPr/>
              <p:nvPr/>
            </p:nvSpPr>
            <p:spPr>
              <a:xfrm>
                <a:off x="609120" y="1981080"/>
                <a:ext cx="7008480" cy="316080"/>
              </a:xfrm>
              <a:prstGeom prst="roundRect">
                <a:avLst>
                  <a:gd name="adj" fmla="val 16667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>
                <a:off x="227160" y="1981080"/>
                <a:ext cx="391680" cy="3175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7720" y="2362320"/>
            <a:ext cx="376884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2000"/>
          </a:bodyPr>
          <a:p>
            <a:pPr marL="24696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246960" indent="-246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246960" indent="-246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246960" indent="-246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46960" indent="-246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46960" indent="-246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46960" indent="-246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5"/>
          </p:nvPr>
        </p:nvSpPr>
        <p:spPr>
          <a:xfrm>
            <a:off x="83880" y="6242040"/>
            <a:ext cx="5857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3366"/>
                </a:solidFill>
                <a:latin typeface="Arial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0EE09F0-83E7-4A89-9FD5-7AEDB0C3459D}" type="slidenum">
              <a:rPr b="0" lang="ru-RU" sz="1800" spc="-1" strike="noStrike">
                <a:solidFill>
                  <a:srgbClr val="003366"/>
                </a:solidFill>
                <a:latin typeface="Arial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6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"/>
          <p:cNvGrpSpPr/>
          <p:nvPr/>
        </p:nvGrpSpPr>
        <p:grpSpPr>
          <a:xfrm>
            <a:off x="0" y="0"/>
            <a:ext cx="7617600" cy="6856560"/>
            <a:chOff x="0" y="0"/>
            <a:chExt cx="7617600" cy="6856560"/>
          </a:xfrm>
        </p:grpSpPr>
        <p:grpSp>
          <p:nvGrpSpPr>
            <p:cNvPr id="247" name=""/>
            <p:cNvGrpSpPr/>
            <p:nvPr/>
          </p:nvGrpSpPr>
          <p:grpSpPr>
            <a:xfrm>
              <a:off x="0" y="0"/>
              <a:ext cx="3198960" cy="6856560"/>
              <a:chOff x="0" y="0"/>
              <a:chExt cx="3198960" cy="6856560"/>
            </a:xfrm>
          </p:grpSpPr>
          <p:sp>
            <p:nvSpPr>
              <p:cNvPr id="248" name=""/>
              <p:cNvSpPr/>
              <p:nvPr/>
            </p:nvSpPr>
            <p:spPr>
              <a:xfrm>
                <a:off x="0" y="0"/>
                <a:ext cx="760320" cy="68565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57200" y="0"/>
                <a:ext cx="2741760" cy="116532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227160" y="1981080"/>
              <a:ext cx="7390440" cy="317520"/>
              <a:chOff x="227160" y="1981080"/>
              <a:chExt cx="7390440" cy="317520"/>
            </a:xfrm>
          </p:grpSpPr>
          <p:sp>
            <p:nvSpPr>
              <p:cNvPr id="251" name=""/>
              <p:cNvSpPr/>
              <p:nvPr/>
            </p:nvSpPr>
            <p:spPr>
              <a:xfrm>
                <a:off x="609120" y="1981080"/>
                <a:ext cx="7008480" cy="316080"/>
              </a:xfrm>
              <a:prstGeom prst="roundRect">
                <a:avLst>
                  <a:gd name="adj" fmla="val 16667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>
                <a:off x="227160" y="1981080"/>
                <a:ext cx="391680" cy="3175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3" name="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57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3366"/>
                </a:solidFill>
                <a:latin typeface="Arial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F73E3D7-E918-4CD5-AC0C-C2B79F7C441B}" type="slidenum">
              <a:rPr b="0" lang="ru-RU" sz="1800" spc="-1" strike="noStrike">
                <a:solidFill>
                  <a:srgbClr val="003366"/>
                </a:solidFill>
                <a:latin typeface="Arial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6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46280" y="1937880"/>
            <a:ext cx="76356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755640" y="333360"/>
            <a:ext cx="7920000" cy="17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111111"/>
                </a:solidFill>
                <a:latin typeface="Arial"/>
              </a:rPr>
              <a:t>Здоровьесберегающ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111111"/>
                </a:solidFill>
                <a:latin typeface="Arial"/>
              </a:rPr>
              <a:t>технологии 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111111"/>
                </a:solidFill>
                <a:latin typeface="Arial"/>
              </a:rPr>
              <a:t>уроках физической культу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6173640" y="4248000"/>
            <a:ext cx="1746360" cy="1800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647640" y="662040"/>
            <a:ext cx="1320840" cy="17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42640" y="428760"/>
            <a:ext cx="7286760" cy="1000080"/>
          </a:xfrm>
          <a:prstGeom prst="rect">
            <a:avLst/>
          </a:prstGeom>
          <a:solidFill>
            <a:srgbClr val="f5f3a7"/>
          </a:solidFill>
          <a:ln w="76320">
            <a:solidFill>
              <a:srgbClr val="f0eec4"/>
            </a:solidFill>
            <a:round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Основные мероприятия здоровьесберегающей деятельности : </a:t>
            </a:r>
            <a:endParaRPr b="1" i="1" lang="en-US" sz="28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42600" y="1523520"/>
            <a:ext cx="807228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-34164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организация физкультурно-оздоровительных и спортивно-массовых мероприятий;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реализация системы просветительской работы с учениками по формированию у учащихся культуры отношения к своему здоровью;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повышение уровня образованности в области физической культуры, спорта и здорового образа жизни;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формирование у школьников устойчивого интереса и потребности в регулярных занятиях физической культурой и спортом и навыков здорового образа жизни.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431640" y="1258920"/>
            <a:ext cx="600084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363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Arial"/>
              </a:rPr>
              <a:t>обучение по темам: Лёгкая атлетика, лыжный спорт, баскетбол, волейбол, футбол, гимнасти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363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Arial"/>
              </a:rPr>
              <a:t>использование принципа наглядности, постепенности, доступности нагрузки с учётом возрастных особенностей учащихся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363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Arial"/>
              </a:rPr>
              <a:t>использование методики чередования интенсивности и релаксации в обучени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363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3366"/>
                </a:solidFill>
                <a:latin typeface="Arial"/>
              </a:rPr>
              <a:t>учёт физической подготовленности детей и развития физических качест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63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16000" y="366840"/>
            <a:ext cx="8572320" cy="857160"/>
          </a:xfrm>
          <a:prstGeom prst="flowChartAlternateProcess">
            <a:avLst/>
          </a:prstGeom>
          <a:gradFill rotWithShape="0">
            <a:gsLst>
              <a:gs pos="0">
                <a:srgbClr val="ffff66"/>
              </a:gs>
              <a:gs pos="100000">
                <a:srgbClr val="996633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разовательная направл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76240" y="1317600"/>
            <a:ext cx="181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6691320" y="3743280"/>
            <a:ext cx="2021040" cy="244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0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720720" y="1120680"/>
            <a:ext cx="592920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 algn="just">
              <a:lnSpc>
                <a:spcPct val="80000"/>
              </a:lnSpc>
              <a:spcBef>
                <a:spcPts val="363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ru-RU" sz="2200" spc="-1" strike="noStrike">
                <a:solidFill>
                  <a:srgbClr val="003366"/>
                </a:solidFill>
                <a:latin typeface="Arial"/>
              </a:rPr>
              <a:t>Защита от влияния неблагоприятных условий внешней среды, а также ТБ, проверка инвентаря и оборудова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80000"/>
              </a:lnSpc>
              <a:spcBef>
                <a:spcPts val="363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ru-RU" sz="2200" spc="-1" strike="noStrike">
                <a:solidFill>
                  <a:srgbClr val="003366"/>
                </a:solidFill>
                <a:latin typeface="Arial"/>
              </a:rPr>
              <a:t>Укрепление здоровья (развитие и укрепление дыхательной, сердечно-сосудистой, мышечной, нервной  систем). Создание условий для нормальной работы всех органов и систем организм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80000"/>
              </a:lnSpc>
              <a:spcBef>
                <a:spcPts val="363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ru-RU" sz="2200" spc="-1" strike="noStrike">
                <a:solidFill>
                  <a:srgbClr val="003366"/>
                </a:solidFill>
                <a:latin typeface="Arial"/>
              </a:rPr>
              <a:t>Повышение сопротивляемости орга-низма к неблагоприятным условиям путём закалива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80000"/>
              </a:lnSpc>
              <a:spcBef>
                <a:spcPts val="363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ru-RU" sz="2200" spc="-1" strike="noStrike">
                <a:solidFill>
                  <a:srgbClr val="003366"/>
                </a:solidFill>
                <a:latin typeface="Arial"/>
              </a:rPr>
              <a:t>Взаимосвязь с медицинским персо-налом и использование их методи-ческих рекомендаций (распределение школьников на медицинские  группы: основная, подготовительная, спе-циальная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63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28760" y="360360"/>
            <a:ext cx="8501040" cy="857160"/>
          </a:xfrm>
          <a:prstGeom prst="flowChartAlternateProcess">
            <a:avLst/>
          </a:prstGeom>
          <a:gradFill rotWithShape="0">
            <a:gsLst>
              <a:gs pos="0">
                <a:srgbClr val="ffff66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здоровительная направл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fill="hold">
                      <p:stCondLst>
                        <p:cond delay="0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3209760" y="835200"/>
            <a:ext cx="528660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363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1640" algn="just">
              <a:lnSpc>
                <a:spcPct val="80000"/>
              </a:lnSpc>
              <a:spcBef>
                <a:spcPts val="363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  <a:ea typeface="Microsoft YaHei"/>
              </a:rPr>
              <a:t>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  <a:ea typeface="Microsoft YaHei"/>
              </a:rPr>
              <a:t>учет психологических особенностей учащихся согласно их возрастным особенностям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1640" algn="just">
              <a:lnSpc>
                <a:spcPct val="80000"/>
              </a:lnSpc>
              <a:spcBef>
                <a:spcPts val="363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  <a:ea typeface="Microsoft YaHei"/>
              </a:rPr>
              <a:t>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  <a:ea typeface="Microsoft YaHei"/>
              </a:rPr>
              <a:t>создание эмоционально- положи-тельного фона в обучении и общении (спортивные, подвижные игры и игровые упражнения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1640" algn="just">
              <a:lnSpc>
                <a:spcPct val="80000"/>
              </a:lnSpc>
              <a:spcBef>
                <a:spcPts val="363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  <a:ea typeface="Microsoft YaHei"/>
              </a:rPr>
              <a:t>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  <a:ea typeface="Microsoft YaHei"/>
              </a:rPr>
              <a:t>стимулирование мотивации на успешность в обучении, оказание поддержки и помощи ребенку в выполнении упражне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1640" algn="just">
              <a:lnSpc>
                <a:spcPct val="80000"/>
              </a:lnSpc>
              <a:spcBef>
                <a:spcPts val="363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  <a:ea typeface="Microsoft YaHei"/>
              </a:rPr>
              <a:t>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  <a:ea typeface="Microsoft YaHei"/>
              </a:rPr>
              <a:t>развитие речи, психических процессов (восприятие, внимание, представление, мышление, память, воображение), а также умственных способностей (наблюдение, сравнение, обобщение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1640" algn="just">
              <a:lnSpc>
                <a:spcPct val="80000"/>
              </a:lnSpc>
              <a:spcBef>
                <a:spcPts val="363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  <a:ea typeface="Microsoft YaHei"/>
              </a:rPr>
              <a:t>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  <a:ea typeface="Microsoft YaHei"/>
              </a:rPr>
              <a:t>получение знаний в различных видах спортивн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85840" y="428760"/>
            <a:ext cx="8501040" cy="857160"/>
          </a:xfrm>
          <a:prstGeom prst="flowChartAlternateProcess">
            <a:avLst/>
          </a:prstGeom>
          <a:solidFill>
            <a:srgbClr val="f5f3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спитательная направл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576360" y="1455840"/>
            <a:ext cx="2630520" cy="200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dur="indefinite" fill="hold">
                      <p:stCondLst>
                        <p:cond delay="0"/>
                      </p:stCondLst>
                      <p:childTnLst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152360" y="1554120"/>
            <a:ext cx="642960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4" marL="174600" indent="-174600" algn="just">
              <a:lnSpc>
                <a:spcPct val="80000"/>
              </a:lnSpc>
              <a:spcBef>
                <a:spcPts val="363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Arial"/>
                <a:ea typeface="Microsoft YaHei"/>
              </a:rPr>
              <a:t>требования к расписанию уроко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-174600" algn="just">
              <a:lnSpc>
                <a:spcPct val="80000"/>
              </a:lnSpc>
              <a:spcBef>
                <a:spcPts val="363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Arial"/>
                <a:ea typeface="Microsoft YaHei"/>
              </a:rPr>
              <a:t>наличие туалетов и умывальников в раздевалках девочек и мальчико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-174600" algn="just">
              <a:lnSpc>
                <a:spcPct val="80000"/>
              </a:lnSpc>
              <a:spcBef>
                <a:spcPts val="363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Arial"/>
                <a:ea typeface="Microsoft YaHei"/>
              </a:rPr>
              <a:t>соответствующее освещение, наличие аптечк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-174600" algn="just">
              <a:lnSpc>
                <a:spcPct val="80000"/>
              </a:lnSpc>
              <a:spcBef>
                <a:spcPts val="363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Arial"/>
                <a:ea typeface="Microsoft YaHei"/>
              </a:rPr>
              <a:t>требования к спортивному оборудованию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-174600" algn="just">
              <a:lnSpc>
                <a:spcPct val="80000"/>
              </a:lnSpc>
              <a:spcBef>
                <a:spcPts val="363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Arial"/>
                <a:ea typeface="Microsoft YaHei"/>
              </a:rPr>
              <a:t>воздушно-тепловой режим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-174600" algn="just">
              <a:lnSpc>
                <a:spcPct val="80000"/>
              </a:lnSpc>
              <a:spcBef>
                <a:spcPts val="363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Arial"/>
                <a:ea typeface="Microsoft YaHei"/>
              </a:rPr>
              <a:t>личная гигиена учащихс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-174600" algn="just">
              <a:lnSpc>
                <a:spcPct val="80000"/>
              </a:lnSpc>
              <a:spcBef>
                <a:spcPts val="363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Arial"/>
                <a:ea typeface="Microsoft YaHei"/>
              </a:rPr>
              <a:t>наличие у каждого учащегося сменной спортивной обуви и спортивной формы для занятий на уроке физической культуры в зале и соответствующей формы при уроках на свежем воздухе (осень-весна, зима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363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363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28760" y="428760"/>
            <a:ext cx="8501040" cy="857160"/>
          </a:xfrm>
          <a:prstGeom prst="flowChartAlternateProcess">
            <a:avLst/>
          </a:prstGeom>
          <a:solidFill>
            <a:srgbClr val="f5f3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игиенический реж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dur="indefinite" fill="hold">
                      <p:stCondLst>
                        <p:cond delay="0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лександра Сазикова</cp:lastModifiedBy>
  <dcterms:modified xsi:type="dcterms:W3CDTF">2017-05-10T11:13:06Z</dcterms:modified>
  <cp:revision>0</cp:revision>
  <dc:subject/>
  <dc:title/>
</cp:coreProperties>
</file>