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9448-BE7D-4BB4-B402-C6FDDBFD7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78BF-6582-468E-B1CB-D98BCA8C40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F32F-E765-4BE9-96CE-6ACE015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B651-4A6A-4D43-A4C2-FDD9CDF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18D6B-983F-46DC-9F4A-F41A702C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DBF4-A5C1-4094-9B02-E853E51B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653C-80A6-46FF-A31B-47CAAC2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F9E9-AFC8-48FE-B99C-E435CA3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F319-AD73-4904-9C51-9715A61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13EF-7A52-4A4D-B4CA-0C2D0CB4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6E03-03EA-40D7-8C94-81638E2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7A778-B191-46FF-B69F-96A63AD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63F6-53E8-4F1B-9389-92E53B6DEF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2ACCA-11E1-4F49-9F48-AD2B084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DB03-FD93-46F6-997C-8CCA67D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796A-E727-4CED-8311-09EFA497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CBEB6-EF99-462F-ABA6-0A8ABC5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5512-ECB5-4C16-BA19-B4CE6C5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9C06-E2C2-4B6F-9151-724C388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F96C3-2767-42A5-A8C6-BE3F7E6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DBD5-9B6D-4DF9-B1D1-38D53B0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3295C-1E97-4051-B6AB-1951967F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0B8E-05BB-45D5-BEEB-4D20288B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F206-8ACF-4391-8353-96CCEBE43E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B263-C8CD-41E8-A906-B862401D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5F64F-4E4D-4637-91C1-FDBA14FB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F6D76-7C99-49F6-8938-1F4FCE5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1569E-2F47-46FD-A733-03EDEE0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1ED07-5DB2-4240-8069-C2513D73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44FC7-4146-4EBE-8C9C-44999E2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DE870-DE59-4A81-BEBF-B392AAC5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7DC02-6423-4503-B46A-93F6AB4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63A19-3CB9-4C4A-A56F-F67CCE6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3798-E1AF-47B4-AEC8-DD023AE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6E69-31D3-4191-92CA-212CA721B2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2655-1C35-43F6-9080-7ECF28E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83110-176F-49C5-9B51-C789658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01B14-6711-4724-9034-287FE57A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66841-2ABC-4B22-9746-E24ECD64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F2238-5642-421E-BD56-CF81867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54AF3-31EE-4AAE-9F99-FB6CDAF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01A83-8777-4F94-B10E-DB08455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70A80-2F15-4E01-8555-CAACE35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4142-2A74-47B7-9A03-C17A4DD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3B162-23EB-4AEE-B3CA-39C140B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3AAE-85FD-4E9B-862B-79271A5968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28379-339D-4A7D-89A7-D154345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026C9-4E4D-4FF9-86AF-4E857F87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FA88C-E140-40FF-9505-7E833582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5E03A-3F95-4F3E-AAC1-22235775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4D459-6C83-4D60-9209-A5A9356E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37EB-DD45-4CFB-94A5-6DC82AF6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24F6-514F-4862-8FE7-4CE3CB51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AC363-E453-4D1D-9E8D-C986BD93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B229-00CD-47EC-8A54-4E7B79D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EF2FE-C002-420B-9D7D-B3329B62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516E-FE4E-4BE0-98A1-B61F4FDDCA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9AC26-1C4C-40F7-B204-5D83F3F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8876B-FA99-4FD8-A07E-5B591487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AE8D8-8601-4ABF-B4DD-BDACC78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B6A3-5A1C-4398-B97A-CD51C13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07AF-47CD-40E9-BA44-7F0C444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8DB3C-9199-4459-9E6E-3FD6024B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B2B7C-0732-4443-89F8-90585AE1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EDCEC-4BBA-407D-81C6-44F7367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C047-D466-49FD-96F9-D102C31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F1659-4E1A-493D-B36E-05CBF7F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E687-2601-465D-81D8-A308B5D4898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D7E43-4F5E-454E-A3AB-FBF8C9F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B7B5D-9E45-4D41-B793-9B79FBF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874EF-FF4F-4169-B374-8FBE393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60C4A-BA79-42FD-85D8-AF0AFAB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082F2-735B-4CEF-98BF-76AA396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946E3-1832-4794-9A67-C585B90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FF50D-FBF2-4DBF-8FF7-91AB465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58CD7-13D1-43CC-B14D-99441AD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DBC34-673A-4D1E-8B80-A584756E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670A2-8C97-49AF-82E5-BCD55516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F037-1473-4896-8F65-B91E72DB058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19A18-3DC1-4BDE-91D8-816FE86F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02181-511E-4A21-B638-C172FF4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99A22-5CCE-41E4-970F-CD96820B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ADAA2-4C65-473F-B7D9-422AEC6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55489-AFB6-42BE-9160-BFAB926E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85B71-2A3C-43E4-ACB5-4BED5B8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C741B-17C8-45EE-9E4A-A14BD78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38DD7-1D4C-4E44-92DA-9ED2963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66B8F-E126-45B8-9892-DDD0320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8771A-0D59-412E-88E5-9B858AC4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2C48-D939-4EF5-A9A2-84DAD6090C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D8018-3055-494A-A0F9-5E2328EA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DADC-E0E7-41FC-B6E3-223FD82D45A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9637-0B3D-4127-A39A-D49E24B83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621B-9560-4E8F-998F-F6759077408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D09E-B433-4671-8CC8-421B054B39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E806-8AEC-4110-8D30-A6796370A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A900-145F-4EF9-8011-DF64807F64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11F3-7B66-4714-8EE4-A373D44639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976-6B91-49AC-9D4F-57E00944F1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2A4-C06F-4CA7-9190-24B9D634A4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538-84D3-4A09-894E-E6FFE20744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F2B-0FB3-47AE-A6D3-1721E0270C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8AA-62CC-4457-8FF2-50D4B9249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F2DB-D9F6-42C5-8F3E-8AC66A16A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44F-D4B7-4CBE-966C-09CF8EE0E8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B0F-8EF0-4FC0-878F-E2F9CCC1EF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409-4617-41FE-9EDF-D42E3C4C95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6F8-B635-4511-97DB-05639742D1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DED-2329-498D-82FE-36FCDF46C8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ED0-EDFA-4B04-B5B8-AC697FE82F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3A8-F908-43B5-AC1E-C016EB6EBA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BC1-97DE-44A6-83FC-C5E26383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041F-5898-4530-AEA2-C86B1C6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E9D8-380E-436C-8569-C79F556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1EAA-4288-4289-8CB8-BA425DF5C2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9C3D-C8E8-41C0-BD5D-0AAB261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74B5-72FE-4D1B-9D8F-763CE67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DAA2-3988-48C9-965B-865D02CE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8D4F-1203-4DBE-AA25-A5B6CE1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C77C-1877-4392-B607-F6626F6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0D32-1BEF-4B04-9BC6-1750F51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EFFD-1F82-4DE7-99D1-EED52DA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CFA7-432C-410D-83B4-0D56F16D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A587-A0F0-46B1-8E6F-15D9C2BE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CE5B-5F20-48E4-AAD2-AADF7A16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FD65-6490-49F6-8CC9-DE772D2568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48AD-0351-4A56-943A-9C83BBF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C5D5-CE75-48D3-94DD-85A973A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AD46-943C-4753-871A-814D3BC5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62C6-BF77-4760-A01E-129A5F4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F8BC-DBC5-49FF-A1EE-AA22CA7F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2801-7F5C-4D42-A10C-4104CD4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937E-F2BE-4C80-B897-14C4643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3C76-AE09-40AC-8575-F53261C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59D0-9679-47F2-9494-F5278FB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A998-5E04-4647-9001-A818559B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BC41-6A61-4EA0-9CAC-9FC31DF98D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35D4-54CA-4417-96FC-8174EA07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B970-195A-456B-ADA3-21C9EE00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02378-CFFB-4697-9EE3-15121797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FD54-5392-4AD7-AD39-1611B9B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5BD8-518E-4974-961B-CFBB100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ED95-67DC-46B7-85D3-442482C6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E490-0E7E-4884-BD23-F237A9F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DAE0-9C4A-44E9-9696-7C11E3B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1791-C48A-4D33-9746-E097EF8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72E3-D7D8-49CE-BA96-8E4034F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E594-53C7-4058-890A-2A65F3ECA5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B544-3B43-419A-944A-B480F8FC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36D6-0CC2-4C4A-B1FB-4727F775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114C-6FFE-40A3-8C19-BF51050A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13CD-532B-4D96-9D80-051A4715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E1FA-F29A-4904-9E93-F5DAF4E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0AD0-6405-47F6-B449-7A3AE231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0D7E-F811-4E47-B769-865945B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76AA1-FADD-481E-BB39-8A8AE98B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10D7-83CF-4FB9-814D-88094BC8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CB6F-21C5-4077-AD06-200409F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5A31-A744-42A9-8693-32E6DA4484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E6A7-AF38-4A69-9280-90C3DFC7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E95E-D7A8-4084-B420-5C120BE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04BC-5F61-4D83-B607-9C0E330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1861-5FBA-4A05-8A78-6182C1D4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32CAA-F942-467A-B21F-D758F07F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C427-B6E2-4D8B-9686-6AE809A4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7B10-42C5-4B24-81C0-7A70D6A4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0548-DDAB-46F7-8092-7BA73AD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2194-9DBC-4961-99AA-D655FB93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216C-7F78-4F58-9836-918EF113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2FE5-0FE7-4014-B198-AE7B46E436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574F-CE01-4BC0-888E-F0526B7C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FC66-90F2-45F6-8815-6F4AF08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C81C-A944-403C-B10C-2850C0A6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DBFC-B230-4932-BBD2-F80828E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A16E-87E5-439C-98A7-24C31261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AC6AD-E1D3-4C96-8D70-B9A1E3F8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47868-79A9-42D5-B697-14E7542B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50F09-0BDD-43B0-ACCC-7A43E6D7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E057A-C872-4BF2-AA14-434D5F39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1AF4-AFCD-46CC-9275-3727BBD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-243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1144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13580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85D7BC-8513-4CCB-B58B-61C9DFAD59EC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116EC4-D2B1-4634-B008-50C0146399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9DFCD1-1E29-4719-8BF4-31440C5322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A9F69D-2537-4E24-8F32-428A46EDAE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795136-5AC2-462A-BFE8-7CF79C15CC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B92DE1-19BF-49BE-8558-AB52F9DDCF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ADFBA0-8751-4673-A4B1-19993196EE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EEDF5F-4DCA-453C-9E28-E78AFC7F6017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-243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1144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13580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A228DA-2E6D-46F0-BE6A-F86DA51F2D75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368ECE-094C-4BAC-B4FE-F8AF01623C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208E46-3A12-4DEE-9196-51C9553D03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4F531E-23C1-4A36-A3CE-988FD62759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5B7962-362C-4BB5-AAA7-E65468D48C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80A87C-AD6B-422E-88C4-186B3F44E0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84C163-0826-49AA-9DAB-2F92A81E2E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6173640" y="4248000"/>
            <a:ext cx="1746360" cy="1800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647640" y="662040"/>
            <a:ext cx="13208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286760" cy="100008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Calibri"/>
              </a:rPr>
              <a:t>Основные мероприятия здоровьесберегающей деятельности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42600" y="152352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"/>
          <p:cNvSpPr/>
          <p:nvPr/>
        </p:nvSpPr>
        <p:spPr>
          <a:xfrm>
            <a:off x="431640" y="1258920"/>
            <a:ext cx="60008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6691320" y="3743280"/>
            <a:ext cx="202104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"/>
          <p:cNvSpPr/>
          <p:nvPr/>
        </p:nvSpPr>
        <p:spPr>
          <a:xfrm>
            <a:off x="720720" y="1120680"/>
            <a:ext cx="59292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"/>
          <p:cNvSpPr/>
          <p:nvPr/>
        </p:nvSpPr>
        <p:spPr>
          <a:xfrm>
            <a:off x="3209760" y="835200"/>
            <a:ext cx="5286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tretch/>
        </p:blipFill>
        <p:spPr>
          <a:xfrm>
            <a:off x="576360" y="1455840"/>
            <a:ext cx="263052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1"/>
          <p:cNvSpPr/>
          <p:nvPr/>
        </p:nvSpPr>
        <p:spPr>
          <a:xfrm>
            <a:off x="1152360" y="1554120"/>
            <a:ext cx="64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4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5-14T20:23:16Z</dcterms:modified>
  <cp:revision>1</cp:revision>
  <dc:subject/>
  <dc:title>Слайд 1</dc:title>
</cp:coreProperties>
</file>