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AD07-B577-4DD4-8997-38AD9D3C3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6277-F2EF-4445-964C-474ADF7B9E2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9B59E-7065-4C25-B22E-FFA1CD0E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91689-D43C-44AB-81B1-ACE6AD37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0F116-41A6-4E12-8AAF-E93B9219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A6A8E-04C2-4A3D-8F36-15FD60A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0896C-7C41-4760-9D89-AF255DA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6E7E8-759F-42A1-867F-B1A01F3D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E87FE-4414-436C-B31B-929450D3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63498-F0E4-4E8B-A7AE-45CFCD10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ED58E-DEAD-44AE-B832-0E4F0FE2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71D99-E1C4-472C-A0B4-62B28D20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7C06-C522-4863-9307-4F9883A18A8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218CA-78EA-4A64-A20E-9729FD8E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C4C04-88C6-4625-AD79-E930AAB2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CE4B7-C849-49EF-8A3F-DADD9F82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31D62-8F5A-4FAC-893A-68DB2937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A88E9-5B07-4D6C-8F08-5DA23634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F92F7-80DE-4CAA-AE97-E0B488AE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B93B-2707-4E4C-B73D-89A53C50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F3D7F-A83C-4480-9A54-C52AD56F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A803C-A5CD-4E6A-8487-454E63F0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20931-DB0C-4D33-BDBC-796526BA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F593-23A8-4333-ACEB-BCED679EC3D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3BB97-4414-4A57-9DE6-0AAC37D8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B2B35-3D77-4207-81EE-77E3A66E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D59CA-C747-4DBB-BA77-36DCEEE3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00269-3981-4DD1-B555-F9D5C580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8A8DC-9A93-4C9A-82DA-C2D159C6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835A4-DFF9-41EB-B757-9CC8A36D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04522-3829-4C96-89A7-68C8BFE8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B6500-5E46-457A-A695-68FF4EF2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7EF3E-7473-47CF-9551-43B1081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20BD2-3312-4112-AB50-44415C9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242E-6C27-46DB-AD8E-FF94004DAC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F66F0-A04D-4D66-AF68-CA9DAF1D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6D1EB-83E3-4F5D-801F-67D6DF32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46795-180B-4EDB-9AFF-54526823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0EF63-3451-4C79-9EC6-6647CA0D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0F506-B720-4B2A-AFBC-A86F727E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7D2E6-532A-49B9-B656-1B9B18C9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1130E-4B02-4417-9F12-A2237499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88781-40E3-41F1-8A5A-2F2111AB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CCAD9-8ECC-442E-A006-68C2836C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7E467-EFB3-43B1-BB27-68B33F8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0CEE-9B2E-40B7-9F85-ABC61F7EC62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89ED0-6FB9-4D90-A084-BD9C7A70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7D1AA-E3C5-457E-943D-6E4A2A1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24F2F-346E-44BC-AF5B-2AD56248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B18BD-C5F8-4494-95CB-EC6A2AB0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4959F-C290-40D4-8645-FFA7A48B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2F3C1-E2A2-455A-8FCE-CD499245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84948-C33C-4444-A5C3-13F8874A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2604A-FFAA-47DB-8482-83FC92F4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97EEF-76CE-4CC5-9702-476070C1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F4DF1-490A-4208-B681-0752980C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A24E-F572-4C7B-92EA-84124044AAB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6964D-E537-4FF8-8BE1-A2F11705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DC9D8-B94A-46F5-BBFD-A586C701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D0D4A-969D-457E-ADBF-ABCA99D6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B9070-CA3B-4675-BDB5-A4AED8B0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33171-14D7-4555-BC5F-D563EAE9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A78BC-683E-4AE5-A7D8-D8CA11A7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3F66C-FE1E-4B31-91FF-38FFB176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1E766-2871-48E6-8CD3-03D683FF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16733-07E3-4542-A23A-B6CDF526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9BA0E-0BB4-45C0-A0AF-6EC8C47C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AFA1-32AC-4156-AF90-F068A0C641C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CD002-C790-4E4C-8522-33DA8585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F6463-4F54-44B0-9EF8-C8DD7DEA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E4C1C-CDB5-4217-A249-493A21D6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713FD-D39F-4CCB-849E-1828EAA1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4D391-A4DE-4DD7-BB11-0066AB2F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35421-77CC-4AB3-84F3-068B877D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C88F0-61B8-4331-B8E8-DCE88B79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A9931-B729-4121-9B8C-775401CD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8AA5D-654E-4085-B8E5-56734640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34748-ECF3-4DA3-9B0E-C37F0FCE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A2BF-7F73-4FD6-BC62-2B7A8784606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782A9-8032-46A5-8C05-97597394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CB15E-825D-42A4-B7B8-38B7C222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C9276-D8FB-4B00-A256-9559A969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09559-D5A7-40B1-9D75-FDD4D066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65731-8A37-4DD4-9BAF-A499637B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9A627-D9C6-4D2B-A74D-94475ED8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F28C8-7E30-4E39-B50C-5EC35649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870BF-16A1-4AC4-A81E-47328A64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46EB8-1B40-484C-9CFB-9503C3A5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84CA5-8B93-4B6F-9AE4-0AFFEA03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7D49-9786-4723-91D0-0CBC1BD92F6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26072-25D7-45FB-89A7-BB3BD7A0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9BA6-5BEE-433F-8E6A-F422CFE0C96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E2C7-F822-4FBD-9CBD-2AEBAEBC2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1AE4D-3E34-4904-9836-35D62EBAAF2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C9B6-00D7-49AC-932D-40AEBE9196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E77E-C3EF-458E-9E8D-08EB2A697C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8B53-EF66-4A24-BC29-ACD69DCFE0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1690-66E7-454D-81C9-69D708669D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604-A500-4B28-8BF9-252BDF6782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7F8-8250-44A5-86A5-02EF67C9AE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AAA-3A71-45A3-ACA3-9A799BF304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6FC-39D6-43E1-97E8-9DDEB5ACC2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0EA-941D-4B54-BD50-8B8C921E0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7704-B4B4-4C66-9D8B-46FC4D78DA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DB8-E89B-48F1-9AC8-0125C754A7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B5D-8651-44BF-9605-35116AF51E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483-5408-401E-B11A-833EC21CB0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067-438F-465D-A90B-846DAF886F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5BE-D505-46D9-BF7D-AF6A2F4032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928-520B-40C3-816A-3063D08DBD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681-6DB2-4667-BDF7-249C86F552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71B5-B9D6-4AEF-B74A-3B142B02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F520-BADE-4A56-84E5-88B98B6D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D39A-69B8-4D12-9A45-876C83F4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3463-7F8E-44CE-A08D-79702FC3C1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ADD1-6730-46F9-B00F-1332BAC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FF3F-6745-4DF4-AC7A-FD29909D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3E8E-F643-44E3-8FE8-95CCF6B7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C56D-AC41-4BA0-99CC-A9ECF8E3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DCC2-881F-4C2A-AD0A-836ECDF8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C7A1-061B-461A-AD92-796EE8A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2E5E-87A0-4B6D-BB65-B55C87AA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E975-1578-4C78-83B4-5CE4467E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765F-5B63-4891-8CEE-D34A6E72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73D1-BF33-4F78-B3C8-6EE8DEEC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854F-6060-4D4D-A326-D9E0F194065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7829-A1A7-46A8-925A-622DEE4C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830B-DFFF-4DBC-A3E8-BD327232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7DDE-4F77-4146-861C-FAE625AF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D6D02-E9F3-4347-B0C7-AD18DBEE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74D1-A8E8-41FA-B596-6BBE7A24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4276-40F2-409D-88FF-9615DD9F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711D-41F0-4338-B88B-DED7306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74D8-E2A7-4E35-BA50-0ECB76A4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297A-7D54-4875-953C-4A915C3E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777E-F494-4EFB-A3FC-81336EE5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F772-3B8B-440F-AB43-703ACF17879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EC94-29DE-4285-86BA-F76878AC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1B1C9-B927-477E-83D8-0EFC3E53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A47E-0EDF-4499-A425-8E9B739A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50E4-F1CC-4128-8B72-6D880B5D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DDDC-F78E-432F-B274-4477FBB1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2EE6-56B8-42DF-87A5-89744F2B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F4CA5-F31F-4B03-B490-D9EACAB4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37C1-6A3F-4B01-B4F5-38174541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18C5D-599A-4F3A-AFB8-737891A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F87E7-40D6-4A92-BADA-E23DC597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9FD7-775F-47A6-9FB5-2F776FA276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7717-DE21-4E05-BD7C-C1B8473C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AEE2-4175-4A03-B9F4-8098406B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78C8-3683-4D33-B65A-406A30EF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7A66F-9FFE-4DA4-999E-FAE83E61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6DED4-4A77-4E72-AE4E-9FCE2BC7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8C8B2-0D87-4473-9838-69F1F02F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0F54-1F13-4206-BE4E-C2A14326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3072F-D11E-4911-82BC-78AB1417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17DB7-C0BB-4C05-A8B5-40BDAC66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FC92-454F-4177-B8F4-59D3C873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D7AB-2466-4C16-BB50-8981A9FF77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6CD1-F567-45D6-A199-754C5D24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7B5E-0C5B-4371-93DA-D537B62E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31B1-E6B4-4A2C-AD5F-69739B58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7E056-977C-4782-9E32-B8BE9F3E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3DC7A-F613-485B-B740-767FCAB1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DAE9-00BA-45E5-9F84-C1696DA8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5DA12-8508-4654-B2D5-94676A11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D4535-C964-4439-99B7-B8E712E3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9CCD5-2CC6-41B6-ACC9-F5F0D390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7C610-9556-4597-8629-5B976EFF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929F-92C2-498D-AE8D-3AD65C8B644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F6BBC-AD36-4749-A53A-6E3FAB1A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99151-D9D3-4CEC-8EF3-7232CA2F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1256-829B-4096-8108-F843D8EB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6DEAC-F812-4FC7-8636-3FA6484A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E80D8-FB36-4480-83BE-63161215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66804-EF6B-40B6-89B9-11BAE0B7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0DE41-1AB4-4198-8D03-CE75E28F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3519E-66A2-4ABF-9A65-91193F3E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C3757-E0D9-4E60-8CE0-93A033E4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3CC1A-FCDA-4B4F-A6D9-A4F5AA81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457200" y="0"/>
                <a:ext cx="2741760" cy="116532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243360" indent="-243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1144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13580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9BF81D-42BD-4195-BF28-1E743C294017}" type="slidenum"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0A23FD-7328-414A-83DA-8E61944D48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1EA605-43EA-4B4A-A9C9-4D9C1362F9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E315D9-3DC3-4DC7-963D-120C1B8003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429C0E-6B88-47B2-AC88-AFDF974E4E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1D2D10-814F-4046-B4D1-D6276E4FD3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23B390-715B-4D5B-AFB2-3AF69D9F80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49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4"/>
              <p:cNvSpPr/>
              <p:nvPr/>
            </p:nvSpPr>
            <p:spPr>
              <a:xfrm>
                <a:off x="457200" y="0"/>
                <a:ext cx="2741760" cy="116532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3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0408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3392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3392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3392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50C9B4-21EF-4A15-B5D9-9F416CE13ED0}" type="slidenum"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97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98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4"/>
              <p:cNvSpPr/>
              <p:nvPr/>
            </p:nvSpPr>
            <p:spPr>
              <a:xfrm>
                <a:off x="457200" y="0"/>
                <a:ext cx="2741760" cy="116532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101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243360" indent="-243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527400" indent="-202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1144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13580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460520" indent="-16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B089C1-6924-433B-ACF5-FD1E2D6AD686}" type="slidenum"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30F081-9C1C-481C-8ED0-1BC015B559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AF0733-2F87-4035-9DA1-BE10109221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4F3522-7B4B-4EB7-B219-76A4219925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4A7DCF-6253-4278-98FC-0F95C3CFF7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B47BBF-C1BF-4A63-BA7A-8A15193981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B89E2E-FC17-4AE1-AC88-E088BCAA18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"/>
          <p:cNvSpPr/>
          <p:nvPr/>
        </p:nvSpPr>
        <p:spPr>
          <a:xfrm>
            <a:off x="755640" y="333360"/>
            <a:ext cx="7920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Здоровьесберегаю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технологии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уроках физическ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6173640" y="4248000"/>
            <a:ext cx="1746360" cy="18003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647640" y="662040"/>
            <a:ext cx="13208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286760" cy="1000080"/>
          </a:xfrm>
          <a:prstGeom prst="rect">
            <a:avLst/>
          </a:prstGeom>
          <a:solidFill>
            <a:srgbClr val="f5f3a7"/>
          </a:solidFill>
          <a:ln w="76320">
            <a:solidFill>
              <a:srgbClr val="f0eec4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Calibri"/>
              </a:rPr>
              <a:t>Основные мероприятия здоровьесберегающей деятельности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42600" y="152352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1640"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организация физкультурно-оздоровительных и спортивно-массовых мероприят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реализация системы просветительской работы с учениками по формированию у учащихся культуры отношения к своему здоров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повышение уровня образованности в области физической культуры, спорта и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56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</a:rPr>
              <a:t>формирование у школьников устойчивого интереса и потребности в регулярных занятиях физической культурой и спортом и навыков здорового образа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"/>
          <p:cNvSpPr/>
          <p:nvPr/>
        </p:nvSpPr>
        <p:spPr>
          <a:xfrm>
            <a:off x="431640" y="1258920"/>
            <a:ext cx="60008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обучение по темам: Лёгкая атлетика, лыжный спорт, баскетбол, волейбол, футбол, гимнаст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использование принципа наглядности, постепенности, доступности нагрузки с учётом возрастных особенностей учащихс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использование методики чередования интенсивности и релаксации в обуч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учёт физической подготовленности детей и развития физических кач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"/>
          <p:cNvSpPr/>
          <p:nvPr/>
        </p:nvSpPr>
        <p:spPr>
          <a:xfrm>
            <a:off x="216000" y="366840"/>
            <a:ext cx="8572320" cy="857160"/>
          </a:xfrm>
          <a:prstGeom prst="flowChartAlternateProcess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876240" y="13176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6691320" y="3743280"/>
            <a:ext cx="2021040" cy="24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"/>
          <p:cNvSpPr/>
          <p:nvPr/>
        </p:nvSpPr>
        <p:spPr>
          <a:xfrm>
            <a:off x="720720" y="1120680"/>
            <a:ext cx="59292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ащита от влияния неблагоприятных условий внешней среды, а также ТБ, проверка инвентаря и оборуд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Укрепление здоровья (развитие и укрепление дыхательной, сердечно-сосудистой, мышечной, нервной  систем). Создание условий для нормальной работы всех органов и систем организ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овышение сопротивляемости орга-низма к неблагоприятным условиям путём закал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Взаимосвязь с медицинским персо-налом и использование их методи-ческих рекомендаций (распределение школьников на медицинские  группы: основная, подготовительная, спе-циальна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"/>
          <p:cNvSpPr/>
          <p:nvPr/>
        </p:nvSpPr>
        <p:spPr>
          <a:xfrm>
            <a:off x="428760" y="360360"/>
            <a:ext cx="8501040" cy="857160"/>
          </a:xfrm>
          <a:prstGeom prst="flowChartAlternateProcess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дорови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"/>
          <p:cNvSpPr/>
          <p:nvPr/>
        </p:nvSpPr>
        <p:spPr>
          <a:xfrm>
            <a:off x="3209760" y="835200"/>
            <a:ext cx="52866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учет психологических особенностей учащихся согласно их возрастным особенност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создание эмоционально- положи-тельного фона в обучении и общении (спортивные, подвижные игры и игровые упражн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стимулирование мотивации на успешность в обучении, оказание поддержки и помощи ребенку в выполнении упра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развитие речи, психических процессов (восприятие, внимание, представление, мышление, память, воображение), а также умственных способностей (наблюдение, сравнение, обобщ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Microsoft YaHei"/>
              </a:rPr>
              <a:t>получение знаний в различных видах спортив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2"/>
          <p:cNvSpPr/>
          <p:nvPr/>
        </p:nvSpPr>
        <p:spPr>
          <a:xfrm>
            <a:off x="285840" y="428760"/>
            <a:ext cx="8501040" cy="857160"/>
          </a:xfrm>
          <a:prstGeom prst="flowChartAlternateProcess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" descr=""/>
          <p:cNvPicPr/>
          <p:nvPr/>
        </p:nvPicPr>
        <p:blipFill>
          <a:blip r:embed="rId1"/>
          <a:stretch/>
        </p:blipFill>
        <p:spPr>
          <a:xfrm>
            <a:off x="576360" y="1455840"/>
            <a:ext cx="263052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1"/>
          <p:cNvSpPr/>
          <p:nvPr/>
        </p:nvSpPr>
        <p:spPr>
          <a:xfrm>
            <a:off x="1152360" y="1554120"/>
            <a:ext cx="64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4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требования к расписанию уро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наличие туалетов и умывальников в раздевалках девочек и мальч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соответствующее освещение, наличие аптеч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требования к спортивному оборудован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воздушно-тепловой реж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личная гигиена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Microsoft YaHei"/>
              </a:rPr>
              <a:t>наличие у каждого учащегося сменной спортивной обуви и спортивной формы для занятий на уроке физической культуры в зале и соответствующей формы при уроках на свежем воздухе (осень-весна, зим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"/>
          <p:cNvSpPr/>
          <p:nvPr/>
        </p:nvSpPr>
        <p:spPr>
          <a:xfrm>
            <a:off x="428760" y="428760"/>
            <a:ext cx="8501040" cy="857160"/>
          </a:xfrm>
          <a:prstGeom prst="flowChartAlternateProcess">
            <a:avLst/>
          </a:prstGeom>
          <a:solidFill>
            <a:srgbClr val="f5f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гиенический реж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5-14T20:23:16Z</dcterms:modified>
  <cp:revision>1</cp:revision>
  <dc:subject/>
  <dc:title>Слайд 1</dc:title>
</cp:coreProperties>
</file>