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638-0C51-4AC1-BC47-EFA9F418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1DD-079C-4BC7-8042-5ADA3B0B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FC3D3-F8A5-42A3-8B87-B9A1C588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5ED36-5B5E-48D8-8912-C8CF99F4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5C504-344B-41D6-81BD-A0A607A3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08333-FEF4-4FD5-AC6B-09FFA675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428D5-767B-4136-B0EA-24219826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A1287-17D0-4691-AB89-7338D7D6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20D02-985F-4598-9120-320B3320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856D3-C03F-4088-AFC7-9C732CC2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5E332-E4C3-4A02-A749-8E21ACE0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019DF-3EF8-4000-86EF-B817EC45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119-CC2C-48FB-923E-BD831F47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7669E-6714-448F-BDFB-9A02F3D0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B408D-7C5A-44D5-A41F-4989BF78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22E7B-E91E-45FF-9821-8346F239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A79B8-1E4C-4370-B00A-D6083A5C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D4062-CE36-4D94-A279-8E2AC3AE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A6F43-A2CF-4A9F-B5B2-8B574B49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88839-312F-4125-A229-BFFC1436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62A41-79B2-43B5-B04C-5A26B379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E1634-2CA4-40B1-9663-8C8E3134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483EE-DC6D-4E85-B82E-8C75A843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355-E242-42D1-9110-31FEB0C5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71B83-A461-46BC-9DD6-9DCD4859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7E367-4619-485E-8DC8-A0C08066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59E98-EF7A-49A5-A5FE-60EDA6B2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4B5C4-CB78-4C9A-A244-27BD5E4C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2FFF3-CD82-42DA-BEFE-D0932D69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64CB0-9474-48DA-AE61-5ACD5663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868AB-915C-4213-A687-4F56E12B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CEECD-86C5-4FE9-BA07-F1DBB4C8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B597E-515F-4B2E-8F30-28FF633D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9974B-C2D8-4E28-822C-4BE7A5E3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32AD-F0C1-43ED-8462-40ED4B5B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89334-AD3D-4762-A739-B62E16A7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60836-4121-4D71-BFC4-64790123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4B3F6-A3D9-4FF6-9707-1B5520EA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459E8-838F-407A-97DC-C0B15D12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001CE-CF85-4308-896A-F6BDA011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8F9CA-2320-4DE5-BDCA-55824FBD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6A5CC-6220-415A-BCB3-87F36F8E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D80A0-9916-4D5C-8091-A6B7E949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01FAC-C248-4FD0-8402-265EC332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3BDD1-AD69-4C25-88AA-4E8EC77F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FC4F-8592-47E3-856B-4FB7D9C0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C58B0-69AE-4C2A-9897-41ED60C8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FC967-2EE8-48C1-A70B-81FE2812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9ABEA-3E2E-4E2E-ACE0-8140F0C7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7C246-62AD-431A-99AF-33816E0D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722DE-8D9A-4CF8-BB57-F1336AE2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08657-2255-4231-A1F8-4E60E8BA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1A7F9-B6B0-4D81-A29A-5D4D0609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74CC9-362E-49C4-9DAA-7D4DF7DE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23219-6803-4ED5-A5A1-B204B9C0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B1F15-892A-46E4-BF9E-910C791B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F2E3-3AA7-453C-8808-78AFF66F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C5C8E-802B-45C2-B0DE-D11CD3BB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36E2A-805D-4F33-9D74-39B0F4C1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7D2E0-999F-41EF-9A03-5A2774B9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AF52D-12BD-4750-9598-E76CF7D2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966F2-68E1-4779-9510-EE40E400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4A536-DA27-4A52-85AC-F7741074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EEE87-0003-40E0-B7B4-022A89A2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DC6D0-4E22-451A-8285-764D025B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D962A-B601-41F9-95B5-E364FAD0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E132C7-0035-46BF-9AA4-2C190529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B56F-0071-4DB0-AAFB-D66D589A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CF18F-7EF4-4FAE-A320-A707F7ED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8CCE2-5A60-4299-9537-B3429882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3FA50-AB89-4FE5-B4B2-1BEBEAEB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469692-2877-4837-B1B0-8112AECB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DD7E90-1BF2-4AEF-AAA0-07AC947B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22039-26D4-4F5E-9511-62C28693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7C42A-A6BC-4110-B046-6E8734D4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1A849-7E50-4DC1-912D-F8A8EF0F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37EF94-5EB7-4C61-8F98-BE4C871C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F949D-4C9E-4EB5-BEFE-4BEAE6F6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DA44-3C07-4BA2-AB9E-711B594D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D87AF7-5FDC-4036-B765-82E56EDF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9533C-3D24-4570-AEE2-28EFBCB8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593373-12B9-4FBA-94BD-248E75C1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795F44-AFFA-414A-8306-4B660291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CA0FB-467E-4A71-84D5-03349C65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5AE8B-D878-44D7-8491-C5798E50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33D1D-FABB-4F9B-8659-C75A12B6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F36C4D-56DD-43CA-8A6B-0D991256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8AACB4-2CA7-4F3E-8F94-F145FE62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5C843F-5BC6-41AC-9C48-B40B7898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3F08-B2BF-4EE4-9FF3-081B328B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7904A5-1AF8-4E23-AFB6-2240D7A3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54F00-C082-41A4-AC8D-3007169F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DA3476-BB71-45D2-9FF8-194FF6A5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716BA5-F679-4D4C-92A2-98EF4231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E2FF71-20AB-438B-9181-78960193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AE25B2-31EF-4D11-BD38-716B201D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A955E0-F7D7-4B9D-8021-46306814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16BFFD-C1EC-4DC8-A313-E77B1D00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460222-38AF-4103-B48F-D0C3C56D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E5E15E-4819-4346-AFCB-F94DE1FD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A598-27F8-4BEF-9C2E-30170EEA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0B1E10-E150-4586-AB16-562A9250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14A6B6-81CF-40E2-8D1A-960FC259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C50E4-7370-4DF0-A84C-0AE8E1B4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7E59FA-6FD8-40E6-AB71-FFFDAF26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88A31D-2DC7-407E-AAE6-6B933772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63298D-9297-43D1-B53A-37D6C9E7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60FCE-8D0A-45DB-8631-7C7D7C7C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18BE8A-101D-4DE9-9E2C-5C03E817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380573-5C77-456E-8A23-4F58319D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F17E77-EB60-4AC2-A7AB-EE691CB9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33D-2915-41BA-BBF6-032F1ECB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FD64-D4C0-44A3-9A44-BA08D795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7CFF2-F278-4CDB-A1EA-0BD192F9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604E9C-1E57-4752-B73E-0409FA71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1C566D-B31C-4295-9C21-8B103C42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3752AA-58DA-4CDA-8DD0-A7C29629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67BADC-FA0B-4651-BA45-296A8E8E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A8DE19-D152-4DC2-A2DC-68409A56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032FB3-EFDA-4C67-BF8A-C8591902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661F2D-6138-463B-B43D-617EFB0C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B45EE8-EB9A-44EE-897D-284982AD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5D1188-69AF-48B3-9DD0-EE91D9AC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C6DD-DABB-4D8D-91B2-32A5BA76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832204-7E8C-4440-B616-27497EB1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61E07B-A350-4031-A371-F85061A7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A84501-B711-48B8-97E6-A68B307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F50A2-8B06-40DF-B4DD-8764DE8A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7D1D6A-0CD3-485E-9995-379CFC5B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7BC70D-F639-4AA5-A6D4-FD6C4CE3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5F65C3-1948-4473-A196-7CD1B1E3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ACE62E-9D34-46EA-B530-B4DE1185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2DE3CA-573A-4266-BF8C-681207C9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3F1A44-0299-4070-AB0E-DF8E707A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4681-BB35-4098-A6D8-2E9A0CC4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A66885-E6DC-41B6-82C2-7977D5C3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6F77E0-9D6E-4619-8B63-53F66AF1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0BBE37-B387-4E20-BA44-1E44D933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1E020A-4C82-499B-8805-47F945A9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81603E-F681-44AD-8D79-E00F386C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3A6369-449F-4918-BE3B-3A724B55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5DAB1A-97C9-4889-931E-0C365092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C8248E-1EF3-4F64-8CE1-5C300D7C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E7D032-D391-40BA-BB2C-3749BF1C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B21671-33FD-4619-98C0-145F1608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1B8D-F5AE-4104-AB52-051EE8AC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DD2C92-4790-45EC-A4E2-102BE3FD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8804F5-3328-443D-98B2-C7897CB7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57ECDD-3509-4410-8A1B-6C7161DB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525882-197F-413D-BF56-63985190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515672-59D3-4DA2-B463-C4235954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5A6303-FE60-4616-9CC1-686E63B1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0F3E4E-1669-4A28-B799-1A34B584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647F81-AA89-4F09-A56C-B63D169C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0EEB92-6DEC-494D-98B0-1F280148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1DE2D7-6650-46F1-A677-D76992FD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5891-3676-429A-AF97-09A851C4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8E2783-5C67-4B52-894E-CDBA44FC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457E-1E6B-4435-99BC-1DC4C313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D9134-A1F6-4986-9EDC-370C5A1D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9D5A5-A029-48E5-A499-FEDBC528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43D25-27D2-4955-9749-15FE1714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01DA7-0A9C-4C71-A718-19D5E417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F40-4C9B-42CF-A2BC-F3C90302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A1C6D-72A8-42AD-BD5B-E5AC5D5C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513E-D08F-4842-BDAB-1792B586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FF477-A95E-4FE6-8CEC-F42813D3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CE0E8-CD23-4B24-9403-E8F9B0E3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33500-C3D1-4125-913E-17CBA1A2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8F3E-E615-42D2-8584-16E5C2F7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C9B4C-FE41-41B5-A33B-D7BC0AAA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37553-3A65-468B-BC33-0B5244A6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BAE67-6E27-40EF-A690-3C778314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BF6F6-2B2E-4606-BC17-818A29BB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261-9595-40F7-A6C8-A608870E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7CB8D-7385-4291-87A0-99159A90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D4205-D084-432E-921C-117BCF24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6220D-1F8F-4B58-9404-BD7F7F90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782C7-A758-45B6-B1C7-2FF18086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D5CA8-2F77-4008-B2BD-C869400B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71E91-6765-4B81-8601-F3C8F4A1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1537F-7E76-4F18-A09F-C4AA83F4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6535D-6EE2-4F6D-AD73-D60A5492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D511E-860A-45C5-B824-48A58F45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E7720-40F1-41FB-A77B-CF9C979A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EAF-075B-4425-A8D0-6663F6B9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5FF3A-57CF-4988-8C87-E32748AD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57B3B-BF6A-4D31-8700-3B96B3BC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3FBC4-2508-4FAD-962F-D9651D0B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BC223-43D8-44AD-9A2A-FE56A304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18DBE-B023-4DBB-81C8-2FB71181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23638-2CBE-4275-B491-B3AF7E82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DBE10-A45E-4F7D-8E8C-BB98B03C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762EE-1672-448A-B620-1E1A3054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87CD9-8E4E-4357-9FC6-6A086750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F210A-B72B-4B56-841B-03044A9D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B33-2585-4C51-899F-A42697B1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4097-6249-4FCB-B3D0-DB8BAACE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D43CD-9707-463E-9A06-8334FD0E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49E57-0C0C-4A7E-9EE1-475BA693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C82E9-50FB-4B2C-B599-89A7CF35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78236-C933-4175-93EC-9086E389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A1A5C-F0E4-4BF8-BACB-EB60FD6B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5D6E2-7E36-4439-ADFD-EDA062CE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B510C-C943-45C7-BEEB-8DEB2B02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4A107-C5D0-45DC-BFE4-F10BFC60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43EFF-0220-4C06-8AAD-9A0AE2A5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1D3-ABB0-4D0B-A014-1FFFDEEE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423B1-B050-41DA-B52B-570471A6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73481-7E37-4417-AF9D-19442D78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8A5DF-E76E-49E9-B452-E752BD1D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D6A06-0245-4ACA-8422-52098BF6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45118-BEBF-4983-9587-A0ECBF22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2A5E9-AA97-40A8-B907-99548DB0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8FF7E-51CE-44FA-A146-E1DA7846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52960-0435-4DBD-B4B8-ADEFAB90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1ADEB-981E-4A7D-808B-C491E49A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82116-AA30-4F3F-BBB1-35F5E099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7D3-58D2-4DDF-8241-4E0DEE3A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C624E-5BE6-4443-A28C-0C2F9A2F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F0B20-6F12-4284-8EE7-7A431453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6EA6B-4442-48EB-BA9A-FBFE92FB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42744-9854-4B77-BD35-9FF369B4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413D7-C859-481E-A279-2152C05E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E3616-46FF-4D16-82BB-7BCF12C9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8C037-9C47-4FF6-A295-453DA0DD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8CFE1-75AD-451E-8DA0-2C0953BC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8B0B4-CF05-47B9-88EF-4DCC4AD4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9CD54-92ED-4E0F-B64D-B77802DE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54C1-5F0F-45CE-84FF-D51A60E8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396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EE077-7ED2-494D-A301-B485DDD3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4A6C1-C592-4188-A2B9-A178DDB0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A26FC-FB28-431A-AFDB-63389593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B4A0D-BC70-4E8C-A492-5447B47E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09120" y="3907800"/>
            <a:ext cx="7923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DE808-F2A7-443F-B32F-E1DA32D3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912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9200" y="3907800"/>
            <a:ext cx="38664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6B5B8-9A19-42CF-B00D-9C56B589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8788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67000" y="16002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0912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8788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67000" y="3907800"/>
            <a:ext cx="2550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0CF05-C3CA-4903-BDF8-A6FEFF28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C719A-AB2A-49BA-A3B5-69F50C1C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E38CC-F212-4B88-8D45-8E0D350B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602FB-D8F1-4D56-B06A-FF50713E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168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080"/>
              <a:ext cx="1293840" cy="6307560"/>
              <a:chOff x="7848720" y="1080"/>
              <a:chExt cx="1293840" cy="630756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080"/>
                <a:ext cx="760680" cy="2269080"/>
                <a:chOff x="8381880" y="1080"/>
                <a:chExt cx="760680" cy="226908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080"/>
                  <a:ext cx="277560" cy="275040"/>
                  <a:chOff x="8704440" y="1080"/>
                  <a:chExt cx="277560" cy="27504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080"/>
                    <a:ext cx="277560" cy="275040"/>
                    <a:chOff x="8704440" y="1080"/>
                    <a:chExt cx="277560" cy="27504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800"/>
                      <a:ext cx="19980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4320"/>
                      <a:ext cx="1396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31400"/>
                    <a:ext cx="2556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5560" y="74880"/>
                    <a:ext cx="41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8640" y="62640"/>
                    <a:ext cx="61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040" y="113400"/>
                    <a:ext cx="223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1160"/>
                    <a:ext cx="61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1400" y="165600"/>
                    <a:ext cx="367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6920" cy="4708440"/>
                <a:chOff x="7848720" y="1600200"/>
                <a:chExt cx="826920" cy="47084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9080" cy="19382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7520" cy="19987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0480" cy="40356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8120" cy="21830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2600" cy="50468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8280" cy="30700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492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844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748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3520" cy="6174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5400" y="3316320"/>
              <a:ext cx="6856560" cy="223920"/>
            </a:xfrm>
            <a:custGeom>
              <a:avLst/>
              <a:gdLst>
                <a:gd name="textAreaLeft" fmla="*/ 662400 w 6856560"/>
                <a:gd name="textAreaRight" fmla="*/ 6194160 w 6856560"/>
                <a:gd name="textAreaTop" fmla="*/ 21600 h 223920"/>
                <a:gd name="textAreaBottom" fmla="*/ 202320 h 2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24E95D-1B68-4742-A9DD-14DE39642201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0" y="0"/>
            <a:ext cx="8456760" cy="5942160"/>
            <a:chOff x="0" y="0"/>
            <a:chExt cx="8456760" cy="5942160"/>
          </a:xfrm>
        </p:grpSpPr>
        <p:sp>
          <p:nvSpPr>
            <p:cNvPr id="501" name=""/>
            <p:cNvSpPr/>
            <p:nvPr/>
          </p:nvSpPr>
          <p:spPr>
            <a:xfrm>
              <a:off x="0" y="2286000"/>
              <a:ext cx="8182080" cy="365616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8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7248F33-C132-4CA9-8DF8-3D998768FF06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544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545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48" name="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C5A118-4BE6-4F83-8FF9-61390B95A1CF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592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95" name="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Num" idx="36"/>
          </p:nvPr>
        </p:nvSpPr>
        <p:spPr>
          <a:xfrm>
            <a:off x="75960" y="6248160"/>
            <a:ext cx="585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5958D2-A83B-44DD-81B3-7FF9186D51F6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708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0" y="152280"/>
            <a:ext cx="8685360" cy="6094440"/>
            <a:chOff x="0" y="152280"/>
            <a:chExt cx="8685360" cy="6094440"/>
          </a:xfrm>
        </p:grpSpPr>
        <p:sp>
          <p:nvSpPr>
            <p:cNvPr id="638" name=""/>
            <p:cNvSpPr/>
            <p:nvPr/>
          </p:nvSpPr>
          <p:spPr>
            <a:xfrm>
              <a:off x="380880" y="533520"/>
              <a:ext cx="8304480" cy="5713200"/>
            </a:xfrm>
            <a:prstGeom prst="roundRect">
              <a:avLst>
                <a:gd name="adj" fmla="val 13727"/>
              </a:avLst>
            </a:prstGeom>
            <a:noFill/>
            <a:ln cap="sq" w="5076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152280"/>
              <a:ext cx="8532720" cy="12178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0" y="1219320"/>
              <a:ext cx="8075520" cy="0"/>
            </a:xfrm>
            <a:prstGeom prst="line">
              <a:avLst/>
            </a:prstGeom>
            <a:ln cap="sq" w="381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39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F9AD3F8-50EA-4185-A324-89D2CAF41AD3}" type="slidenum">
              <a:rPr b="0" lang="ru-RU" sz="1200" spc="-1" strike="noStrike">
                <a:solidFill>
                  <a:srgbClr val="ffffff"/>
                </a:solidFill>
                <a:latin typeface="Arial Black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0" y="927000"/>
            <a:ext cx="8989920" cy="4494240"/>
            <a:chOff x="0" y="927000"/>
            <a:chExt cx="8989920" cy="4494240"/>
          </a:xfrm>
        </p:grpSpPr>
        <p:sp>
          <p:nvSpPr>
            <p:cNvPr id="683" name=""/>
            <p:cNvSpPr/>
            <p:nvPr/>
          </p:nvSpPr>
          <p:spPr>
            <a:xfrm>
              <a:off x="685800" y="2070000"/>
              <a:ext cx="7389720" cy="3351240"/>
            </a:xfrm>
            <a:prstGeom prst="roundRect">
              <a:avLst>
                <a:gd name="adj" fmla="val 16667"/>
              </a:avLst>
            </a:prstGeom>
            <a:noFill/>
            <a:ln cap="sq" w="5076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8600" y="927000"/>
              <a:ext cx="7161120" cy="989280"/>
            </a:xfrm>
            <a:prstGeom prst="rect">
              <a:avLst/>
            </a:prstGeom>
            <a:solidFill>
              <a:srgbClr val="260000"/>
            </a:solidFill>
            <a:ln cap="sq" w="57240">
              <a:solidFill>
                <a:srgbClr val="7587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0" y="1384200"/>
              <a:ext cx="8989920" cy="1827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0" y="3060720"/>
              <a:ext cx="8304120" cy="0"/>
            </a:xfrm>
            <a:prstGeom prst="line">
              <a:avLst/>
            </a:prstGeom>
            <a:ln cap="sq" w="50760">
              <a:solidFill>
                <a:srgbClr val="26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28600" y="1426680"/>
            <a:ext cx="807552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dt" idx="40"/>
          </p:nvPr>
        </p:nvSpPr>
        <p:spPr>
          <a:xfrm>
            <a:off x="457200" y="6248160"/>
            <a:ext cx="2131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ftr" idx="41"/>
          </p:nvPr>
        </p:nvSpPr>
        <p:spPr>
          <a:xfrm>
            <a:off x="3123720" y="625284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2132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FA2090-26D2-4DCA-AD57-15016EAE01DA}" type="slidenum">
              <a:rPr b="0" lang="ru-RU" sz="1200" spc="-1" strike="noStrike">
                <a:solidFill>
                  <a:srgbClr val="ffffff"/>
                </a:solidFill>
                <a:latin typeface="Arial Black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3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4"/>
          </p:nvPr>
        </p:nvSpPr>
        <p:spPr>
          <a:xfrm>
            <a:off x="365724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5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5A833BB-51AD-4609-AAC6-4498FBC796E5}" type="slidenum">
              <a:rPr b="0" lang="ru-RU" sz="1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0" y="2438280"/>
            <a:ext cx="9007560" cy="1051200"/>
            <a:chOff x="0" y="2438280"/>
            <a:chExt cx="9007560" cy="1051200"/>
          </a:xfrm>
        </p:grpSpPr>
        <p:grpSp>
          <p:nvGrpSpPr>
            <p:cNvPr id="776" name=""/>
            <p:cNvGrpSpPr/>
            <p:nvPr/>
          </p:nvGrpSpPr>
          <p:grpSpPr>
            <a:xfrm>
              <a:off x="290520" y="2546280"/>
              <a:ext cx="709560" cy="473040"/>
              <a:chOff x="290520" y="2546280"/>
              <a:chExt cx="709560" cy="473040"/>
            </a:xfrm>
          </p:grpSpPr>
          <p:sp>
            <p:nvSpPr>
              <p:cNvPr id="777" name=""/>
              <p:cNvSpPr/>
              <p:nvPr/>
            </p:nvSpPr>
            <p:spPr>
              <a:xfrm>
                <a:off x="290520" y="2546280"/>
                <a:ext cx="436680" cy="4730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73200" y="2546280"/>
                <a:ext cx="326880" cy="473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414360" y="2968560"/>
              <a:ext cx="736200" cy="473040"/>
              <a:chOff x="414360" y="2968560"/>
              <a:chExt cx="736200" cy="473040"/>
            </a:xfrm>
          </p:grpSpPr>
          <p:sp>
            <p:nvSpPr>
              <p:cNvPr id="780" name=""/>
              <p:cNvSpPr/>
              <p:nvPr/>
            </p:nvSpPr>
            <p:spPr>
              <a:xfrm>
                <a:off x="414360" y="2968560"/>
                <a:ext cx="421560" cy="4730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83360" y="2968560"/>
                <a:ext cx="367200" cy="4730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782" name=""/>
            <p:cNvSpPr/>
            <p:nvPr/>
          </p:nvSpPr>
          <p:spPr>
            <a:xfrm>
              <a:off x="0" y="2895480"/>
              <a:ext cx="558720" cy="420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5040" y="2438280"/>
              <a:ext cx="3024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16080" y="3260520"/>
              <a:ext cx="8691480" cy="5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dt" idx="46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ftr" idx="47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sldNum" idx="48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E15224-473E-4359-A63E-114A492170AF}" type="slidenum">
              <a:rPr b="0" lang="ru-RU" sz="1400" spc="-1" strike="noStrike">
                <a:solidFill>
                  <a:srgbClr val="1c1c1c"/>
                </a:solidFill>
                <a:latin typeface="Tahoma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9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2E5B88B-D7B1-4546-AEF0-796B2A0018A8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8153280" y="152280"/>
            <a:ext cx="790560" cy="1293840"/>
            <a:chOff x="8153280" y="152280"/>
            <a:chExt cx="790560" cy="1293840"/>
          </a:xfrm>
        </p:grpSpPr>
        <p:sp>
          <p:nvSpPr>
            <p:cNvPr id="832" name=""/>
            <p:cNvSpPr/>
            <p:nvPr/>
          </p:nvSpPr>
          <p:spPr>
            <a:xfrm>
              <a:off x="815328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21760" y="152280"/>
              <a:ext cx="1188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489880" y="1522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153280" y="320760"/>
              <a:ext cx="119160" cy="1188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321760" y="320760"/>
              <a:ext cx="118800" cy="1188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489880" y="320760"/>
              <a:ext cx="119160" cy="1188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656560" y="320760"/>
              <a:ext cx="119160" cy="1188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153280" y="48888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321760" y="488880"/>
              <a:ext cx="11880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489880" y="4888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656560" y="4888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825040" y="488880"/>
              <a:ext cx="1188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153280" y="655560"/>
              <a:ext cx="119160" cy="119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321760" y="655560"/>
              <a:ext cx="1188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89880" y="65556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656560" y="655560"/>
              <a:ext cx="1191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153280" y="824040"/>
              <a:ext cx="119160" cy="1188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321760" y="824040"/>
              <a:ext cx="118800" cy="1188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489880" y="824040"/>
              <a:ext cx="119160" cy="1188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656560" y="824040"/>
              <a:ext cx="119160" cy="1188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825040" y="824040"/>
              <a:ext cx="118800" cy="1188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153280" y="99216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321760" y="992160"/>
              <a:ext cx="1188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489880" y="992160"/>
              <a:ext cx="1191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656560" y="992160"/>
              <a:ext cx="119160" cy="119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153280" y="1160640"/>
              <a:ext cx="119160" cy="117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21760" y="1160640"/>
              <a:ext cx="118800" cy="1173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89880" y="1160640"/>
              <a:ext cx="119160" cy="117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56560" y="1160640"/>
              <a:ext cx="119160" cy="117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321760" y="1328760"/>
              <a:ext cx="118800" cy="117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656560" y="1328760"/>
              <a:ext cx="119160" cy="1173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7315200" y="1066680"/>
            <a:ext cx="1440" cy="44960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6779880" cy="21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dt" idx="52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ftr" idx="5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AE61B8-0A34-444F-8CCD-0C18C0AE08CC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7493040" y="2992320"/>
            <a:ext cx="1336680" cy="2187720"/>
            <a:chOff x="7493040" y="2992320"/>
            <a:chExt cx="1336680" cy="2187720"/>
          </a:xfrm>
        </p:grpSpPr>
        <p:sp>
          <p:nvSpPr>
            <p:cNvPr id="905" name=""/>
            <p:cNvSpPr/>
            <p:nvPr/>
          </p:nvSpPr>
          <p:spPr>
            <a:xfrm>
              <a:off x="7493040" y="2992320"/>
              <a:ext cx="200160" cy="200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77080" y="2992320"/>
              <a:ext cx="200160" cy="200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061480" y="2992320"/>
              <a:ext cx="199800" cy="200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93040" y="3276720"/>
              <a:ext cx="200160" cy="1998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777080" y="3276720"/>
              <a:ext cx="200160" cy="1998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061480" y="3276720"/>
              <a:ext cx="199800" cy="1998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345520" y="3276720"/>
              <a:ext cx="200160" cy="1998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493040" y="3560760"/>
              <a:ext cx="200160" cy="200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777080" y="3560760"/>
              <a:ext cx="200160" cy="2001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061480" y="3560760"/>
              <a:ext cx="199800" cy="200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345520" y="3560760"/>
              <a:ext cx="200160" cy="200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629560" y="3560760"/>
              <a:ext cx="200160" cy="200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93040" y="3843360"/>
              <a:ext cx="200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777080" y="3843360"/>
              <a:ext cx="200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061480" y="3843360"/>
              <a:ext cx="1998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43360"/>
              <a:ext cx="200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493040" y="4127400"/>
              <a:ext cx="200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777080" y="4127400"/>
              <a:ext cx="200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061480" y="4127400"/>
              <a:ext cx="1998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345520" y="4127400"/>
              <a:ext cx="200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629560" y="4127400"/>
              <a:ext cx="200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93040" y="4411800"/>
              <a:ext cx="200160" cy="1998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777080" y="4411800"/>
              <a:ext cx="200160" cy="1998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061480" y="4411800"/>
              <a:ext cx="199800" cy="1998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345520" y="4411800"/>
              <a:ext cx="200160" cy="1998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493040" y="4695840"/>
              <a:ext cx="200160" cy="200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777080" y="4695840"/>
              <a:ext cx="200160" cy="200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061480" y="4695840"/>
              <a:ext cx="199800" cy="200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345520" y="4695840"/>
              <a:ext cx="200160" cy="200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777080" y="4979880"/>
              <a:ext cx="200160" cy="200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345520" y="4979880"/>
              <a:ext cx="200160" cy="2001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55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5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455E80C-6A39-4911-9E3D-B9A87107D575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8400" cy="6869160"/>
            <a:chOff x="0" y="0"/>
            <a:chExt cx="9158400" cy="68691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7320" cy="22392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7320" cy="198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168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080"/>
              <a:ext cx="1293840" cy="6307560"/>
              <a:chOff x="7848720" y="1080"/>
              <a:chExt cx="1293840" cy="63075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080"/>
                <a:ext cx="760680" cy="2269080"/>
                <a:chOff x="8381880" y="1080"/>
                <a:chExt cx="760680" cy="22690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080"/>
                  <a:ext cx="277560" cy="275040"/>
                  <a:chOff x="8704440" y="1080"/>
                  <a:chExt cx="277560" cy="27504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080"/>
                    <a:ext cx="277560" cy="275040"/>
                    <a:chOff x="8704440" y="1080"/>
                    <a:chExt cx="277560" cy="27504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800"/>
                      <a:ext cx="19980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4320"/>
                      <a:ext cx="139680" cy="22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31400"/>
                    <a:ext cx="25560" cy="252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5560" y="74880"/>
                    <a:ext cx="41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8640" y="62640"/>
                    <a:ext cx="61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040" y="113400"/>
                    <a:ext cx="223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3960" y="191160"/>
                    <a:ext cx="619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1400" y="165600"/>
                    <a:ext cx="367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6920" cy="4708440"/>
                <a:chOff x="7848720" y="1600200"/>
                <a:chExt cx="826920" cy="47084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340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340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376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3760" cy="28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89080" cy="19382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7520" cy="19987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0480" cy="40356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8120" cy="218304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2600" cy="504684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8280" cy="30700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492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298440" cy="33512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748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3520" cy="6174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5400" y="3316320"/>
              <a:ext cx="6856560" cy="223920"/>
            </a:xfrm>
            <a:custGeom>
              <a:avLst/>
              <a:gdLst>
                <a:gd name="textAreaLeft" fmla="*/ 662400 w 6856560"/>
                <a:gd name="textAreaRight" fmla="*/ 6194160 w 6856560"/>
                <a:gd name="textAreaTop" fmla="*/ 21600 h 223920"/>
                <a:gd name="textAreaBottom" fmla="*/ 202320 h 2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42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5668DE-6A4B-4863-A3D8-7210B572B66B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dt" idx="58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ftr" idx="59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C126B11-34DF-4297-9F18-8F7F72EB0D5C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9BA31CC-9E4B-4776-A0DD-E28E8626CB8F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B5C5703-C657-4942-A1F6-555C3C280987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274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276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cap="sq" w="190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796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352320" y="624816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CCAA772-6DA9-4DA3-A727-03787D326137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cap="sq" w="44280">
            <a:solidFill>
              <a:srgbClr val="797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321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323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797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cap="sq" w="5076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327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cap="sq" w="442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79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4C53577-7EC8-43F1-80CD-4CD529F30826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9"/>
          </p:nvPr>
        </p:nvSpPr>
        <p:spPr>
          <a:xfrm>
            <a:off x="762120" y="6391080"/>
            <a:ext cx="2055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0"/>
          </p:nvPr>
        </p:nvSpPr>
        <p:spPr>
          <a:xfrm>
            <a:off x="3352320" y="640368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1"/>
          </p:nvPr>
        </p:nvSpPr>
        <p:spPr>
          <a:xfrm>
            <a:off x="6857640" y="6400800"/>
            <a:ext cx="1598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7B6AFA3-817A-4E5F-81FA-A76F9E23F2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8120" y="228600"/>
            <a:ext cx="8821800" cy="6094440"/>
            <a:chOff x="168120" y="228600"/>
            <a:chExt cx="8821800" cy="6094440"/>
          </a:xfrm>
        </p:grpSpPr>
        <p:sp>
          <p:nvSpPr>
            <p:cNvPr id="375" name=""/>
            <p:cNvSpPr/>
            <p:nvPr/>
          </p:nvSpPr>
          <p:spPr>
            <a:xfrm>
              <a:off x="168120" y="228600"/>
              <a:ext cx="8821800" cy="6094440"/>
            </a:xfrm>
            <a:prstGeom prst="roundRect">
              <a:avLst>
                <a:gd name="adj" fmla="val 11046"/>
              </a:avLst>
            </a:prstGeom>
            <a:noFill/>
            <a:ln cap="sq"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2120" y="1709640"/>
              <a:ext cx="7694640" cy="0"/>
            </a:xfrm>
            <a:prstGeom prst="line">
              <a:avLst/>
            </a:prstGeom>
            <a:ln cap="sq"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09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dt" idx="22"/>
          </p:nvPr>
        </p:nvSpPr>
        <p:spPr>
          <a:xfrm>
            <a:off x="762120" y="6391080"/>
            <a:ext cx="2055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23"/>
          </p:nvPr>
        </p:nvSpPr>
        <p:spPr>
          <a:xfrm>
            <a:off x="3352320" y="639108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4"/>
          </p:nvPr>
        </p:nvSpPr>
        <p:spPr>
          <a:xfrm>
            <a:off x="6857640" y="6391080"/>
            <a:ext cx="15987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3B4956-B363-4D49-8BC9-798E517B3E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0" y="0"/>
            <a:ext cx="7240680" cy="1979640"/>
            <a:chOff x="0" y="0"/>
            <a:chExt cx="7240680" cy="1979640"/>
          </a:xfrm>
        </p:grpSpPr>
        <p:sp>
          <p:nvSpPr>
            <p:cNvPr id="457" name=""/>
            <p:cNvSpPr/>
            <p:nvPr/>
          </p:nvSpPr>
          <p:spPr>
            <a:xfrm>
              <a:off x="0" y="925560"/>
              <a:ext cx="7121520" cy="105408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5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6B7EC84-389F-47A0-B2F9-2C198CBA1A95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Классификация соревнований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9840" y="1510920"/>
            <a:ext cx="7561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е соревнования  классифицируются по различным признакам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по масштаб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по целям и задачам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по условиям заче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по форме организ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dur="indefinite" fill="hold">
                            <p:stCondLst>
                              <p:cond delay="2040"/>
                            </p:stCondLst>
                            <p:childTnLst>
                              <p:par>
                                <p:cTn id="1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2540"/>
                            </p:stCondLst>
                            <p:childTnLst>
                              <p:par>
                                <p:cTn id="1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" dur="500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3040"/>
                            </p:stCondLst>
                            <p:childTnLst>
                              <p:par>
                                <p:cTn id="2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3540"/>
                            </p:stCondLst>
                            <p:childTnLst>
                              <p:par>
                                <p:cTn id="2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4040"/>
                            </p:stCondLst>
                            <p:childTnLst>
                              <p:par>
                                <p:cTn id="2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" dur="500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f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76360" y="225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о масштабу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93320" y="1699920"/>
            <a:ext cx="73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41800" indent="-54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1473120"/>
                <a:tab algn="l" pos="2387520"/>
                <a:tab algn="l" pos="3301920"/>
                <a:tab algn="l" pos="4216320"/>
                <a:tab algn="l" pos="5130720"/>
                <a:tab algn="l" pos="6045120"/>
                <a:tab algn="l" pos="6959520"/>
                <a:tab algn="l" pos="7873920"/>
                <a:tab algn="l" pos="8788320"/>
                <a:tab algn="l" pos="9702720"/>
                <a:tab algn="l" pos="1061712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 делятся на три группы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41800" indent="-54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1473120"/>
                <a:tab algn="l" pos="2387520"/>
                <a:tab algn="l" pos="3301920"/>
                <a:tab algn="l" pos="4216320"/>
                <a:tab algn="l" pos="5130720"/>
                <a:tab algn="l" pos="6045120"/>
                <a:tab algn="l" pos="6959520"/>
                <a:tab algn="l" pos="7873920"/>
                <a:tab algn="l" pos="8788320"/>
                <a:tab algn="l" pos="9702720"/>
                <a:tab algn="l" pos="1061712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-я группа – чемпионаты, кубки, первенств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41800" indent="-54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1473120"/>
                <a:tab algn="l" pos="2387520"/>
                <a:tab algn="l" pos="3301920"/>
                <a:tab algn="l" pos="4216320"/>
                <a:tab algn="l" pos="5130720"/>
                <a:tab algn="l" pos="6045120"/>
                <a:tab algn="l" pos="6959520"/>
                <a:tab algn="l" pos="7873920"/>
                <a:tab algn="l" pos="8788320"/>
                <a:tab algn="l" pos="9702720"/>
                <a:tab algn="l" pos="1061712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-я группа – соревнования окружных,районных, городских и других административных делен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41800" indent="-54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1473120"/>
                <a:tab algn="l" pos="2387520"/>
                <a:tab algn="l" pos="3301920"/>
                <a:tab algn="l" pos="4216320"/>
                <a:tab algn="l" pos="5130720"/>
                <a:tab algn="l" pos="6045120"/>
                <a:tab algn="l" pos="6959520"/>
                <a:tab algn="l" pos="7873920"/>
                <a:tab algn="l" pos="8788320"/>
                <a:tab algn="l" pos="9702720"/>
                <a:tab algn="l" pos="1061712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-я группа – соревнования в спортивных школах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0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f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31280" y="296640"/>
            <a:ext cx="59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о целям и задача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31640" y="1440000"/>
            <a:ext cx="6336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 делятся н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целевы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тборочны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нтрольны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четно-классификационны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казательны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ассово-оздоровительны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f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31280" y="14400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о условиям зачета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42560" y="1287000"/>
            <a:ext cx="4608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 делятся н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чны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мандные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чно-командные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1"/>
          <a:stretch/>
        </p:blipFill>
        <p:spPr>
          <a:xfrm>
            <a:off x="1224000" y="4087800"/>
            <a:ext cx="5535720" cy="2320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0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bf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863640" y="51228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о форме организаци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42560" y="1510920"/>
            <a:ext cx="5832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евнования делятся н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ткрыты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крытые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атчевые встреч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77" name="" descr=""/>
          <p:cNvPicPr/>
          <p:nvPr/>
        </p:nvPicPr>
        <p:blipFill>
          <a:blip r:embed="rId1"/>
          <a:stretch/>
        </p:blipFill>
        <p:spPr>
          <a:xfrm>
            <a:off x="3456000" y="4248000"/>
            <a:ext cx="3816360" cy="227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0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9292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сновные документы соревнован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258920" y="227664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лендарь соревнова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ожение о соревнования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явка участников соревнова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рточка участни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тоговый протокол результатов соревнова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чет главного судьи соревнова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0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2520" y="236520"/>
            <a:ext cx="70819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Календарь соревновани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416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атывается на один календарный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ны быть включены соревнования по ОФ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включать проведение массовых соревнов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усматривать проведение соревнований для различных возрастных групп и квалифик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нировать проведение соревнований на выходные д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роки проведения соревнований вышестоящими организац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dur="indefinite" fill="hold">
                      <p:stCondLst>
                        <p:cond delay="0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0:37:56Z</dcterms:created>
  <dc:creator>Люба</dc:creator>
  <dc:description/>
  <dc:language>en-US</dc:language>
  <cp:lastModifiedBy>Люба</cp:lastModifiedBy>
  <dcterms:modified xsi:type="dcterms:W3CDTF">2008-02-01T06:43:04Z</dcterms:modified>
  <cp:revision>70</cp:revision>
  <dc:subject/>
  <dc:title>Виды лыжного спорта</dc:title>
</cp:coreProperties>
</file>