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jpeg" ContentType="image/jpeg"/>
  <Override PartName="/ppt/media/image4.png" ContentType="image/png"/>
  <Override PartName="/ppt/media/image5.png" ContentType="image/png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</p:sldMasterIdLst>
  <p:sldIdLst>
    <p:sldId id="256" r:id="rId22"/>
    <p:sldId id="257" r:id="rId23"/>
    <p:sldId id="258" r:id="rId24"/>
    <p:sldId id="259" r:id="rId25"/>
    <p:sldId id="260" r:id="rId26"/>
    <p:sldId id="261" r:id="rId27"/>
    <p:sldId id="262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" Target="slides/slide1.xml"/><Relationship Id="rId23" Type="http://schemas.openxmlformats.org/officeDocument/2006/relationships/slide" Target="slides/slide2.xml"/><Relationship Id="rId24" Type="http://schemas.openxmlformats.org/officeDocument/2006/relationships/slide" Target="slides/slide3.xml"/><Relationship Id="rId25" Type="http://schemas.openxmlformats.org/officeDocument/2006/relationships/slide" Target="slides/slide4.xml"/><Relationship Id="rId26" Type="http://schemas.openxmlformats.org/officeDocument/2006/relationships/slide" Target="slides/slide5.xml"/><Relationship Id="rId27" Type="http://schemas.openxmlformats.org/officeDocument/2006/relationships/slide" Target="slides/slide6.xml"/><Relationship Id="rId28" Type="http://schemas.openxmlformats.org/officeDocument/2006/relationships/slide" Target="slides/slide7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ED38B-702D-416F-820A-4D1496F71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39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792324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09120" y="3907800"/>
            <a:ext cx="792324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CB4C2-BCEB-4B65-AF4B-97019D653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39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866400" cy="44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3866400" cy="44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100EFF-D72F-45C4-842C-9182C03EA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39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F1A938-1F06-42AA-BE22-A7B08EC1E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3960" cy="42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B27FDC-B088-4372-93DD-1C5401D85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39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8664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3866400" cy="44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09120" y="3907800"/>
            <a:ext cx="38664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751BEF-0849-469F-870D-11878A508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39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866400" cy="44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38664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669200" y="3907800"/>
            <a:ext cx="38664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A45BA5-4935-4BE9-AA79-196084F9C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39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8664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38664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609120" y="3907800"/>
            <a:ext cx="792324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C1C528-CB92-46E8-9A72-D085E5867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39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792324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609120" y="3907800"/>
            <a:ext cx="792324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C7E7CA-D359-4931-880F-0118E8BE6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39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8664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38664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9120" y="3907800"/>
            <a:ext cx="38664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669200" y="3907800"/>
            <a:ext cx="38664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5CA06A-ADC0-4352-B7C4-D3F939DA5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39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255096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3287880" y="1600200"/>
            <a:ext cx="255096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967000" y="1600200"/>
            <a:ext cx="255096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609120" y="3907800"/>
            <a:ext cx="255096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/>
          </p:nvPr>
        </p:nvSpPr>
        <p:spPr>
          <a:xfrm>
            <a:off x="3287880" y="3907800"/>
            <a:ext cx="255096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PlaceHolder 7"/>
          <p:cNvSpPr>
            <a:spLocks noGrp="1"/>
          </p:cNvSpPr>
          <p:nvPr>
            <p:ph/>
          </p:nvPr>
        </p:nvSpPr>
        <p:spPr>
          <a:xfrm>
            <a:off x="5967000" y="3907800"/>
            <a:ext cx="255096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446757-05A8-4D77-9F15-6B753FEEF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7F3DFE-A61C-436A-9B8C-BDCC1DE38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39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8664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38664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9120" y="3907800"/>
            <a:ext cx="38664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9200" y="3907800"/>
            <a:ext cx="38664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CE9FE-3BA4-4173-B2B6-8437334B5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39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 type="subTitle"/>
          </p:nvPr>
        </p:nvSpPr>
        <p:spPr>
          <a:xfrm>
            <a:off x="609120" y="1600200"/>
            <a:ext cx="7923240" cy="441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C5BB02-EE5F-4865-AF60-0A55623BF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39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7923240" cy="44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5BDC00-9FB4-4A04-BAB4-F8F1A07CC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39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866400" cy="44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3866400" cy="44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D58EB2-19A5-404F-B894-D660DA7E4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39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8477A0-EC4D-43BC-BF01-C6ED09EED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3960" cy="42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B109CF-38A9-4B17-9EA0-8C3348F91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39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8664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3866400" cy="44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609120" y="3907800"/>
            <a:ext cx="38664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AC877C-0A86-444C-BFF9-C3C8727B0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39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866400" cy="44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38664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669200" y="3907800"/>
            <a:ext cx="38664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F62024-0C34-4B97-9F1A-92D2DD19D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39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8664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38664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609120" y="3907800"/>
            <a:ext cx="792324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2EAFF6-3BDD-4F76-BAEB-C956A6C93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39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792324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609120" y="3907800"/>
            <a:ext cx="792324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5A9E58-63D3-4063-8A96-12945BA7A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39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8664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38664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609120" y="3907800"/>
            <a:ext cx="38664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/>
          </p:nvPr>
        </p:nvSpPr>
        <p:spPr>
          <a:xfrm>
            <a:off x="4669200" y="3907800"/>
            <a:ext cx="38664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221B43-7D8F-4E69-AD0D-A701423F9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39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255096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87880" y="1600200"/>
            <a:ext cx="255096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967000" y="1600200"/>
            <a:ext cx="255096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609120" y="3907800"/>
            <a:ext cx="255096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87880" y="3907800"/>
            <a:ext cx="255096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967000" y="3907800"/>
            <a:ext cx="255096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C06B9-AECE-42E9-AB4E-C9BCDC680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39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255096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3287880" y="1600200"/>
            <a:ext cx="255096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5967000" y="1600200"/>
            <a:ext cx="255096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/>
          </p:nvPr>
        </p:nvSpPr>
        <p:spPr>
          <a:xfrm>
            <a:off x="609120" y="3907800"/>
            <a:ext cx="255096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PlaceHolder 6"/>
          <p:cNvSpPr>
            <a:spLocks noGrp="1"/>
          </p:cNvSpPr>
          <p:nvPr>
            <p:ph/>
          </p:nvPr>
        </p:nvSpPr>
        <p:spPr>
          <a:xfrm>
            <a:off x="3287880" y="3907800"/>
            <a:ext cx="255096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PlaceHolder 7"/>
          <p:cNvSpPr>
            <a:spLocks noGrp="1"/>
          </p:cNvSpPr>
          <p:nvPr>
            <p:ph/>
          </p:nvPr>
        </p:nvSpPr>
        <p:spPr>
          <a:xfrm>
            <a:off x="5967000" y="3907800"/>
            <a:ext cx="255096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682463-06A1-4065-9B76-7176DC8AD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AC9DC0-CC6A-41E7-B095-8B505DEF3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39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subTitle"/>
          </p:nvPr>
        </p:nvSpPr>
        <p:spPr>
          <a:xfrm>
            <a:off x="609120" y="1600200"/>
            <a:ext cx="7923240" cy="441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46528A-96D4-4F34-B85E-EBA9F9429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39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7923240" cy="44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005956-1A8D-4C34-B348-8F39E738C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39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866400" cy="44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3866400" cy="44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EF5989-CE52-401E-B8C3-28B21959D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39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E321A1-22DC-4185-BEFE-C79145AF7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3960" cy="42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976BE6-2F50-494F-B706-103D90240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39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8664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3866400" cy="44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609120" y="3907800"/>
            <a:ext cx="38664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C90197-1506-4F8C-9E9B-ED0E8E1F4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39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866400" cy="44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38664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669200" y="3907800"/>
            <a:ext cx="38664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39F9C2-3FFC-446F-B44E-4EA91C48A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39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8664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38664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609120" y="3907800"/>
            <a:ext cx="792324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70154B-6594-4E98-8A76-36B96545D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B9BDF-E6B1-4AD1-A074-5DF04A558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39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792324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609120" y="3907800"/>
            <a:ext cx="792324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AB1100-470D-430B-913A-A8E494608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39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8664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38664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609120" y="3907800"/>
            <a:ext cx="38664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4669200" y="3907800"/>
            <a:ext cx="38664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3E2DF6-AF93-4B60-9CFF-348C1EACB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39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255096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3287880" y="1600200"/>
            <a:ext cx="255096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5967000" y="1600200"/>
            <a:ext cx="255096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/>
          </p:nvPr>
        </p:nvSpPr>
        <p:spPr>
          <a:xfrm>
            <a:off x="609120" y="3907800"/>
            <a:ext cx="255096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PlaceHolder 6"/>
          <p:cNvSpPr>
            <a:spLocks noGrp="1"/>
          </p:cNvSpPr>
          <p:nvPr>
            <p:ph/>
          </p:nvPr>
        </p:nvSpPr>
        <p:spPr>
          <a:xfrm>
            <a:off x="3287880" y="3907800"/>
            <a:ext cx="255096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PlaceHolder 7"/>
          <p:cNvSpPr>
            <a:spLocks noGrp="1"/>
          </p:cNvSpPr>
          <p:nvPr>
            <p:ph/>
          </p:nvPr>
        </p:nvSpPr>
        <p:spPr>
          <a:xfrm>
            <a:off x="5967000" y="3907800"/>
            <a:ext cx="255096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0F7BB3-BFA3-4967-9AFD-D48226B2C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034B80-5F62-441F-8F36-3A58C432F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39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subTitle"/>
          </p:nvPr>
        </p:nvSpPr>
        <p:spPr>
          <a:xfrm>
            <a:off x="609120" y="1600200"/>
            <a:ext cx="7923240" cy="441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76CB95-1A02-4912-B9D6-F2291082B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39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7923240" cy="44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3BDBEB-3BE8-41B2-AA9F-FC03D9671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39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866400" cy="44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3866400" cy="44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FE9B7F-853A-420A-A3DB-65B2557C8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39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8FED72-F9C7-4F9F-A42B-8D71BE3E4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3960" cy="42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C5388A-0D9A-4C99-8C86-F368B2E19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39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8664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3866400" cy="44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609120" y="3907800"/>
            <a:ext cx="38664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BF06A7-46C9-4CA2-838C-B90742634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39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609120" y="1600200"/>
            <a:ext cx="7923240" cy="441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6653C-9708-4DCB-9A9E-380C30A6D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39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866400" cy="44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38664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4669200" y="3907800"/>
            <a:ext cx="38664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CFBF03-2F2F-4DCD-93DE-C8016E26B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39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8664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38664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609120" y="3907800"/>
            <a:ext cx="792324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56028C-F6F7-4CE6-9090-5094215DF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39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792324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609120" y="3907800"/>
            <a:ext cx="792324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2C21F2-A091-4396-A2BF-8ACA8C8B4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39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8664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38664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609120" y="3907800"/>
            <a:ext cx="38664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PlaceHolder 5"/>
          <p:cNvSpPr>
            <a:spLocks noGrp="1"/>
          </p:cNvSpPr>
          <p:nvPr>
            <p:ph/>
          </p:nvPr>
        </p:nvSpPr>
        <p:spPr>
          <a:xfrm>
            <a:off x="4669200" y="3907800"/>
            <a:ext cx="38664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6E52F5-01E4-4D43-BFBA-4C7D3E5D9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39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255096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3287880" y="1600200"/>
            <a:ext cx="255096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5967000" y="1600200"/>
            <a:ext cx="255096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609120" y="3907800"/>
            <a:ext cx="255096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PlaceHolder 6"/>
          <p:cNvSpPr>
            <a:spLocks noGrp="1"/>
          </p:cNvSpPr>
          <p:nvPr>
            <p:ph/>
          </p:nvPr>
        </p:nvSpPr>
        <p:spPr>
          <a:xfrm>
            <a:off x="3287880" y="3907800"/>
            <a:ext cx="255096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PlaceHolder 7"/>
          <p:cNvSpPr>
            <a:spLocks noGrp="1"/>
          </p:cNvSpPr>
          <p:nvPr>
            <p:ph/>
          </p:nvPr>
        </p:nvSpPr>
        <p:spPr>
          <a:xfrm>
            <a:off x="5967000" y="3907800"/>
            <a:ext cx="255096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3D4336-1FBD-48A7-B47D-5E64A43EC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C70738C-2418-4F02-9B54-6F13D131A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39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 type="subTitle"/>
          </p:nvPr>
        </p:nvSpPr>
        <p:spPr>
          <a:xfrm>
            <a:off x="609120" y="1600200"/>
            <a:ext cx="7923240" cy="441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82319FE-798E-473E-B5F5-189876A23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39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7923240" cy="44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346ED93-555C-4DCD-8FFD-F95C089B1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39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866400" cy="44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3866400" cy="44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54B0821-4AFF-4189-A6B7-D718318E6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39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119D9EF-3735-4AC0-915C-581858932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39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7923240" cy="44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36DC6-E4B4-410A-9321-250D30E4B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3960" cy="42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D6B8477-0D12-4F24-B3C7-9EC4F8FD2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39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8664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3866400" cy="44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609120" y="3907800"/>
            <a:ext cx="38664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E41312E-760B-4DE2-8AE1-1473816CC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39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866400" cy="44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38664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4669200" y="3907800"/>
            <a:ext cx="38664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7CF8624-3F0F-4447-A35E-F8BA33E0D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39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8664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38664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609120" y="3907800"/>
            <a:ext cx="792324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453B6E2-44DC-432F-8206-A85AF8613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39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792324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609120" y="3907800"/>
            <a:ext cx="792324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F1E4F53-1139-44C5-B1FB-D67C05F05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39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8664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38664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609120" y="3907800"/>
            <a:ext cx="38664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PlaceHolder 5"/>
          <p:cNvSpPr>
            <a:spLocks noGrp="1"/>
          </p:cNvSpPr>
          <p:nvPr>
            <p:ph/>
          </p:nvPr>
        </p:nvSpPr>
        <p:spPr>
          <a:xfrm>
            <a:off x="4669200" y="3907800"/>
            <a:ext cx="38664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5A1DA2D-0A5B-49C4-8DD9-320F36A46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39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255096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3287880" y="1600200"/>
            <a:ext cx="255096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5967000" y="1600200"/>
            <a:ext cx="255096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PlaceHolder 5"/>
          <p:cNvSpPr>
            <a:spLocks noGrp="1"/>
          </p:cNvSpPr>
          <p:nvPr>
            <p:ph/>
          </p:nvPr>
        </p:nvSpPr>
        <p:spPr>
          <a:xfrm>
            <a:off x="609120" y="3907800"/>
            <a:ext cx="255096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PlaceHolder 6"/>
          <p:cNvSpPr>
            <a:spLocks noGrp="1"/>
          </p:cNvSpPr>
          <p:nvPr>
            <p:ph/>
          </p:nvPr>
        </p:nvSpPr>
        <p:spPr>
          <a:xfrm>
            <a:off x="3287880" y="3907800"/>
            <a:ext cx="255096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1" name="PlaceHolder 7"/>
          <p:cNvSpPr>
            <a:spLocks noGrp="1"/>
          </p:cNvSpPr>
          <p:nvPr>
            <p:ph/>
          </p:nvPr>
        </p:nvSpPr>
        <p:spPr>
          <a:xfrm>
            <a:off x="5967000" y="3907800"/>
            <a:ext cx="255096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2180B83-E239-4665-A97E-29376D645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A810A87-2CFD-4DA5-86E9-B418442B0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39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 type="subTitle"/>
          </p:nvPr>
        </p:nvSpPr>
        <p:spPr>
          <a:xfrm>
            <a:off x="609120" y="1600200"/>
            <a:ext cx="7923240" cy="441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BE6645A-1C34-44A3-A9F6-2D2EB4613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39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7923240" cy="44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637B7FE-A44D-481A-A623-B5E193F86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39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866400" cy="44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3866400" cy="44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C53C0-8172-4458-B342-5D2E98CF1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39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866400" cy="44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3866400" cy="44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1ED4A29-A87F-4938-9F7F-88944D7A4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39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2A5BC6D-19A2-4C6F-B2AC-F85769DBB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3960" cy="42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FDA1D04-05E1-42CD-BE62-D862BE966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39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8664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3866400" cy="44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609120" y="3907800"/>
            <a:ext cx="38664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50AF8B6-A821-4331-83C0-9FB85B3F4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39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866400" cy="44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38664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4669200" y="3907800"/>
            <a:ext cx="38664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E2AA9A2-2D51-440D-9813-D90F564CB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39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8664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38664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609120" y="3907800"/>
            <a:ext cx="792324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C5AAD28-23EC-4E85-BA4B-DAB5B72C4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39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792324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609120" y="3907800"/>
            <a:ext cx="792324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573F7B1-7FCB-49E2-8456-BAEDACC76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39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8664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38664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609120" y="3907800"/>
            <a:ext cx="38664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PlaceHolder 5"/>
          <p:cNvSpPr>
            <a:spLocks noGrp="1"/>
          </p:cNvSpPr>
          <p:nvPr>
            <p:ph/>
          </p:nvPr>
        </p:nvSpPr>
        <p:spPr>
          <a:xfrm>
            <a:off x="4669200" y="3907800"/>
            <a:ext cx="38664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D379B5C-1114-4733-BFCC-577FC2CDE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39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255096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3287880" y="1600200"/>
            <a:ext cx="255096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5967000" y="1600200"/>
            <a:ext cx="255096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PlaceHolder 5"/>
          <p:cNvSpPr>
            <a:spLocks noGrp="1"/>
          </p:cNvSpPr>
          <p:nvPr>
            <p:ph/>
          </p:nvPr>
        </p:nvSpPr>
        <p:spPr>
          <a:xfrm>
            <a:off x="609120" y="3907800"/>
            <a:ext cx="255096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" name="PlaceHolder 6"/>
          <p:cNvSpPr>
            <a:spLocks noGrp="1"/>
          </p:cNvSpPr>
          <p:nvPr>
            <p:ph/>
          </p:nvPr>
        </p:nvSpPr>
        <p:spPr>
          <a:xfrm>
            <a:off x="3287880" y="3907800"/>
            <a:ext cx="255096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7"/>
          <p:cNvSpPr>
            <a:spLocks noGrp="1"/>
          </p:cNvSpPr>
          <p:nvPr>
            <p:ph/>
          </p:nvPr>
        </p:nvSpPr>
        <p:spPr>
          <a:xfrm>
            <a:off x="5967000" y="3907800"/>
            <a:ext cx="255096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E44501D-7DCC-43EC-8BE2-12346E06A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1864856-72FC-49F7-9DF5-51A1BAB36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39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A7EA0-C8E8-45BC-B47D-3EAABBF45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39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 type="subTitle"/>
          </p:nvPr>
        </p:nvSpPr>
        <p:spPr>
          <a:xfrm>
            <a:off x="609120" y="1600200"/>
            <a:ext cx="7923240" cy="441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16D6BC5-00F9-4223-B4D4-69B91B081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39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7923240" cy="44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C02B22E-0362-4B56-A1E5-B984D4954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39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866400" cy="44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3866400" cy="44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129F3A7-E761-40D6-AEF9-2B50D272C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39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5E25A9A-B722-4B44-B512-AC4F204A4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3960" cy="42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6D8DBB0-6637-40F9-AD14-4B3E134D7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39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8664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3866400" cy="44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609120" y="3907800"/>
            <a:ext cx="38664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ADF9400-94B6-44C2-8466-AC8E6E988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39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866400" cy="44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38664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4669200" y="3907800"/>
            <a:ext cx="38664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FDC3485-3100-48B9-A138-5F377203D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39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8664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38664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609120" y="3907800"/>
            <a:ext cx="792324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EDBB380-2D96-4CEA-8E31-E725B635F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39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792324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609120" y="3907800"/>
            <a:ext cx="792324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C6893E8-7BA4-47EF-A7CD-575DBA101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39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8664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38664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609120" y="3907800"/>
            <a:ext cx="38664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7" name="PlaceHolder 5"/>
          <p:cNvSpPr>
            <a:spLocks noGrp="1"/>
          </p:cNvSpPr>
          <p:nvPr>
            <p:ph/>
          </p:nvPr>
        </p:nvSpPr>
        <p:spPr>
          <a:xfrm>
            <a:off x="4669200" y="3907800"/>
            <a:ext cx="38664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0E17559-D8BA-42A6-B141-79246774D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3960" cy="42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8E14F-72DE-4C00-867C-E859DDE89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39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255096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3287880" y="1600200"/>
            <a:ext cx="255096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5967000" y="1600200"/>
            <a:ext cx="255096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2" name="PlaceHolder 5"/>
          <p:cNvSpPr>
            <a:spLocks noGrp="1"/>
          </p:cNvSpPr>
          <p:nvPr>
            <p:ph/>
          </p:nvPr>
        </p:nvSpPr>
        <p:spPr>
          <a:xfrm>
            <a:off x="609120" y="3907800"/>
            <a:ext cx="255096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3" name="PlaceHolder 6"/>
          <p:cNvSpPr>
            <a:spLocks noGrp="1"/>
          </p:cNvSpPr>
          <p:nvPr>
            <p:ph/>
          </p:nvPr>
        </p:nvSpPr>
        <p:spPr>
          <a:xfrm>
            <a:off x="3287880" y="3907800"/>
            <a:ext cx="255096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4" name="PlaceHolder 7"/>
          <p:cNvSpPr>
            <a:spLocks noGrp="1"/>
          </p:cNvSpPr>
          <p:nvPr>
            <p:ph/>
          </p:nvPr>
        </p:nvSpPr>
        <p:spPr>
          <a:xfrm>
            <a:off x="5967000" y="3907800"/>
            <a:ext cx="255096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20AD450-855C-4E8B-9A08-452C9351B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A5F369F-E577-403C-A916-40AC4DB33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39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 type="subTitle"/>
          </p:nvPr>
        </p:nvSpPr>
        <p:spPr>
          <a:xfrm>
            <a:off x="609120" y="1600200"/>
            <a:ext cx="7923240" cy="441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98D3153-8BF3-44B7-BB42-7729A3348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39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7923240" cy="44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EFDB8A3-30B8-4E7A-93D2-AB9DF9D61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39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866400" cy="44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3866400" cy="44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43C1F10-2635-4B2D-80E2-825ACD4E8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39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C76CC78-5638-4873-9568-A038E5D9C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3960" cy="42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6436247-70CB-4E5F-934F-727C3C17D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39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8664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3866400" cy="44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609120" y="3907800"/>
            <a:ext cx="38664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359D10D-7D66-46BF-9CC0-F9DBCB13C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39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866400" cy="44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38664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4669200" y="3907800"/>
            <a:ext cx="38664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8730F9F-3838-4885-8F80-BDDEE6A77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39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8664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38664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609120" y="3907800"/>
            <a:ext cx="792324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7A9D41C-B364-4005-BAF4-AB2877F67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39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8664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3866400" cy="44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9120" y="3907800"/>
            <a:ext cx="38664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47B4F-8F8A-47EA-B1FC-0F18B0CA2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39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792324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609120" y="3907800"/>
            <a:ext cx="792324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EA0C31A-4E45-435B-BA50-E69D8A377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39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8664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38664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609120" y="3907800"/>
            <a:ext cx="38664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4669200" y="3907800"/>
            <a:ext cx="38664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1C3C8DE-946F-4B99-B1A1-EBE62913B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39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255096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3287880" y="1600200"/>
            <a:ext cx="255096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/>
          </p:nvPr>
        </p:nvSpPr>
        <p:spPr>
          <a:xfrm>
            <a:off x="5967000" y="1600200"/>
            <a:ext cx="255096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2" name="PlaceHolder 5"/>
          <p:cNvSpPr>
            <a:spLocks noGrp="1"/>
          </p:cNvSpPr>
          <p:nvPr>
            <p:ph/>
          </p:nvPr>
        </p:nvSpPr>
        <p:spPr>
          <a:xfrm>
            <a:off x="609120" y="3907800"/>
            <a:ext cx="255096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3" name="PlaceHolder 6"/>
          <p:cNvSpPr>
            <a:spLocks noGrp="1"/>
          </p:cNvSpPr>
          <p:nvPr>
            <p:ph/>
          </p:nvPr>
        </p:nvSpPr>
        <p:spPr>
          <a:xfrm>
            <a:off x="3287880" y="3907800"/>
            <a:ext cx="255096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4" name="PlaceHolder 7"/>
          <p:cNvSpPr>
            <a:spLocks noGrp="1"/>
          </p:cNvSpPr>
          <p:nvPr>
            <p:ph/>
          </p:nvPr>
        </p:nvSpPr>
        <p:spPr>
          <a:xfrm>
            <a:off x="5967000" y="3907800"/>
            <a:ext cx="255096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714DE9F-4A8B-4027-8AFA-FDC1FA6BA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FE0E70F-2955-41D3-BA8C-F9D81AD13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39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 type="subTitle"/>
          </p:nvPr>
        </p:nvSpPr>
        <p:spPr>
          <a:xfrm>
            <a:off x="609120" y="1600200"/>
            <a:ext cx="7923240" cy="441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2A3D210-53A1-490D-9B0E-E29600464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39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7923240" cy="44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5993E16-B61F-42CB-90FD-187741358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39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866400" cy="44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3866400" cy="44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441DA50-C8C8-4B89-872A-ACC367166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39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FAAECD5-0318-43DC-82F7-361F5BF43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3960" cy="42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610CA6F-0D83-42AF-A9B1-E7CE696AB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39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8664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3866400" cy="44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5" name="PlaceHolder 4"/>
          <p:cNvSpPr>
            <a:spLocks noGrp="1"/>
          </p:cNvSpPr>
          <p:nvPr>
            <p:ph/>
          </p:nvPr>
        </p:nvSpPr>
        <p:spPr>
          <a:xfrm>
            <a:off x="609120" y="3907800"/>
            <a:ext cx="38664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C31D8D6-F368-4246-9D64-9C2CF3EA5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39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609120" y="1600200"/>
            <a:ext cx="7923240" cy="441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BF361-65E3-48F9-842D-721A01E81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39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866400" cy="44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38664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69200" y="3907800"/>
            <a:ext cx="38664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9E64E-9424-4B7C-B339-17AF9972E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39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866400" cy="44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38664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/>
          </p:nvPr>
        </p:nvSpPr>
        <p:spPr>
          <a:xfrm>
            <a:off x="4669200" y="3907800"/>
            <a:ext cx="38664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0665060-D308-4FE7-B2BC-5D4E07302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39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8664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38664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/>
          </p:nvPr>
        </p:nvSpPr>
        <p:spPr>
          <a:xfrm>
            <a:off x="609120" y="3907800"/>
            <a:ext cx="792324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B9F3A9D-FCC2-48D4-98ED-6C41BD901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39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792324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609120" y="3907800"/>
            <a:ext cx="792324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21A2ABB-33B8-48A2-802A-7DB85DCB1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39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8664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38664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PlaceHolder 4"/>
          <p:cNvSpPr>
            <a:spLocks noGrp="1"/>
          </p:cNvSpPr>
          <p:nvPr>
            <p:ph/>
          </p:nvPr>
        </p:nvSpPr>
        <p:spPr>
          <a:xfrm>
            <a:off x="609120" y="3907800"/>
            <a:ext cx="38664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PlaceHolder 5"/>
          <p:cNvSpPr>
            <a:spLocks noGrp="1"/>
          </p:cNvSpPr>
          <p:nvPr>
            <p:ph/>
          </p:nvPr>
        </p:nvSpPr>
        <p:spPr>
          <a:xfrm>
            <a:off x="4669200" y="3907800"/>
            <a:ext cx="38664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FC8C5B4-304F-4C24-91F6-0B79A0B3C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39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255096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3287880" y="1600200"/>
            <a:ext cx="255096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5967000" y="1600200"/>
            <a:ext cx="255096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PlaceHolder 5"/>
          <p:cNvSpPr>
            <a:spLocks noGrp="1"/>
          </p:cNvSpPr>
          <p:nvPr>
            <p:ph/>
          </p:nvPr>
        </p:nvSpPr>
        <p:spPr>
          <a:xfrm>
            <a:off x="609120" y="3907800"/>
            <a:ext cx="255096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PlaceHolder 6"/>
          <p:cNvSpPr>
            <a:spLocks noGrp="1"/>
          </p:cNvSpPr>
          <p:nvPr>
            <p:ph/>
          </p:nvPr>
        </p:nvSpPr>
        <p:spPr>
          <a:xfrm>
            <a:off x="3287880" y="3907800"/>
            <a:ext cx="255096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PlaceHolder 7"/>
          <p:cNvSpPr>
            <a:spLocks noGrp="1"/>
          </p:cNvSpPr>
          <p:nvPr>
            <p:ph/>
          </p:nvPr>
        </p:nvSpPr>
        <p:spPr>
          <a:xfrm>
            <a:off x="5967000" y="3907800"/>
            <a:ext cx="255096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B6D9EAB-5466-4FF0-A629-15040CE3E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E336B29-87A6-4014-BEDB-BA86A9DDC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39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 type="subTitle"/>
          </p:nvPr>
        </p:nvSpPr>
        <p:spPr>
          <a:xfrm>
            <a:off x="609120" y="1600200"/>
            <a:ext cx="7923240" cy="441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DAE0012-3DCF-4FD7-90BA-C9D99C99B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39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7923240" cy="44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586802E-D316-4147-B5B7-9AE6B4C46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39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866400" cy="44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3866400" cy="44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392D49C-390F-4389-AD10-0777EB617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39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2E61C58-3A89-426A-A1FB-9231E5CA2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39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8664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38664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09120" y="3907800"/>
            <a:ext cx="792324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2753C-664C-4873-BD5B-D7F70BE84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3960" cy="42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CB8D76C-3B93-439F-BCBA-17482962B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39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8664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3866400" cy="44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609120" y="3907800"/>
            <a:ext cx="38664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156124B-3C9E-439D-9BD4-B5431529C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39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866400" cy="44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38664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4669200" y="3907800"/>
            <a:ext cx="38664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257D56B-8B7B-4D8C-9E7F-2DF2FFFC1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39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8664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38664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7" name="PlaceHolder 4"/>
          <p:cNvSpPr>
            <a:spLocks noGrp="1"/>
          </p:cNvSpPr>
          <p:nvPr>
            <p:ph/>
          </p:nvPr>
        </p:nvSpPr>
        <p:spPr>
          <a:xfrm>
            <a:off x="609120" y="3907800"/>
            <a:ext cx="792324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6FCE338-D69B-4215-BD3A-9CDFD95A7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39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792324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/>
          </p:nvPr>
        </p:nvSpPr>
        <p:spPr>
          <a:xfrm>
            <a:off x="609120" y="3907800"/>
            <a:ext cx="792324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9C3A5C2-C9EE-424A-918C-F5774A039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39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8664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38664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609120" y="3907800"/>
            <a:ext cx="38664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5" name="PlaceHolder 5"/>
          <p:cNvSpPr>
            <a:spLocks noGrp="1"/>
          </p:cNvSpPr>
          <p:nvPr>
            <p:ph/>
          </p:nvPr>
        </p:nvSpPr>
        <p:spPr>
          <a:xfrm>
            <a:off x="4669200" y="3907800"/>
            <a:ext cx="38664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3F91DF3-ABE8-4823-90E7-A5C5F22A8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39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255096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3287880" y="1600200"/>
            <a:ext cx="255096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9" name="PlaceHolder 4"/>
          <p:cNvSpPr>
            <a:spLocks noGrp="1"/>
          </p:cNvSpPr>
          <p:nvPr>
            <p:ph/>
          </p:nvPr>
        </p:nvSpPr>
        <p:spPr>
          <a:xfrm>
            <a:off x="5967000" y="1600200"/>
            <a:ext cx="255096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0" name="PlaceHolder 5"/>
          <p:cNvSpPr>
            <a:spLocks noGrp="1"/>
          </p:cNvSpPr>
          <p:nvPr>
            <p:ph/>
          </p:nvPr>
        </p:nvSpPr>
        <p:spPr>
          <a:xfrm>
            <a:off x="609120" y="3907800"/>
            <a:ext cx="255096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1" name="PlaceHolder 6"/>
          <p:cNvSpPr>
            <a:spLocks noGrp="1"/>
          </p:cNvSpPr>
          <p:nvPr>
            <p:ph/>
          </p:nvPr>
        </p:nvSpPr>
        <p:spPr>
          <a:xfrm>
            <a:off x="3287880" y="3907800"/>
            <a:ext cx="255096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2" name="PlaceHolder 7"/>
          <p:cNvSpPr>
            <a:spLocks noGrp="1"/>
          </p:cNvSpPr>
          <p:nvPr>
            <p:ph/>
          </p:nvPr>
        </p:nvSpPr>
        <p:spPr>
          <a:xfrm>
            <a:off x="5967000" y="3907800"/>
            <a:ext cx="255096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02C171A-A226-4456-AC3A-6D387BCC5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D6BD129-AD9B-4DEF-A16C-63D7FB024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39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 type="subTitle"/>
          </p:nvPr>
        </p:nvSpPr>
        <p:spPr>
          <a:xfrm>
            <a:off x="609120" y="1600200"/>
            <a:ext cx="7923240" cy="441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3921A79-A120-480F-9566-5168572BF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39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7923240" cy="44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4E8A692-C7CC-40EA-A247-648C22CBE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39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792324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609120" y="3907800"/>
            <a:ext cx="792324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60F6D-0B2D-4E50-B2A1-752E739D3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39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866400" cy="44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3866400" cy="44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4694D03-4BB0-486A-BD81-CB7B2EA67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39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A7EB648-9D95-47D9-B55B-0661A9711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3960" cy="42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BF8CC7A-062D-4A6A-8F7A-DFDB49EC6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39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8664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3866400" cy="44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PlaceHolder 4"/>
          <p:cNvSpPr>
            <a:spLocks noGrp="1"/>
          </p:cNvSpPr>
          <p:nvPr>
            <p:ph/>
          </p:nvPr>
        </p:nvSpPr>
        <p:spPr>
          <a:xfrm>
            <a:off x="609120" y="3907800"/>
            <a:ext cx="38664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03FD916-E124-4E27-916B-12E1E0015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39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866400" cy="44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38664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PlaceHolder 4"/>
          <p:cNvSpPr>
            <a:spLocks noGrp="1"/>
          </p:cNvSpPr>
          <p:nvPr>
            <p:ph/>
          </p:nvPr>
        </p:nvSpPr>
        <p:spPr>
          <a:xfrm>
            <a:off x="4669200" y="3907800"/>
            <a:ext cx="38664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DA183E1-6216-4E29-AB0F-427730E9D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39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8664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38664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/>
          </p:nvPr>
        </p:nvSpPr>
        <p:spPr>
          <a:xfrm>
            <a:off x="609120" y="3907800"/>
            <a:ext cx="792324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744A588-CFE4-444A-B9DB-238DFC034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39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792324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3" name="PlaceHolder 3"/>
          <p:cNvSpPr>
            <a:spLocks noGrp="1"/>
          </p:cNvSpPr>
          <p:nvPr>
            <p:ph/>
          </p:nvPr>
        </p:nvSpPr>
        <p:spPr>
          <a:xfrm>
            <a:off x="609120" y="3907800"/>
            <a:ext cx="792324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B30820E-8766-4246-8CBD-A6B9126B7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39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8664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6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38664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PlaceHolder 4"/>
          <p:cNvSpPr>
            <a:spLocks noGrp="1"/>
          </p:cNvSpPr>
          <p:nvPr>
            <p:ph/>
          </p:nvPr>
        </p:nvSpPr>
        <p:spPr>
          <a:xfrm>
            <a:off x="609120" y="3907800"/>
            <a:ext cx="38664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PlaceHolder 5"/>
          <p:cNvSpPr>
            <a:spLocks noGrp="1"/>
          </p:cNvSpPr>
          <p:nvPr>
            <p:ph/>
          </p:nvPr>
        </p:nvSpPr>
        <p:spPr>
          <a:xfrm>
            <a:off x="4669200" y="3907800"/>
            <a:ext cx="38664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4EEAA2C-F844-472B-9408-D92218705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39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255096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3287880" y="1600200"/>
            <a:ext cx="255096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5967000" y="1600200"/>
            <a:ext cx="255096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609120" y="3907800"/>
            <a:ext cx="255096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PlaceHolder 6"/>
          <p:cNvSpPr>
            <a:spLocks noGrp="1"/>
          </p:cNvSpPr>
          <p:nvPr>
            <p:ph/>
          </p:nvPr>
        </p:nvSpPr>
        <p:spPr>
          <a:xfrm>
            <a:off x="3287880" y="3907800"/>
            <a:ext cx="255096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PlaceHolder 7"/>
          <p:cNvSpPr>
            <a:spLocks noGrp="1"/>
          </p:cNvSpPr>
          <p:nvPr>
            <p:ph/>
          </p:nvPr>
        </p:nvSpPr>
        <p:spPr>
          <a:xfrm>
            <a:off x="5967000" y="3907800"/>
            <a:ext cx="255096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7342B0F-06E4-40E9-839C-D5CDF9AA2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841FAA7-F9E6-47E0-BEA4-8995DEE57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39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8664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38664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09120" y="3907800"/>
            <a:ext cx="38664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69200" y="3907800"/>
            <a:ext cx="38664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EEBB1-C5B9-4C1F-8624-FB5AC4D95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39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 type="subTitle"/>
          </p:nvPr>
        </p:nvSpPr>
        <p:spPr>
          <a:xfrm>
            <a:off x="609120" y="1600200"/>
            <a:ext cx="7923240" cy="441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0E6B85C-5405-4C31-B90A-23D822818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39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7923240" cy="44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F74523D-258A-4AD8-B11A-0D6585D18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39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866400" cy="44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3866400" cy="44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A34B1EA-77AA-4A17-BE12-4102DE676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39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74AD4A4-85F5-4F6A-9276-E3B7165CF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3960" cy="42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96B51D4-5017-40BF-AB64-4C237E35F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39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8664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3866400" cy="44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609120" y="3907800"/>
            <a:ext cx="38664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2D90A9E-A5B1-4CD9-9767-85E1FAC6A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39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866400" cy="44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7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38664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8" name="PlaceHolder 4"/>
          <p:cNvSpPr>
            <a:spLocks noGrp="1"/>
          </p:cNvSpPr>
          <p:nvPr>
            <p:ph/>
          </p:nvPr>
        </p:nvSpPr>
        <p:spPr>
          <a:xfrm>
            <a:off x="4669200" y="3907800"/>
            <a:ext cx="38664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84A711A-2348-4A6D-9EC8-A7F69F497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39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8664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38664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2" name="PlaceHolder 4"/>
          <p:cNvSpPr>
            <a:spLocks noGrp="1"/>
          </p:cNvSpPr>
          <p:nvPr>
            <p:ph/>
          </p:nvPr>
        </p:nvSpPr>
        <p:spPr>
          <a:xfrm>
            <a:off x="609120" y="3907800"/>
            <a:ext cx="792324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7B2EC83-CF60-45AA-8F09-3B8DBA456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39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792324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609120" y="3907800"/>
            <a:ext cx="792324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3FC081E-D455-4000-81BC-E69B5AA11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39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8664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8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38664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9" name="PlaceHolder 4"/>
          <p:cNvSpPr>
            <a:spLocks noGrp="1"/>
          </p:cNvSpPr>
          <p:nvPr>
            <p:ph/>
          </p:nvPr>
        </p:nvSpPr>
        <p:spPr>
          <a:xfrm>
            <a:off x="609120" y="3907800"/>
            <a:ext cx="38664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0" name="PlaceHolder 5"/>
          <p:cNvSpPr>
            <a:spLocks noGrp="1"/>
          </p:cNvSpPr>
          <p:nvPr>
            <p:ph/>
          </p:nvPr>
        </p:nvSpPr>
        <p:spPr>
          <a:xfrm>
            <a:off x="4669200" y="3907800"/>
            <a:ext cx="38664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BAB5067-7173-4FF2-9800-D75B13BE5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39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255096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87880" y="1600200"/>
            <a:ext cx="255096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967000" y="1600200"/>
            <a:ext cx="255096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609120" y="3907800"/>
            <a:ext cx="255096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87880" y="3907800"/>
            <a:ext cx="255096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967000" y="3907800"/>
            <a:ext cx="255096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E8AF5-A327-485E-8E1C-2537731F8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39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255096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3287880" y="1600200"/>
            <a:ext cx="255096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4" name="PlaceHolder 4"/>
          <p:cNvSpPr>
            <a:spLocks noGrp="1"/>
          </p:cNvSpPr>
          <p:nvPr>
            <p:ph/>
          </p:nvPr>
        </p:nvSpPr>
        <p:spPr>
          <a:xfrm>
            <a:off x="5967000" y="1600200"/>
            <a:ext cx="255096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5" name="PlaceHolder 5"/>
          <p:cNvSpPr>
            <a:spLocks noGrp="1"/>
          </p:cNvSpPr>
          <p:nvPr>
            <p:ph/>
          </p:nvPr>
        </p:nvSpPr>
        <p:spPr>
          <a:xfrm>
            <a:off x="609120" y="3907800"/>
            <a:ext cx="255096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PlaceHolder 6"/>
          <p:cNvSpPr>
            <a:spLocks noGrp="1"/>
          </p:cNvSpPr>
          <p:nvPr>
            <p:ph/>
          </p:nvPr>
        </p:nvSpPr>
        <p:spPr>
          <a:xfrm>
            <a:off x="3287880" y="3907800"/>
            <a:ext cx="255096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PlaceHolder 7"/>
          <p:cNvSpPr>
            <a:spLocks noGrp="1"/>
          </p:cNvSpPr>
          <p:nvPr>
            <p:ph/>
          </p:nvPr>
        </p:nvSpPr>
        <p:spPr>
          <a:xfrm>
            <a:off x="5967000" y="3907800"/>
            <a:ext cx="255096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E6A71D2-65C8-43F2-993D-9B4DB8B55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4D0E33-905A-461E-BF1E-BAA744957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39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609120" y="1600200"/>
            <a:ext cx="7923240" cy="441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5B7199-CF81-4032-9257-4CBDD23F5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39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7923240" cy="44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82D907-18A7-423A-B37F-7897B1396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39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866400" cy="44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3866400" cy="44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E4DFBD-12EB-4332-BD5E-14419B850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39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AFF1F0-C341-45AC-A65F-C3A13E9DA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39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7923240" cy="44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EE03E-B8D7-4304-9EF3-D9E1A832C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3960" cy="42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6B07D2-A316-4BF6-8C10-5BECE74D3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39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8664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3866400" cy="44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9120" y="3907800"/>
            <a:ext cx="38664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B55238-F635-4C46-82C3-9ED21CAEA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39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866400" cy="44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38664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69200" y="3907800"/>
            <a:ext cx="38664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BE1A9A-42F0-4082-A1D8-4E1C33A59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39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8664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38664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09120" y="3907800"/>
            <a:ext cx="792324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D9BA23-A07D-4176-A881-B6369CE69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39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792324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609120" y="3907800"/>
            <a:ext cx="792324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E1573E-29B1-4869-BA43-E4C3D50A9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39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8664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38664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09120" y="3907800"/>
            <a:ext cx="38664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69200" y="3907800"/>
            <a:ext cx="38664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2160D3-7776-4574-AF24-3B5BDD7CC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39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255096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87880" y="1600200"/>
            <a:ext cx="255096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5967000" y="1600200"/>
            <a:ext cx="255096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609120" y="3907800"/>
            <a:ext cx="255096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87880" y="3907800"/>
            <a:ext cx="255096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5967000" y="3907800"/>
            <a:ext cx="255096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3D18DA-D597-4838-9E83-0D7C22D90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1698D7-9DB3-4099-BE15-2852D91E5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39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609120" y="1600200"/>
            <a:ext cx="7923240" cy="441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98175B-A34F-4F61-A2FC-A6CBC7F61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39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7923240" cy="44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DFEAAA-7236-4B18-B788-BDECBE59C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39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866400" cy="44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3866400" cy="44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95C29-3156-4AC9-AC64-48BD9FE30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39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866400" cy="44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3866400" cy="44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F59F80-11EC-45EE-AF08-A761DA8E0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39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024663-713D-4A83-B734-5281DC7D5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3960" cy="42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BF2670-F8BE-4EA4-9211-E60263FB4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39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8664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3866400" cy="44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9120" y="3907800"/>
            <a:ext cx="38664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374322-B19F-4702-AD77-706FE449B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39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866400" cy="44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38664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669200" y="3907800"/>
            <a:ext cx="38664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7AAF8D-D58A-463E-95EA-3F6015FFA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39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8664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38664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09120" y="3907800"/>
            <a:ext cx="792324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DACAC7-198C-49EB-BA03-3CEFBC5E1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39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792324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609120" y="3907800"/>
            <a:ext cx="792324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AA8AA5-6D88-4DC1-8892-381E0B568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39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8664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38664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9120" y="3907800"/>
            <a:ext cx="38664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669200" y="3907800"/>
            <a:ext cx="38664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43892E-3292-4B69-83DB-86CF386E6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39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255096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87880" y="1600200"/>
            <a:ext cx="255096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5967000" y="1600200"/>
            <a:ext cx="255096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609120" y="3907800"/>
            <a:ext cx="255096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87880" y="3907800"/>
            <a:ext cx="255096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5967000" y="3907800"/>
            <a:ext cx="255096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E0C05A-8676-4D96-8D13-782B32EB3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062849-ED13-41FF-BE70-F5076320F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39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B8AE3-B5CE-447B-90E3-FA0C60F6C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39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subTitle"/>
          </p:nvPr>
        </p:nvSpPr>
        <p:spPr>
          <a:xfrm>
            <a:off x="609120" y="1600200"/>
            <a:ext cx="7923240" cy="441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54837D-A2F2-49F4-8820-A03605CDF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39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7923240" cy="44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B563A9-6496-4A25-A507-AE717B6DE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39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866400" cy="44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3866400" cy="44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892E54-444B-4737-904D-9CDBB9A19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39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4C8666-9333-4498-979F-E4D2D8801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3960" cy="42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5EE2A9-649D-42ED-87A8-2CA31A062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39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8664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3866400" cy="44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09120" y="3907800"/>
            <a:ext cx="38664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A58FEC-195C-4655-A4CD-7E50E8AC7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39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866400" cy="44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38664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669200" y="3907800"/>
            <a:ext cx="38664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46EE56-7F7E-4529-857C-2C3B01378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39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8664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38664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9120" y="3907800"/>
            <a:ext cx="792324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06F0B4-F754-4E5F-81EE-85E462D06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39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792324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609120" y="3907800"/>
            <a:ext cx="792324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C55194-6FB5-4968-B5EF-3B34E1B79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39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8664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38664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09120" y="3907800"/>
            <a:ext cx="38664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4669200" y="3907800"/>
            <a:ext cx="38664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ACEAD7-AF07-4AEE-8CA3-ACEFC7BAD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3960" cy="42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71FDF-7840-4121-BBBD-8C4B2A0B0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39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255096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3287880" y="1600200"/>
            <a:ext cx="255096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5967000" y="1600200"/>
            <a:ext cx="255096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609120" y="3907800"/>
            <a:ext cx="255096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6"/>
          <p:cNvSpPr>
            <a:spLocks noGrp="1"/>
          </p:cNvSpPr>
          <p:nvPr>
            <p:ph/>
          </p:nvPr>
        </p:nvSpPr>
        <p:spPr>
          <a:xfrm>
            <a:off x="3287880" y="3907800"/>
            <a:ext cx="255096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7"/>
          <p:cNvSpPr>
            <a:spLocks noGrp="1"/>
          </p:cNvSpPr>
          <p:nvPr>
            <p:ph/>
          </p:nvPr>
        </p:nvSpPr>
        <p:spPr>
          <a:xfrm>
            <a:off x="5967000" y="3907800"/>
            <a:ext cx="255096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D4B47E-3344-4E60-8A9D-4E3CB852B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C17569-81BE-4EA5-B54F-0E03E2C2E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39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09120" y="1600200"/>
            <a:ext cx="7923240" cy="441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BD93DC-64D2-4689-AEDB-D842FD2C8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39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7923240" cy="44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20C08C-50B5-49ED-A43F-04F89CD5B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39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866400" cy="44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3866400" cy="44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B55049-0C02-4243-A48C-1698B00EB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39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7DC7B9-BD2E-47BE-A1EF-F19DF5570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3960" cy="42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D53B6E-E269-48BE-8F21-DB04C2AF9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39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8664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3866400" cy="44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09120" y="3907800"/>
            <a:ext cx="38664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D4DD5E-460A-47F3-8762-3FCAB04DA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39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866400" cy="44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38664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9200" y="3907800"/>
            <a:ext cx="38664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C50B03-0635-4B08-B1BD-36DF1CE5C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39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8664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38664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09120" y="3907800"/>
            <a:ext cx="792324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FDFB34-6F8D-47A1-9CB4-F7949CC55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39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8664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3866400" cy="44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9120" y="3907800"/>
            <a:ext cx="38664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32799-12F3-4834-A2DD-ED49A625F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39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792324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09120" y="3907800"/>
            <a:ext cx="792324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FE9D8F-CFC1-45C0-82BF-1817A3488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39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8664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38664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09120" y="3907800"/>
            <a:ext cx="38664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9200" y="3907800"/>
            <a:ext cx="38664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58DACF-46D8-4468-864C-B8CBA8634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39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255096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87880" y="1600200"/>
            <a:ext cx="255096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67000" y="1600200"/>
            <a:ext cx="255096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09120" y="3907800"/>
            <a:ext cx="255096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87880" y="3907800"/>
            <a:ext cx="255096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67000" y="3907800"/>
            <a:ext cx="255096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99167A-2A05-4C20-8BF3-31D6627D1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8B3313-4B6B-44C6-916F-8247A16C8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39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609120" y="1600200"/>
            <a:ext cx="7923240" cy="441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CDA4CB-3E91-4862-866A-32C37858E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39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7923240" cy="44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D4AA1F-B334-48C9-97C3-F371B12BF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39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866400" cy="44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3866400" cy="44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58FCD9-0EE6-4DF4-A14A-97792DEE1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39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1C0F5B-7E2C-4D7F-A9D6-972542F2C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3960" cy="42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4277E1-FF70-45EC-8E79-146F93E88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39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8664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3866400" cy="44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09120" y="3907800"/>
            <a:ext cx="38664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DD4D2F-C199-4C13-B760-6CE3F1A7A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39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866400" cy="44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38664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9200" y="3907800"/>
            <a:ext cx="38664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292C8-06FB-4004-9094-C3FD27BCE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39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866400" cy="44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38664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669200" y="3907800"/>
            <a:ext cx="38664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72BE5E-031D-4AA9-B478-AFB86E815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39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8664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38664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609120" y="3907800"/>
            <a:ext cx="792324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9864C5-B131-491B-9934-DB4B67732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39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792324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609120" y="3907800"/>
            <a:ext cx="792324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279C94-EC23-49B3-A300-A67861141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39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8664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38664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609120" y="3907800"/>
            <a:ext cx="38664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669200" y="3907800"/>
            <a:ext cx="38664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DA40F8-DE8A-42F6-819F-49B6FAD9C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39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255096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3287880" y="1600200"/>
            <a:ext cx="255096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5967000" y="1600200"/>
            <a:ext cx="255096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609120" y="3907800"/>
            <a:ext cx="255096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3287880" y="3907800"/>
            <a:ext cx="255096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5967000" y="3907800"/>
            <a:ext cx="255096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B91E00-1729-4900-ADDA-78CB079FC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9EB172-0A83-4AFE-A3BB-7540584B8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39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subTitle"/>
          </p:nvPr>
        </p:nvSpPr>
        <p:spPr>
          <a:xfrm>
            <a:off x="609120" y="1600200"/>
            <a:ext cx="7923240" cy="441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8151CC-53FD-49FC-9402-FB85C354D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39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7923240" cy="44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52C56B-D188-4A50-AF16-95DEA7D06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39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866400" cy="44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3866400" cy="44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9BC2EF-0376-462C-969C-83CCC190C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39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B84DAF-D97D-430E-BFC0-9EB805AB9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39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8664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38664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3907800"/>
            <a:ext cx="792324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61330-EC21-49B3-B758-872E72E6C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3960" cy="42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6FD6CC-86C3-461A-9F06-9E31E06BE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39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8664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3866400" cy="44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609120" y="3907800"/>
            <a:ext cx="38664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72CDFF-F5FB-4B36-AB64-48766E966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39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866400" cy="44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38664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669200" y="3907800"/>
            <a:ext cx="38664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7A4344-A8C8-4F21-A45C-5A9A82DA5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39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8664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38664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09120" y="3907800"/>
            <a:ext cx="792324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D9FBE5-656D-41CA-A6D8-8E2A30EFC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39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792324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609120" y="3907800"/>
            <a:ext cx="792324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E783F5-0588-4404-8276-A5948E588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39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8664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38664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9120" y="3907800"/>
            <a:ext cx="38664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669200" y="3907800"/>
            <a:ext cx="38664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508148-8A3D-4E89-94F5-8679D421F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39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255096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3287880" y="1600200"/>
            <a:ext cx="255096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967000" y="1600200"/>
            <a:ext cx="255096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609120" y="3907800"/>
            <a:ext cx="255096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6"/>
          <p:cNvSpPr>
            <a:spLocks noGrp="1"/>
          </p:cNvSpPr>
          <p:nvPr>
            <p:ph/>
          </p:nvPr>
        </p:nvSpPr>
        <p:spPr>
          <a:xfrm>
            <a:off x="3287880" y="3907800"/>
            <a:ext cx="255096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7"/>
          <p:cNvSpPr>
            <a:spLocks noGrp="1"/>
          </p:cNvSpPr>
          <p:nvPr>
            <p:ph/>
          </p:nvPr>
        </p:nvSpPr>
        <p:spPr>
          <a:xfrm>
            <a:off x="5967000" y="3907800"/>
            <a:ext cx="255096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EE7439-ED81-4B15-8665-1A9B026F4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87EC88-8462-4264-B3DE-CFEC4DEFF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39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subTitle"/>
          </p:nvPr>
        </p:nvSpPr>
        <p:spPr>
          <a:xfrm>
            <a:off x="609120" y="1600200"/>
            <a:ext cx="7923240" cy="441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7EF178-F7C9-4B50-B5ED-C6879D824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39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7923240" cy="44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045AEB-3490-4D38-A1C5-474C06ACC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.xml"/><Relationship Id="rId32" Type="http://schemas.openxmlformats.org/officeDocument/2006/relationships/slideLayout" Target="../slideLayouts/slideLayout2.xml"/><Relationship Id="rId33" Type="http://schemas.openxmlformats.org/officeDocument/2006/relationships/slideLayout" Target="../slideLayouts/slideLayout3.xml"/><Relationship Id="rId34" Type="http://schemas.openxmlformats.org/officeDocument/2006/relationships/slideLayout" Target="../slideLayouts/slideLayout4.xml"/><Relationship Id="rId35" Type="http://schemas.openxmlformats.org/officeDocument/2006/relationships/slideLayout" Target="../slideLayouts/slideLayout5.xml"/><Relationship Id="rId36" Type="http://schemas.openxmlformats.org/officeDocument/2006/relationships/slideLayout" Target="../slideLayouts/slideLayout6.xml"/><Relationship Id="rId37" Type="http://schemas.openxmlformats.org/officeDocument/2006/relationships/slideLayout" Target="../slideLayouts/slideLayout7.xml"/><Relationship Id="rId38" Type="http://schemas.openxmlformats.org/officeDocument/2006/relationships/slideLayout" Target="../slideLayouts/slideLayout8.xml"/><Relationship Id="rId39" Type="http://schemas.openxmlformats.org/officeDocument/2006/relationships/slideLayout" Target="../slideLayouts/slideLayout9.xml"/><Relationship Id="rId40" Type="http://schemas.openxmlformats.org/officeDocument/2006/relationships/slideLayout" Target="../slideLayouts/slideLayout10.xml"/><Relationship Id="rId41" Type="http://schemas.openxmlformats.org/officeDocument/2006/relationships/slideLayout" Target="../slideLayouts/slideLayout11.xml"/><Relationship Id="rId42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8400" cy="6869160"/>
            <a:chOff x="0" y="0"/>
            <a:chExt cx="9158400" cy="686916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7320" cy="22392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7320" cy="198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1680" cy="685656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080"/>
              <a:ext cx="1293840" cy="6307560"/>
              <a:chOff x="7848720" y="1080"/>
              <a:chExt cx="1293840" cy="630756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080"/>
                <a:ext cx="760680" cy="2269080"/>
                <a:chOff x="8381880" y="1080"/>
                <a:chExt cx="760680" cy="226908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080"/>
                  <a:ext cx="277560" cy="275040"/>
                  <a:chOff x="8704440" y="1080"/>
                  <a:chExt cx="277560" cy="27504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080"/>
                    <a:ext cx="277560" cy="275040"/>
                    <a:chOff x="8704440" y="1080"/>
                    <a:chExt cx="277560" cy="27504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800"/>
                      <a:ext cx="199800" cy="277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4320"/>
                      <a:ext cx="139680" cy="223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31400"/>
                    <a:ext cx="25560" cy="2520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800" bIns="-28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5560" y="74880"/>
                    <a:ext cx="41400" cy="5544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8640" bIns="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8640" y="62640"/>
                    <a:ext cx="61920" cy="3492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1880" bIns="-118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040" y="113400"/>
                    <a:ext cx="22320" cy="5868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1880" bIns="118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3960" y="191160"/>
                    <a:ext cx="61920" cy="255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1400" y="165600"/>
                    <a:ext cx="36720" cy="4140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3760" cy="289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3760" cy="289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3760" cy="2887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3400" cy="289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3760" cy="289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3760" cy="2887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3760" cy="289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3760" cy="2890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6920" cy="4708440"/>
                <a:chOff x="7848720" y="1600200"/>
                <a:chExt cx="826920" cy="47084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3760" cy="289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3760" cy="2887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3760" cy="289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3760" cy="289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3760" cy="289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3400" cy="289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3760" cy="2887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3400" cy="2887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3760" cy="2887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3760" cy="289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3760" cy="289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3400" cy="289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3400" cy="289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3760" cy="2887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3400" cy="289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3760" cy="289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3400" cy="289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3760" cy="2887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3760" cy="2890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89080" cy="19382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7520" cy="199872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0480" cy="403560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8120" cy="218304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2600" cy="504684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8280" cy="307008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4920" cy="33512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298440" cy="33512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7480" cy="685656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3520" cy="6174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5400" y="3316320"/>
              <a:ext cx="6856560" cy="223920"/>
            </a:xfrm>
            <a:custGeom>
              <a:avLst/>
              <a:gdLst>
                <a:gd name="textAreaLeft" fmla="*/ 662400 w 6856560"/>
                <a:gd name="textAreaRight" fmla="*/ 6194160 w 6856560"/>
                <a:gd name="textAreaTop" fmla="*/ 21600 h 223920"/>
                <a:gd name="textAreaBottom" fmla="*/ 202320 h 223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540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50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2040"/>
            <a:ext cx="17812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200" y="6248520"/>
            <a:ext cx="34542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42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91268FA-4607-4260-9FBD-427FDCD643A2}" type="slidenum">
              <a:rPr b="0" lang="ru-RU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1"/>
    <p:sldLayoutId id="2147483650" r:id="rId32"/>
    <p:sldLayoutId id="2147483651" r:id="rId33"/>
    <p:sldLayoutId id="2147483652" r:id="rId34"/>
    <p:sldLayoutId id="2147483653" r:id="rId35"/>
    <p:sldLayoutId id="2147483654" r:id="rId36"/>
    <p:sldLayoutId id="2147483655" r:id="rId37"/>
    <p:sldLayoutId id="2147483656" r:id="rId38"/>
    <p:sldLayoutId id="2147483657" r:id="rId39"/>
    <p:sldLayoutId id="2147483658" r:id="rId40"/>
    <p:sldLayoutId id="2147483659" r:id="rId41"/>
    <p:sldLayoutId id="2147483660" r:id="rId42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0" name=""/>
          <p:cNvGrpSpPr/>
          <p:nvPr/>
        </p:nvGrpSpPr>
        <p:grpSpPr>
          <a:xfrm>
            <a:off x="0" y="0"/>
            <a:ext cx="8456760" cy="5942160"/>
            <a:chOff x="0" y="0"/>
            <a:chExt cx="8456760" cy="5942160"/>
          </a:xfrm>
        </p:grpSpPr>
        <p:sp>
          <p:nvSpPr>
            <p:cNvPr id="501" name=""/>
            <p:cNvSpPr/>
            <p:nvPr/>
          </p:nvSpPr>
          <p:spPr>
            <a:xfrm>
              <a:off x="0" y="2286000"/>
              <a:ext cx="8182080" cy="365616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0" y="0"/>
              <a:ext cx="8456760" cy="585468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03" name="PlaceHolder 1"/>
          <p:cNvSpPr>
            <a:spLocks noGrp="1"/>
          </p:cNvSpPr>
          <p:nvPr>
            <p:ph type="dt" idx="28"/>
          </p:nvPr>
        </p:nvSpPr>
        <p:spPr>
          <a:xfrm>
            <a:off x="457200" y="6248160"/>
            <a:ext cx="21319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ffffff"/>
                </a:solidFill>
                <a:latin typeface="Tahoma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ftr" idx="29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ffffff"/>
                </a:solidFill>
                <a:latin typeface="Tahoma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 type="sldNum" idx="30"/>
          </p:nvPr>
        </p:nvSpPr>
        <p:spPr>
          <a:xfrm>
            <a:off x="6552720" y="6248160"/>
            <a:ext cx="2132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ffffff"/>
                </a:solidFill>
                <a:latin typeface="Tahom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D8F3A269-AA2A-4B9D-A92B-58C7A2B7FB1B}" type="slidenum">
              <a:rPr b="0" lang="ru-RU" sz="1200" spc="-1" strike="noStrike">
                <a:solidFill>
                  <a:srgbClr val="ffffff"/>
                </a:solidFill>
                <a:latin typeface="Tahoma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 type="title"/>
          </p:nvPr>
        </p:nvSpPr>
        <p:spPr>
          <a:xfrm>
            <a:off x="685800" y="1768320"/>
            <a:ext cx="7770960" cy="17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3" name=""/>
          <p:cNvGrpSpPr/>
          <p:nvPr/>
        </p:nvGrpSpPr>
        <p:grpSpPr>
          <a:xfrm>
            <a:off x="0" y="0"/>
            <a:ext cx="7618320" cy="6856560"/>
            <a:chOff x="0" y="0"/>
            <a:chExt cx="7618320" cy="6856560"/>
          </a:xfrm>
        </p:grpSpPr>
        <p:grpSp>
          <p:nvGrpSpPr>
            <p:cNvPr id="544" name=""/>
            <p:cNvGrpSpPr/>
            <p:nvPr/>
          </p:nvGrpSpPr>
          <p:grpSpPr>
            <a:xfrm>
              <a:off x="0" y="0"/>
              <a:ext cx="3198960" cy="6856560"/>
              <a:chOff x="0" y="0"/>
              <a:chExt cx="3198960" cy="6856560"/>
            </a:xfrm>
          </p:grpSpPr>
          <p:sp>
            <p:nvSpPr>
              <p:cNvPr id="545" name=""/>
              <p:cNvSpPr/>
              <p:nvPr/>
            </p:nvSpPr>
            <p:spPr>
              <a:xfrm>
                <a:off x="0" y="0"/>
                <a:ext cx="760320" cy="685656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457200" y="0"/>
                <a:ext cx="2741760" cy="116532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</p:grpSp>
        <p:grpSp>
          <p:nvGrpSpPr>
            <p:cNvPr id="547" name=""/>
            <p:cNvGrpSpPr/>
            <p:nvPr/>
          </p:nvGrpSpPr>
          <p:grpSpPr>
            <a:xfrm>
              <a:off x="228240" y="1981080"/>
              <a:ext cx="7390080" cy="317520"/>
              <a:chOff x="228240" y="1981080"/>
              <a:chExt cx="7390080" cy="317520"/>
            </a:xfrm>
          </p:grpSpPr>
          <p:sp>
            <p:nvSpPr>
              <p:cNvPr id="548" name=""/>
              <p:cNvSpPr/>
              <p:nvPr/>
            </p:nvSpPr>
            <p:spPr>
              <a:xfrm>
                <a:off x="609480" y="1981080"/>
                <a:ext cx="7008840" cy="31608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 flipH="1">
                <a:off x="227880" y="1981080"/>
                <a:ext cx="392040" cy="3175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</p:grpSp>
      </p:grp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833400" y="833040"/>
            <a:ext cx="777888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837720" y="2362320"/>
            <a:ext cx="7691400" cy="37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 type="dt" idx="31"/>
          </p:nvPr>
        </p:nvSpPr>
        <p:spPr>
          <a:xfrm>
            <a:off x="2438280" y="6248520"/>
            <a:ext cx="212904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 type="ftr" idx="32"/>
          </p:nvPr>
        </p:nvSpPr>
        <p:spPr>
          <a:xfrm>
            <a:off x="5790960" y="6248520"/>
            <a:ext cx="2895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 type="sldNum" idx="33"/>
          </p:nvPr>
        </p:nvSpPr>
        <p:spPr>
          <a:xfrm>
            <a:off x="83880" y="6242040"/>
            <a:ext cx="58572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C17C93D-E4C2-4080-9880-569180C11350}" type="slidenum">
              <a:rPr b="1" lang="ru-RU" sz="26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1" name=""/>
          <p:cNvGrpSpPr/>
          <p:nvPr/>
        </p:nvGrpSpPr>
        <p:grpSpPr>
          <a:xfrm>
            <a:off x="0" y="0"/>
            <a:ext cx="5865840" cy="6856560"/>
            <a:chOff x="0" y="0"/>
            <a:chExt cx="5865840" cy="6856560"/>
          </a:xfrm>
        </p:grpSpPr>
        <p:sp>
          <p:nvSpPr>
            <p:cNvPr id="592" name=""/>
            <p:cNvSpPr/>
            <p:nvPr/>
          </p:nvSpPr>
          <p:spPr>
            <a:xfrm>
              <a:off x="0" y="0"/>
              <a:ext cx="4570560" cy="685656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685800" y="990720"/>
              <a:ext cx="5180040" cy="19033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grpSp>
        <p:nvGrpSpPr>
          <p:cNvPr id="594" name=""/>
          <p:cNvGrpSpPr/>
          <p:nvPr/>
        </p:nvGrpSpPr>
        <p:grpSpPr>
          <a:xfrm>
            <a:off x="3632040" y="4889520"/>
            <a:ext cx="4875480" cy="317520"/>
            <a:chOff x="3632040" y="4889520"/>
            <a:chExt cx="4875480" cy="317520"/>
          </a:xfrm>
        </p:grpSpPr>
        <p:sp>
          <p:nvSpPr>
            <p:cNvPr id="595" name=""/>
            <p:cNvSpPr/>
            <p:nvPr/>
          </p:nvSpPr>
          <p:spPr>
            <a:xfrm flipH="1">
              <a:off x="3632040" y="4889520"/>
              <a:ext cx="4624560" cy="3157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8248680" y="4889520"/>
              <a:ext cx="258840" cy="31752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97" name="PlaceHolder 1"/>
          <p:cNvSpPr>
            <a:spLocks noGrp="1"/>
          </p:cNvSpPr>
          <p:nvPr>
            <p:ph type="dt" idx="34"/>
          </p:nvPr>
        </p:nvSpPr>
        <p:spPr>
          <a:xfrm>
            <a:off x="2438280" y="6248520"/>
            <a:ext cx="212904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ftr" idx="35"/>
          </p:nvPr>
        </p:nvSpPr>
        <p:spPr>
          <a:xfrm>
            <a:off x="5790960" y="6248520"/>
            <a:ext cx="2895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 type="sldNum" idx="36"/>
          </p:nvPr>
        </p:nvSpPr>
        <p:spPr>
          <a:xfrm>
            <a:off x="75960" y="6248160"/>
            <a:ext cx="5857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08E5AEF-D237-4557-A9D8-3CE6F4BFCD25}" type="slidenum">
              <a:rPr b="1" lang="ru-RU" sz="26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 type="title"/>
          </p:nvPr>
        </p:nvSpPr>
        <p:spPr>
          <a:xfrm>
            <a:off x="965160" y="1269720"/>
            <a:ext cx="7670880" cy="13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7" name=""/>
          <p:cNvGrpSpPr/>
          <p:nvPr/>
        </p:nvGrpSpPr>
        <p:grpSpPr>
          <a:xfrm>
            <a:off x="0" y="152280"/>
            <a:ext cx="8685360" cy="6094440"/>
            <a:chOff x="0" y="152280"/>
            <a:chExt cx="8685360" cy="6094440"/>
          </a:xfrm>
        </p:grpSpPr>
        <p:sp>
          <p:nvSpPr>
            <p:cNvPr id="638" name=""/>
            <p:cNvSpPr/>
            <p:nvPr/>
          </p:nvSpPr>
          <p:spPr>
            <a:xfrm>
              <a:off x="380880" y="533520"/>
              <a:ext cx="8304480" cy="5713200"/>
            </a:xfrm>
            <a:prstGeom prst="roundRect">
              <a:avLst>
                <a:gd name="adj" fmla="val 13727"/>
              </a:avLst>
            </a:prstGeom>
            <a:noFill/>
            <a:ln cap="sq" w="50760">
              <a:solidFill>
                <a:srgbClr val="75878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0" y="152280"/>
              <a:ext cx="8532720" cy="1217880"/>
            </a:xfrm>
            <a:prstGeom prst="pi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0" y="1219320"/>
              <a:ext cx="8075520" cy="0"/>
            </a:xfrm>
            <a:prstGeom prst="line">
              <a:avLst/>
            </a:prstGeom>
            <a:ln cap="sq" w="38160">
              <a:solidFill>
                <a:srgbClr val="2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39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609120" y="1600200"/>
            <a:ext cx="7923240" cy="44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 type="dt" idx="37"/>
          </p:nvPr>
        </p:nvSpPr>
        <p:spPr>
          <a:xfrm>
            <a:off x="457200" y="6248160"/>
            <a:ext cx="21319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 type="ftr" idx="38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8160"/>
            <a:ext cx="2132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ffffff"/>
                </a:solidFill>
                <a:latin typeface="Arial Black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5932A7B1-0ACD-43DB-BAD9-3F468E22D5E4}" type="slidenum">
              <a:rPr b="0" lang="ru-RU" sz="1200" spc="-1" strike="noStrike">
                <a:solidFill>
                  <a:srgbClr val="ffffff"/>
                </a:solidFill>
                <a:latin typeface="Arial Black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2" name=""/>
          <p:cNvGrpSpPr/>
          <p:nvPr/>
        </p:nvGrpSpPr>
        <p:grpSpPr>
          <a:xfrm>
            <a:off x="0" y="927000"/>
            <a:ext cx="8989920" cy="4494240"/>
            <a:chOff x="0" y="927000"/>
            <a:chExt cx="8989920" cy="4494240"/>
          </a:xfrm>
        </p:grpSpPr>
        <p:sp>
          <p:nvSpPr>
            <p:cNvPr id="683" name=""/>
            <p:cNvSpPr/>
            <p:nvPr/>
          </p:nvSpPr>
          <p:spPr>
            <a:xfrm>
              <a:off x="685800" y="2070000"/>
              <a:ext cx="7389720" cy="3351240"/>
            </a:xfrm>
            <a:prstGeom prst="roundRect">
              <a:avLst>
                <a:gd name="adj" fmla="val 16667"/>
              </a:avLst>
            </a:prstGeom>
            <a:noFill/>
            <a:ln cap="sq" w="50760">
              <a:solidFill>
                <a:srgbClr val="75878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228600" y="927000"/>
              <a:ext cx="7161120" cy="989280"/>
            </a:xfrm>
            <a:prstGeom prst="rect">
              <a:avLst/>
            </a:prstGeom>
            <a:solidFill>
              <a:srgbClr val="260000"/>
            </a:solidFill>
            <a:ln cap="sq" w="57240">
              <a:solidFill>
                <a:srgbClr val="75878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0" y="1384200"/>
              <a:ext cx="8989920" cy="1827360"/>
            </a:xfrm>
            <a:prstGeom prst="pi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0" y="3060720"/>
              <a:ext cx="8304120" cy="0"/>
            </a:xfrm>
            <a:prstGeom prst="line">
              <a:avLst/>
            </a:prstGeom>
            <a:ln cap="sq" w="50760">
              <a:solidFill>
                <a:srgbClr val="2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228600" y="1426680"/>
            <a:ext cx="8075520" cy="16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 type="dt" idx="40"/>
          </p:nvPr>
        </p:nvSpPr>
        <p:spPr>
          <a:xfrm>
            <a:off x="457200" y="6248160"/>
            <a:ext cx="213192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 type="ftr" idx="41"/>
          </p:nvPr>
        </p:nvSpPr>
        <p:spPr>
          <a:xfrm>
            <a:off x="3123720" y="625284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 type="sldNum" idx="42"/>
          </p:nvPr>
        </p:nvSpPr>
        <p:spPr>
          <a:xfrm>
            <a:off x="6552720" y="6248160"/>
            <a:ext cx="213228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ffffff"/>
                </a:solidFill>
                <a:latin typeface="Arial Black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0FBE4817-0934-41D7-94CB-69596B17A884}" type="slidenum">
              <a:rPr b="0" lang="ru-RU" sz="1200" spc="-1" strike="noStrike">
                <a:solidFill>
                  <a:srgbClr val="ffffff"/>
                </a:solidFill>
                <a:latin typeface="Arial Black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14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1182600" y="201744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 type="dt" idx="43"/>
          </p:nvPr>
        </p:nvSpPr>
        <p:spPr>
          <a:xfrm>
            <a:off x="1161720" y="6243480"/>
            <a:ext cx="1903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000000"/>
                </a:solidFill>
                <a:latin typeface="Tahoma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 type="ftr" idx="44"/>
          </p:nvPr>
        </p:nvSpPr>
        <p:spPr>
          <a:xfrm>
            <a:off x="3657240" y="6243480"/>
            <a:ext cx="289404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ahoma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 type="sldNum" idx="45"/>
          </p:nvPr>
        </p:nvSpPr>
        <p:spPr>
          <a:xfrm>
            <a:off x="7041960" y="6243480"/>
            <a:ext cx="1903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000000"/>
                </a:solidFill>
                <a:latin typeface="Tahom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5A5856A5-169A-438E-BAAA-945A1A358362}" type="slidenum">
              <a:rPr b="0" lang="ru-RU" sz="1400" spc="-1" strike="noStrike">
                <a:solidFill>
                  <a:srgbClr val="000000"/>
                </a:solidFill>
                <a:latin typeface="Tahoma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5" name=""/>
          <p:cNvGrpSpPr/>
          <p:nvPr/>
        </p:nvGrpSpPr>
        <p:grpSpPr>
          <a:xfrm>
            <a:off x="0" y="2438280"/>
            <a:ext cx="9007560" cy="1051200"/>
            <a:chOff x="0" y="2438280"/>
            <a:chExt cx="9007560" cy="1051200"/>
          </a:xfrm>
        </p:grpSpPr>
        <p:grpSp>
          <p:nvGrpSpPr>
            <p:cNvPr id="776" name=""/>
            <p:cNvGrpSpPr/>
            <p:nvPr/>
          </p:nvGrpSpPr>
          <p:grpSpPr>
            <a:xfrm>
              <a:off x="290520" y="2546280"/>
              <a:ext cx="709560" cy="473040"/>
              <a:chOff x="290520" y="2546280"/>
              <a:chExt cx="709560" cy="473040"/>
            </a:xfrm>
          </p:grpSpPr>
          <p:sp>
            <p:nvSpPr>
              <p:cNvPr id="777" name=""/>
              <p:cNvSpPr/>
              <p:nvPr/>
            </p:nvSpPr>
            <p:spPr>
              <a:xfrm>
                <a:off x="290520" y="2546280"/>
                <a:ext cx="436680" cy="4730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673200" y="2546280"/>
                <a:ext cx="326880" cy="4730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</p:grpSp>
        <p:grpSp>
          <p:nvGrpSpPr>
            <p:cNvPr id="779" name=""/>
            <p:cNvGrpSpPr/>
            <p:nvPr/>
          </p:nvGrpSpPr>
          <p:grpSpPr>
            <a:xfrm>
              <a:off x="414360" y="2968560"/>
              <a:ext cx="736200" cy="473040"/>
              <a:chOff x="414360" y="2968560"/>
              <a:chExt cx="736200" cy="473040"/>
            </a:xfrm>
          </p:grpSpPr>
          <p:sp>
            <p:nvSpPr>
              <p:cNvPr id="780" name=""/>
              <p:cNvSpPr/>
              <p:nvPr/>
            </p:nvSpPr>
            <p:spPr>
              <a:xfrm>
                <a:off x="414360" y="2968560"/>
                <a:ext cx="421560" cy="4730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783360" y="2968560"/>
                <a:ext cx="367200" cy="4730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</p:grpSp>
        <p:sp>
          <p:nvSpPr>
            <p:cNvPr id="782" name=""/>
            <p:cNvSpPr/>
            <p:nvPr/>
          </p:nvSpPr>
          <p:spPr>
            <a:xfrm>
              <a:off x="0" y="2895480"/>
              <a:ext cx="558720" cy="4208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635040" y="2438280"/>
              <a:ext cx="30240" cy="105120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316080" y="3260520"/>
              <a:ext cx="8691480" cy="54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990360" y="1676160"/>
            <a:ext cx="777060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 type="dt" idx="46"/>
          </p:nvPr>
        </p:nvSpPr>
        <p:spPr>
          <a:xfrm>
            <a:off x="99036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1c1c1c"/>
                </a:solidFill>
                <a:latin typeface="Tahoma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400" spc="-1" strike="noStrike">
                <a:solidFill>
                  <a:srgbClr val="1c1c1c"/>
                </a:solidFill>
                <a:latin typeface="Tahoma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 type="ftr" idx="47"/>
          </p:nvPr>
        </p:nvSpPr>
        <p:spPr>
          <a:xfrm>
            <a:off x="342864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1c1c1c"/>
                </a:solidFill>
                <a:latin typeface="Tahoma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1c1c1c"/>
                </a:solidFill>
                <a:latin typeface="Tahoma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 type="sldNum" idx="48"/>
          </p:nvPr>
        </p:nvSpPr>
        <p:spPr>
          <a:xfrm>
            <a:off x="68576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1c1c1c"/>
                </a:solidFill>
                <a:latin typeface="Tahom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FC67AA24-DD27-429B-B6BF-057C78E0EFC8}" type="slidenum">
              <a:rPr b="0" lang="ru-RU" sz="1400" spc="-1" strike="noStrike">
                <a:solidFill>
                  <a:srgbClr val="1c1c1c"/>
                </a:solidFill>
                <a:latin typeface="Tahoma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"/>
          <p:cNvSpPr/>
          <p:nvPr/>
        </p:nvSpPr>
        <p:spPr>
          <a:xfrm>
            <a:off x="7962840" y="152280"/>
            <a:ext cx="1800" cy="152424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2360" cy="12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8160" cy="44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 type="dt" idx="49"/>
          </p:nvPr>
        </p:nvSpPr>
        <p:spPr>
          <a:xfrm>
            <a:off x="457200" y="6248160"/>
            <a:ext cx="21319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 type="ftr" idx="50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8160"/>
            <a:ext cx="2132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68F2F8E9-F00F-4981-8666-62BFBBB899C7}" type="slidenum">
              <a:rPr b="0" lang="ru-RU" sz="1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1" name=""/>
          <p:cNvGrpSpPr/>
          <p:nvPr/>
        </p:nvGrpSpPr>
        <p:grpSpPr>
          <a:xfrm>
            <a:off x="8153280" y="152280"/>
            <a:ext cx="790560" cy="1293840"/>
            <a:chOff x="8153280" y="152280"/>
            <a:chExt cx="790560" cy="1293840"/>
          </a:xfrm>
        </p:grpSpPr>
        <p:sp>
          <p:nvSpPr>
            <p:cNvPr id="832" name=""/>
            <p:cNvSpPr/>
            <p:nvPr/>
          </p:nvSpPr>
          <p:spPr>
            <a:xfrm>
              <a:off x="8153280" y="152280"/>
              <a:ext cx="119160" cy="1191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8321760" y="152280"/>
              <a:ext cx="118800" cy="1191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8489880" y="152280"/>
              <a:ext cx="119160" cy="1191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8153280" y="320760"/>
              <a:ext cx="119160" cy="1188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8321760" y="320760"/>
              <a:ext cx="118800" cy="1188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8489880" y="320760"/>
              <a:ext cx="119160" cy="1188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8656560" y="320760"/>
              <a:ext cx="119160" cy="1188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8153280" y="488880"/>
              <a:ext cx="119160" cy="1191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8321760" y="488880"/>
              <a:ext cx="118800" cy="1191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8489880" y="488880"/>
              <a:ext cx="119160" cy="1191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8656560" y="488880"/>
              <a:ext cx="119160" cy="1191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8825040" y="488880"/>
              <a:ext cx="118800" cy="1191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8153280" y="655560"/>
              <a:ext cx="119160" cy="1191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8321760" y="655560"/>
              <a:ext cx="118800" cy="1191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8489880" y="655560"/>
              <a:ext cx="119160" cy="1191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8656560" y="655560"/>
              <a:ext cx="119160" cy="1191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8153280" y="824040"/>
              <a:ext cx="119160" cy="1188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321760" y="824040"/>
              <a:ext cx="118800" cy="1188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8489880" y="824040"/>
              <a:ext cx="119160" cy="1188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8656560" y="824040"/>
              <a:ext cx="119160" cy="1188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8825040" y="824040"/>
              <a:ext cx="118800" cy="1188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8153280" y="992160"/>
              <a:ext cx="119160" cy="1191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8321760" y="992160"/>
              <a:ext cx="118800" cy="1191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8489880" y="992160"/>
              <a:ext cx="119160" cy="1191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8656560" y="992160"/>
              <a:ext cx="119160" cy="1191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8153280" y="1160640"/>
              <a:ext cx="119160" cy="1173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8321760" y="1160640"/>
              <a:ext cx="118800" cy="1173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489880" y="1160640"/>
              <a:ext cx="119160" cy="1173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8656560" y="1160640"/>
              <a:ext cx="119160" cy="1173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8321760" y="1328760"/>
              <a:ext cx="118800" cy="1173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8656560" y="1328760"/>
              <a:ext cx="119160" cy="1173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"/>
          <p:cNvSpPr/>
          <p:nvPr/>
        </p:nvSpPr>
        <p:spPr>
          <a:xfrm>
            <a:off x="7315200" y="1066680"/>
            <a:ext cx="1440" cy="449604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315720" y="466200"/>
            <a:ext cx="6779880" cy="21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 type="dt" idx="52"/>
          </p:nvPr>
        </p:nvSpPr>
        <p:spPr>
          <a:xfrm>
            <a:off x="457200" y="6248160"/>
            <a:ext cx="21319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 type="ftr" idx="53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PlaceHolder 4"/>
          <p:cNvSpPr>
            <a:spLocks noGrp="1"/>
          </p:cNvSpPr>
          <p:nvPr>
            <p:ph type="sldNum" idx="54"/>
          </p:nvPr>
        </p:nvSpPr>
        <p:spPr>
          <a:xfrm>
            <a:off x="6552720" y="6248160"/>
            <a:ext cx="2132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8BFEB038-0C3B-464A-806D-4C80E37B649F}" type="slidenum">
              <a:rPr b="0" lang="ru-RU" sz="1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4" name=""/>
          <p:cNvGrpSpPr/>
          <p:nvPr/>
        </p:nvGrpSpPr>
        <p:grpSpPr>
          <a:xfrm>
            <a:off x="7493040" y="2992320"/>
            <a:ext cx="1336680" cy="2187720"/>
            <a:chOff x="7493040" y="2992320"/>
            <a:chExt cx="1336680" cy="2187720"/>
          </a:xfrm>
        </p:grpSpPr>
        <p:sp>
          <p:nvSpPr>
            <p:cNvPr id="905" name=""/>
            <p:cNvSpPr/>
            <p:nvPr/>
          </p:nvSpPr>
          <p:spPr>
            <a:xfrm>
              <a:off x="7493040" y="2992320"/>
              <a:ext cx="200160" cy="2001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7777080" y="2992320"/>
              <a:ext cx="200160" cy="2001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8061480" y="2992320"/>
              <a:ext cx="199800" cy="2001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7493040" y="3276720"/>
              <a:ext cx="200160" cy="1998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7777080" y="3276720"/>
              <a:ext cx="200160" cy="1998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8061480" y="3276720"/>
              <a:ext cx="199800" cy="1998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8345520" y="3276720"/>
              <a:ext cx="200160" cy="1998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7493040" y="3560760"/>
              <a:ext cx="200160" cy="2001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7777080" y="3560760"/>
              <a:ext cx="200160" cy="2001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8061480" y="3560760"/>
              <a:ext cx="199800" cy="2001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8345520" y="3560760"/>
              <a:ext cx="200160" cy="2001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8629560" y="3560760"/>
              <a:ext cx="200160" cy="2001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7493040" y="3843360"/>
              <a:ext cx="20016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7777080" y="3843360"/>
              <a:ext cx="20016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8061480" y="3843360"/>
              <a:ext cx="19980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8345520" y="3843360"/>
              <a:ext cx="20016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7493040" y="4127400"/>
              <a:ext cx="20016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7777080" y="4127400"/>
              <a:ext cx="20016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8061480" y="4127400"/>
              <a:ext cx="19980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8345520" y="4127400"/>
              <a:ext cx="20016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8629560" y="4127400"/>
              <a:ext cx="20016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7493040" y="4411800"/>
              <a:ext cx="200160" cy="1998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7777080" y="4411800"/>
              <a:ext cx="200160" cy="1998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8061480" y="4411800"/>
              <a:ext cx="199800" cy="1998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8345520" y="4411800"/>
              <a:ext cx="200160" cy="1998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7493040" y="4695840"/>
              <a:ext cx="200160" cy="2001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7777080" y="4695840"/>
              <a:ext cx="200160" cy="2001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8061480" y="4695840"/>
              <a:ext cx="199800" cy="2001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8345520" y="4695840"/>
              <a:ext cx="200160" cy="2001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7777080" y="4979880"/>
              <a:ext cx="200160" cy="2001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8345520" y="4979880"/>
              <a:ext cx="200160" cy="2001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936" name=""/>
          <p:cNvSpPr/>
          <p:nvPr/>
        </p:nvSpPr>
        <p:spPr>
          <a:xfrm>
            <a:off x="304920" y="2819520"/>
            <a:ext cx="8229600" cy="144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 type="dt" idx="55"/>
          </p:nvPr>
        </p:nvSpPr>
        <p:spPr>
          <a:xfrm>
            <a:off x="457200" y="6243480"/>
            <a:ext cx="21319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000000"/>
                </a:solidFill>
                <a:latin typeface="Garamond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 type="ftr" idx="56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Garamond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3480"/>
            <a:ext cx="2132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000000"/>
                </a:solidFill>
                <a:latin typeface="Garamond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C85E3E0F-CFC4-4871-BE66-4F381C268B32}" type="slidenum">
              <a:rPr b="0" lang="ru-RU" sz="1200" spc="-1" strike="noStrike">
                <a:solidFill>
                  <a:srgbClr val="000000"/>
                </a:solidFill>
                <a:latin typeface="Garamond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79" name=""/>
          <p:cNvSpPr/>
          <p:nvPr/>
        </p:nvSpPr>
        <p:spPr>
          <a:xfrm>
            <a:off x="457200" y="6172200"/>
            <a:ext cx="8229600" cy="1440"/>
          </a:xfrm>
          <a:prstGeom prst="line">
            <a:avLst/>
          </a:prstGeom>
          <a:ln cap="sq"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8400" cy="6869160"/>
            <a:chOff x="0" y="0"/>
            <a:chExt cx="9158400" cy="686916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7320" cy="22392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7320" cy="198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1680" cy="685656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080"/>
              <a:ext cx="1293840" cy="6307560"/>
              <a:chOff x="7848720" y="1080"/>
              <a:chExt cx="1293840" cy="630756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080"/>
                <a:ext cx="760680" cy="2269080"/>
                <a:chOff x="8381880" y="1080"/>
                <a:chExt cx="760680" cy="226908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080"/>
                  <a:ext cx="277560" cy="275040"/>
                  <a:chOff x="8704440" y="1080"/>
                  <a:chExt cx="277560" cy="27504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080"/>
                    <a:ext cx="277560" cy="275040"/>
                    <a:chOff x="8704440" y="1080"/>
                    <a:chExt cx="277560" cy="27504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800"/>
                      <a:ext cx="199800" cy="277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4320"/>
                      <a:ext cx="139680" cy="223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31400"/>
                    <a:ext cx="25560" cy="2520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800" bIns="-28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5560" y="74880"/>
                    <a:ext cx="41400" cy="5544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8640" bIns="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8640" y="62640"/>
                    <a:ext cx="61920" cy="3492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1880" bIns="-118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040" y="113400"/>
                    <a:ext cx="22320" cy="5868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1880" bIns="118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3960" y="191160"/>
                    <a:ext cx="61920" cy="255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1400" y="165600"/>
                    <a:ext cx="36720" cy="4140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3760" cy="289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3760" cy="289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3760" cy="2887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3400" cy="289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3760" cy="289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3760" cy="2887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3760" cy="289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3760" cy="2890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6920" cy="4708440"/>
                <a:chOff x="7848720" y="1600200"/>
                <a:chExt cx="826920" cy="47084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3760" cy="289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3760" cy="2887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3760" cy="289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3760" cy="289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3760" cy="289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3400" cy="289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3760" cy="2887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3400" cy="2887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3760" cy="2887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3760" cy="289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3760" cy="289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3400" cy="289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3400" cy="289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3760" cy="2887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3400" cy="289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3760" cy="289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3400" cy="289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3760" cy="2887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3760" cy="2890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89080" cy="19382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7520" cy="199872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0480" cy="403560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8120" cy="218304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2600" cy="504684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8280" cy="307008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4920" cy="33512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298440" cy="33512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7480" cy="685656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3520" cy="6174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5400" y="3316320"/>
              <a:ext cx="6856560" cy="223920"/>
            </a:xfrm>
            <a:custGeom>
              <a:avLst/>
              <a:gdLst>
                <a:gd name="textAreaLeft" fmla="*/ 662400 w 6856560"/>
                <a:gd name="textAreaRight" fmla="*/ 6194160 w 6856560"/>
                <a:gd name="textAreaTop" fmla="*/ 21600 h 223920"/>
                <a:gd name="textAreaBottom" fmla="*/ 202320 h 223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1370160"/>
            <a:ext cx="69642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2040"/>
            <a:ext cx="17812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200" y="6248520"/>
            <a:ext cx="34542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42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F5AF0E4B-231D-47DE-88C3-2619524B9AE3}" type="slidenum">
              <a:rPr b="0" lang="ru-RU" sz="1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914040" y="1523880"/>
            <a:ext cx="76215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 type="dt" idx="58"/>
          </p:nvPr>
        </p:nvSpPr>
        <p:spPr>
          <a:xfrm>
            <a:off x="457200" y="6243480"/>
            <a:ext cx="21319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000000"/>
                </a:solidFill>
                <a:latin typeface="Garamond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 type="ftr" idx="59"/>
          </p:nvPr>
        </p:nvSpPr>
        <p:spPr>
          <a:xfrm>
            <a:off x="3123720" y="6243480"/>
            <a:ext cx="289404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Garamond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PlaceHolder 4"/>
          <p:cNvSpPr>
            <a:spLocks noGrp="1"/>
          </p:cNvSpPr>
          <p:nvPr>
            <p:ph type="sldNum" idx="60"/>
          </p:nvPr>
        </p:nvSpPr>
        <p:spPr>
          <a:xfrm>
            <a:off x="6552720" y="6243480"/>
            <a:ext cx="2132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000000"/>
                </a:solidFill>
                <a:latin typeface="Garamond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9208D9D0-71D5-4BA0-841A-70A9C3B8CF17}" type="slidenum">
              <a:rPr b="0" lang="ru-RU" sz="1200" spc="-1" strike="noStrike">
                <a:solidFill>
                  <a:srgbClr val="000000"/>
                </a:solidFill>
                <a:latin typeface="Garamond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21" name=""/>
          <p:cNvSpPr/>
          <p:nvPr/>
        </p:nvSpPr>
        <p:spPr>
          <a:xfrm>
            <a:off x="1981080" y="3962520"/>
            <a:ext cx="6512040" cy="1440"/>
          </a:xfrm>
          <a:prstGeom prst="line">
            <a:avLst/>
          </a:prstGeom>
          <a:ln cap="sq"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816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8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7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8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11B9CAB2-C417-4F71-A129-9D9EE6FB9946}" type="slidenum">
              <a:rPr b="0" lang="ru-RU" sz="1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0960" cy="18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dt" idx="10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ftr" idx="11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6DC86E68-0343-4B4E-BB11-95DE4C8AFE55}" type="slidenum">
              <a:rPr b="0" lang="ru-RU" sz="1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0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"/>
          <p:cNvGrpSpPr/>
          <p:nvPr/>
        </p:nvGrpSpPr>
        <p:grpSpPr>
          <a:xfrm>
            <a:off x="0" y="0"/>
            <a:ext cx="8685360" cy="4875120"/>
            <a:chOff x="0" y="0"/>
            <a:chExt cx="8685360" cy="4875120"/>
          </a:xfrm>
        </p:grpSpPr>
        <p:sp>
          <p:nvSpPr>
            <p:cNvPr id="274" name=""/>
            <p:cNvSpPr/>
            <p:nvPr/>
          </p:nvSpPr>
          <p:spPr>
            <a:xfrm>
              <a:off x="0" y="0"/>
              <a:ext cx="608040" cy="4875120"/>
            </a:xfrm>
            <a:prstGeom prst="rect">
              <a:avLst/>
            </a:prstGeom>
            <a:solidFill>
              <a:srgbClr val="4760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275" name=""/>
            <p:cNvGrpSpPr/>
            <p:nvPr/>
          </p:nvGrpSpPr>
          <p:grpSpPr>
            <a:xfrm>
              <a:off x="380880" y="1417680"/>
              <a:ext cx="8304480" cy="181080"/>
              <a:chOff x="380880" y="1417680"/>
              <a:chExt cx="8304480" cy="181080"/>
            </a:xfrm>
          </p:grpSpPr>
          <p:sp>
            <p:nvSpPr>
              <p:cNvPr id="276" name=""/>
              <p:cNvSpPr/>
              <p:nvPr/>
            </p:nvSpPr>
            <p:spPr>
              <a:xfrm>
                <a:off x="6858000" y="1417680"/>
                <a:ext cx="1827360" cy="181080"/>
              </a:xfrm>
              <a:prstGeom prst="rect">
                <a:avLst/>
              </a:prstGeom>
              <a:solidFill>
                <a:srgbClr val="8cb0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380880" y="1494000"/>
                <a:ext cx="8304480" cy="0"/>
              </a:xfrm>
              <a:prstGeom prst="line">
                <a:avLst/>
              </a:prstGeom>
              <a:ln cap="sq" w="19080">
                <a:solidFill>
                  <a:srgbClr val="7978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</p:grpSp>
      </p:grp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09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 type="dt" idx="13"/>
          </p:nvPr>
        </p:nvSpPr>
        <p:spPr>
          <a:xfrm>
            <a:off x="914040" y="6251400"/>
            <a:ext cx="197964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 type="ftr" idx="14"/>
          </p:nvPr>
        </p:nvSpPr>
        <p:spPr>
          <a:xfrm>
            <a:off x="3352320" y="6248160"/>
            <a:ext cx="297036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 type="sldNum" idx="15"/>
          </p:nvPr>
        </p:nvSpPr>
        <p:spPr>
          <a:xfrm>
            <a:off x="67816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B8A00592-26A5-494C-B3A4-B782DB7555CB}" type="slidenum">
              <a:rPr b="0" lang="ru-RU" sz="10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0" y="4876920"/>
            <a:ext cx="609480" cy="1440"/>
          </a:xfrm>
          <a:prstGeom prst="line">
            <a:avLst/>
          </a:prstGeom>
          <a:ln cap="sq" w="44280">
            <a:solidFill>
              <a:srgbClr val="7978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0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0" name=""/>
          <p:cNvGrpSpPr/>
          <p:nvPr/>
        </p:nvGrpSpPr>
        <p:grpSpPr>
          <a:xfrm>
            <a:off x="0" y="0"/>
            <a:ext cx="8761320" cy="5942160"/>
            <a:chOff x="0" y="0"/>
            <a:chExt cx="8761320" cy="5942160"/>
          </a:xfrm>
        </p:grpSpPr>
        <p:sp>
          <p:nvSpPr>
            <p:cNvPr id="321" name=""/>
            <p:cNvSpPr/>
            <p:nvPr/>
          </p:nvSpPr>
          <p:spPr>
            <a:xfrm>
              <a:off x="0" y="0"/>
              <a:ext cx="1751040" cy="4875120"/>
            </a:xfrm>
            <a:prstGeom prst="rect">
              <a:avLst/>
            </a:prstGeom>
            <a:solidFill>
              <a:srgbClr val="4760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322" name=""/>
            <p:cNvGrpSpPr/>
            <p:nvPr/>
          </p:nvGrpSpPr>
          <p:grpSpPr>
            <a:xfrm>
              <a:off x="0" y="3505320"/>
              <a:ext cx="8761320" cy="2436840"/>
              <a:chOff x="0" y="3505320"/>
              <a:chExt cx="8761320" cy="2436840"/>
            </a:xfrm>
          </p:grpSpPr>
          <p:sp>
            <p:nvSpPr>
              <p:cNvPr id="323" name=""/>
              <p:cNvSpPr/>
              <p:nvPr/>
            </p:nvSpPr>
            <p:spPr>
              <a:xfrm>
                <a:off x="990720" y="3505320"/>
                <a:ext cx="7770600" cy="2436840"/>
              </a:xfrm>
              <a:prstGeom prst="rect">
                <a:avLst/>
              </a:prstGeom>
              <a:solidFill>
                <a:srgbClr val="7978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1038240" y="3733920"/>
                <a:ext cx="7647120" cy="2136600"/>
              </a:xfrm>
              <a:prstGeom prst="rect">
                <a:avLst/>
              </a:prstGeom>
              <a:solidFill>
                <a:srgbClr val="2120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0" y="4876920"/>
                <a:ext cx="988920" cy="0"/>
              </a:xfrm>
              <a:prstGeom prst="line">
                <a:avLst/>
              </a:prstGeom>
              <a:ln cap="sq" w="50760">
                <a:solidFill>
                  <a:srgbClr val="7978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</p:grpSp>
        <p:grpSp>
          <p:nvGrpSpPr>
            <p:cNvPr id="326" name=""/>
            <p:cNvGrpSpPr/>
            <p:nvPr/>
          </p:nvGrpSpPr>
          <p:grpSpPr>
            <a:xfrm>
              <a:off x="635040" y="533520"/>
              <a:ext cx="8075520" cy="303120"/>
              <a:chOff x="635040" y="533520"/>
              <a:chExt cx="8075520" cy="303120"/>
            </a:xfrm>
          </p:grpSpPr>
          <p:sp>
            <p:nvSpPr>
              <p:cNvPr id="327" name=""/>
              <p:cNvSpPr/>
              <p:nvPr/>
            </p:nvSpPr>
            <p:spPr>
              <a:xfrm>
                <a:off x="6273720" y="533520"/>
                <a:ext cx="2436840" cy="303120"/>
              </a:xfrm>
              <a:prstGeom prst="rect">
                <a:avLst/>
              </a:prstGeom>
              <a:solidFill>
                <a:srgbClr val="8cb0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635040" y="685800"/>
                <a:ext cx="8075520" cy="0"/>
              </a:xfrm>
              <a:prstGeom prst="line">
                <a:avLst/>
              </a:prstGeom>
              <a:ln cap="sq" w="44280">
                <a:solidFill>
                  <a:srgbClr val="7978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</p:grpSp>
      </p:grp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7960" cy="22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dt" idx="16"/>
          </p:nvPr>
        </p:nvSpPr>
        <p:spPr>
          <a:xfrm>
            <a:off x="912600" y="6251400"/>
            <a:ext cx="1903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ftr" idx="17"/>
          </p:nvPr>
        </p:nvSpPr>
        <p:spPr>
          <a:xfrm>
            <a:off x="33541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sldNum" idx="18"/>
          </p:nvPr>
        </p:nvSpPr>
        <p:spPr>
          <a:xfrm>
            <a:off x="67816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E76D7ADD-1209-404B-80E6-B0A8108E26BB}" type="slidenum">
              <a:rPr b="0" lang="ru-RU" sz="10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464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9"/>
          </p:nvPr>
        </p:nvSpPr>
        <p:spPr>
          <a:xfrm>
            <a:off x="762120" y="6391080"/>
            <a:ext cx="20556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0"/>
          </p:nvPr>
        </p:nvSpPr>
        <p:spPr>
          <a:xfrm>
            <a:off x="3352320" y="640368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21"/>
          </p:nvPr>
        </p:nvSpPr>
        <p:spPr>
          <a:xfrm>
            <a:off x="6857640" y="6400800"/>
            <a:ext cx="15987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05105749-ACEA-4998-ACA9-C316A22EE2D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8120" y="228600"/>
            <a:ext cx="8821800" cy="6094440"/>
            <a:chOff x="168120" y="228600"/>
            <a:chExt cx="8821800" cy="6094440"/>
          </a:xfrm>
        </p:grpSpPr>
        <p:sp>
          <p:nvSpPr>
            <p:cNvPr id="375" name=""/>
            <p:cNvSpPr/>
            <p:nvPr/>
          </p:nvSpPr>
          <p:spPr>
            <a:xfrm>
              <a:off x="168120" y="228600"/>
              <a:ext cx="8821800" cy="6094440"/>
            </a:xfrm>
            <a:prstGeom prst="roundRect">
              <a:avLst>
                <a:gd name="adj" fmla="val 11046"/>
              </a:avLst>
            </a:prstGeom>
            <a:noFill/>
            <a:ln cap="sq"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762120" y="1709640"/>
              <a:ext cx="7694640" cy="0"/>
            </a:xfrm>
            <a:prstGeom prst="line">
              <a:avLst/>
            </a:prstGeom>
            <a:ln cap="sq"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cap="sq"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0960" cy="22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41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i="1" lang="en-US" sz="41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dt" idx="22"/>
          </p:nvPr>
        </p:nvSpPr>
        <p:spPr>
          <a:xfrm>
            <a:off x="762120" y="6391080"/>
            <a:ext cx="20556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 type="ftr" idx="23"/>
          </p:nvPr>
        </p:nvSpPr>
        <p:spPr>
          <a:xfrm>
            <a:off x="3352320" y="639108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 type="sldNum" idx="24"/>
          </p:nvPr>
        </p:nvSpPr>
        <p:spPr>
          <a:xfrm>
            <a:off x="6857640" y="6391080"/>
            <a:ext cx="159876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CC285A26-2EAE-4ED5-BA1E-36106027DC6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6" name=""/>
          <p:cNvGrpSpPr/>
          <p:nvPr/>
        </p:nvGrpSpPr>
        <p:grpSpPr>
          <a:xfrm>
            <a:off x="0" y="0"/>
            <a:ext cx="7240680" cy="1979640"/>
            <a:chOff x="0" y="0"/>
            <a:chExt cx="7240680" cy="1979640"/>
          </a:xfrm>
        </p:grpSpPr>
        <p:sp>
          <p:nvSpPr>
            <p:cNvPr id="457" name=""/>
            <p:cNvSpPr/>
            <p:nvPr/>
          </p:nvSpPr>
          <p:spPr>
            <a:xfrm>
              <a:off x="0" y="925560"/>
              <a:ext cx="7121520" cy="105408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0" y="0"/>
              <a:ext cx="7240680" cy="190188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dt" idx="25"/>
          </p:nvPr>
        </p:nvSpPr>
        <p:spPr>
          <a:xfrm>
            <a:off x="457200" y="6248160"/>
            <a:ext cx="21319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ffffff"/>
                </a:solidFill>
                <a:latin typeface="Tahoma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ftr" idx="26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ffffff"/>
                </a:solidFill>
                <a:latin typeface="Tahoma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160"/>
            <a:ext cx="2132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ffffff"/>
                </a:solidFill>
                <a:latin typeface="Tahom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5711B770-0F9B-4548-94FF-6F3336D4C84A}" type="slidenum">
              <a:rPr b="0" lang="ru-RU" sz="1200" spc="-1" strike="noStrike">
                <a:solidFill>
                  <a:srgbClr val="ffffff"/>
                </a:solidFill>
                <a:latin typeface="Tahoma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691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cc"/>
                </a:solidFill>
                <a:latin typeface="Arial"/>
              </a:rPr>
              <a:t>Классификация соревнований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69840" y="1510920"/>
            <a:ext cx="756144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Все соревнования  классифицируются по различным признакам: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                   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- по масштабу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                   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- по целям и задачам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                   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- по условиям зачета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                   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- по форме организации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dur="indefinite" fill="hold">
                            <p:stCondLst>
                              <p:cond delay="2040"/>
                            </p:stCondLst>
                            <p:childTnLst>
                              <p:par>
                                <p:cTn id="12" dur="indefinite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4" dur="500"/>
                                        <p:tgtEl>
                                          <p:spTgt spid="10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dur="indefinite" fill="hold">
                            <p:stCondLst>
                              <p:cond delay="2540"/>
                            </p:stCondLst>
                            <p:childTnLst>
                              <p:par>
                                <p:cTn id="16" dur="indefinite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8" dur="500"/>
                                        <p:tgtEl>
                                          <p:spTgt spid="10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dur="indefinite" fill="hold">
                            <p:stCondLst>
                              <p:cond delay="3040"/>
                            </p:stCondLst>
                            <p:childTnLst>
                              <p:par>
                                <p:cTn id="20" dur="indefinite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2" dur="500"/>
                                        <p:tgtEl>
                                          <p:spTgt spid="10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dur="indefinite" fill="hold">
                            <p:stCondLst>
                              <p:cond delay="3540"/>
                            </p:stCondLst>
                            <p:childTnLst>
                              <p:par>
                                <p:cTn id="24" dur="indefinite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6" dur="500"/>
                                        <p:tgtEl>
                                          <p:spTgt spid="10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dur="indefinite" fill="hold">
                            <p:stCondLst>
                              <p:cond delay="4040"/>
                            </p:stCondLst>
                            <p:childTnLst>
                              <p:par>
                                <p:cTn id="28" dur="indefinite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0" dur="500"/>
                                        <p:tgtEl>
                                          <p:spTgt spid="10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bf5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 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576360" y="225000"/>
            <a:ext cx="388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Arial"/>
              </a:rPr>
              <a:t>По масштабу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193320" y="1699920"/>
            <a:ext cx="738036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41800" indent="-54036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58720"/>
                <a:tab algn="l" pos="1473120"/>
                <a:tab algn="l" pos="2387520"/>
                <a:tab algn="l" pos="3301920"/>
                <a:tab algn="l" pos="4216320"/>
                <a:tab algn="l" pos="5130720"/>
                <a:tab algn="l" pos="6045120"/>
                <a:tab algn="l" pos="6959520"/>
                <a:tab algn="l" pos="7873920"/>
                <a:tab algn="l" pos="8788320"/>
                <a:tab algn="l" pos="9702720"/>
                <a:tab algn="l" pos="1061712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ревнования делятся на три группы: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541800" indent="-54036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58720"/>
                <a:tab algn="l" pos="1473120"/>
                <a:tab algn="l" pos="2387520"/>
                <a:tab algn="l" pos="3301920"/>
                <a:tab algn="l" pos="4216320"/>
                <a:tab algn="l" pos="5130720"/>
                <a:tab algn="l" pos="6045120"/>
                <a:tab algn="l" pos="6959520"/>
                <a:tab algn="l" pos="7873920"/>
                <a:tab algn="l" pos="8788320"/>
                <a:tab algn="l" pos="9702720"/>
                <a:tab algn="l" pos="1061712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-я группа – чемпионаты, кубки, первенства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541800" indent="-54036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58720"/>
                <a:tab algn="l" pos="1473120"/>
                <a:tab algn="l" pos="2387520"/>
                <a:tab algn="l" pos="3301920"/>
                <a:tab algn="l" pos="4216320"/>
                <a:tab algn="l" pos="5130720"/>
                <a:tab algn="l" pos="6045120"/>
                <a:tab algn="l" pos="6959520"/>
                <a:tab algn="l" pos="7873920"/>
                <a:tab algn="l" pos="8788320"/>
                <a:tab algn="l" pos="9702720"/>
                <a:tab algn="l" pos="1061712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-я группа – соревнования окружных,районных, городских и других административных делений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541800" indent="-54036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58720"/>
                <a:tab algn="l" pos="1473120"/>
                <a:tab algn="l" pos="2387520"/>
                <a:tab algn="l" pos="3301920"/>
                <a:tab algn="l" pos="4216320"/>
                <a:tab algn="l" pos="5130720"/>
                <a:tab algn="l" pos="6045120"/>
                <a:tab algn="l" pos="6959520"/>
                <a:tab algn="l" pos="7873920"/>
                <a:tab algn="l" pos="8788320"/>
                <a:tab algn="l" pos="9702720"/>
                <a:tab algn="l" pos="1061712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-я группа – соревнования в спортивных школах.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slow">
    <p:wheel spokes="8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fill="hold">
                      <p:stCondLst>
                        <p:cond delay="0"/>
                      </p:stCondLst>
                      <p:childTnLst>
                        <p:par>
                          <p:cTn id="3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0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0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dur="indefinite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0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0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45" dur="indefinite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0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0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dur="indefinite" fill="hold">
                            <p:stCondLst>
                              <p:cond delay="1500"/>
                            </p:stCondLst>
                            <p:childTnLst>
                              <p:par>
                                <p:cTn id="50" dur="indefinite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0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0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bf5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65" name=""/>
          <p:cNvSpPr/>
          <p:nvPr/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431280" y="296640"/>
            <a:ext cx="5905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Arial"/>
              </a:rPr>
              <a:t>По целям и задачам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431640" y="1440000"/>
            <a:ext cx="633600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ревнования делятся на: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1212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целевые;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1212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отборочные;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1212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контрольные;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1212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зачетно-классификационные;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1212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показательные;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1212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массово-оздоровительные.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slow">
    <p:wheel spokes="8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dur="indefinite" fill="hold">
                      <p:stCondLst>
                        <p:cond delay="0"/>
                      </p:stCondLst>
                      <p:childTnLst>
                        <p:par>
                          <p:cTn id="5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0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0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dur="indefinite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0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0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68" dur="indefinite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0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0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dur="indefinite" fill="hold">
                            <p:stCondLst>
                              <p:cond delay="1500"/>
                            </p:stCondLst>
                            <p:childTnLst>
                              <p:par>
                                <p:cTn id="73" dur="indefinite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0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0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dur="indefinite" fill="hold">
                            <p:stCondLst>
                              <p:cond delay="2000"/>
                            </p:stCondLst>
                            <p:childTnLst>
                              <p:par>
                                <p:cTn id="78" dur="indefinite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dur="indefinite" fill="hold">
                            <p:stCondLst>
                              <p:cond delay="2500"/>
                            </p:stCondLst>
                            <p:childTnLst>
                              <p:par>
                                <p:cTn id="83" dur="indefinite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0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0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dur="indefinite" fill="hold">
                            <p:stCondLst>
                              <p:cond delay="3000"/>
                            </p:stCondLst>
                            <p:childTnLst>
                              <p:par>
                                <p:cTn id="88" dur="indefinite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0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0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bf5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69" name=""/>
          <p:cNvSpPr/>
          <p:nvPr/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31280" y="144000"/>
            <a:ext cx="453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По условиям зачета</a:t>
            </a:r>
            <a:endParaRPr b="0" lang="en-US" sz="32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142560" y="1287000"/>
            <a:ext cx="460836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ревнования делятся на: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личные;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командные;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лично-командные.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072" name="" descr=""/>
          <p:cNvPicPr/>
          <p:nvPr/>
        </p:nvPicPr>
        <p:blipFill>
          <a:blip r:embed="rId1"/>
          <a:stretch/>
        </p:blipFill>
        <p:spPr>
          <a:xfrm>
            <a:off x="1224000" y="4087800"/>
            <a:ext cx="5535720" cy="23209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dur="indefinite" fill="hold">
                      <p:stCondLst>
                        <p:cond delay="0"/>
                      </p:stCondLst>
                      <p:childTnLst>
                        <p:par>
                          <p:cTn id="9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0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0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dur="indefinite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0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0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" dur="indefinite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0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0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dur="indefinite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dur="indefinite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0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0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bf5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74" name=""/>
          <p:cNvSpPr/>
          <p:nvPr/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863640" y="512280"/>
            <a:ext cx="590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Arial"/>
              </a:rPr>
              <a:t>По форме организации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142560" y="1510920"/>
            <a:ext cx="583236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ревнования делятся на: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открытые;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закрытые;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матчевые встречи.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077" name="" descr=""/>
          <p:cNvPicPr/>
          <p:nvPr/>
        </p:nvPicPr>
        <p:blipFill>
          <a:blip r:embed="rId1"/>
          <a:stretch/>
        </p:blipFill>
        <p:spPr>
          <a:xfrm>
            <a:off x="3456000" y="4248000"/>
            <a:ext cx="3816360" cy="22780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dur="indefinite" fill="hold">
                      <p:stCondLst>
                        <p:cond delay="0"/>
                      </p:stCondLst>
                      <p:childTnLst>
                        <p:par>
                          <p:cTn id="1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0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0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124" dur="indefinite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0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0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dur="indefinite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0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0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dur="indefinite" fill="hold">
                            <p:stCondLst>
                              <p:cond delay="1500"/>
                            </p:stCondLst>
                            <p:childTnLst>
                              <p:par>
                                <p:cTn id="134" dur="indefinite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0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0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fc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792920" cy="9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Основные документы соревнований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/>
          </p:nvPr>
        </p:nvSpPr>
        <p:spPr>
          <a:xfrm>
            <a:off x="1258920" y="2276640"/>
            <a:ext cx="720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Календарь соревнований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оложение о соревнованиях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Заявка участников соревнований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Карточка участника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Итоговый протокол результатов соревнований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Отчет главного судьи соревнований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vert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dur="indefinite" fill="hold">
                      <p:stCondLst>
                        <p:cond delay="0"/>
                      </p:stCondLst>
                      <p:childTnLst>
                        <p:par>
                          <p:cTn id="14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dur="indefinite" fill="hold">
                            <p:stCondLst>
                              <p:cond delay="3000"/>
                            </p:stCondLst>
                            <p:childTnLst>
                              <p:par>
                                <p:cTn id="149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0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0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dur="indefinite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0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0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dur="indefinite" fill="hold">
                            <p:stCondLst>
                              <p:cond delay="4000"/>
                            </p:stCondLst>
                            <p:childTnLst>
                              <p:par>
                                <p:cTn id="159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0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0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dur="indefinite" fill="hold">
                            <p:stCondLst>
                              <p:cond delay="4500"/>
                            </p:stCondLst>
                            <p:childTnLst>
                              <p:par>
                                <p:cTn id="164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0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0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dur="indefinite" fill="hold">
                            <p:stCondLst>
                              <p:cond delay="5000"/>
                            </p:stCondLst>
                            <p:childTnLst>
                              <p:par>
                                <p:cTn id="169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0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0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dur="indefinite" fill="hold">
                            <p:stCondLst>
                              <p:cond delay="5500"/>
                            </p:stCondLst>
                            <p:childTnLst>
                              <p:par>
                                <p:cTn id="174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0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0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81" name="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452520" y="236520"/>
            <a:ext cx="708192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200" spc="-1" strike="noStrike">
                <a:solidFill>
                  <a:srgbClr val="000000"/>
                </a:solidFill>
                <a:latin typeface="Arial"/>
              </a:rPr>
              <a:t>Календарь соревнований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3" name="PlaceHolder 2"/>
          <p:cNvSpPr>
            <a:spLocks noGrp="1"/>
          </p:cNvSpPr>
          <p:nvPr>
            <p:ph/>
          </p:nvPr>
        </p:nvSpPr>
        <p:spPr>
          <a:xfrm>
            <a:off x="755640" y="1699920"/>
            <a:ext cx="7416720" cy="42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азрабатывается на один календарный год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олжны быть включены соревнования по ОФП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еобходимо включать проведение массовых соревновани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едусматривать проведение соревнований для различных возрастных групп и квалификац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ланировать проведение соревнований на выходные дн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читывать сроки проведения соревнований вышестоящими организациям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sh dir="u"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dur="indefinite" fill="hold">
                      <p:stCondLst>
                        <p:cond delay="0"/>
                      </p:stCondLst>
                      <p:childTnLst>
                        <p:par>
                          <p:cTn id="18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0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0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187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0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0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0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0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dur="indefinite" fill="hold">
                            <p:stCondLst>
                              <p:cond delay="1500"/>
                            </p:stCondLst>
                            <p:childTnLst>
                              <p:par>
                                <p:cTn id="197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0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0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dur="indefinite" fill="hold">
                            <p:stCondLst>
                              <p:cond delay="2000"/>
                            </p:stCondLst>
                            <p:childTnLst>
                              <p:par>
                                <p:cTn id="202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0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0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dur="indefinite" fill="hold">
                            <p:stCondLst>
                              <p:cond delay="2500"/>
                            </p:stCondLst>
                            <p:childTnLst>
                              <p:par>
                                <p:cTn id="207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0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0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2T10:37:56Z</dcterms:created>
  <dc:creator>Люба</dc:creator>
  <dc:description/>
  <dc:language>en-US</dc:language>
  <cp:lastModifiedBy>Люба</cp:lastModifiedBy>
  <dcterms:modified xsi:type="dcterms:W3CDTF">2008-02-01T06:43:04Z</dcterms:modified>
  <cp:revision>70</cp:revision>
  <dc:subject/>
  <dc:title>Виды лыжного спорта</dc:title>
</cp:coreProperties>
</file>