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002960" y="694800"/>
            <a:ext cx="484668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388152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60BAD-D2C9-4A69-9E48-E139A516C3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68539-3348-44F0-9C41-4B7DE592EB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0A63F-4BB6-486E-9E41-65B887A168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4CA7D-2907-49DE-A04F-35F774275FD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EBC11-3367-4C79-8502-A6A5CE60403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4C1A5-2BC9-4B3F-B59B-2278A2F2AE1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8D303-519A-4243-9A4F-8114044DC3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A8CBD-FCF4-4B49-9754-33DFDF0EEB5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53B0C-4112-4FD9-8B18-168C3A48675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B592B-AE8F-4A9B-AE11-A2B507B082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FEC8A-4E11-48B0-A3C2-B447564E9C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8D15B-5320-4BE5-A0D5-52A6725436B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FA1DD-A183-4308-9CE7-B25F7B23468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0264D-4937-4C76-9BA4-E05132B3FF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195B3-CD95-45AA-8B44-3C09C38E34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40B6E-1FD2-4CA9-ABB2-73516B45FFD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499CC-4E8B-450D-A595-2E99D4248A9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7965D-B6C3-494D-879A-16E3A98392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369B-DD55-4612-AAD9-0ED8DA0F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34880" y="428760"/>
            <a:ext cx="287172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8880" y="1604520"/>
            <a:ext cx="76532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8880" y="4374000"/>
            <a:ext cx="76532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28C7-F46D-4E9E-AE4D-B3F74620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34880" y="428760"/>
            <a:ext cx="287172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8880" y="1604520"/>
            <a:ext cx="37346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0720" y="1604520"/>
            <a:ext cx="37346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8880" y="4374000"/>
            <a:ext cx="37346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0720" y="4374000"/>
            <a:ext cx="37346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A853-DB7E-434A-A358-0495E1D5A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34880" y="428760"/>
            <a:ext cx="287172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8880" y="1604520"/>
            <a:ext cx="246420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4520"/>
            <a:ext cx="246420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604520"/>
            <a:ext cx="246420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8880" y="4374000"/>
            <a:ext cx="246420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4374000"/>
            <a:ext cx="246420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4374000"/>
            <a:ext cx="246420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EA7C-081B-4688-B29C-6032CFB5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B34B-00F2-41B4-A1A4-40097ADBF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34880" y="428760"/>
            <a:ext cx="287172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48880" y="1604520"/>
            <a:ext cx="7653240" cy="53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1D71-11A0-48A9-9B1B-80BF4164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34880" y="428760"/>
            <a:ext cx="287172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48880" y="1604520"/>
            <a:ext cx="7653240" cy="53024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E0F3-CC2D-4C1A-8F3B-E7874480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34880" y="428760"/>
            <a:ext cx="287172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1604520"/>
            <a:ext cx="3734640" cy="53024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70720" y="1604520"/>
            <a:ext cx="3734640" cy="53024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F831-A89D-47E9-A497-5EF4CA35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34880" y="428760"/>
            <a:ext cx="287172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2420-7EBB-4440-96C2-3DA1EC5B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134880" y="434520"/>
            <a:ext cx="287172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5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F7D6-3801-4990-9D89-32F47018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34880" y="428760"/>
            <a:ext cx="287172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48880" y="1604520"/>
            <a:ext cx="37346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0720" y="1604520"/>
            <a:ext cx="3734640" cy="53024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48880" y="4374000"/>
            <a:ext cx="37346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A873-DAB6-481C-9F51-A7B2C7C4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34880" y="428760"/>
            <a:ext cx="287172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8880" y="1604520"/>
            <a:ext cx="7653240" cy="53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253D-CF93-42BC-8736-234F0062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34880" y="428760"/>
            <a:ext cx="287172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48880" y="1604520"/>
            <a:ext cx="3734640" cy="53024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0720" y="1604520"/>
            <a:ext cx="37346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70720" y="4374000"/>
            <a:ext cx="37346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537E-2B49-47F1-B342-78D5D4F3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34880" y="428760"/>
            <a:ext cx="287172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48880" y="1604520"/>
            <a:ext cx="37346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0720" y="1604520"/>
            <a:ext cx="37346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48880" y="4374000"/>
            <a:ext cx="76532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429D-15FF-4BFE-9C2A-13BFAE6A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34880" y="428760"/>
            <a:ext cx="287172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48880" y="1604520"/>
            <a:ext cx="76532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48880" y="4374000"/>
            <a:ext cx="76532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1A54-395B-4521-91D5-FE804C22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34880" y="428760"/>
            <a:ext cx="287172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48880" y="1604520"/>
            <a:ext cx="37346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0720" y="1604520"/>
            <a:ext cx="37346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8880" y="4374000"/>
            <a:ext cx="37346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70720" y="4374000"/>
            <a:ext cx="37346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4AF5-EAE0-43FD-9686-8C98800B4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34880" y="428760"/>
            <a:ext cx="287172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48880" y="1604520"/>
            <a:ext cx="246420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36560" y="1604520"/>
            <a:ext cx="246420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4600" y="1604520"/>
            <a:ext cx="246420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48880" y="4374000"/>
            <a:ext cx="246420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36560" y="4374000"/>
            <a:ext cx="246420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4600" y="4374000"/>
            <a:ext cx="246420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E129-F9E0-437C-AA2F-797794643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34880" y="428760"/>
            <a:ext cx="287172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8880" y="1604520"/>
            <a:ext cx="7653240" cy="53024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3AB4-4676-436F-87CA-86CA84E4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34880" y="428760"/>
            <a:ext cx="287172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8880" y="1604520"/>
            <a:ext cx="3734640" cy="53024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0720" y="1604520"/>
            <a:ext cx="3734640" cy="53024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5B97-E37C-4293-9A02-3EF48200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34880" y="428760"/>
            <a:ext cx="287172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3AEC-9B13-4CEC-B266-1864312A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34880" y="434520"/>
            <a:ext cx="287172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5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ED5B-EB3C-4463-BD05-C2974C81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34880" y="428760"/>
            <a:ext cx="287172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8880" y="1604520"/>
            <a:ext cx="37346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0720" y="1604520"/>
            <a:ext cx="3734640" cy="53024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8880" y="4374000"/>
            <a:ext cx="37346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DC4F-7DCC-4009-8999-14C259FE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34880" y="428760"/>
            <a:ext cx="287172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8880" y="1604520"/>
            <a:ext cx="3734640" cy="53024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0720" y="1604520"/>
            <a:ext cx="37346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0720" y="4374000"/>
            <a:ext cx="37346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CB99-6E36-45D9-B272-78E850E9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34880" y="428760"/>
            <a:ext cx="287172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8880" y="1604520"/>
            <a:ext cx="37346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0720" y="1604520"/>
            <a:ext cx="37346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8880" y="4374000"/>
            <a:ext cx="76532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45B6-28E6-41A7-BB32-050D37E7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3B5FE48-A7AA-44BB-A77C-97987D3831F0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17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48880" y="1604520"/>
            <a:ext cx="7653240" cy="53024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C6B67-0E25-439E-8105-8690D81287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1"/>
          <p:cNvSpPr txBox="1"/>
          <p:nvPr/>
        </p:nvSpPr>
        <p:spPr>
          <a:xfrm>
            <a:off x="1258920" y="1773360"/>
            <a:ext cx="6653160" cy="189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0033"/>
                </a:solidFill>
                <a:latin typeface="Impact"/>
              </a:rPr>
              <a:t>Технология оцениван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0033"/>
              </a:solidFill>
              <a:latin typeface="Impact"/>
              <a:ea typeface="Impact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780000" y="465300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rcRect l="0" t="0" r="0" b="5512"/>
          <a:stretch/>
        </p:blipFill>
        <p:spPr>
          <a:xfrm>
            <a:off x="2690640" y="3240000"/>
            <a:ext cx="342900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1"/>
          <p:cNvSpPr txBox="1"/>
          <p:nvPr/>
        </p:nvSpPr>
        <p:spPr>
          <a:xfrm>
            <a:off x="971640" y="404640"/>
            <a:ext cx="7561080" cy="146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6653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0033"/>
                </a:solidFill>
                <a:latin typeface="Impact"/>
              </a:rPr>
              <a:t>Проблемы оценивания: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0033"/>
              </a:solidFill>
              <a:latin typeface="Impact"/>
              <a:ea typeface="Impact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395280" y="1989000"/>
            <a:ext cx="8497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spcBef>
                <a:spcPts val="15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Новые образовательные цели не проверяются старыми контрольно измерительными материал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95280" y="2924280"/>
            <a:ext cx="8497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spcBef>
                <a:spcPts val="15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Традиционная фиксация в журнале не позволяет увидеть соответствие требования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95280" y="3860640"/>
            <a:ext cx="8497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spcBef>
                <a:spcPts val="15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Пятибалльные отметки не отражают всего разнообразия качественных оце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95280" y="4869000"/>
            <a:ext cx="8497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spcBef>
                <a:spcPts val="15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Традиции оценивания не позволяют развивать самооценку школь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395280" y="5805360"/>
            <a:ext cx="8497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spcBef>
                <a:spcPts val="15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Традиции оценивания дискомфортны для учеников, отрицательно влияют на их мотивац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1"/>
          <p:cNvSpPr txBox="1"/>
          <p:nvPr/>
        </p:nvSpPr>
        <p:spPr>
          <a:xfrm>
            <a:off x="1547640" y="549360"/>
            <a:ext cx="6480360" cy="14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088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0033"/>
                </a:solidFill>
                <a:latin typeface="Impact"/>
              </a:rPr>
              <a:t>Уровни успешности: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0033"/>
              </a:solidFill>
              <a:latin typeface="Impact"/>
              <a:ea typeface="Impact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395280" y="2708280"/>
            <a:ext cx="8353440" cy="2482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Необходимый уровен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решение типовой  задач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одобной тем, что решали уже много раз, где требовалось применить сформированные умения и усвоенные знания, прежде всего соответствующие гос.стандарту, что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еобходимо вс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 любому предмету. Эт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хорошо, но не отлично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68360" y="2565360"/>
            <a:ext cx="800568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Программный уровен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решение нестандартной задач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где потребовалось либо применить знания по новой, изучаемой в данный момент теме,  либо «старые» знания и умения, но в новой, непривычной ситуации. Это уровень функциональной грамотности - 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лично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95280" y="2349360"/>
            <a:ext cx="8353440" cy="3595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Максимальный уровен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еобязательный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решение «сверхзадачи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 неизученному материалу, когда потребовались либо самостоятельно добытые вне уроков знания, либо новые самостоятельно усвоенные умения. Этот уровень демонстрирует исключительные успехи отдельных учеников по отдельным темам - сверх школьных требований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превосходно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animClr clrSpc="hsl" dir="cw">
                                      <p:cBhvr>
                                        <p:cTn id="2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animClr clrSpc="hsl" dir="cw">
                                      <p:cBhvr>
                                        <p:cTn id="2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set>
                                      <p:cBhvr>
                                        <p:cTn id="2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animClr clrSpc="hsl" dir="cw">
                                      <p:cBhvr>
                                        <p:cTn id="3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animClr clrSpc="hsl" dir="cw">
                                      <p:cBhvr>
                                        <p:cTn id="3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set>
                                      <p:cBhvr>
                                        <p:cTn id="3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animClr clrSpc="hsl" dir="cw">
                                      <p:cBhvr>
                                        <p:cTn id="3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animClr clrSpc="hsl" dir="cw">
                                      <p:cBhvr>
                                        <p:cTn id="3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set>
                                      <p:cBhvr>
                                        <p:cTn id="3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1"/>
          <p:cNvSpPr txBox="1"/>
          <p:nvPr/>
        </p:nvSpPr>
        <p:spPr>
          <a:xfrm>
            <a:off x="1332000" y="549360"/>
            <a:ext cx="7127640" cy="14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088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0033"/>
                </a:solidFill>
                <a:latin typeface="Impact"/>
              </a:rPr>
              <a:t>Алгоритм самооценки: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0033"/>
              </a:solidFill>
              <a:latin typeface="Impact"/>
              <a:ea typeface="Impact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395280" y="2205000"/>
            <a:ext cx="84978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чем заключалось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зад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95280" y="2924280"/>
            <a:ext cx="84978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Удалось ли получить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результа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395280" y="3645000"/>
            <a:ext cx="84978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олностью ли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правиль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или с ошибко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95280" y="4365720"/>
            <a:ext cx="84978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олностью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самостоятель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или с помощью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395280" y="5013360"/>
            <a:ext cx="84978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По каким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признака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зличаем отмет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395280" y="5661000"/>
            <a:ext cx="84978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Какую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сам себ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ставляешь отметку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459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266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4099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66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7099"/>
                            </p:stCondLst>
                            <p:childTnLst>
                              <p:par>
                                <p:cTn id="3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2484360" y="4292640"/>
            <a:ext cx="20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Group 2"/>
          <p:cNvGrpSpPr/>
          <p:nvPr/>
        </p:nvGrpSpPr>
        <p:grpSpPr>
          <a:xfrm>
            <a:off x="0" y="255600"/>
            <a:ext cx="9142560" cy="6600960"/>
            <a:chOff x="0" y="255600"/>
            <a:chExt cx="9142560" cy="6600960"/>
          </a:xfrm>
        </p:grpSpPr>
        <p:sp>
          <p:nvSpPr>
            <p:cNvPr id="150" name="Text Box 3"/>
            <p:cNvSpPr/>
            <p:nvPr/>
          </p:nvSpPr>
          <p:spPr>
            <a:xfrm>
              <a:off x="71280" y="255600"/>
              <a:ext cx="8963280" cy="1373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990033"/>
                  </a:solidFill>
                  <a:latin typeface="Arial"/>
                </a:rPr>
                <a:t>Уровень успешности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– это оценка, которая может быть переведена в отметку по любой балльной шкале.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1" name="Group 4"/>
            <p:cNvGrpSpPr/>
            <p:nvPr/>
          </p:nvGrpSpPr>
          <p:grpSpPr>
            <a:xfrm>
              <a:off x="0" y="1673280"/>
              <a:ext cx="8423280" cy="5183280"/>
              <a:chOff x="0" y="1673280"/>
              <a:chExt cx="8423280" cy="5183280"/>
            </a:xfrm>
          </p:grpSpPr>
          <p:sp>
            <p:nvSpPr>
              <p:cNvPr id="152" name="Line 5"/>
              <p:cNvSpPr/>
              <p:nvPr/>
            </p:nvSpPr>
            <p:spPr>
              <a:xfrm>
                <a:off x="0" y="4984920"/>
                <a:ext cx="842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6"/>
              <p:cNvSpPr/>
              <p:nvPr/>
            </p:nvSpPr>
            <p:spPr>
              <a:xfrm>
                <a:off x="4751280" y="1673280"/>
                <a:ext cx="0" cy="518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" name="Rectangle 7"/>
            <p:cNvSpPr/>
            <p:nvPr/>
          </p:nvSpPr>
          <p:spPr>
            <a:xfrm>
              <a:off x="179280" y="1989000"/>
              <a:ext cx="4822920" cy="47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1640">
                <a:spcBef>
                  <a:spcPts val="700"/>
                </a:spcBef>
                <a:tabLst>
                  <a:tab algn="l" pos="0"/>
                  <a:tab algn="l" pos="343080"/>
                  <a:tab algn="l" pos="1257480"/>
                  <a:tab algn="l" pos="2171880"/>
                  <a:tab algn="l" pos="3086280"/>
                  <a:tab algn="l" pos="4000680"/>
                  <a:tab algn="l" pos="4915080"/>
                  <a:tab algn="l" pos="5829480"/>
                  <a:tab algn="l" pos="6743880"/>
                  <a:tab algn="l" pos="7658280"/>
                  <a:tab algn="l" pos="8572680"/>
                  <a:tab algn="l" pos="9487080"/>
                  <a:tab algn="l" pos="10401480"/>
                  <a:tab algn="l" pos="1078236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1640">
                <a:spcBef>
                  <a:spcPts val="700"/>
                </a:spcBef>
                <a:tabLst>
                  <a:tab algn="l" pos="0"/>
                  <a:tab algn="l" pos="343080"/>
                  <a:tab algn="l" pos="1257480"/>
                  <a:tab algn="l" pos="2171880"/>
                  <a:tab algn="l" pos="3086280"/>
                  <a:tab algn="l" pos="4000680"/>
                  <a:tab algn="l" pos="4915080"/>
                  <a:tab algn="l" pos="5829480"/>
                  <a:tab algn="l" pos="6743880"/>
                  <a:tab algn="l" pos="7658280"/>
                  <a:tab algn="l" pos="8572680"/>
                  <a:tab algn="l" pos="9487080"/>
                  <a:tab algn="l" pos="10401480"/>
                  <a:tab algn="l" pos="10782360"/>
                </a:tabLst>
              </a:pPr>
              <a:r>
                <a:rPr b="1" lang="ru-RU" sz="2800" spc="-1" strike="noStrike">
                  <a:solidFill>
                    <a:srgbClr val="990033"/>
                  </a:solidFill>
                  <a:latin typeface="Arial"/>
                  <a:ea typeface="Times New Roman"/>
                </a:rPr>
                <a:t>Необходимый уровень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«хорошо, но не отлично»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1640">
                <a:spcBef>
                  <a:spcPts val="700"/>
                </a:spcBef>
                <a:tabLst>
                  <a:tab algn="l" pos="0"/>
                  <a:tab algn="l" pos="343080"/>
                  <a:tab algn="l" pos="1257480"/>
                  <a:tab algn="l" pos="2171880"/>
                  <a:tab algn="l" pos="3086280"/>
                  <a:tab algn="l" pos="4000680"/>
                  <a:tab algn="l" pos="4915080"/>
                  <a:tab algn="l" pos="5829480"/>
                  <a:tab algn="l" pos="6743880"/>
                  <a:tab algn="l" pos="7658280"/>
                  <a:tab algn="l" pos="8572680"/>
                  <a:tab algn="l" pos="9487080"/>
                  <a:tab algn="l" pos="10401480"/>
                  <a:tab algn="l" pos="1078236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1640">
                <a:spcBef>
                  <a:spcPts val="700"/>
                </a:spcBef>
                <a:tabLst>
                  <a:tab algn="l" pos="0"/>
                  <a:tab algn="l" pos="343080"/>
                  <a:tab algn="l" pos="1257480"/>
                  <a:tab algn="l" pos="2171880"/>
                  <a:tab algn="l" pos="3086280"/>
                  <a:tab algn="l" pos="4000680"/>
                  <a:tab algn="l" pos="4915080"/>
                  <a:tab algn="l" pos="5829480"/>
                  <a:tab algn="l" pos="6743880"/>
                  <a:tab algn="l" pos="7658280"/>
                  <a:tab algn="l" pos="8572680"/>
                  <a:tab algn="l" pos="9487080"/>
                  <a:tab algn="l" pos="10401480"/>
                  <a:tab algn="l" pos="10782360"/>
                </a:tabLst>
              </a:pPr>
              <a:r>
                <a:rPr b="1" lang="ru-RU" sz="2800" spc="-1" strike="noStrike">
                  <a:solidFill>
                    <a:srgbClr val="990033"/>
                  </a:solidFill>
                  <a:latin typeface="Arial"/>
                  <a:ea typeface="Times New Roman"/>
                </a:rPr>
                <a:t>Программный уровень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«отлично»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1640">
                <a:spcBef>
                  <a:spcPts val="700"/>
                </a:spcBef>
                <a:tabLst>
                  <a:tab algn="l" pos="0"/>
                  <a:tab algn="l" pos="343080"/>
                  <a:tab algn="l" pos="1257480"/>
                  <a:tab algn="l" pos="2171880"/>
                  <a:tab algn="l" pos="3086280"/>
                  <a:tab algn="l" pos="4000680"/>
                  <a:tab algn="l" pos="4915080"/>
                  <a:tab algn="l" pos="5829480"/>
                  <a:tab algn="l" pos="6743880"/>
                  <a:tab algn="l" pos="7658280"/>
                  <a:tab algn="l" pos="8572680"/>
                  <a:tab algn="l" pos="9487080"/>
                  <a:tab algn="l" pos="10401480"/>
                  <a:tab algn="l" pos="10782360"/>
                </a:tabLst>
              </a:pPr>
              <a:r>
                <a:rPr b="1" lang="ru-RU" sz="2800" spc="-1" strike="noStrike">
                  <a:solidFill>
                    <a:srgbClr val="990033"/>
                  </a:solidFill>
                  <a:latin typeface="Arial"/>
                  <a:ea typeface="Times New Roman"/>
                </a:rPr>
                <a:t>Максимальный уровень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(необязательный) «превосходно».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Text Box 8"/>
            <p:cNvSpPr/>
            <p:nvPr/>
          </p:nvSpPr>
          <p:spPr>
            <a:xfrm>
              <a:off x="179280" y="1916280"/>
              <a:ext cx="453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УРОВНИ УСПЕШНОСТ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Text Box 9"/>
            <p:cNvSpPr/>
            <p:nvPr/>
          </p:nvSpPr>
          <p:spPr>
            <a:xfrm>
              <a:off x="4861080" y="1989000"/>
              <a:ext cx="428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5-ти и 6-ти балльные ОТМЕТК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7" name="Group 10"/>
            <p:cNvGrpSpPr/>
            <p:nvPr/>
          </p:nvGrpSpPr>
          <p:grpSpPr>
            <a:xfrm>
              <a:off x="5364000" y="2422440"/>
              <a:ext cx="3743640" cy="3751200"/>
              <a:chOff x="5364000" y="2422440"/>
              <a:chExt cx="3743640" cy="3751200"/>
            </a:xfrm>
          </p:grpSpPr>
          <p:sp>
            <p:nvSpPr>
              <p:cNvPr id="158" name="Text Box 11"/>
              <p:cNvSpPr/>
              <p:nvPr/>
            </p:nvSpPr>
            <p:spPr>
              <a:xfrm>
                <a:off x="5437080" y="2422440"/>
                <a:ext cx="35989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ЧАСТИЧНО – </a:t>
                </a:r>
                <a:r>
                  <a:rPr b="1" lang="ru-RU" sz="2400" spc="-1" strike="noStrike">
                    <a:solidFill>
                      <a:srgbClr val="ff3300"/>
                    </a:solidFill>
                    <a:latin typeface="Arial"/>
                  </a:rPr>
                  <a:t>3 </a:t>
                </a: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ru-RU" sz="2400" spc="-1" strike="noStrike">
                    <a:solidFill>
                      <a:srgbClr val="ff3300"/>
                    </a:solidFill>
                    <a:latin typeface="Arial"/>
                  </a:rPr>
                  <a:t> </a:t>
                </a:r>
                <a:r>
                  <a:rPr b="1" lang="ru-RU" sz="2400" spc="-1" strike="noStrike">
                    <a:solidFill>
                      <a:srgbClr val="29941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ПОЛНОСТЬЮ – </a:t>
                </a:r>
                <a:r>
                  <a:rPr b="1" lang="ru-RU" sz="2400" spc="-1" strike="noStrike">
                    <a:solidFill>
                      <a:srgbClr val="ff3300"/>
                    </a:solidFill>
                    <a:latin typeface="Arial"/>
                  </a:rPr>
                  <a:t>4 </a:t>
                </a: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ru-RU" sz="2400" spc="-1" strike="noStrike">
                    <a:solidFill>
                      <a:srgbClr val="ff3300"/>
                    </a:solidFill>
                    <a:latin typeface="Arial"/>
                  </a:rPr>
                  <a:t> </a:t>
                </a:r>
                <a:r>
                  <a:rPr b="1" lang="ru-RU" sz="2400" spc="-1" strike="noStrike">
                    <a:solidFill>
                      <a:srgbClr val="29941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9" name="Group 12"/>
              <p:cNvGrpSpPr/>
              <p:nvPr/>
            </p:nvGrpSpPr>
            <p:grpSpPr>
              <a:xfrm>
                <a:off x="5364000" y="3792600"/>
                <a:ext cx="3743640" cy="2381040"/>
                <a:chOff x="5364000" y="3792600"/>
                <a:chExt cx="3743640" cy="2381040"/>
              </a:xfrm>
            </p:grpSpPr>
            <p:sp>
              <p:nvSpPr>
                <p:cNvPr id="160" name="Text Box 13"/>
                <p:cNvSpPr/>
                <p:nvPr/>
              </p:nvSpPr>
              <p:spPr>
                <a:xfrm>
                  <a:off x="5508720" y="3792600"/>
                  <a:ext cx="359892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ЧАСТИЧНО – </a:t>
                  </a:r>
                  <a:r>
                    <a:rPr b="1" lang="ru-RU" sz="2400" spc="-1" strike="noStrike">
                      <a:solidFill>
                        <a:srgbClr val="ff3300"/>
                      </a:solidFill>
                      <a:latin typeface="Arial"/>
                    </a:rPr>
                    <a:t>4+ </a:t>
                  </a:r>
                  <a:r>
                    <a:rPr b="1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ru-RU" sz="2400" spc="-1" strike="noStrike">
                      <a:solidFill>
                        <a:srgbClr val="ff3300"/>
                      </a:solidFill>
                      <a:latin typeface="Arial"/>
                    </a:rPr>
                    <a:t> </a:t>
                  </a:r>
                  <a:r>
                    <a:rPr b="1" lang="ru-RU" sz="2400" spc="-1" strike="noStrike">
                      <a:solidFill>
                        <a:srgbClr val="299410"/>
                      </a:solidFill>
                      <a:latin typeface="Arial"/>
                    </a:rPr>
                    <a:t>3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ПОЛНОСТЬЮ – </a:t>
                  </a:r>
                  <a:r>
                    <a:rPr b="1" lang="ru-RU" sz="2400" spc="-1" strike="noStrike">
                      <a:solidFill>
                        <a:srgbClr val="ff3300"/>
                      </a:solidFill>
                      <a:latin typeface="Arial"/>
                    </a:rPr>
                    <a:t>5 </a:t>
                  </a:r>
                  <a:r>
                    <a:rPr b="1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ru-RU" sz="2400" spc="-1" strike="noStrike">
                      <a:solidFill>
                        <a:srgbClr val="ff3300"/>
                      </a:solidFill>
                      <a:latin typeface="Arial"/>
                    </a:rPr>
                    <a:t> </a:t>
                  </a:r>
                  <a:r>
                    <a:rPr b="1" lang="ru-RU" sz="2400" spc="-1" strike="noStrike">
                      <a:solidFill>
                        <a:srgbClr val="299410"/>
                      </a:solidFill>
                      <a:latin typeface="Arial"/>
                    </a:rPr>
                    <a:t>4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Text Box 14"/>
                <p:cNvSpPr/>
                <p:nvPr/>
              </p:nvSpPr>
              <p:spPr>
                <a:xfrm>
                  <a:off x="5364000" y="5157720"/>
                  <a:ext cx="374364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ЧАСТИЧНО – </a:t>
                  </a:r>
                  <a:r>
                    <a:rPr b="1" lang="ru-RU" sz="2400" spc="-1" strike="noStrike">
                      <a:solidFill>
                        <a:srgbClr val="ff3300"/>
                      </a:solidFill>
                      <a:latin typeface="Arial"/>
                    </a:rPr>
                    <a:t>5+ </a:t>
                  </a:r>
                  <a:r>
                    <a:rPr b="1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ru-RU" sz="2400" spc="-1" strike="noStrike">
                      <a:solidFill>
                        <a:srgbClr val="ff3300"/>
                      </a:solidFill>
                      <a:latin typeface="Arial"/>
                    </a:rPr>
                    <a:t> </a:t>
                  </a:r>
                  <a:r>
                    <a:rPr b="1" lang="ru-RU" sz="2400" spc="-1" strike="noStrike">
                      <a:solidFill>
                        <a:srgbClr val="299410"/>
                      </a:solidFill>
                      <a:latin typeface="Arial"/>
                    </a:rPr>
                    <a:t>5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ПОЛНОСТЬЮ – </a:t>
                  </a:r>
                  <a:r>
                    <a:rPr b="1" lang="ru-RU" sz="2400" spc="-1" strike="noStrike">
                      <a:solidFill>
                        <a:srgbClr val="ff3300"/>
                      </a:solidFill>
                      <a:latin typeface="Arial"/>
                    </a:rPr>
                    <a:t>5 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и</a:t>
                  </a:r>
                  <a:r>
                    <a:rPr b="1" lang="ru-RU" sz="2400" spc="-1" strike="noStrike">
                      <a:solidFill>
                        <a:srgbClr val="ff3300"/>
                      </a:solidFill>
                      <a:latin typeface="Arial"/>
                    </a:rPr>
                    <a:t> 5 </a:t>
                  </a:r>
                  <a:r>
                    <a:rPr b="1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ru-RU" sz="2400" spc="-1" strike="noStrike">
                      <a:solidFill>
                        <a:srgbClr val="ff3300"/>
                      </a:solidFill>
                      <a:latin typeface="Arial"/>
                    </a:rPr>
                    <a:t> </a:t>
                  </a:r>
                  <a:r>
                    <a:rPr b="1" lang="ru-RU" sz="2400" spc="-1" strike="noStrike">
                      <a:solidFill>
                        <a:srgbClr val="299410"/>
                      </a:solidFill>
                      <a:latin typeface="Arial"/>
                    </a:rPr>
                    <a:t>6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2" name="Line 15"/>
            <p:cNvSpPr/>
            <p:nvPr/>
          </p:nvSpPr>
          <p:spPr>
            <a:xfrm>
              <a:off x="179280" y="3573360"/>
              <a:ext cx="8423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3" name="Picture 16" descr=""/>
          <p:cNvPicPr/>
          <p:nvPr/>
        </p:nvPicPr>
        <p:blipFill>
          <a:blip r:embed="rId1"/>
          <a:stretch/>
        </p:blipFill>
        <p:spPr>
          <a:xfrm>
            <a:off x="4716360" y="2421000"/>
            <a:ext cx="760680" cy="1095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"/>
          <p:cNvPicPr/>
          <p:nvPr/>
        </p:nvPicPr>
        <p:blipFill>
          <a:blip r:embed="rId2"/>
          <a:stretch/>
        </p:blipFill>
        <p:spPr>
          <a:xfrm>
            <a:off x="3780000" y="5413320"/>
            <a:ext cx="922320" cy="144468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18"/>
          <p:cNvGrpSpPr/>
          <p:nvPr/>
        </p:nvGrpSpPr>
        <p:grpSpPr>
          <a:xfrm>
            <a:off x="3995640" y="3500280"/>
            <a:ext cx="1366920" cy="1513080"/>
            <a:chOff x="3995640" y="3500280"/>
            <a:chExt cx="1366920" cy="1513080"/>
          </a:xfrm>
        </p:grpSpPr>
        <p:sp>
          <p:nvSpPr>
            <p:cNvPr id="166" name="Freeform 19"/>
            <p:cNvSpPr/>
            <p:nvPr/>
          </p:nvSpPr>
          <p:spPr>
            <a:xfrm>
              <a:off x="3995640" y="3500280"/>
              <a:ext cx="1366920" cy="1405080"/>
            </a:xfrm>
            <a:custGeom>
              <a:avLst/>
              <a:gdLst/>
              <a:ahLst/>
              <a:rect l="l" t="t" r="r" b="b"/>
              <a:pathLst>
                <a:path w="1972" h="1772">
                  <a:moveTo>
                    <a:pt x="1644" y="1464"/>
                  </a:moveTo>
                  <a:lnTo>
                    <a:pt x="1681" y="1403"/>
                  </a:lnTo>
                  <a:lnTo>
                    <a:pt x="1713" y="1338"/>
                  </a:lnTo>
                  <a:lnTo>
                    <a:pt x="1740" y="1270"/>
                  </a:lnTo>
                  <a:lnTo>
                    <a:pt x="1765" y="1199"/>
                  </a:lnTo>
                  <a:lnTo>
                    <a:pt x="1783" y="1124"/>
                  </a:lnTo>
                  <a:lnTo>
                    <a:pt x="1797" y="1047"/>
                  </a:lnTo>
                  <a:lnTo>
                    <a:pt x="1806" y="968"/>
                  </a:lnTo>
                  <a:lnTo>
                    <a:pt x="1808" y="887"/>
                  </a:lnTo>
                  <a:lnTo>
                    <a:pt x="1805" y="796"/>
                  </a:lnTo>
                  <a:lnTo>
                    <a:pt x="1795" y="709"/>
                  </a:lnTo>
                  <a:lnTo>
                    <a:pt x="1778" y="624"/>
                  </a:lnTo>
                  <a:lnTo>
                    <a:pt x="1755" y="542"/>
                  </a:lnTo>
                  <a:lnTo>
                    <a:pt x="1727" y="464"/>
                  </a:lnTo>
                  <a:lnTo>
                    <a:pt x="1693" y="391"/>
                  </a:lnTo>
                  <a:lnTo>
                    <a:pt x="1654" y="323"/>
                  </a:lnTo>
                  <a:lnTo>
                    <a:pt x="1610" y="260"/>
                  </a:lnTo>
                  <a:lnTo>
                    <a:pt x="1562" y="202"/>
                  </a:lnTo>
                  <a:lnTo>
                    <a:pt x="1510" y="151"/>
                  </a:lnTo>
                  <a:lnTo>
                    <a:pt x="1455" y="107"/>
                  </a:lnTo>
                  <a:lnTo>
                    <a:pt x="1395" y="69"/>
                  </a:lnTo>
                  <a:lnTo>
                    <a:pt x="1333" y="39"/>
                  </a:lnTo>
                  <a:lnTo>
                    <a:pt x="1268" y="18"/>
                  </a:lnTo>
                  <a:lnTo>
                    <a:pt x="1201" y="5"/>
                  </a:lnTo>
                  <a:lnTo>
                    <a:pt x="1132" y="0"/>
                  </a:lnTo>
                  <a:lnTo>
                    <a:pt x="1132" y="51"/>
                  </a:lnTo>
                  <a:lnTo>
                    <a:pt x="1197" y="56"/>
                  </a:lnTo>
                  <a:lnTo>
                    <a:pt x="1260" y="68"/>
                  </a:lnTo>
                  <a:lnTo>
                    <a:pt x="1321" y="89"/>
                  </a:lnTo>
                  <a:lnTo>
                    <a:pt x="1380" y="118"/>
                  </a:lnTo>
                  <a:lnTo>
                    <a:pt x="1435" y="153"/>
                  </a:lnTo>
                  <a:lnTo>
                    <a:pt x="1488" y="195"/>
                  </a:lnTo>
                  <a:lnTo>
                    <a:pt x="1537" y="242"/>
                  </a:lnTo>
                  <a:lnTo>
                    <a:pt x="1582" y="296"/>
                  </a:lnTo>
                  <a:lnTo>
                    <a:pt x="1623" y="355"/>
                  </a:lnTo>
                  <a:lnTo>
                    <a:pt x="1660" y="420"/>
                  </a:lnTo>
                  <a:lnTo>
                    <a:pt x="1691" y="489"/>
                  </a:lnTo>
                  <a:lnTo>
                    <a:pt x="1719" y="562"/>
                  </a:lnTo>
                  <a:lnTo>
                    <a:pt x="1739" y="639"/>
                  </a:lnTo>
                  <a:lnTo>
                    <a:pt x="1755" y="719"/>
                  </a:lnTo>
                  <a:lnTo>
                    <a:pt x="1765" y="802"/>
                  </a:lnTo>
                  <a:lnTo>
                    <a:pt x="1768" y="887"/>
                  </a:lnTo>
                  <a:lnTo>
                    <a:pt x="1765" y="968"/>
                  </a:lnTo>
                  <a:lnTo>
                    <a:pt x="1757" y="1047"/>
                  </a:lnTo>
                  <a:lnTo>
                    <a:pt x="1742" y="1122"/>
                  </a:lnTo>
                  <a:lnTo>
                    <a:pt x="1722" y="1196"/>
                  </a:lnTo>
                  <a:lnTo>
                    <a:pt x="1698" y="1266"/>
                  </a:lnTo>
                  <a:lnTo>
                    <a:pt x="1669" y="1332"/>
                  </a:lnTo>
                  <a:lnTo>
                    <a:pt x="1636" y="1396"/>
                  </a:lnTo>
                  <a:lnTo>
                    <a:pt x="1598" y="1453"/>
                  </a:lnTo>
                  <a:lnTo>
                    <a:pt x="1556" y="1506"/>
                  </a:lnTo>
                  <a:lnTo>
                    <a:pt x="1511" y="1554"/>
                  </a:lnTo>
                  <a:lnTo>
                    <a:pt x="1463" y="1598"/>
                  </a:lnTo>
                  <a:lnTo>
                    <a:pt x="1411" y="1635"/>
                  </a:lnTo>
                  <a:lnTo>
                    <a:pt x="1357" y="1665"/>
                  </a:lnTo>
                  <a:lnTo>
                    <a:pt x="1300" y="1689"/>
                  </a:lnTo>
                  <a:lnTo>
                    <a:pt x="1242" y="1707"/>
                  </a:lnTo>
                  <a:lnTo>
                    <a:pt x="1181" y="1716"/>
                  </a:lnTo>
                  <a:lnTo>
                    <a:pt x="1098" y="1716"/>
                  </a:lnTo>
                  <a:lnTo>
                    <a:pt x="1098" y="1718"/>
                  </a:lnTo>
                  <a:lnTo>
                    <a:pt x="1053" y="1712"/>
                  </a:lnTo>
                  <a:lnTo>
                    <a:pt x="1009" y="1703"/>
                  </a:lnTo>
                  <a:lnTo>
                    <a:pt x="965" y="1689"/>
                  </a:lnTo>
                  <a:lnTo>
                    <a:pt x="924" y="1672"/>
                  </a:lnTo>
                  <a:lnTo>
                    <a:pt x="882" y="1651"/>
                  </a:lnTo>
                  <a:lnTo>
                    <a:pt x="843" y="1627"/>
                  </a:lnTo>
                  <a:lnTo>
                    <a:pt x="805" y="1598"/>
                  </a:lnTo>
                  <a:lnTo>
                    <a:pt x="768" y="1568"/>
                  </a:lnTo>
                  <a:lnTo>
                    <a:pt x="733" y="1533"/>
                  </a:lnTo>
                  <a:lnTo>
                    <a:pt x="700" y="1496"/>
                  </a:lnTo>
                  <a:lnTo>
                    <a:pt x="669" y="1455"/>
                  </a:lnTo>
                  <a:lnTo>
                    <a:pt x="639" y="1411"/>
                  </a:lnTo>
                  <a:lnTo>
                    <a:pt x="613" y="1364"/>
                  </a:lnTo>
                  <a:lnTo>
                    <a:pt x="589" y="1316"/>
                  </a:lnTo>
                  <a:lnTo>
                    <a:pt x="567" y="1264"/>
                  </a:lnTo>
                  <a:lnTo>
                    <a:pt x="547" y="1210"/>
                  </a:lnTo>
                  <a:lnTo>
                    <a:pt x="510" y="1230"/>
                  </a:lnTo>
                  <a:lnTo>
                    <a:pt x="522" y="1261"/>
                  </a:lnTo>
                  <a:lnTo>
                    <a:pt x="533" y="1293"/>
                  </a:lnTo>
                  <a:lnTo>
                    <a:pt x="546" y="1323"/>
                  </a:lnTo>
                  <a:lnTo>
                    <a:pt x="560" y="1354"/>
                  </a:lnTo>
                  <a:lnTo>
                    <a:pt x="574" y="1382"/>
                  </a:lnTo>
                  <a:lnTo>
                    <a:pt x="589" y="1409"/>
                  </a:lnTo>
                  <a:lnTo>
                    <a:pt x="605" y="1437"/>
                  </a:lnTo>
                  <a:lnTo>
                    <a:pt x="621" y="1464"/>
                  </a:lnTo>
                  <a:lnTo>
                    <a:pt x="192" y="1464"/>
                  </a:lnTo>
                  <a:lnTo>
                    <a:pt x="192" y="1515"/>
                  </a:lnTo>
                  <a:lnTo>
                    <a:pt x="645" y="1515"/>
                  </a:lnTo>
                  <a:lnTo>
                    <a:pt x="647" y="1517"/>
                  </a:lnTo>
                  <a:lnTo>
                    <a:pt x="653" y="1523"/>
                  </a:lnTo>
                  <a:lnTo>
                    <a:pt x="661" y="1530"/>
                  </a:lnTo>
                  <a:lnTo>
                    <a:pt x="672" y="1539"/>
                  </a:lnTo>
                  <a:lnTo>
                    <a:pt x="683" y="1550"/>
                  </a:lnTo>
                  <a:lnTo>
                    <a:pt x="695" y="1562"/>
                  </a:lnTo>
                  <a:lnTo>
                    <a:pt x="706" y="1573"/>
                  </a:lnTo>
                  <a:lnTo>
                    <a:pt x="716" y="1583"/>
                  </a:lnTo>
                  <a:lnTo>
                    <a:pt x="0" y="1583"/>
                  </a:lnTo>
                  <a:lnTo>
                    <a:pt x="0" y="1635"/>
                  </a:lnTo>
                  <a:lnTo>
                    <a:pt x="773" y="1635"/>
                  </a:lnTo>
                  <a:lnTo>
                    <a:pt x="792" y="1651"/>
                  </a:lnTo>
                  <a:lnTo>
                    <a:pt x="813" y="1666"/>
                  </a:lnTo>
                  <a:lnTo>
                    <a:pt x="834" y="1680"/>
                  </a:lnTo>
                  <a:lnTo>
                    <a:pt x="856" y="1693"/>
                  </a:lnTo>
                  <a:lnTo>
                    <a:pt x="877" y="1706"/>
                  </a:lnTo>
                  <a:lnTo>
                    <a:pt x="898" y="1716"/>
                  </a:lnTo>
                  <a:lnTo>
                    <a:pt x="921" y="1727"/>
                  </a:lnTo>
                  <a:lnTo>
                    <a:pt x="943" y="1736"/>
                  </a:lnTo>
                  <a:lnTo>
                    <a:pt x="966" y="1745"/>
                  </a:lnTo>
                  <a:lnTo>
                    <a:pt x="989" y="1751"/>
                  </a:lnTo>
                  <a:lnTo>
                    <a:pt x="1012" y="1758"/>
                  </a:lnTo>
                  <a:lnTo>
                    <a:pt x="1037" y="1763"/>
                  </a:lnTo>
                  <a:lnTo>
                    <a:pt x="1060" y="1768"/>
                  </a:lnTo>
                  <a:lnTo>
                    <a:pt x="1084" y="1769"/>
                  </a:lnTo>
                  <a:lnTo>
                    <a:pt x="1108" y="1772"/>
                  </a:lnTo>
                  <a:lnTo>
                    <a:pt x="1132" y="1772"/>
                  </a:lnTo>
                  <a:lnTo>
                    <a:pt x="1139" y="1772"/>
                  </a:lnTo>
                  <a:lnTo>
                    <a:pt x="1145" y="1772"/>
                  </a:lnTo>
                  <a:lnTo>
                    <a:pt x="1152" y="1772"/>
                  </a:lnTo>
                  <a:lnTo>
                    <a:pt x="1158" y="1771"/>
                  </a:lnTo>
                  <a:lnTo>
                    <a:pt x="1163" y="1771"/>
                  </a:lnTo>
                  <a:lnTo>
                    <a:pt x="1169" y="1771"/>
                  </a:lnTo>
                  <a:lnTo>
                    <a:pt x="1176" y="1769"/>
                  </a:lnTo>
                  <a:lnTo>
                    <a:pt x="1182" y="1769"/>
                  </a:lnTo>
                  <a:lnTo>
                    <a:pt x="1769" y="1769"/>
                  </a:lnTo>
                  <a:lnTo>
                    <a:pt x="1769" y="1716"/>
                  </a:lnTo>
                  <a:lnTo>
                    <a:pt x="1367" y="1716"/>
                  </a:lnTo>
                  <a:lnTo>
                    <a:pt x="1385" y="1707"/>
                  </a:lnTo>
                  <a:lnTo>
                    <a:pt x="1402" y="1698"/>
                  </a:lnTo>
                  <a:lnTo>
                    <a:pt x="1419" y="1687"/>
                  </a:lnTo>
                  <a:lnTo>
                    <a:pt x="1435" y="1677"/>
                  </a:lnTo>
                  <a:lnTo>
                    <a:pt x="1451" y="1666"/>
                  </a:lnTo>
                  <a:lnTo>
                    <a:pt x="1467" y="1654"/>
                  </a:lnTo>
                  <a:lnTo>
                    <a:pt x="1484" y="1642"/>
                  </a:lnTo>
                  <a:lnTo>
                    <a:pt x="1499" y="1630"/>
                  </a:lnTo>
                  <a:lnTo>
                    <a:pt x="1515" y="1616"/>
                  </a:lnTo>
                  <a:lnTo>
                    <a:pt x="1530" y="1603"/>
                  </a:lnTo>
                  <a:lnTo>
                    <a:pt x="1544" y="1588"/>
                  </a:lnTo>
                  <a:lnTo>
                    <a:pt x="1558" y="1573"/>
                  </a:lnTo>
                  <a:lnTo>
                    <a:pt x="1572" y="1558"/>
                  </a:lnTo>
                  <a:lnTo>
                    <a:pt x="1586" y="1541"/>
                  </a:lnTo>
                  <a:lnTo>
                    <a:pt x="1600" y="1524"/>
                  </a:lnTo>
                  <a:lnTo>
                    <a:pt x="1613" y="1508"/>
                  </a:lnTo>
                  <a:lnTo>
                    <a:pt x="1613" y="1515"/>
                  </a:lnTo>
                  <a:lnTo>
                    <a:pt x="1972" y="1515"/>
                  </a:lnTo>
                  <a:lnTo>
                    <a:pt x="1972" y="1464"/>
                  </a:lnTo>
                  <a:lnTo>
                    <a:pt x="1644" y="14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20"/>
            <p:cNvSpPr/>
            <p:nvPr/>
          </p:nvSpPr>
          <p:spPr>
            <a:xfrm>
              <a:off x="4443480" y="4973760"/>
              <a:ext cx="54144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21"/>
            <p:cNvSpPr/>
            <p:nvPr/>
          </p:nvSpPr>
          <p:spPr>
            <a:xfrm>
              <a:off x="4432320" y="3676680"/>
              <a:ext cx="701640" cy="1054080"/>
            </a:xfrm>
            <a:custGeom>
              <a:avLst/>
              <a:gdLst/>
              <a:ahLst/>
              <a:rect l="l" t="t" r="r" b="b"/>
              <a:pathLst>
                <a:path w="1014" h="1329">
                  <a:moveTo>
                    <a:pt x="547" y="289"/>
                  </a:moveTo>
                  <a:lnTo>
                    <a:pt x="547" y="515"/>
                  </a:lnTo>
                  <a:lnTo>
                    <a:pt x="615" y="571"/>
                  </a:lnTo>
                  <a:lnTo>
                    <a:pt x="615" y="485"/>
                  </a:lnTo>
                  <a:lnTo>
                    <a:pt x="653" y="485"/>
                  </a:lnTo>
                  <a:lnTo>
                    <a:pt x="653" y="601"/>
                  </a:lnTo>
                  <a:lnTo>
                    <a:pt x="738" y="671"/>
                  </a:lnTo>
                  <a:lnTo>
                    <a:pt x="738" y="609"/>
                  </a:lnTo>
                  <a:lnTo>
                    <a:pt x="775" y="609"/>
                  </a:lnTo>
                  <a:lnTo>
                    <a:pt x="775" y="701"/>
                  </a:lnTo>
                  <a:lnTo>
                    <a:pt x="873" y="778"/>
                  </a:lnTo>
                  <a:lnTo>
                    <a:pt x="873" y="885"/>
                  </a:lnTo>
                  <a:lnTo>
                    <a:pt x="547" y="733"/>
                  </a:lnTo>
                  <a:lnTo>
                    <a:pt x="547" y="1002"/>
                  </a:lnTo>
                  <a:lnTo>
                    <a:pt x="621" y="1079"/>
                  </a:lnTo>
                  <a:lnTo>
                    <a:pt x="621" y="1166"/>
                  </a:lnTo>
                  <a:lnTo>
                    <a:pt x="508" y="1100"/>
                  </a:lnTo>
                  <a:lnTo>
                    <a:pt x="395" y="1166"/>
                  </a:lnTo>
                  <a:lnTo>
                    <a:pt x="395" y="1080"/>
                  </a:lnTo>
                  <a:lnTo>
                    <a:pt x="469" y="1003"/>
                  </a:lnTo>
                  <a:lnTo>
                    <a:pt x="469" y="733"/>
                  </a:lnTo>
                  <a:lnTo>
                    <a:pt x="144" y="885"/>
                  </a:lnTo>
                  <a:lnTo>
                    <a:pt x="144" y="778"/>
                  </a:lnTo>
                  <a:lnTo>
                    <a:pt x="243" y="700"/>
                  </a:lnTo>
                  <a:lnTo>
                    <a:pt x="243" y="609"/>
                  </a:lnTo>
                  <a:lnTo>
                    <a:pt x="280" y="609"/>
                  </a:lnTo>
                  <a:lnTo>
                    <a:pt x="280" y="669"/>
                  </a:lnTo>
                  <a:lnTo>
                    <a:pt x="355" y="607"/>
                  </a:lnTo>
                  <a:lnTo>
                    <a:pt x="355" y="485"/>
                  </a:lnTo>
                  <a:lnTo>
                    <a:pt x="392" y="485"/>
                  </a:lnTo>
                  <a:lnTo>
                    <a:pt x="392" y="577"/>
                  </a:lnTo>
                  <a:lnTo>
                    <a:pt x="469" y="515"/>
                  </a:lnTo>
                  <a:lnTo>
                    <a:pt x="469" y="162"/>
                  </a:lnTo>
                  <a:lnTo>
                    <a:pt x="470" y="150"/>
                  </a:lnTo>
                  <a:lnTo>
                    <a:pt x="472" y="139"/>
                  </a:lnTo>
                  <a:lnTo>
                    <a:pt x="477" y="130"/>
                  </a:lnTo>
                  <a:lnTo>
                    <a:pt x="483" y="124"/>
                  </a:lnTo>
                  <a:lnTo>
                    <a:pt x="488" y="119"/>
                  </a:lnTo>
                  <a:lnTo>
                    <a:pt x="495" y="116"/>
                  </a:lnTo>
                  <a:lnTo>
                    <a:pt x="502" y="113"/>
                  </a:lnTo>
                  <a:lnTo>
                    <a:pt x="508" y="113"/>
                  </a:lnTo>
                  <a:lnTo>
                    <a:pt x="514" y="113"/>
                  </a:lnTo>
                  <a:lnTo>
                    <a:pt x="521" y="116"/>
                  </a:lnTo>
                  <a:lnTo>
                    <a:pt x="528" y="119"/>
                  </a:lnTo>
                  <a:lnTo>
                    <a:pt x="533" y="124"/>
                  </a:lnTo>
                  <a:lnTo>
                    <a:pt x="539" y="130"/>
                  </a:lnTo>
                  <a:lnTo>
                    <a:pt x="544" y="139"/>
                  </a:lnTo>
                  <a:lnTo>
                    <a:pt x="546" y="150"/>
                  </a:lnTo>
                  <a:lnTo>
                    <a:pt x="547" y="162"/>
                  </a:lnTo>
                  <a:lnTo>
                    <a:pt x="547" y="289"/>
                  </a:lnTo>
                  <a:lnTo>
                    <a:pt x="798" y="121"/>
                  </a:lnTo>
                  <a:lnTo>
                    <a:pt x="782" y="107"/>
                  </a:lnTo>
                  <a:lnTo>
                    <a:pt x="766" y="94"/>
                  </a:lnTo>
                  <a:lnTo>
                    <a:pt x="750" y="82"/>
                  </a:lnTo>
                  <a:lnTo>
                    <a:pt x="733" y="70"/>
                  </a:lnTo>
                  <a:lnTo>
                    <a:pt x="715" y="59"/>
                  </a:lnTo>
                  <a:lnTo>
                    <a:pt x="698" y="50"/>
                  </a:lnTo>
                  <a:lnTo>
                    <a:pt x="680" y="41"/>
                  </a:lnTo>
                  <a:lnTo>
                    <a:pt x="662" y="32"/>
                  </a:lnTo>
                  <a:lnTo>
                    <a:pt x="644" y="24"/>
                  </a:lnTo>
                  <a:lnTo>
                    <a:pt x="624" y="18"/>
                  </a:lnTo>
                  <a:lnTo>
                    <a:pt x="606" y="12"/>
                  </a:lnTo>
                  <a:lnTo>
                    <a:pt x="586" y="8"/>
                  </a:lnTo>
                  <a:lnTo>
                    <a:pt x="567" y="5"/>
                  </a:lnTo>
                  <a:lnTo>
                    <a:pt x="546" y="2"/>
                  </a:lnTo>
                  <a:lnTo>
                    <a:pt x="526" y="0"/>
                  </a:lnTo>
                  <a:lnTo>
                    <a:pt x="506" y="0"/>
                  </a:lnTo>
                  <a:lnTo>
                    <a:pt x="454" y="3"/>
                  </a:lnTo>
                  <a:lnTo>
                    <a:pt x="404" y="14"/>
                  </a:lnTo>
                  <a:lnTo>
                    <a:pt x="356" y="30"/>
                  </a:lnTo>
                  <a:lnTo>
                    <a:pt x="309" y="53"/>
                  </a:lnTo>
                  <a:lnTo>
                    <a:pt x="265" y="80"/>
                  </a:lnTo>
                  <a:lnTo>
                    <a:pt x="224" y="113"/>
                  </a:lnTo>
                  <a:lnTo>
                    <a:pt x="184" y="153"/>
                  </a:lnTo>
                  <a:lnTo>
                    <a:pt x="149" y="195"/>
                  </a:lnTo>
                  <a:lnTo>
                    <a:pt x="115" y="243"/>
                  </a:lnTo>
                  <a:lnTo>
                    <a:pt x="86" y="295"/>
                  </a:lnTo>
                  <a:lnTo>
                    <a:pt x="61" y="349"/>
                  </a:lnTo>
                  <a:lnTo>
                    <a:pt x="40" y="408"/>
                  </a:lnTo>
                  <a:lnTo>
                    <a:pt x="23" y="468"/>
                  </a:lnTo>
                  <a:lnTo>
                    <a:pt x="10" y="532"/>
                  </a:lnTo>
                  <a:lnTo>
                    <a:pt x="2" y="598"/>
                  </a:lnTo>
                  <a:lnTo>
                    <a:pt x="0" y="666"/>
                  </a:lnTo>
                  <a:lnTo>
                    <a:pt x="2" y="734"/>
                  </a:lnTo>
                  <a:lnTo>
                    <a:pt x="10" y="799"/>
                  </a:lnTo>
                  <a:lnTo>
                    <a:pt x="23" y="863"/>
                  </a:lnTo>
                  <a:lnTo>
                    <a:pt x="40" y="925"/>
                  </a:lnTo>
                  <a:lnTo>
                    <a:pt x="61" y="982"/>
                  </a:lnTo>
                  <a:lnTo>
                    <a:pt x="86" y="1036"/>
                  </a:lnTo>
                  <a:lnTo>
                    <a:pt x="115" y="1088"/>
                  </a:lnTo>
                  <a:lnTo>
                    <a:pt x="149" y="1135"/>
                  </a:lnTo>
                  <a:lnTo>
                    <a:pt x="184" y="1178"/>
                  </a:lnTo>
                  <a:lnTo>
                    <a:pt x="224" y="1216"/>
                  </a:lnTo>
                  <a:lnTo>
                    <a:pt x="265" y="1249"/>
                  </a:lnTo>
                  <a:lnTo>
                    <a:pt x="309" y="1277"/>
                  </a:lnTo>
                  <a:lnTo>
                    <a:pt x="356" y="1299"/>
                  </a:lnTo>
                  <a:lnTo>
                    <a:pt x="404" y="1316"/>
                  </a:lnTo>
                  <a:lnTo>
                    <a:pt x="454" y="1326"/>
                  </a:lnTo>
                  <a:lnTo>
                    <a:pt x="506" y="1329"/>
                  </a:lnTo>
                  <a:lnTo>
                    <a:pt x="558" y="1326"/>
                  </a:lnTo>
                  <a:lnTo>
                    <a:pt x="608" y="1316"/>
                  </a:lnTo>
                  <a:lnTo>
                    <a:pt x="657" y="1299"/>
                  </a:lnTo>
                  <a:lnTo>
                    <a:pt x="704" y="1277"/>
                  </a:lnTo>
                  <a:lnTo>
                    <a:pt x="748" y="1249"/>
                  </a:lnTo>
                  <a:lnTo>
                    <a:pt x="790" y="1216"/>
                  </a:lnTo>
                  <a:lnTo>
                    <a:pt x="829" y="1178"/>
                  </a:lnTo>
                  <a:lnTo>
                    <a:pt x="865" y="1135"/>
                  </a:lnTo>
                  <a:lnTo>
                    <a:pt x="897" y="1088"/>
                  </a:lnTo>
                  <a:lnTo>
                    <a:pt x="927" y="1036"/>
                  </a:lnTo>
                  <a:lnTo>
                    <a:pt x="953" y="982"/>
                  </a:lnTo>
                  <a:lnTo>
                    <a:pt x="973" y="925"/>
                  </a:lnTo>
                  <a:lnTo>
                    <a:pt x="991" y="863"/>
                  </a:lnTo>
                  <a:lnTo>
                    <a:pt x="1003" y="799"/>
                  </a:lnTo>
                  <a:lnTo>
                    <a:pt x="1011" y="734"/>
                  </a:lnTo>
                  <a:lnTo>
                    <a:pt x="1014" y="666"/>
                  </a:lnTo>
                  <a:lnTo>
                    <a:pt x="1013" y="624"/>
                  </a:lnTo>
                  <a:lnTo>
                    <a:pt x="1010" y="583"/>
                  </a:lnTo>
                  <a:lnTo>
                    <a:pt x="1005" y="542"/>
                  </a:lnTo>
                  <a:lnTo>
                    <a:pt x="999" y="503"/>
                  </a:lnTo>
                  <a:lnTo>
                    <a:pt x="990" y="464"/>
                  </a:lnTo>
                  <a:lnTo>
                    <a:pt x="980" y="426"/>
                  </a:lnTo>
                  <a:lnTo>
                    <a:pt x="968" y="390"/>
                  </a:lnTo>
                  <a:lnTo>
                    <a:pt x="955" y="355"/>
                  </a:lnTo>
                  <a:lnTo>
                    <a:pt x="940" y="320"/>
                  </a:lnTo>
                  <a:lnTo>
                    <a:pt x="924" y="287"/>
                  </a:lnTo>
                  <a:lnTo>
                    <a:pt x="905" y="255"/>
                  </a:lnTo>
                  <a:lnTo>
                    <a:pt x="887" y="225"/>
                  </a:lnTo>
                  <a:lnTo>
                    <a:pt x="866" y="196"/>
                  </a:lnTo>
                  <a:lnTo>
                    <a:pt x="844" y="169"/>
                  </a:lnTo>
                  <a:lnTo>
                    <a:pt x="823" y="145"/>
                  </a:lnTo>
                  <a:lnTo>
                    <a:pt x="798" y="121"/>
                  </a:lnTo>
                  <a:lnTo>
                    <a:pt x="547" y="289"/>
                  </a:lnTo>
                  <a:close/>
                </a:path>
              </a:pathLst>
            </a:custGeom>
            <a:solidFill>
              <a:srgbClr val="009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1"/>
          <p:cNvSpPr txBox="1"/>
          <p:nvPr/>
        </p:nvSpPr>
        <p:spPr>
          <a:xfrm>
            <a:off x="900000" y="549360"/>
            <a:ext cx="7559640" cy="14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088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0033"/>
                </a:solidFill>
                <a:latin typeface="Impact"/>
              </a:rPr>
              <a:t>Итоговая оценка и отметк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0033"/>
              </a:solidFill>
              <a:latin typeface="Impact"/>
              <a:ea typeface="Impact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144360" y="5013360"/>
            <a:ext cx="87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*Итоговые оценки и отметк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за четверть и т.п.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екомендуется определять не за отрезок учебного года (число уроков четверти), а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за учебный модул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блок тем), который изучали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в этот пери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250920" y="3170160"/>
            <a:ext cx="84978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тоговая отмет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среднеарифметическое текущих отметок, выставленных с  согласия ученика, и обязательных отметок за проверочные и контрольные работы с учетом их возможной пересдач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71280" y="2060640"/>
            <a:ext cx="89647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тоговая оцен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-  характеристика продемонстрированного учеником на данном отрезке времени уровня возможност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1"/>
          <p:cNvSpPr txBox="1"/>
          <p:nvPr/>
        </p:nvSpPr>
        <p:spPr>
          <a:xfrm>
            <a:off x="684360" y="333360"/>
            <a:ext cx="7991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0338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0033"/>
                </a:solidFill>
                <a:latin typeface="Impact"/>
              </a:rPr>
              <a:t>Какие УУД развивает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0033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0033"/>
                </a:solidFill>
                <a:latin typeface="Impact"/>
              </a:rPr>
              <a:t>технология оценивания?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0033"/>
              </a:solidFill>
              <a:latin typeface="Impact"/>
              <a:ea typeface="Impact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250920" y="2637000"/>
            <a:ext cx="316872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Arial"/>
              </a:rPr>
              <a:t>Организацион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умение определять достигнут ли результа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332000" y="4508640"/>
            <a:ext cx="316872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Arial"/>
              </a:rPr>
              <a:t>Коммуникативны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ргументированно отстаивать свою точку зрен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932360" y="4508640"/>
            <a:ext cx="316872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Arial"/>
              </a:rPr>
              <a:t>Интеллектуальны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логически обосновывать свои вывод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508720" y="2637000"/>
            <a:ext cx="316872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Arial"/>
              </a:rPr>
              <a:t>Оценочны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олерантное отношение к иным решения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6"/>
          <p:cNvSpPr/>
          <p:nvPr/>
        </p:nvSpPr>
        <p:spPr>
          <a:xfrm flipH="1">
            <a:off x="2266920" y="1989000"/>
            <a:ext cx="1082880" cy="64800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5651640" y="1989000"/>
            <a:ext cx="936360" cy="64800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3995640" y="2276640"/>
            <a:ext cx="1800" cy="201600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5148360" y="2205000"/>
            <a:ext cx="1440" cy="208764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179280" y="1839960"/>
            <a:ext cx="882036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мы хотим помочь нашим детям стать самостоятельными, давайте учить их свободе решений и ответственности за свой выбо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216000" y="4437000"/>
            <a:ext cx="874872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Развитие самооценки требует от нас дополнительных усилий, но вскоре мы увидим как дети станут другими! Как показала практика они говорят: «Теперь понятно зачем мы учимся!» и «Я больше не боюсь отвечать, потому что учитель со мной советуется!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WordArt 3"/>
          <p:cNvSpPr txBox="1"/>
          <p:nvPr/>
        </p:nvSpPr>
        <p:spPr>
          <a:xfrm>
            <a:off x="1763640" y="404640"/>
            <a:ext cx="5832720" cy="117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088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0033"/>
                </a:solidFill>
                <a:latin typeface="Impact"/>
              </a:rPr>
              <a:t>Полезный совет!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0033"/>
              </a:solidFill>
              <a:latin typeface="Impact"/>
              <a:ea typeface="Impact"/>
            </a:endParaRPr>
          </a:p>
        </p:txBody>
      </p:sp>
      <p:sp>
        <p:nvSpPr>
          <p:cNvPr id="185" name="WordArt 4"/>
          <p:cNvSpPr txBox="1"/>
          <p:nvPr/>
        </p:nvSpPr>
        <p:spPr>
          <a:xfrm>
            <a:off x="2411280" y="3357720"/>
            <a:ext cx="4464360" cy="102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088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0033"/>
                </a:solidFill>
                <a:latin typeface="Impact"/>
              </a:rPr>
              <a:t>Из практики: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0033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1"/>
          <p:cNvSpPr txBox="1"/>
          <p:nvPr/>
        </p:nvSpPr>
        <p:spPr>
          <a:xfrm>
            <a:off x="1116000" y="2133720"/>
            <a:ext cx="7201080" cy="189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0033"/>
                </a:solidFill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0033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1"/>
          <p:cNvSpPr txBox="1"/>
          <p:nvPr/>
        </p:nvSpPr>
        <p:spPr>
          <a:xfrm>
            <a:off x="1042920" y="692280"/>
            <a:ext cx="7561440" cy="347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6653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0033"/>
                </a:solidFill>
                <a:latin typeface="Impact"/>
              </a:rPr>
              <a:t>ЗАЧЕМ НУЖНА НОВАЯ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0033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0033"/>
                </a:solidFill>
                <a:latin typeface="Impact"/>
              </a:rPr>
              <a:t>ТЕХНОЛОГИЯ ОЦЕНИВАНИЯ?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0033"/>
              </a:solidFill>
              <a:latin typeface="Impact"/>
              <a:ea typeface="Impact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rcRect l="0" t="0" r="2613" b="0"/>
          <a:stretch/>
        </p:blipFill>
        <p:spPr>
          <a:xfrm>
            <a:off x="3132000" y="3645000"/>
            <a:ext cx="271008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1"/>
          <p:cNvSpPr txBox="1"/>
          <p:nvPr/>
        </p:nvSpPr>
        <p:spPr>
          <a:xfrm>
            <a:off x="971640" y="549360"/>
            <a:ext cx="7561080" cy="146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6653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0033"/>
                </a:solidFill>
                <a:latin typeface="Impact"/>
              </a:rPr>
              <a:t>Новые цели оценивания в школе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0033"/>
              </a:solidFill>
              <a:latin typeface="Impact"/>
              <a:ea typeface="Impact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395280" y="2060640"/>
            <a:ext cx="849780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ценки и отметки нужны не для того, чтоб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5580000" y="3141720"/>
            <a:ext cx="295272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шие контролировали уче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24000" y="3141720"/>
            <a:ext cx="295272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к боялся получить плохие отме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340000" y="4869000"/>
            <a:ext cx="410364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к любой ценой старался получить хорошие оце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 flipH="1">
            <a:off x="1761840" y="2565360"/>
            <a:ext cx="1011240" cy="5032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7"/>
          <p:cNvSpPr/>
          <p:nvPr/>
        </p:nvSpPr>
        <p:spPr>
          <a:xfrm>
            <a:off x="6443640" y="2565360"/>
            <a:ext cx="865080" cy="5032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4356000" y="2637000"/>
            <a:ext cx="1800" cy="165564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1"/>
          <p:cNvSpPr txBox="1"/>
          <p:nvPr/>
        </p:nvSpPr>
        <p:spPr>
          <a:xfrm>
            <a:off x="971640" y="549360"/>
            <a:ext cx="7561080" cy="146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6653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0033"/>
                </a:solidFill>
                <a:latin typeface="Impact"/>
              </a:rPr>
              <a:t>Новые цели оценивания в школе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0033"/>
              </a:solidFill>
              <a:latin typeface="Impact"/>
              <a:ea typeface="Impact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395280" y="2060640"/>
            <a:ext cx="849780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ценки и отметки нужны не для того, чтоб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5580000" y="3141720"/>
            <a:ext cx="295272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шие контролировали уче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24000" y="3141720"/>
            <a:ext cx="295272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к боялся получить плохие отме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340000" y="4869000"/>
            <a:ext cx="410364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к любой ценой старался получить хорошие оце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 flipH="1">
            <a:off x="1761840" y="2565360"/>
            <a:ext cx="1011240" cy="5032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6443640" y="2565360"/>
            <a:ext cx="865080" cy="5032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356000" y="2637000"/>
            <a:ext cx="1800" cy="165564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324000" y="3059280"/>
            <a:ext cx="8497800" cy="947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менения нужны, чтобы каждый ученик научился самостоятельн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684360" y="1268280"/>
            <a:ext cx="37432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ть, что получается хорош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716360" y="4724280"/>
            <a:ext cx="3672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ть, что ещ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лох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84360" y="4724280"/>
            <a:ext cx="2952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доваться достижения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219640" y="1268280"/>
            <a:ext cx="2952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одолевать неудач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V="1">
            <a:off x="5364000" y="2274480"/>
            <a:ext cx="576360" cy="72396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 flipH="1" flipV="1">
            <a:off x="3130560" y="2274480"/>
            <a:ext cx="579600" cy="72396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8"/>
          <p:cNvSpPr/>
          <p:nvPr/>
        </p:nvSpPr>
        <p:spPr>
          <a:xfrm flipH="1">
            <a:off x="3057120" y="4076640"/>
            <a:ext cx="652680" cy="57636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5364000" y="4076640"/>
            <a:ext cx="648000" cy="57636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1"/>
          <p:cNvSpPr txBox="1"/>
          <p:nvPr/>
        </p:nvSpPr>
        <p:spPr>
          <a:xfrm>
            <a:off x="1187280" y="189000"/>
            <a:ext cx="7417080" cy="18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0033"/>
                </a:solidFill>
                <a:latin typeface="Impact"/>
              </a:rPr>
              <a:t>Новые правила оценивания: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0033"/>
              </a:solidFill>
              <a:latin typeface="Impact"/>
              <a:ea typeface="Impact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611280" y="2205000"/>
            <a:ext cx="7921440" cy="4355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749"/>
              </a:spcBef>
              <a:buClr>
                <a:srgbClr val="990033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Что оценивать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сё! Но отметка – за решение задач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749"/>
              </a:spcBef>
              <a:buClr>
                <a:srgbClr val="990033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Кто оценивает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Ученик + учитель в диалог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7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Ученик имеет право аргументированно оспорить выставленную оцен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7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колько ставить отметок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дна задача – одна  отмет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395280" y="1052640"/>
            <a:ext cx="8136000" cy="41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4. Где оценивать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таблице требований по умения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5. Когда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екущие - по желанию, тематические – обязательн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+ право пересдач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6. Как оценивать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 критериям уровней успешности (с переводом в любой тип отметок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Итоговые оценки – среднее арифметическое за учебный модул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877080" y="4437000"/>
            <a:ext cx="1703520" cy="22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1"/>
          <p:cNvSpPr txBox="1"/>
          <p:nvPr/>
        </p:nvSpPr>
        <p:spPr>
          <a:xfrm>
            <a:off x="971640" y="549360"/>
            <a:ext cx="7561080" cy="146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6653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0033"/>
                </a:solidFill>
                <a:latin typeface="Impact"/>
              </a:rPr>
              <a:t>Таблица требований: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0033"/>
              </a:solidFill>
              <a:latin typeface="Impact"/>
              <a:ea typeface="Impact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250920" y="2308320"/>
            <a:ext cx="856908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 шаг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аблицу требов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 своих рабочих материалах) учитель выставляет все необходимые ему отметки (за текущие ответы, за проверочные работы и т.д.) в той шкале отметок, которую он выбр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50920" y="4170240"/>
            <a:ext cx="856908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 шаг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радиционный журна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читель переносит отметки, необходимые для правильного оформления журнала (за проверочную работу, за текущие ответы). Отметки выставляются в той шкале, которая принята в данном образовательном учреждении (например, 5-балльная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1"/>
          <p:cNvSpPr txBox="1"/>
          <p:nvPr/>
        </p:nvSpPr>
        <p:spPr>
          <a:xfrm>
            <a:off x="1547640" y="549360"/>
            <a:ext cx="6480360" cy="14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088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0033"/>
                </a:solidFill>
                <a:latin typeface="Impact"/>
              </a:rPr>
              <a:t>Оценка и отметк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0033"/>
              </a:solidFill>
              <a:latin typeface="Impact"/>
              <a:ea typeface="Impact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395280" y="3429000"/>
            <a:ext cx="835344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Отметка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фиксация результата оценивания в виде знака из принятой системы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только за решение продуктивной задачи – каждой в отдельност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95280" y="2060640"/>
            <a:ext cx="83534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Оценка</a:t>
            </a:r>
            <a:r>
              <a:rPr b="1" lang="ru-RU" sz="2800" spc="-1" strike="noStrike">
                <a:solidFill>
                  <a:srgbClr val="29941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ловесная характеристика результатов действи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можно за любое действие ученик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68360" y="5445000"/>
            <a:ext cx="820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*Пример: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Ученикам ОБЪЯВЛЯЕТСЯ: общая активность на уроке достойна оценки «молодец», «стараешься», но отметка может быть выставлена только за решение одной задачи от начала до конц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66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160"/>
                            </p:stCondLst>
                            <p:childTnLst>
                              <p:par>
                                <p:cTn id="2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3:18:33Z</dcterms:created>
  <dc:creator>Фараон</dc:creator>
  <dc:description/>
  <dc:language>en-US</dc:language>
  <cp:lastModifiedBy>Ирина</cp:lastModifiedBy>
  <dcterms:modified xsi:type="dcterms:W3CDTF">2017-05-24T15:10:46Z</dcterms:modified>
  <cp:revision>12</cp:revision>
  <dc:subject/>
  <dc:title>Слайд 1</dc:title>
</cp:coreProperties>
</file>