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Shape 1"/>
          <p:cNvSpPr/>
          <p:nvPr/>
        </p:nvSpPr>
        <p:spPr>
          <a:xfrm>
            <a:off x="179280" y="115920"/>
            <a:ext cx="8856720" cy="1441440"/>
          </a:xfrm>
          <a:prstGeom prst="rect">
            <a:avLst/>
          </a:prstGeom>
          <a:solidFill>
            <a:srgbClr val="bfcaff"/>
          </a:solidFill>
          <a:ln w="9360">
            <a:solidFill>
              <a:srgbClr val="0118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111"/>
                </a:solidFill>
                <a:latin typeface="Times New Roman"/>
              </a:rPr>
              <a:t>Технология продуктивного чтения (формирование правильного типа читательской деятельности)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9" name="TextShape 2"/>
          <p:cNvSpPr/>
          <p:nvPr/>
        </p:nvSpPr>
        <p:spPr>
          <a:xfrm>
            <a:off x="1619280" y="1773360"/>
            <a:ext cx="6408720" cy="431640"/>
          </a:xfrm>
          <a:prstGeom prst="rect">
            <a:avLst/>
          </a:prstGeom>
          <a:solidFill>
            <a:srgbClr val="bfcaff"/>
          </a:solidFill>
          <a:ln w="9360">
            <a:solidFill>
              <a:srgbClr val="0118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Учит: 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0" name="CustomShape 3"/>
          <p:cNvSpPr/>
          <p:nvPr/>
        </p:nvSpPr>
        <p:spPr>
          <a:xfrm>
            <a:off x="324000" y="2421000"/>
            <a:ext cx="8640720" cy="1008000"/>
          </a:xfrm>
          <a:custGeom>
            <a:avLst/>
            <a:gdLst>
              <a:gd name="textAreaLeft" fmla="*/ 0 w 8640720"/>
              <a:gd name="textAreaRight" fmla="*/ 8641080 w 864072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41" y="0"/>
                </a:lnTo>
                <a:lnTo>
                  <a:pt x="21600" y="10800"/>
                </a:lnTo>
                <a:lnTo>
                  <a:pt x="203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9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ию вычитывать все виды текстовой информации           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1" name="CustomShape 4"/>
          <p:cNvSpPr/>
          <p:nvPr/>
        </p:nvSpPr>
        <p:spPr>
          <a:xfrm>
            <a:off x="324000" y="3716280"/>
            <a:ext cx="8640720" cy="936720"/>
          </a:xfrm>
          <a:custGeom>
            <a:avLst/>
            <a:gdLst>
              <a:gd name="textAreaLeft" fmla="*/ 0 w 8640720"/>
              <a:gd name="textAreaRight" fmla="*/ 8641080 w 8640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31" y="0"/>
                </a:lnTo>
                <a:lnTo>
                  <a:pt x="21600" y="10800"/>
                </a:lnTo>
                <a:lnTo>
                  <a:pt x="204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9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амостоятельно осваивать текст до начала чтения, во время чтения, после чтения. 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2" name="CustomShape 5"/>
          <p:cNvSpPr/>
          <p:nvPr/>
        </p:nvSpPr>
        <p:spPr>
          <a:xfrm>
            <a:off x="395280" y="5084640"/>
            <a:ext cx="8353440" cy="144000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9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лавными приемами анализа текста в этой технологии являются диалог с автором и комментированное чтение.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Microsoft Sans Serif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Shape 1"/>
          <p:cNvSpPr/>
          <p:nvPr/>
        </p:nvSpPr>
        <p:spPr>
          <a:xfrm>
            <a:off x="179280" y="266760"/>
            <a:ext cx="8713800" cy="1398600"/>
          </a:xfrm>
          <a:prstGeom prst="rect">
            <a:avLst/>
          </a:prstGeom>
          <a:solidFill>
            <a:srgbClr val="bfcaff"/>
          </a:solidFill>
          <a:ln w="9360">
            <a:solidFill>
              <a:srgbClr val="0118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родуктивное чтение – </a:t>
            </a: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это умение вычитывать все виды текстовой информации. 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44" name="Схема 10" descr=""/>
          <p:cNvPicPr/>
          <p:nvPr/>
        </p:nvPicPr>
        <p:blipFill>
          <a:blip r:embed="rId1"/>
          <a:stretch/>
        </p:blipFill>
        <p:spPr>
          <a:xfrm>
            <a:off x="244440" y="1689120"/>
            <a:ext cx="872820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Shape 1"/>
          <p:cNvSpPr/>
          <p:nvPr/>
        </p:nvSpPr>
        <p:spPr>
          <a:xfrm>
            <a:off x="468360" y="260280"/>
            <a:ext cx="8227800" cy="865080"/>
          </a:xfrm>
          <a:prstGeom prst="rect">
            <a:avLst/>
          </a:prstGeom>
          <a:solidFill>
            <a:srgbClr val="bfcaff"/>
          </a:solidFill>
          <a:ln w="9360">
            <a:solidFill>
              <a:srgbClr val="0118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Характеристика продуктивного чтения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8360" y="1413000"/>
          <a:ext cx="8280360" cy="504036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11111"/>
                          </a:solidFill>
                          <a:latin typeface="Times New Roman"/>
                          <a:ea typeface="Times New Roman"/>
                        </a:rPr>
                        <a:t>до чтения</a:t>
                      </a:r>
                      <a:endParaRPr b="0" lang="en-US" sz="2800" spc="-1" strike="noStrike">
                        <a:solidFill>
                          <a:srgbClr val="808080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ca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и прогнозируют содержание текста: «Предположите, о чём этот текст, по его названию… А иллюстрация подтверждает это?» Возникает мотивация к чтению.</a:t>
                      </a:r>
                      <a:endParaRPr b="0" lang="en-US" sz="2400" spc="-1" strike="noStrike">
                        <a:solidFill>
                          <a:srgbClr val="808080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время чтения</a:t>
                      </a:r>
                      <a:endParaRPr b="0" lang="en-US" sz="2800" spc="-1" strike="noStrike">
                        <a:solidFill>
                          <a:srgbClr val="808080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caff"/>
                    </a:solidFill>
                  </a:tcPr>
                </a:tc>
              </a:tr>
              <a:tr h="12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итаем и ведём диалог с автором: задаём вопросы, прогнозируем ответы, проверяем себя по тексту». Возникает читательская интерпретация. </a:t>
                      </a:r>
                      <a:endParaRPr b="0" lang="en-US" sz="2400" spc="-1" strike="noStrike">
                        <a:solidFill>
                          <a:srgbClr val="808080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чтения</a:t>
                      </a:r>
                      <a:endParaRPr b="0" lang="en-US" sz="2800" spc="-1" strike="noStrike">
                        <a:solidFill>
                          <a:srgbClr val="808080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caff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уем и уточняем позицию автора.</a:t>
                      </a:r>
                      <a:endParaRPr b="0" lang="en-US" sz="2400" spc="-1" strike="noStrike">
                        <a:solidFill>
                          <a:srgbClr val="808080"/>
                        </a:solidFill>
                        <a:latin typeface="Microsoft Sans Serif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Shape 1"/>
          <p:cNvSpPr/>
          <p:nvPr/>
        </p:nvSpPr>
        <p:spPr>
          <a:xfrm>
            <a:off x="457200" y="266760"/>
            <a:ext cx="8229600" cy="1398600"/>
          </a:xfrm>
          <a:prstGeom prst="rect">
            <a:avLst/>
          </a:prstGeom>
          <a:solidFill>
            <a:srgbClr val="bfcaff"/>
          </a:solidFill>
          <a:ln w="9360">
            <a:solidFill>
              <a:srgbClr val="0118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-й этап. Работа с текстом до чтения</a:t>
            </a:r>
            <a:endParaRPr b="0" lang="en-US" sz="4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8" name="TextShape 2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bfcaff"/>
          </a:solidFill>
          <a:ln w="9360">
            <a:solidFill>
              <a:srgbClr val="0118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Цель: </a:t>
            </a:r>
            <a:r>
              <a:rPr b="0" i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рогнозирование будущего чтения.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Задание: </a:t>
            </a:r>
            <a:r>
              <a:rPr b="0" i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редположите, о чем данный текст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(его направленность) по: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50000"/>
              </a:lnSpc>
              <a:buClr>
                <a:srgbClr val="111111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азванию имени автора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50000"/>
              </a:lnSpc>
              <a:buClr>
                <a:srgbClr val="111111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иллюстрациям (перед текстом)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50000"/>
              </a:lnSpc>
              <a:buClr>
                <a:srgbClr val="111111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выделенным словам (просмотровое чтение)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50000"/>
              </a:lnSpc>
              <a:buClr>
                <a:srgbClr val="111111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ривлекая предшествующий читательский опыт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Shape 1"/>
          <p:cNvSpPr/>
          <p:nvPr/>
        </p:nvSpPr>
        <p:spPr>
          <a:xfrm>
            <a:off x="457200" y="266760"/>
            <a:ext cx="8229600" cy="1398600"/>
          </a:xfrm>
          <a:prstGeom prst="rect">
            <a:avLst/>
          </a:prstGeom>
          <a:solidFill>
            <a:srgbClr val="bfcaff"/>
          </a:solidFill>
          <a:ln w="9360">
            <a:solidFill>
              <a:srgbClr val="0118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2-й этап. Работа с текстом во время чтения</a:t>
            </a:r>
            <a:endParaRPr b="0" lang="en-US" sz="4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0" name="TextShape 2"/>
          <p:cNvSpPr/>
          <p:nvPr/>
        </p:nvSpPr>
        <p:spPr>
          <a:xfrm>
            <a:off x="250920" y="1989000"/>
            <a:ext cx="8642160" cy="4319640"/>
          </a:xfrm>
          <a:prstGeom prst="rect">
            <a:avLst/>
          </a:prstGeom>
          <a:solidFill>
            <a:srgbClr val="bfcaff"/>
          </a:solidFill>
          <a:ln w="9360">
            <a:solidFill>
              <a:srgbClr val="0118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buClr>
                <a:srgbClr val="111111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Изучающее чтение (вслух / про себя; индивидуально / классом) в сочетании с разными приемами (комментированное чтение, диалог с автором, словарная работа и т.д.) </a:t>
            </a:r>
            <a:endParaRPr b="0" lang="en-US" sz="22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50000"/>
              </a:lnSpc>
              <a:buClr>
                <a:srgbClr val="111111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РИЕМ: диалог с автором </a:t>
            </a:r>
            <a:endParaRPr b="0" lang="en-US" sz="22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50000"/>
              </a:lnSpc>
              <a:buClr>
                <a:srgbClr val="111111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Видеть в тексте прямые и скрытые Вопросы (выход на подтекстовый смысл) </a:t>
            </a:r>
            <a:endParaRPr b="0" lang="en-US" sz="22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50000"/>
              </a:lnSpc>
              <a:buClr>
                <a:srgbClr val="111111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рогнозировать Ответы на эти вопросы </a:t>
            </a:r>
            <a:endParaRPr b="0" lang="en-US" sz="22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50000"/>
              </a:lnSpc>
              <a:buClr>
                <a:srgbClr val="111111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роверять свои прогнозы, по ходу чтения</a:t>
            </a:r>
            <a:endParaRPr b="0" lang="en-US" sz="2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Shape 1"/>
          <p:cNvSpPr/>
          <p:nvPr/>
        </p:nvSpPr>
        <p:spPr>
          <a:xfrm>
            <a:off x="457200" y="266760"/>
            <a:ext cx="8229600" cy="930240"/>
          </a:xfrm>
          <a:prstGeom prst="rect">
            <a:avLst/>
          </a:prstGeom>
          <a:solidFill>
            <a:srgbClr val="bfcaff"/>
          </a:solidFill>
          <a:ln w="9360">
            <a:solidFill>
              <a:srgbClr val="0118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3-й этап. Работа с текстом после чтения 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2" name="TextShape 2"/>
          <p:cNvSpPr/>
          <p:nvPr/>
        </p:nvSpPr>
        <p:spPr>
          <a:xfrm>
            <a:off x="250920" y="1413000"/>
            <a:ext cx="8713800" cy="5184720"/>
          </a:xfrm>
          <a:prstGeom prst="rect">
            <a:avLst/>
          </a:prstGeom>
          <a:solidFill>
            <a:srgbClr val="bfcaff"/>
          </a:solidFill>
          <a:ln w="9360">
            <a:solidFill>
              <a:srgbClr val="0118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buClr>
                <a:srgbClr val="111111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Концептуальная (смысловая) беседа по тексту. 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50000"/>
              </a:lnSpc>
              <a:buClr>
                <a:srgbClr val="111111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Коллективное обсуждение прочитанного, дискуссия. Соотнесение читательских интерпретаций (истолкований, оценок) произведения с авторской позицией. 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50000"/>
              </a:lnSpc>
              <a:buClr>
                <a:srgbClr val="111111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Формулирование основной идеи текста или совокупности его главных смыслов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 Исаева</dc:creator>
  <dc:description/>
  <dc:language>en-US</dc:language>
  <cp:lastModifiedBy>Полиночка</cp:lastModifiedBy>
  <dcterms:modified xsi:type="dcterms:W3CDTF">2019-05-14T10:18:01Z</dcterms:modified>
  <cp:revision>3</cp:revision>
  <dc:subject/>
  <dc:title>Презентация PowerPoint</dc:title>
</cp:coreProperties>
</file>