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F47-C9FA-4039-B472-2FD0C087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477-C4DC-4127-B034-4FABE10C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FD8-A847-418E-B833-0B61B42C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52C-D179-4B02-ACF0-86B1B6A9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36D5-D7BF-4CC5-97ED-4AB5A5E5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48C2-760C-4110-8D16-737FC3FF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EEAA-99E4-44C2-9782-9FC2EC8C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6C56-EDA0-48BB-9628-04089FFD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E513-72A9-4F94-BD44-654F7556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2906-5804-4158-B389-A36CEBE5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A92D-BF3E-408F-9D99-B6819A0B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136-53FC-46C1-9187-BC9D8C25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AA6F-FCA5-4986-9366-4FD0DE22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AF8D-3BDB-4F31-9542-E508D5E0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948B-9A76-4126-9E55-B59840BD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7DEE-BF2E-4181-B80B-10646DED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3836-BF0F-4D01-B2E7-3AEC0B4F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ADFE-9890-49C8-B534-D6F2ACB0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B8C9-F6EC-43B0-9228-4CCF0367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702E-9D57-43B6-939E-5A6EAA6D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0C0E-DFEE-4E8D-BB94-2BBCBD77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6EE9-DF1C-4B4B-83FE-FE284463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E38-1380-4C6B-970C-006D5D0D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5113-B2EA-4369-B51F-06031542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CD8C-DC0D-4E2A-853E-807A8359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DFBA2-0496-4FEF-AFD2-FC7935AD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65A0-86B6-4029-8152-05111FB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F86E-B984-414E-ABCF-174DEF10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444A-4423-4273-9CE5-3EBD308A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CD908-D345-46C5-84DC-34AAA12B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2C3-BC36-4E22-A477-F428ACA8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F9B-43E1-42DE-A6CC-96A7E73D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90D-B7E9-4CD2-A0B0-DBB723A4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35C-3036-4CEB-9053-B3A4430B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8F7-1DEF-48E6-A91D-CFBE4F9C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2E4-87C4-4EA7-9671-D7301FF3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FFB4-9833-4955-84B9-8028F0CE69F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86E4-C1BA-4DCF-90A0-338BC59B247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F411-D5B8-47CF-9144-04F62A408EB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lackadder ITC"/>
              </a:rPr>
              <a:t>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58560" y="3499920"/>
            <a:ext cx="78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430200" y="5478480"/>
            <a:ext cx="83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16 ноября – Международный день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олерантност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4572000" y="260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циальный педагог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женевская Л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Интолерантный пу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Интолерантный путь характеризуется представлением человека о собственной исключительности, низким уровнем воспитанности, чувством дискомфортности существования в окружающей его действительности, желанием власти, неприятием противоположных взглядов, традиций и обычаев. Интолерантные личности делят мир на две части: чёрную и белую. Для них  не существует полутонов. Есть только два сорта людей – плохие и хорошие. Они делают акцент на различиях  между “своими” и “чужими”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ТОЛЕРАНТНОСТ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Diagram 4"/>
          <p:cNvGrpSpPr/>
          <p:nvPr/>
        </p:nvGrpSpPr>
        <p:grpSpPr>
          <a:xfrm>
            <a:off x="1523880" y="1874520"/>
            <a:ext cx="6094080" cy="3942000"/>
            <a:chOff x="1523880" y="1874520"/>
            <a:chExt cx="6094080" cy="3942000"/>
          </a:xfrm>
        </p:grpSpPr>
        <p:sp>
          <p:nvSpPr>
            <p:cNvPr id="268" name="_s1028"/>
            <p:cNvSpPr/>
            <p:nvPr/>
          </p:nvSpPr>
          <p:spPr>
            <a:xfrm>
              <a:off x="3790080" y="2458440"/>
              <a:ext cx="1559520" cy="16696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_s1029"/>
            <p:cNvSpPr/>
            <p:nvPr/>
          </p:nvSpPr>
          <p:spPr>
            <a:xfrm>
              <a:off x="3790080" y="1874520"/>
              <a:ext cx="1559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Милосерди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_s1030"/>
            <p:cNvSpPr/>
            <p:nvPr/>
          </p:nvSpPr>
          <p:spPr>
            <a:xfrm>
              <a:off x="4252680" y="2696400"/>
              <a:ext cx="1559160" cy="1669680"/>
            </a:xfrm>
            <a:prstGeom prst="ellipse">
              <a:avLst/>
            </a:prstGeom>
            <a:solidFill>
              <a:srgbClr val="00b200">
                <a:alpha val="50000"/>
              </a:srgbClr>
            </a:solidFill>
            <a:ln w="468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5764320" y="2490480"/>
              <a:ext cx="1559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Прощени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_s1032"/>
            <p:cNvSpPr/>
            <p:nvPr/>
          </p:nvSpPr>
          <p:spPr>
            <a:xfrm>
              <a:off x="4367160" y="3231000"/>
              <a:ext cx="1559520" cy="1669680"/>
            </a:xfrm>
            <a:prstGeom prst="ellipse">
              <a:avLst/>
            </a:prstGeom>
            <a:solidFill>
              <a:srgbClr val="703dff">
                <a:alpha val="50000"/>
              </a:srgbClr>
            </a:solidFill>
            <a:ln w="468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_s1033"/>
            <p:cNvSpPr/>
            <p:nvPr/>
          </p:nvSpPr>
          <p:spPr>
            <a:xfrm>
              <a:off x="6058440" y="4290480"/>
              <a:ext cx="1559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9900"/>
                  </a:solidFill>
                  <a:latin typeface="Tahoma"/>
                </a:rPr>
                <a:t>Сострадани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_s1034"/>
            <p:cNvSpPr/>
            <p:nvPr/>
          </p:nvSpPr>
          <p:spPr>
            <a:xfrm>
              <a:off x="4047840" y="3661920"/>
              <a:ext cx="1559160" cy="1669680"/>
            </a:xfrm>
            <a:prstGeom prst="ellipse">
              <a:avLst/>
            </a:prstGeom>
            <a:solidFill>
              <a:srgbClr val="00b200">
                <a:alpha val="50000"/>
              </a:srgbClr>
            </a:solidFill>
            <a:ln w="468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_s1035"/>
            <p:cNvSpPr/>
            <p:nvPr/>
          </p:nvSpPr>
          <p:spPr>
            <a:xfrm>
              <a:off x="5233320" y="5399640"/>
              <a:ext cx="1559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Уважение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прав других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_s1036"/>
            <p:cNvSpPr/>
            <p:nvPr/>
          </p:nvSpPr>
          <p:spPr>
            <a:xfrm>
              <a:off x="3534480" y="3661920"/>
              <a:ext cx="1559160" cy="1669680"/>
            </a:xfrm>
            <a:prstGeom prst="ellipse">
              <a:avLst/>
            </a:prstGeom>
            <a:solidFill>
              <a:srgbClr val="703dff">
                <a:alpha val="50000"/>
              </a:srgbClr>
            </a:solidFill>
            <a:ln w="468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_s1037"/>
            <p:cNvSpPr/>
            <p:nvPr/>
          </p:nvSpPr>
          <p:spPr>
            <a:xfrm>
              <a:off x="2349360" y="5399640"/>
              <a:ext cx="1559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Сотрудничество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_s1038"/>
            <p:cNvSpPr/>
            <p:nvPr/>
          </p:nvSpPr>
          <p:spPr>
            <a:xfrm>
              <a:off x="3215520" y="3232800"/>
              <a:ext cx="1559160" cy="1669680"/>
            </a:xfrm>
            <a:prstGeom prst="ellipse">
              <a:avLst/>
            </a:prstGeom>
            <a:solidFill>
              <a:srgbClr val="00b200">
                <a:alpha val="50000"/>
              </a:srgbClr>
            </a:solidFill>
            <a:ln w="468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_s1039"/>
            <p:cNvSpPr/>
            <p:nvPr/>
          </p:nvSpPr>
          <p:spPr>
            <a:xfrm>
              <a:off x="1523880" y="4290480"/>
              <a:ext cx="155916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Приняти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другого таким,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какой он есть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_s1040"/>
            <p:cNvSpPr/>
            <p:nvPr/>
          </p:nvSpPr>
          <p:spPr>
            <a:xfrm>
              <a:off x="3328200" y="2698200"/>
              <a:ext cx="1559160" cy="1669680"/>
            </a:xfrm>
            <a:prstGeom prst="ellipse">
              <a:avLst/>
            </a:prstGeom>
            <a:solidFill>
              <a:srgbClr val="703dff">
                <a:alpha val="50000"/>
              </a:srgbClr>
            </a:solidFill>
            <a:ln w="468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_s1041"/>
            <p:cNvSpPr/>
            <p:nvPr/>
          </p:nvSpPr>
          <p:spPr>
            <a:xfrm>
              <a:off x="1818360" y="2490480"/>
              <a:ext cx="15595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9900"/>
                  </a:solidFill>
                  <a:latin typeface="Tahoma"/>
                </a:rPr>
                <a:t>Терпимость к 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9900"/>
                  </a:solidFill>
                  <a:latin typeface="Tahoma"/>
                </a:rPr>
                <a:t>Чужим мнениям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p13_bezyimyannyiy1"/>
          <p:cNvPicPr/>
          <p:nvPr/>
        </p:nvPicPr>
        <p:blipFill>
          <a:blip r:embed="rId1"/>
          <a:stretch/>
        </p:blipFill>
        <p:spPr>
          <a:xfrm>
            <a:off x="179280" y="189000"/>
            <a:ext cx="1552680" cy="1800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>
            <a:off x="2411280" y="195840"/>
            <a:ext cx="555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форизмы и изреч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еликих мыслите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гают на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деть мир глазами друг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0" y="2428560"/>
            <a:ext cx="914400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Поступай с другими так, как ты хотел бы, чтобы они поступали с тобой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ы делаем лучше для себя, когда делаем лучше для други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ahoma"/>
              </a:rPr>
              <a:t>                            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Трех вещей нужно избегать (в жизни): ненависти, зависти и презр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ahoma"/>
              </a:rPr>
              <a:t>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усть дела твои будут такими, какими ты хотел бы их вспоминать на склоне лет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   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Если я чем - то на тебя не похож, я этим вовсе не оскорбляю тебя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а напротив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одобряю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лчите, пока не почувствуете, что вполне владеете собо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           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   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Лучше отказать в просьбе, чем удовлетворить ее груб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c00000"/>
                </a:solidFill>
                <a:latin typeface="Tahoma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 человеком нужно обращаться по-человече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                                                                      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480000" cy="1079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Кодекс толерантного поведения ученик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на счастье и доброе отношение в этом класс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Это значит, что никто не будет надо мной смеяться, что меня 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ут игнорировать и обиж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быть самим собой в классе.  Это значит, что никто 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ет относиться ко мне несправедливо из-за того, что я толстый и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худой, быстрый или медлительный, мальчик или дев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на безопасность в классе.  Это значит, что меня никто 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ет бить, толкать или щип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слушать и быть услышанным в этом классе.  Это значит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что никто здесь не будет кричать или визжать и мое мнение и желан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ут учитываться при планировании всех совместных дейст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познавать себя в классе.  Это значит, что я смогу свобод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ражать свои чувства и мнения и меня не будут прерывать и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казы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обязан уважать права, привычки, взгляды другого челове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 обязан при конфликтных ситуациях стремиться только к диалогу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Picture 4" descr="gimnboy"/>
          <p:cNvPicPr/>
          <p:nvPr/>
        </p:nvPicPr>
        <p:blipFill>
          <a:blip r:embed="rId1"/>
          <a:stretch/>
        </p:blipFill>
        <p:spPr>
          <a:xfrm>
            <a:off x="324000" y="260280"/>
            <a:ext cx="16491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Борис Заходе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788652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Я собака – всего лишь собака! –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        Мы вступаем и в драки и в браки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В голове у меня – пустота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Неизменную веру храня: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Но другую собаку, однако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Что бы ни было – все мы собаки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Никогда не приму за кота!...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се мы братья, все мы родня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Не нужны ни условные знаки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ы же, умные, вашего брата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Ни слова – потому что чутьем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Распознать не способны никак…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Брата кровного в каждой собаке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Сразу видно – чутье слабовато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Мы и так за версту узнаем!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 этом вам далеко до собак.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Ни порода, ни масть, ни размеры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Если брат ваш – не вашей масти,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С толку нас никогда не собьют: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Разве в этом он виноват?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Даже крошечные тойтерьеры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ы же рвете его на части,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В сенбернарах своих признают…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Словно он вам уже и не брат…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2"/>
          <p:cNvPicPr/>
          <p:nvPr/>
        </p:nvPicPr>
        <p:blipFill>
          <a:blip r:embed="rId1"/>
          <a:stretch/>
        </p:blipFill>
        <p:spPr>
          <a:xfrm>
            <a:off x="3059280" y="4581360"/>
            <a:ext cx="2952720" cy="2103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250920" y="1052280"/>
            <a:ext cx="84470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Спасибо за то, что вы добрые и внимательные лю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Мне нравится, как вы смеетесь и шути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Вы здорово помогаете друг друг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Вы миролюбивые лю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Толерантный   комплимент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Правила, выполнение которых ведет к взаимопониманию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763640" y="1413000"/>
            <a:ext cx="6912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вь интересы других людей выше собственны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удь верен и надежен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важай других, уважая себ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рпимо относись к другим точкам зр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ринимай людей как равных себ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ись сопереживать другим, ставя себя на их мест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мей прощать и не будь обидчи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иви в согласии с самим собой и с другими людь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являй чуткость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удь уверен в себ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удь свободен от лжи и обман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мей контролировать свои желания и поступ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порно иди к цели, невзирая на препятств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2" descr="086.gif"/>
          <p:cNvPicPr/>
          <p:nvPr/>
        </p:nvPicPr>
        <p:blipFill>
          <a:blip r:embed="rId1"/>
          <a:stretch/>
        </p:blipFill>
        <p:spPr>
          <a:xfrm rot="468600">
            <a:off x="0" y="1557000"/>
            <a:ext cx="4172040" cy="3083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2340000" y="4365360"/>
            <a:ext cx="63468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До новых встреч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165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Рисунок 2" descr="086.gif"/>
          <p:cNvPicPr/>
          <p:nvPr/>
        </p:nvPicPr>
        <p:blipFill>
          <a:blip r:embed="rId2"/>
          <a:stretch/>
        </p:blipFill>
        <p:spPr>
          <a:xfrm rot="978600">
            <a:off x="4211640" y="1196640"/>
            <a:ext cx="43210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112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    “… </a:t>
            </a:r>
            <a:r>
              <a:rPr b="1" i="1" lang="ru-RU" sz="2000" spc="-1" strike="noStrike">
                <a:solidFill>
                  <a:srgbClr val="0000ff"/>
                </a:solidFill>
                <a:latin typeface="Monotype Corsiva"/>
              </a:rPr>
              <a:t>Каким </a:t>
            </a:r>
            <a:r>
              <a:rPr b="1" i="1" lang="en-US" sz="2000" spc="-1" strike="noStrike">
                <a:solidFill>
                  <a:srgbClr val="0000ff"/>
                </a:solidFill>
                <a:latin typeface="Monotype Corsiva"/>
              </a:rPr>
              <a:t>XXI</a:t>
            </a:r>
            <a:r>
              <a:rPr b="1" i="1" lang="ru-RU" sz="2000" spc="-1" strike="noStrike">
                <a:solidFill>
                  <a:srgbClr val="0000ff"/>
                </a:solidFill>
                <a:latin typeface="Monotype Corsiva"/>
              </a:rPr>
              <a:t> век войдет в историю?   Назовут ли его веком генетики,   физики и освоения космоса или же веком геноцида, человекофобии,  преследований и убийств людей только за то, что они — другие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   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Другой расы, другой крови, другой веры, другой нации, другого социального класса...”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Александр Асмол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8149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571680"/>
            <a:ext cx="741528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Толерантность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это уважение, принятие и правильное понимание богатого многообразия культур нашего мира, форм самовыражения и способов проявления человеческой индивидуальност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1695600" y="333360"/>
            <a:ext cx="5752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0" y="5392800"/>
            <a:ext cx="183528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http://festival.1september.ru/articles/501446/img1.gif"/>
          <p:cNvPicPr/>
          <p:nvPr/>
        </p:nvPicPr>
        <p:blipFill>
          <a:blip r:embed="rId1"/>
          <a:stretch/>
        </p:blipFill>
        <p:spPr>
          <a:xfrm>
            <a:off x="971640" y="692280"/>
            <a:ext cx="712944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714240"/>
            <a:ext cx="6870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лингвистический экскурс: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214280" y="1000080"/>
            <a:ext cx="7167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olerancia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(испан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Способность признавать отличные от своих собственных идеи или мнен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olerance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(француз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Отношение, при котором допускается, что другие могут думать или действовать иначе, нежели ты са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olerance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(англий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Готовность быть терпимым, снисходительност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kuan rong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(китайский) – Позволять, принимать, быть по отношению к другим великодушны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asamul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’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( арабский) –Прощение, снисходительность, мягкость, милосердие, сострадание, благосклонность, терпение, расположенность к други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Терпимость ( рус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</a:t>
            </a:r>
            <a:r>
              <a:rPr b="1" lang="en-US" sz="2000" spc="-1" strike="noStrike">
                <a:solidFill>
                  <a:srgbClr val="0000ff"/>
                </a:solidFill>
                <a:latin typeface="Monotype Corsiva"/>
              </a:rPr>
              <a:t>c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иды толерантности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48392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межличностная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социальная, национальная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веротерпимость</a:t>
            </a: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Черты толерантной лич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928960" y="1571400"/>
            <a:ext cx="3214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Воспитай в себ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2499840"/>
            <a:ext cx="4040280" cy="25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Терпе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Чувство юм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важение мнения други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доброжелательность, умение владеть собой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4720" y="2428920"/>
            <a:ext cx="404172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понимание и приняти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чуткость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любознательность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гуманизм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Monotype Corsiva"/>
              </a:rPr>
              <a:t>умение слушать собесед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0" y="5084640"/>
            <a:ext cx="1835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Черты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нтолерантной лич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714400" y="1534680"/>
            <a:ext cx="3857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скореняй в себ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2642760"/>
            <a:ext cx="40402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Непонима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гнориров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Эгоиз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аздражительность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авнодуш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Циниз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Немотивированная агрессив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Нетерпим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Выражение пренебреж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Толерантный пу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714320"/>
            <a:ext cx="81867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Толерантный путь – это путь человека, хорошо знающего себя, комфортно чувствующего себя в окружающей среде, понимающего других людей и готового всегда прийти на помощь, человека с доброжелательным отношением к иным культурам, взглядам, традициям. Толерантный человек видит мир во всём его многообраз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5:48:50Z</dcterms:created>
  <dc:creator>Пользователь</dc:creator>
  <dc:description/>
  <dc:language>en-US</dc:language>
  <cp:lastModifiedBy>User</cp:lastModifiedBy>
  <dcterms:modified xsi:type="dcterms:W3CDTF">2019-05-14T16:45:53Z</dcterms:modified>
  <cp:revision>46</cp:revision>
  <dc:subject/>
  <dc:title>Слайд 1</dc:title>
</cp:coreProperties>
</file>