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C47-EB00-4C35-AA94-1BD1A1E9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803-AE40-4E4F-BD57-1B41397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E50-3AED-496F-A373-36BFADDB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A3C-B197-4433-84C5-2EF9453B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C1D-2868-43F6-8819-8858B1AB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5FD-7ECB-4B47-B71A-1F5A5D51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85E5-043D-40BD-8989-9F5AC380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F00B-EA00-4478-9C44-9F8845CC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2132-985C-4D89-9345-0C0E2178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1A00-2A92-4B72-89A0-4E3C2FD7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672-76A8-4945-AE89-7266EC1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496-3154-45EC-BCEE-33F8EDD0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A5AE-FC7F-4956-8AA8-F54C4270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3474-0509-44B4-A50E-43CA28D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302F-B82D-4FAA-9882-070DC2D1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EC16-91E7-4C92-89CF-DE405446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E5B0-F1F4-4E48-B66A-B5D53EF3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989D-7660-40F1-8561-A4D731DF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A90AA-7017-4B72-9153-DD290B94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35F7-922C-41F9-BBEC-4EE72D36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F2A9-37A6-496F-A875-A7373200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5EDE-183E-4750-8E7A-CE2D571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DE5-EF0A-4180-A8BE-97E38DB6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04FAA-2314-472A-AB5A-1F60F860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D9D8-1090-467D-891B-02748BDA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4531-D142-4C35-BA3B-D1CD14C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AD2A-80B0-4F7B-8A1A-2BD2A0D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7F3A-15EE-4941-8F45-916D86A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BC28-413F-42C6-8A78-25FD076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8BF6-8296-478F-9E0E-39E8B005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F79-1163-4AE9-A9A3-A198D5C2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D44-F7AF-427D-9E74-048B904D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429-5786-4845-8D7F-7A846D46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992-8C00-4FB6-A137-2CE9253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BEB-19AA-44A9-819B-C78E1DF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A54-37F3-4EF1-80AF-55AC8430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92A1-1399-429F-AF76-A850F7BF588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002B-B9E3-4F26-90FD-9C4A0CE587D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8C1-8397-4C65-9624-9A4EDFF6F7E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lackadder ITC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58560" y="3499920"/>
            <a:ext cx="78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-116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430200" y="5478480"/>
            <a:ext cx="83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6 ноября – Международный день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лерантност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4572000" y="260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циальный педагог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женевская Л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Интолерантный пу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Интолерантный путь характеризуется представлением человека о собственной исключительности, низким уровнем воспитанности, чувством дискомфортности существования в окружающей его действительности, желанием власти, неприятием противоположных взглядов, традиций и обычаев. Интолерантные личности делят мир на две части: чёрную и белую. Для них  не существует полутонов. Есть только два сорта людей – плохие и хорошие. Они делают акцент на различиях  между “своими” и “чужими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ТОЛЕРАНТНОС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Diagram 4"/>
          <p:cNvGrpSpPr/>
          <p:nvPr/>
        </p:nvGrpSpPr>
        <p:grpSpPr>
          <a:xfrm>
            <a:off x="1523880" y="1874520"/>
            <a:ext cx="6094080" cy="3942000"/>
            <a:chOff x="1523880" y="1874520"/>
            <a:chExt cx="6094080" cy="3942000"/>
          </a:xfrm>
        </p:grpSpPr>
        <p:sp>
          <p:nvSpPr>
            <p:cNvPr id="268" name="_s1028"/>
            <p:cNvSpPr/>
            <p:nvPr/>
          </p:nvSpPr>
          <p:spPr>
            <a:xfrm>
              <a:off x="3790080" y="2458440"/>
              <a:ext cx="1559520" cy="16696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29"/>
            <p:cNvSpPr/>
            <p:nvPr/>
          </p:nvSpPr>
          <p:spPr>
            <a:xfrm>
              <a:off x="3790080" y="1874520"/>
              <a:ext cx="1559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Милосерд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30"/>
            <p:cNvSpPr/>
            <p:nvPr/>
          </p:nvSpPr>
          <p:spPr>
            <a:xfrm>
              <a:off x="4252680" y="269640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5764320" y="249048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Прощен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32"/>
            <p:cNvSpPr/>
            <p:nvPr/>
          </p:nvSpPr>
          <p:spPr>
            <a:xfrm>
              <a:off x="4367160" y="3231000"/>
              <a:ext cx="155952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_s1033"/>
            <p:cNvSpPr/>
            <p:nvPr/>
          </p:nvSpPr>
          <p:spPr>
            <a:xfrm>
              <a:off x="6058440" y="4290480"/>
              <a:ext cx="1559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Tahoma"/>
                </a:rPr>
                <a:t>Сострадан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_s1034"/>
            <p:cNvSpPr/>
            <p:nvPr/>
          </p:nvSpPr>
          <p:spPr>
            <a:xfrm>
              <a:off x="4047840" y="366192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_s1035"/>
            <p:cNvSpPr/>
            <p:nvPr/>
          </p:nvSpPr>
          <p:spPr>
            <a:xfrm>
              <a:off x="5233320" y="539964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Уважение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прав други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_s1036"/>
            <p:cNvSpPr/>
            <p:nvPr/>
          </p:nvSpPr>
          <p:spPr>
            <a:xfrm>
              <a:off x="3534480" y="3661920"/>
              <a:ext cx="155916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_s1037"/>
            <p:cNvSpPr/>
            <p:nvPr/>
          </p:nvSpPr>
          <p:spPr>
            <a:xfrm>
              <a:off x="2349360" y="5399640"/>
              <a:ext cx="1559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Сотрудничество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_s1038"/>
            <p:cNvSpPr/>
            <p:nvPr/>
          </p:nvSpPr>
          <p:spPr>
            <a:xfrm>
              <a:off x="3215520" y="3232800"/>
              <a:ext cx="1559160" cy="1669680"/>
            </a:xfrm>
            <a:prstGeom prst="ellipse">
              <a:avLst/>
            </a:prstGeom>
            <a:solidFill>
              <a:srgbClr val="00b200">
                <a:alpha val="50000"/>
              </a:srgbClr>
            </a:solidFill>
            <a:ln w="468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_s1039"/>
            <p:cNvSpPr/>
            <p:nvPr/>
          </p:nvSpPr>
          <p:spPr>
            <a:xfrm>
              <a:off x="1523880" y="4290480"/>
              <a:ext cx="15591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Приняти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другого таким,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 </a:t>
              </a:r>
              <a:r>
                <a:rPr b="1" lang="en-US" sz="1900" spc="-1" strike="noStrike">
                  <a:solidFill>
                    <a:srgbClr val="ff9900"/>
                  </a:solidFill>
                  <a:latin typeface="Tahoma"/>
                </a:rPr>
                <a:t>какой он есть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_s1040"/>
            <p:cNvSpPr/>
            <p:nvPr/>
          </p:nvSpPr>
          <p:spPr>
            <a:xfrm>
              <a:off x="3328200" y="2698200"/>
              <a:ext cx="1559160" cy="1669680"/>
            </a:xfrm>
            <a:prstGeom prst="ellipse">
              <a:avLst/>
            </a:prstGeom>
            <a:solidFill>
              <a:srgbClr val="703dff">
                <a:alpha val="50000"/>
              </a:srgbClr>
            </a:solidFill>
            <a:ln w="468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1041"/>
            <p:cNvSpPr/>
            <p:nvPr/>
          </p:nvSpPr>
          <p:spPr>
            <a:xfrm>
              <a:off x="1818360" y="2490480"/>
              <a:ext cx="15595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Tahoma"/>
                </a:rPr>
                <a:t>Терпимость к 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9900"/>
                  </a:solidFill>
                  <a:latin typeface="Tahoma"/>
                </a:rPr>
                <a:t>Чужим мнениям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p13_bezyimyannyiy1"/>
          <p:cNvPicPr/>
          <p:nvPr/>
        </p:nvPicPr>
        <p:blipFill>
          <a:blip r:embed="rId1"/>
          <a:stretch/>
        </p:blipFill>
        <p:spPr>
          <a:xfrm>
            <a:off x="179280" y="189000"/>
            <a:ext cx="1552680" cy="1800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2411280" y="195840"/>
            <a:ext cx="555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форизмы и изреч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ликих мысл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гают на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еть мир глазами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2428560"/>
            <a:ext cx="914400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оступай с другими так, как ты хотел бы, чтобы они поступали с тобой.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ы делаем лучше для себя, когда делаем лучше для други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                     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Трех вещей нужно избегать (в жизни): ненависти, зависти и през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усть дела твои будут такими, какими ты хотел бы их вспоминать на склоне лет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Если я чем - то на тебя не похож, я этим вовсе не оскорбляю теб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а напротив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добряю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олчите, пока не почувствуете, что вполне владеете соб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       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    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Лучше отказать в просьбе, чем удовлетворить ее груб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c00000"/>
                </a:solidFill>
                <a:latin typeface="Tahoma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человеком нужно обращаться по-человече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                                                                     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480000" cy="1079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одекс толерантного поведения учени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на счастье и доброе отношение в этом класс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то значит, что никто не будет надо мной смеяться, что меня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ут игнорировать и обиж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быть самим собой в классе.  Это значит, что никто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ет относиться ко мне несправедливо из-за того, что я толстый и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удой, быстрый или медлительный, мальчик или дев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на безопасность в классе.  Это значит, что меня никто 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ет бить, толкать или щип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слушать и быть услышанным в этом классе.  Это значит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что никто здесь не будет кричать или визжать и мое мнение и желан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будут учитываться при планировании всех совместных дейст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имею право познавать себя в классе.  Это значит, что я смогу свобод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ражать свои чувства и мнения и меня не будут прерывать и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казы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обязан уважать права, привычки, взгляды другого челове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Я  обязан при конфликтных ситуациях стремиться только к диалогу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4" descr="gimnboy"/>
          <p:cNvPicPr/>
          <p:nvPr/>
        </p:nvPicPr>
        <p:blipFill>
          <a:blip r:embed="rId1"/>
          <a:stretch/>
        </p:blipFill>
        <p:spPr>
          <a:xfrm>
            <a:off x="324000" y="260280"/>
            <a:ext cx="16491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орис Заход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788652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Я собака – всего лишь собака! –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        Мы вступаем и в драки и в бр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В голове у меня – пустота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еизменную веру храня: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о другую собаку, однако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Что бы ни было – все мы соб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икогда не приму за кота!...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се мы братья, все мы родня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е нужны ни условные знаки,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ы же, умные, вашего брата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Ни слова – потому что чутьем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Распознать не способны никак…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Брата кровного в каждой собаке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Сразу видно – чутье слабовато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Мы и так за версту узнаем!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 этом вам далеко до собак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Ни порода, ни масть, ни размеры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Если брат ваш – не вашей масти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С толку нас никогда не собьют: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Разве в этом он виноват?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Даже крошечные тойтерьеры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Вы же рвете его на части,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В сенбернарах своих признают…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Словно он вам уже и не брат…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2"/>
          <p:cNvPicPr/>
          <p:nvPr/>
        </p:nvPicPr>
        <p:blipFill>
          <a:blip r:embed="rId1"/>
          <a:stretch/>
        </p:blipFill>
        <p:spPr>
          <a:xfrm>
            <a:off x="3059280" y="4581360"/>
            <a:ext cx="2952720" cy="2103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250920" y="1052280"/>
            <a:ext cx="84470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Спасибо за то, что вы добрые и внимательные лю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Мне нравится, как вы смеетесь и шути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Вы здорово помогаете друг друг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Вы миролюбивые лю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ff9900"/>
                </a:solidFill>
                <a:latin typeface="Times New Roman"/>
              </a:rPr>
              <a:t>Толерантный   комплимент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Правила, выполнение которых ведет к взаимопониманию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763640" y="1413000"/>
            <a:ext cx="691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вь интересы других людей выше собственны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верен и надежен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важай других, уважая себ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рпимо относись к другим точкам зр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ринимай людей как равных себ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сь сопереживать другим, ставя себя на их мест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ей прощать и не будь обидчи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иви в согласии с самим собой и с другими людьм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являй чутк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уверен в себ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удь свободен от лжи и обман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мей контролировать свои желания и поступ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порно иди к цели, невзирая на препятств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2" descr="086.gif"/>
          <p:cNvPicPr/>
          <p:nvPr/>
        </p:nvPicPr>
        <p:blipFill>
          <a:blip r:embed="rId1"/>
          <a:stretch/>
        </p:blipFill>
        <p:spPr>
          <a:xfrm rot="468600">
            <a:off x="0" y="1557000"/>
            <a:ext cx="4172040" cy="3083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340000" y="4365360"/>
            <a:ext cx="63468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До новых встреч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165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Рисунок 2" descr="086.gif"/>
          <p:cNvPicPr/>
          <p:nvPr/>
        </p:nvPicPr>
        <p:blipFill>
          <a:blip r:embed="rId2"/>
          <a:stretch/>
        </p:blipFill>
        <p:spPr>
          <a:xfrm rot="978600">
            <a:off x="4211640" y="1196640"/>
            <a:ext cx="43210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    “… </a:t>
            </a:r>
            <a:r>
              <a:rPr b="1" i="1" lang="ru-RU" sz="2000" spc="-1" strike="noStrike">
                <a:solidFill>
                  <a:srgbClr val="0000ff"/>
                </a:solidFill>
                <a:latin typeface="Monotype Corsiva"/>
              </a:rPr>
              <a:t>Каким </a:t>
            </a:r>
            <a:r>
              <a:rPr b="1" i="1" lang="en-US" sz="2000" spc="-1" strike="noStrike">
                <a:solidFill>
                  <a:srgbClr val="0000ff"/>
                </a:solidFill>
                <a:latin typeface="Monotype Corsiva"/>
              </a:rPr>
              <a:t>XXI</a:t>
            </a:r>
            <a:r>
              <a:rPr b="1" i="1" lang="ru-RU" sz="2000" spc="-1" strike="noStrike">
                <a:solidFill>
                  <a:srgbClr val="0000ff"/>
                </a:solidFill>
                <a:latin typeface="Monotype Corsiva"/>
              </a:rPr>
              <a:t> век войдет в историю?   Назовут ли его веком генетики,   физики и освоения космоса или же веком геноцида, человекофобии,  преследований и убийств людей только за то, что они — другие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Другой расы, другой крови, другой веры, другой нации, другого социального класса...”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Александр Асмол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8149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571680"/>
            <a:ext cx="74152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Толерантность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1695600" y="333360"/>
            <a:ext cx="5752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0" y="5392800"/>
            <a:ext cx="18352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http://festival.1september.ru/articles/501446/img1.gif"/>
          <p:cNvPicPr/>
          <p:nvPr/>
        </p:nvPicPr>
        <p:blipFill>
          <a:blip r:embed="rId1"/>
          <a:stretch/>
        </p:blipFill>
        <p:spPr>
          <a:xfrm>
            <a:off x="971640" y="692280"/>
            <a:ext cx="712944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714240"/>
            <a:ext cx="6870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лингвистический экскурс: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14280" y="1000080"/>
            <a:ext cx="7167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ia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(испан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Способность признавать отличные от своих собственных идеи или мн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e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(француз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Отношение, при котором допускается, что другие могут думать или действовать иначе, нежели ты са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olerance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(англий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Готовность быть терпимым, снисходительнос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kuan rong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(китайский) – Позволять, принимать, быть по отношению к другим великодушны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tasamul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’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( арабский) –Прощение, снисходительность, мягкость, милосердие, сострадание, благосклонность, терпение, расположенность к други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Терпимость ( русский)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– </a:t>
            </a:r>
            <a:r>
              <a:rPr b="1" lang="en-US" sz="2000" spc="-1" strike="noStrike">
                <a:solidFill>
                  <a:srgbClr val="0000ff"/>
                </a:solidFill>
                <a:latin typeface="Monotype Corsiva"/>
              </a:rPr>
              <a:t>c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иды толерантност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48392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межличностная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оциальная, национальная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веротерпимость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ерты толерантной лич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928960" y="1571400"/>
            <a:ext cx="3214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оспитай в себ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499840"/>
            <a:ext cx="404028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Терп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Чувство юм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важение мнения друг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доброжелательность, умение владеть собой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428920"/>
            <a:ext cx="404172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нимание и приняти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чутк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любознательн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гуманизм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умение слушать собесед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0" y="5084640"/>
            <a:ext cx="1835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Черты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нтолерантной лич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14400" y="1534680"/>
            <a:ext cx="3857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скореняй в себ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2642760"/>
            <a:ext cx="40402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Непоним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нор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здражительность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Циниз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Немотивированная агрессив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Нетерпим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Выражение пренебреж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Monotype Corsiva"/>
              </a:rPr>
              <a:t>Толерантный пу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714320"/>
            <a:ext cx="8186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Толерантный путь – 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Толерантный человек видит мир во всём его многообраз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5:48:50Z</dcterms:created>
  <dc:creator>Пользователь</dc:creator>
  <dc:description/>
  <dc:language>en-US</dc:language>
  <cp:lastModifiedBy>User</cp:lastModifiedBy>
  <dcterms:modified xsi:type="dcterms:W3CDTF">2019-05-14T16:45:53Z</dcterms:modified>
  <cp:revision>46</cp:revision>
  <dc:subject/>
  <dc:title>Слайд 1</dc:title>
</cp:coreProperties>
</file>