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2361-99AB-4DE7-8E22-82968C46DD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3970-C46D-466C-AEAA-C0E788D9DC2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94E-CD82-4B74-898D-660BD29F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D2A4-2D35-46AD-8C35-59ED8EB9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A3670-FF93-4639-9F56-42FB2101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683C6-03D3-4524-A70F-941A45EA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F6078-C929-403B-8490-6CBB5864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6AC57-BB3E-4157-AC75-465DE18B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34F0C-1895-4835-8179-516333B5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69647-80D5-4A90-8AC8-A8C8B737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6575D-99DD-4E45-B5DB-A0B29AE1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46E29-774E-4D13-B304-0644A817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1B9CD-C07B-49D0-ACA0-9D4A23D1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3466-0869-41B9-9671-1F59A65E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DAEC-8303-4930-90EB-CC3FF718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E066-84A8-4922-84DB-B32C3EAD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5A7E-9EB3-49BA-9035-A6FD2163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43BB-86E7-449A-85FC-FEE99782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3FBE-24C6-4DA2-B87A-8A761AEB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51AC-E5E0-44DD-B20A-1AB48BAC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74D2-7BB3-4EA5-9E02-DB35FC2A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F190-BB96-487D-BE7C-D0C00DFE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22A-509C-4257-B332-CBAD0A29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2DEA-6E2B-4926-B526-8DCF5318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1161-4C8B-498E-AEFF-10F64363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A7C9-F6BA-43C2-8FED-574F267B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D9A2-0892-4DAB-9427-79A3C29A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CE4E-5249-4157-8A73-20FAF53D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D300E-27C9-4B68-A02D-B68BD092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7EC46-98F0-4366-B9EA-97F88CF4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28D8B-99BE-43B2-8B72-2358B47E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383E4-19A0-427E-B4F0-776A328B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D84F3-0795-4104-81C5-7AA4FBE2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7623-1581-4BB3-8047-84162ADA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09937-43D1-4436-8838-4BFCF444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BB719-9A59-4208-8209-558672E0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96FAB-73FF-4BD1-B1C0-50851D81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10022-09B5-407B-9522-630B987C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78306-F843-4E53-9F34-6D3B5576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2CE4A-F07C-48E3-AEF7-6D48EAD8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1B0FE-C799-4622-B055-95AE3CB5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4BE7A-30A7-4ACE-91C3-F6E35A9D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2AA12-4E7C-48C7-B304-F24FE2A4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815F3-1ABB-4AC5-B67F-C4AC01A2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5389-D601-4237-93C8-3A97A553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8C0A9-FF7E-401B-9DCD-571721A0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9F599-3574-45A0-A43D-4AC8C790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C6665-F289-41AA-9B3E-F035BF89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DB937-08B8-41E7-9DFE-D3B7AB59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6FE3C-D2E2-4533-ABCB-C976EEF9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907D7-9BAA-4AA0-AF1B-B5BC3C4D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2D9C0-ABFD-4501-85B0-C5A6345E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315C0-C5ED-4993-934E-EA35DECD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37431-5AC2-4818-AE6B-4A2FD443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6EB48-3754-4AC9-B07F-F3273A28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EF92-73AD-43FE-AF58-04DCD91E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96999-2DE8-448A-89B6-E0B7889E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7D2CA-1816-4D7A-BF1E-10610A9F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8D6B9-8E6D-4959-B828-EF8CB551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21AE2-57ED-4C6D-89ED-9945B34D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611A3-18B2-4845-8DA4-09BF7D07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E6CFE-B5C2-4ED9-ABBF-C9030054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97A7D-6F2E-4CAC-83C5-A7E4FB92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BAA12-6C4A-4705-8E59-E3F0DEA0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72DF1-9C67-48F4-AC66-0EB791FA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D7EF5-1B7C-45E1-99FE-DC343184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6008-AF80-4CD8-B05A-C5BD8AF1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14273-DFFE-4714-8FB1-D0877CCE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46351-41B1-470F-9BC1-87E73E6A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D188B-AC6F-473B-9C64-AC8EC428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4C582-838C-417F-960F-FA9B5CAB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41F6B-F308-496F-828C-4AA0FF83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55AD3-23C3-4349-A06B-1AC7F2CB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BC83A-EF39-4F8F-AFCF-B529B4B6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8BB35-C9E5-4EF3-81CE-C6F39DCD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F214A-3770-41D8-A111-97F283BB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B1FC2-3058-49ED-B164-2F7992D5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2B7-B16E-482F-8583-54A56EF6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6846C-8016-470C-861C-D5BFD64C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57757-F3C5-4756-AB00-58DF54AB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9AA55-3089-494D-BB9D-E1A85562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C6312-41FB-43F1-9C22-7414D9B1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E90A1-3AA0-4391-A56E-8A2FF238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7FC3A-430A-4810-829C-816E87D7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7827B-5893-4A17-878A-47D52E3A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BB2CF-EA44-467F-B1DB-CB57337D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C68C8-FC93-4792-B296-BBD904DB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33638-872B-4F59-9465-5923B81D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C18B-96F3-4C11-A1BD-A7E8D616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B1D5F-543C-4DF3-BA2F-987F5F82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88CFC-6560-41A0-A0A0-14DE57E4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9B690-0F00-467F-8110-9E14F3E8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9C18E-D2F8-408B-B4F9-680F6E1F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0FA3D-52A1-45D0-BA42-957EDE8C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7924F-9749-403D-9A0A-6F3DCBC3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C0D70-DBD9-4D3C-B74E-14961FE1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CAF21-7BF4-4A49-82C6-88AAA3EB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BEA5C-C03A-4627-ABF6-59FD1C08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D738C-BD29-4D14-8081-D8FA9611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3CC4-1E73-4316-83E2-14EB24B1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221C7-391A-415F-8A47-154CDFCC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38381-2B59-4F81-B71D-89A341C8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90C7A-6A45-49EA-A462-87932290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F7149-3F35-46C6-8D07-522E8F78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966D5-01DB-4E24-83DA-C57DF23F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D69EB-27A7-48BF-A6CF-1D048577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4B4D2-ACF3-46FA-99B2-8EFBC897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7133D-3615-4F5F-BD93-4C9273B6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DCA95-C41F-4FD8-9500-310B1938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B7EDC-D8AF-41C9-B7EF-235D1190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9A61-4F47-44FB-98BD-856E9501D5C3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C990-1744-4541-B0D9-B0E0147A28CC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A035-FA90-4AA9-8E92-8069B970C57C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C060-37C9-4802-B87C-9B8C219CC942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182C-16B4-4D34-AC39-ABD400D24FD7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28BD-B3B0-41E2-B9E6-3CA5105E0C28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57D4-869D-4BCE-BD97-6C17630AEFD7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ACF0-20CE-4645-9697-CC8DAE2C9AED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4340-E7D4-4EB9-BE31-5C04F7C76510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04920" y="1125000"/>
            <a:ext cx="86868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БЪЕМ научной работы-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20 страниц 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12 шрифт, 1,5 интервал,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Times New Roman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291960" y="-549360"/>
            <a:ext cx="8712360" cy="14702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179280" y="1052640"/>
            <a:ext cx="43164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е источни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спользованные автором, рекомендуется вносить в список литературы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ере упоминания в текст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писани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входить: фамилия и инициалы автора, полное название книги (с подзаголовками, которые могут идти после запятой, через точки, после двоеточия, в скобках и т. п.);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косой черт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нные о переводчике (если это перевод) или о редакторе (если книга написана группой авторов), данные  о числе томов (отдельно опубликованных частей, если таковые имеются);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тир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название города, в котором издана книга;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двоеточи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название издательства, которое ее выпустило; и наконец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апято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од издания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формление источников периодической ЛИТЕРАТУРЫ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 и инициалы автора, название статьи;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косой черт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именования журнала, газеты, посл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и тире 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выпуска, далее ставятс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и тире 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и месяц или номер выпуска;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интернет - источников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 и инициалы автора, полное название статьи;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косой черты 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 сайт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647960" y="1125360"/>
            <a:ext cx="43434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ванов И.И. Книга песен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имнов / т.3 - М.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литература,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7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тров В.В. По поводу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рсии в английском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е// Иностранные языки в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е.- 2010.-№ 3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мирницкий А.В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гвистические вопросы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да /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cdodd.ru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0" y="189000"/>
            <a:ext cx="9144000" cy="1312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Список использованной литератур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140120"/>
          </a:xfrm>
          <a:prstGeom prst="rect">
            <a:avLst/>
          </a:prstGeom>
          <a:ln w="0">
            <a:noFill/>
          </a:ln>
        </p:spPr>
      </p:pic>
      <p:pic>
        <p:nvPicPr>
          <p:cNvPr id="432" name="Содержимое 8" descr=""/>
          <p:cNvPicPr/>
          <p:nvPr/>
        </p:nvPicPr>
        <p:blipFill>
          <a:blip r:embed="rId2"/>
          <a:stretch/>
        </p:blipFill>
        <p:spPr>
          <a:xfrm>
            <a:off x="-49320" y="1189080"/>
            <a:ext cx="9199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-6480" y="-109440"/>
            <a:ext cx="915696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8" name=""/>
          <p:cNvGraphicFramePr/>
          <p:nvPr/>
        </p:nvGraphicFramePr>
        <p:xfrm>
          <a:off x="304920" y="1031760"/>
          <a:ext cx="8686800" cy="461196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595800">
                <a:tc>
                  <a:txBody>
                    <a:bodyPr lIns="90000" rIns="9000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 Заявка (анкета) участника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1099800">
                <a:tc>
                  <a:txBody>
                    <a:bodyPr lIns="90000" rIns="9000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 Согласие на обработку персональных данных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95800">
                <a:tc>
                  <a:txBody>
                    <a:bodyPr lIns="90000" rIns="9000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 Аннотация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663200">
                <a:tc>
                  <a:txBody>
                    <a:bodyPr lIns="90000" rIns="9000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. Научная статья </a:t>
                      </a:r>
                      <a:r>
                        <a:rPr b="0" lang="ru-RU" sz="37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(</a:t>
                      </a:r>
                      <a:r>
                        <a:rPr b="0" lang="ru-RU" sz="2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итульный лист, введение, научное описание, заключение, список использованной литературы</a:t>
                      </a:r>
                      <a:r>
                        <a:rPr b="0" lang="ru-RU" sz="37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)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57000">
                <a:tc>
                  <a:txBody>
                    <a:bodyPr lIns="90000" rIns="9000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7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. </a:t>
                      </a:r>
                      <a:r>
                        <a:rPr b="0" lang="ru-RU" sz="3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иложение (если есть)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-12600" y="-12600"/>
            <a:ext cx="9132840" cy="12920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179280" y="1599840"/>
            <a:ext cx="4316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екции,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, имя, отчеств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а (полностью),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, школа, класс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работы, 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, имя, отчеств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го руководителя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лностью),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, место работы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1" name="Объект 3" descr=""/>
          <p:cNvPicPr/>
          <p:nvPr/>
        </p:nvPicPr>
        <p:blipFill>
          <a:blip r:embed="rId2"/>
          <a:stretch/>
        </p:blipFill>
        <p:spPr>
          <a:xfrm>
            <a:off x="4356000" y="1413000"/>
            <a:ext cx="463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-6480" y="-19080"/>
            <a:ext cx="9156960" cy="13906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ишется автором работы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должна включать благодарностей;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ем – от 20 строк до одной страницы  А4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ль работы,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дачи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ученные данные, выводы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4" name="Объект 2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4535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427400"/>
          </a:xfrm>
          <a:prstGeom prst="rect">
            <a:avLst/>
          </a:prstGeom>
          <a:ln w="0">
            <a:noFill/>
          </a:ln>
        </p:spPr>
      </p:pic>
      <p:pic>
        <p:nvPicPr>
          <p:cNvPr id="416" name="Объект 4" descr=""/>
          <p:cNvPicPr/>
          <p:nvPr/>
        </p:nvPicPr>
        <p:blipFill>
          <a:blip r:embed="rId2"/>
          <a:stretch/>
        </p:blipFill>
        <p:spPr>
          <a:xfrm>
            <a:off x="4500720" y="1268280"/>
            <a:ext cx="4392360" cy="54738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конкурса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, секция конкурса,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, имя, отчеств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а, район, школа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;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, имя, отчеств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го руководителя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, место работы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25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395280" y="1484280"/>
          <a:ext cx="7993080" cy="460368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ие .......................................................... 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Название раздела: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.................................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Название подраздела ................................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Название подраздела ................................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Название раздела: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.................................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Название подраздела ..............................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Название подраздела ..............................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..................................................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ок литератур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....................................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ожения: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.................................................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ОСНОВНЫЕ ЭТАПЫ НАПИСАНИЯ РАБОТЫ: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24000" y="90756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Введение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dddd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50920" y="1557360"/>
          <a:ext cx="8642160" cy="5173560"/>
        </p:xfrm>
        <a:graphic>
          <a:graphicData uri="http://schemas.openxmlformats.org/drawingml/2006/table">
            <a:tbl>
              <a:tblPr/>
              <a:tblGrid>
                <a:gridCol w="3058920"/>
                <a:gridCol w="5583240"/>
              </a:tblGrid>
              <a:tr h="453960"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сновывается значимость выбранной т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988560"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уется кратко и определённо точно, обосновывается значимость выбранной темы (выявить, сравнить, обосновать, разработать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684000"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адач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ретизируют цель, формулировка осуществляется на основе содержания параграф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6200"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едмет исслед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направленность содержания объекта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925200"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 Unicode MS"/>
                        </a:rPr>
                        <a:t>Объект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 Unicode MS"/>
                        </a:rPr>
                        <a:t>исслед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это определенный процесс или явление действительности, порождающее проблемную ситуац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50520"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Гипотез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то неочевидное в объекте, что предполагается получ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695160"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етоды исслед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им образом проходило исследование (теоретические, эмпирические, математическ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9960"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овизна рабо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нового будет обнаружено в ходе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Monotype Corsiva"/>
              </a:rPr>
              <a:t>НАУЧНАЯ СТАТЬЯ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250920" y="826920"/>
          <a:ext cx="8686800" cy="5842080"/>
        </p:xfrm>
        <a:graphic>
          <a:graphicData uri="http://schemas.openxmlformats.org/drawingml/2006/table">
            <a:tbl>
              <a:tblPr/>
              <a:tblGrid>
                <a:gridCol w="4699080"/>
                <a:gridCol w="3987720"/>
              </a:tblGrid>
              <a:tr h="1378080">
                <a:tc>
                  <a:txBody>
                    <a:bodyPr lIns="90000" rIns="9000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Franklin Gothic Book"/>
                        </a:rPr>
                        <a:t>Теоретическая ча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Franklin Gothic Book"/>
                        </a:rPr>
                        <a:t>Практическая (исследовательская) ча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805040">
                <a:tc>
                  <a:txBody>
                    <a:bodyPr lIns="90000" rIns="9000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 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бзор литературы по выбранной теме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 основе сравнения и сопоставления различных точек зрения необходимо обосновать свой собственный подход к решению рассматриваемых проблем, сделав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90000" rIns="9000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дбор и анализ собственного материала , вывод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троится в зависимости от выбранного направления, се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658960">
                <a:tc>
                  <a:txBody>
                    <a:bodyPr lIns="90000" rIns="9000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екст работы должен содержать ссылки на использованную литературу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 тексте указать номера позиций в списке литературы, на которые ссылается автор, при этом заключить их в квадратные скобки. Например, [2]. Если в тексте приводится цитата, рядом с номером источника следует указать  номер и страницы. Например, [2, с. 321]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Monotype Corsiva"/>
              </a:rPr>
              <a:t>ЗАКЛЮЧЕНИЕ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50560" y="1557360"/>
            <a:ext cx="8713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одится итог исследования: достигнуты ли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и,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ы ли поставленные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.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В лаконичном виде должны быть отражены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ультат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денных исследований и сформулированы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воды,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 указанием, если возможно, направления дальнейших исследований и предложений по возможному практическому использованию результатов исследования).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5:32:18Z</dcterms:created>
  <dc:creator>Вова</dc:creator>
  <dc:description/>
  <dc:language>en-US</dc:language>
  <cp:lastModifiedBy>Пользователь</cp:lastModifiedBy>
  <dcterms:modified xsi:type="dcterms:W3CDTF">2019-05-14T13:00:18Z</dcterms:modified>
  <cp:revision>293</cp:revision>
  <dc:subject/>
  <dc:title>Слайд 1</dc:title>
</cp:coreProperties>
</file>