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884F-B07D-437F-8012-D58D6B7F58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1829-7B00-4C65-BDD2-96D703F1C0F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7FE-7FC6-42C2-8B46-2D609442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F3A-DBD6-4EA9-AA50-85A26131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97A02-FDF0-4CCE-A1A4-AA9DA8E8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9941D-E060-4D2F-84C6-1711E041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B30FA-A883-43AE-9BA6-297033B0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2C39A-218D-4924-B359-8747F268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AF238-4C9A-4452-99FB-CD33607F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BC0D7-10DC-4217-B25E-C09BA8D8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966B3-3309-4CD4-A257-F19D7E3E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C8F40-F3FA-46B6-8961-C6692FD0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C6D2C-8401-4029-847A-94DBB154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72D-38A5-444E-B7E8-02F53FC2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F7F7-6F0D-4A54-96C0-D01EA11E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5F3C-16F5-46C2-AF33-88176D6E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E483-721D-431B-B2B0-A3BA2B73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EEBC-884E-4C08-B938-904F89C5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9FE2-F11E-416E-AB48-1A6A6DD5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956B-6E01-43E0-9C83-DF5185BD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902E-7455-4213-813C-5AAB5D08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C77A-89EB-41B1-A92F-4C0B3FE6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E98-117F-4C6F-8BA7-66551349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19A1-8E53-47CA-8CD2-73E05348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8354-5FD5-4B74-AB4A-1B85B470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8103-02AE-418F-9739-1880ED78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5A92-6906-4C9A-B441-8A95CDAC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CFB5-E784-4CF7-B985-743D6B65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9B2C9-37AA-4A4D-9D42-64E20224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B7737-BAB5-4381-A7D9-E9476F85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D0E4B-0AFB-4DF7-ABBC-08BDB28E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46043-C568-4B8A-BE6B-56C27B50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ADB76-0AC1-4083-9DED-DFB30A17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F2C-E1A4-4E77-8228-639C616C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B16FB-E27F-43B2-B433-53FF2AB5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179C0-465B-4673-9A6F-C9BA1432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1CA46-30D4-4D29-A7E0-3E3D2906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C3A6D-D568-41FE-835B-F567FE04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FBC43-E538-459A-992F-DB20BEBC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6F70E-FB55-4576-BF8D-A3D20E3F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2AC67-2EC2-44D2-A9D6-0968B023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B038E-3AFD-4154-BC87-A5C9C600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C8923-CFD5-4582-B2BB-3F59D697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95F2E-CE7C-489E-B334-98BE7C9D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BCD-C0DC-4967-992B-B4E90D41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D48D6-9C50-4AFC-AD98-EFFC4AB4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AB399-3071-4D0B-8525-45E8FC3A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13C54-B0D1-45C8-ADF2-C44825CF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70734-991E-487D-8E87-C1F0AA91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0C349-C244-4691-AFF1-12E279EE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6C2D7-2336-446D-ACED-E57801C2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28240-57EB-4E75-8C39-19BFC299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53986-4C7C-4D08-8324-81FFE876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BCBCF-A09E-4EEC-921A-70C39C19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88AC1-3477-4FF6-9033-D5260DC7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11E-633A-4E66-AED6-88D12FF6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22AF7-343C-4AAE-9D22-55BA21A4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50224-EAF6-4515-9B08-8A092CFB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CC616-DFD2-473D-91D4-77D2FA35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2F5FE-B874-42BA-8468-084B0489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6E2CA-8CCD-496F-A8FA-D31E40B9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1C63F-7D99-42F7-863C-E0F86CA2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B389F-BDD9-4DD8-AB42-5F1CB0EB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94F16-0012-4935-BD3C-96C5B51E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3AB8C-56B2-4C56-BE7C-7A6F0D62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2F02F-61BA-41C4-BFF7-7DF81967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EAD-310A-4D89-9B93-5F425DB0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5F5A6-EC38-4606-A08D-3E20D4C1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4B911-C947-44C3-8AD1-6D13BEA1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7D328-9B73-4C6B-9F73-B3205AF0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75CA7-06B6-4AE6-A2C5-A2C15522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7B028-D135-4FE0-B633-CB779F88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C2EB5-CAEA-4875-BAEC-6FC7BC7E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79EA0-8260-4B1B-9C32-FA834CD0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033B2-B517-49A6-A050-5BFF053A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5CC4B-3EB6-4A3F-9311-D9864446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14EBB-D6BD-4DC1-A38C-2BF41054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EC50-9738-486D-84DA-344E7937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7F728-CF2D-4659-8457-66CB610F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92BB4-930B-4C1F-B9D2-921C73A8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2544D-B2E2-4371-9297-E5086BE5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88EAE-AA5F-4681-8D9C-A8565EB9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EC8BD-BEAB-49AE-ACEE-E7723F31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FCBF8-4307-44B8-A953-041ADC13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E0A6C-9D37-407F-A740-D6B5CB1D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641DF-6660-4537-ABD2-233E1C7B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DD801-9C5D-498D-BE96-730CE495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57D86-9E62-4E88-B69D-0198ADCA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574-ABB2-4652-820C-2104FC73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5430F-E4CA-4ACC-AF56-70D3B4BC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837E9-E6B8-4E5C-B79D-20D76504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784A2-0731-494D-BFDE-AD97D863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A8B87-0505-432C-92CE-267871AE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7E096-1748-4986-BD7E-61C6C4C3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BFBDB-A190-4350-902C-465CA905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857A6-0D03-4574-9A94-A005B362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E081E-B3D6-46C6-AC55-C4CCD369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E6FC9-560E-4EFB-80CC-43540F3B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3ED4B-D1BB-459C-A44F-53BCA708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331-88FC-4BD1-BA61-FBC9CC55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7D0AC-31AD-41EE-B06F-751887F4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CA909-C0A7-4F5C-8D1B-8A7A439D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8C0FD-6FF4-4CFF-A02B-F8B0019D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07173-1A89-40E0-9C72-5E2EC352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E87D6-FEEA-4B7F-86F8-18DEC88B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2E72D-E4EF-4C3A-A2EF-8908880C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0165D-9751-4A31-B566-7FE2128D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1E2D5-16CB-42D5-8597-DA1F07DD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704EA-B35E-499B-BB7C-938BF55E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22F21-FBE5-4B42-9A86-90F8E501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BC1B-3745-4172-9D0B-44483C494796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FFBF-3EAA-491B-BE82-46D5E38847E7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8549-B0AE-4D99-8C67-65B07AB4CB15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8f8f8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45E7-2044-492F-9C89-B08CA7F1D98C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8D8C-DA60-42AE-96EC-05E29CFA47CB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79B4-1B74-42A0-BC74-FAB59C31B078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41E1-1059-46AF-8A86-C9A792C65A2A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EFF6-7397-467F-98CF-7B0CB3C49724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ddddd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2c2c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361E-C0E0-41B5-9755-F7002F3360A2}" type="slidenum">
              <a:rPr b="0" lang="ru-RU" sz="1200" spc="-1" strike="noStrike">
                <a:solidFill>
                  <a:srgbClr val="c2c2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04920" y="1125000"/>
            <a:ext cx="86868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БЪЕМ научной работы-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20 страниц 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12 шрифт, 1,5 интервал,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Times New Roman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91960" y="-549360"/>
            <a:ext cx="8712360" cy="14702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179280" y="1052640"/>
            <a:ext cx="43164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е источни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спользованные автором, рекомендуется вносить в список литературы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ере упоминания в текст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исани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входить: фамилия и инициалы автора, полное название книги (с подзаголовками, которые могут идти после запятой, через точки, после двоеточия, в скобках и т. п.);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косой черт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нные о переводчике (если это перевод) или о редакторе (если книга написана группой авторов), данные  о числе томов (отдельно опубликованных частей, если таковые имеются);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тир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азвание города, в котором издана книга;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двоеточ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азвание издательства, которое ее выпустило; и наконец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апято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од издани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формление источников периодической ЛИТЕРАТУРЫ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 и инициалы автора, название статьи;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косой черт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именования журнала, газеты, посл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и тире 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выпуска, далее ставятс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и тире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и месяц или номер выпуска;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интернет - источников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 и инициалы автора, полное название статьи;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косой черты 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 сай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647960" y="1125360"/>
            <a:ext cx="43434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ванов И.И. Книга песен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имнов / т.3 - М.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литература,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7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тров В.В. По поводу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рсии в английском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е// Иностранные языки в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е.- 2010.-№ 3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мирницкий А.В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гвистические вопросы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а /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cdodd.ru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0" y="189000"/>
            <a:ext cx="9144000" cy="1312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Monotype Corsiva"/>
              </a:rPr>
              <a:t>Список использованной литератур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140120"/>
          </a:xfrm>
          <a:prstGeom prst="rect">
            <a:avLst/>
          </a:prstGeom>
          <a:ln w="0">
            <a:noFill/>
          </a:ln>
        </p:spPr>
      </p:pic>
      <p:pic>
        <p:nvPicPr>
          <p:cNvPr id="432" name="Содержимое 8" descr=""/>
          <p:cNvPicPr/>
          <p:nvPr/>
        </p:nvPicPr>
        <p:blipFill>
          <a:blip r:embed="rId2"/>
          <a:stretch/>
        </p:blipFill>
        <p:spPr>
          <a:xfrm>
            <a:off x="-49320" y="1189080"/>
            <a:ext cx="9199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-6480" y="-109440"/>
            <a:ext cx="915696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304920" y="1031760"/>
          <a:ext cx="8686800" cy="461196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595800">
                <a:tc>
                  <a:txBody>
                    <a:bodyPr lIns="90000" rIns="9000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 Заявка (анкета) участника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1099800">
                <a:tc>
                  <a:txBody>
                    <a:bodyPr lIns="90000" rIns="9000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 Согласие на обработку персональных данных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95800">
                <a:tc>
                  <a:txBody>
                    <a:bodyPr lIns="90000" rIns="9000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 Аннотация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663200">
                <a:tc>
                  <a:txBody>
                    <a:bodyPr lIns="90000" rIns="9000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. Научная статья </a:t>
                      </a:r>
                      <a:r>
                        <a:rPr b="0" lang="ru-RU" sz="37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</a:t>
                      </a:r>
                      <a:r>
                        <a:rPr b="0" lang="ru-RU" sz="29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итульный лист, введение, научное описание, заключение, список использованной литературы</a:t>
                      </a:r>
                      <a:r>
                        <a:rPr b="0" lang="ru-RU" sz="37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)</a:t>
                      </a:r>
                      <a:endParaRPr b="0" lang="en-US" sz="3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57000">
                <a:tc>
                  <a:txBody>
                    <a:bodyPr lIns="90000" rIns="90000" tIns="46440" bIns="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7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. </a:t>
                      </a:r>
                      <a:r>
                        <a:rPr b="0" lang="ru-RU" sz="3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иложение (если есть)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9132840" cy="12920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79280" y="1599840"/>
            <a:ext cx="4316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секции,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имя, отчеств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а (полностью),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йон, школа, класс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работы, 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имя, отчеств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го руководителя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лностью),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, место работ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1" name="Объект 3" descr=""/>
          <p:cNvPicPr/>
          <p:nvPr/>
        </p:nvPicPr>
        <p:blipFill>
          <a:blip r:embed="rId2"/>
          <a:stretch/>
        </p:blipFill>
        <p:spPr>
          <a:xfrm>
            <a:off x="4356000" y="1413000"/>
            <a:ext cx="463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-6480" y="-19080"/>
            <a:ext cx="9156960" cy="1390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ишется автором работы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должна включать благодарностей;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ем – от 20 строк до одной страницы  А4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ль работы,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дачи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ученные данные, вывод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4" name="Объект 2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535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427400"/>
          </a:xfrm>
          <a:prstGeom prst="rect">
            <a:avLst/>
          </a:prstGeom>
          <a:ln w="0">
            <a:noFill/>
          </a:ln>
        </p:spPr>
      </p:pic>
      <p:pic>
        <p:nvPicPr>
          <p:cNvPr id="416" name="Объект 4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392360" cy="54738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конкурса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, секция конкурса,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имя, отчеств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а, район, школа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;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имя, отчество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го руководителя,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, место работы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125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395280" y="1484280"/>
          <a:ext cx="7993080" cy="460368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 .......................................................... 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Название раздела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...............................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Название подраздела ................................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Название подраздела ................................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Название раздела: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................................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Название подраздела ..............................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Название подраздела ..............................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..................................................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к литерату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....................................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ожения: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.................................................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Monotype Corsiva"/>
              </a:rPr>
              <a:t>ОСНОВНЫЕ ЭТАПЫ НАПИСАНИЯ РАБОТЫ: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24000" y="90756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Monotype Corsiva"/>
                <a:ea typeface="Times New Roman"/>
              </a:rPr>
              <a:t>Введение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dddd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557360"/>
          <a:ext cx="8642160" cy="5173560"/>
        </p:xfrm>
        <a:graphic>
          <a:graphicData uri="http://schemas.openxmlformats.org/drawingml/2006/table">
            <a:tbl>
              <a:tblPr/>
              <a:tblGrid>
                <a:gridCol w="3058920"/>
                <a:gridCol w="5583240"/>
              </a:tblGrid>
              <a:tr h="453960"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сновывается значимость выбранной 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988560"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Цель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уется кратко и определённо точно, обосновывается значимость выбранной темы (выявить, сравнить, обосновать, разработать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684000"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адач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ретизируют цель, формулировка осуществляется на основе содержания параграф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6200"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едмет исслед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направленность содержания объекта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925200"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 Unicode MS"/>
                        </a:rPr>
                        <a:t>Объект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 Unicode MS"/>
                        </a:rPr>
                        <a:t>исслед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это определенный процесс или явление действительности, порождающее проблемную ситуа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50520"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ипотез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то неочевидное в объекте, что предполагается получ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695160"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етоды исслед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им образом проходило исследование (теоретические, эмпирические, математическ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9960"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овизна рабо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ового будет обнаружено в ходе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Monotype Corsiva"/>
              </a:rPr>
              <a:t>НАУЧНАЯ СТАТЬЯ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250920" y="826920"/>
          <a:ext cx="8686800" cy="5842080"/>
        </p:xfrm>
        <a:graphic>
          <a:graphicData uri="http://schemas.openxmlformats.org/drawingml/2006/table">
            <a:tbl>
              <a:tblPr/>
              <a:tblGrid>
                <a:gridCol w="4699080"/>
                <a:gridCol w="3987720"/>
              </a:tblGrid>
              <a:tr h="1378080">
                <a:tc>
                  <a:txBody>
                    <a:bodyPr lIns="90000" rIns="9000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</a:rPr>
                        <a:t>Теоретическая ч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Franklin Gothic Book"/>
                        </a:rPr>
                        <a:t>Практическая (исследовательская) ч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05040">
                <a:tc>
                  <a:txBody>
                    <a:bodyPr lIns="90000" rIns="9000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 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бзор литературы по выбранной теме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 основе сравнения и сопоставления различных точек зрения необходимо обосновать свой собственный подход к решению рассматриваемых проблем, сделав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  <a:tc>
                  <a:txBody>
                    <a:bodyPr lIns="90000" rIns="9000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дбор и анализ собственного материала , вывод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троится в зависимости от выбранного направления, се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4e4"/>
                    </a:solidFill>
                  </a:tcPr>
                </a:tc>
              </a:tr>
              <a:tr h="2658960">
                <a:tc>
                  <a:txBody>
                    <a:bodyPr lIns="90000" rIns="9000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екст работы должен содержать ссылки на использованную литератур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тексте указать номера позиций в списке литературы, на которые ссылается автор, при этом заключить их в квадратные скобки. Например, [2]. Если в тексте приводится цитата, рядом с номером источника следует указать  номер и страницы. Например, [2, с. 321]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Monotype Corsiva"/>
              </a:rPr>
              <a:t>ЗАКЛЮЧЕНИЕ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50560" y="1557360"/>
            <a:ext cx="8713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ddddd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ится итог исследования: достигнуты ли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и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ы ли поставленны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 лаконичном виде должны быть отражены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денных исследований и сформулированы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воды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 указанием, если возможно, направления дальнейших исследований и предложений по возможному практическому использованию результатов исследования).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5:32:18Z</dcterms:created>
  <dc:creator>Вова</dc:creator>
  <dc:description/>
  <dc:language>en-US</dc:language>
  <cp:lastModifiedBy>Пользователь</cp:lastModifiedBy>
  <dcterms:modified xsi:type="dcterms:W3CDTF">2019-05-14T13:00:18Z</dcterms:modified>
  <cp:revision>293</cp:revision>
  <dc:subject/>
  <dc:title>Слайд 1</dc:title>
</cp:coreProperties>
</file>