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4.png" ContentType="image/png"/>
  <Override PartName="/ppt/media/image11.jpeg" ContentType="image/jpeg"/>
  <Override PartName="/ppt/media/image9.png" ContentType="image/png"/>
  <Override PartName="/ppt/media/image10.png" ContentType="image/png"/>
  <Override PartName="/ppt/media/image32.png" ContentType="image/png"/>
  <Override PartName="/ppt/media/image38.png" ContentType="image/png"/>
  <Override PartName="/ppt/media/image39.jpeg" ContentType="image/jpeg"/>
  <Override PartName="/ppt/media/image8.jpeg" ContentType="image/jpeg"/>
  <Override PartName="/ppt/media/image40.jpeg" ContentType="image/jpeg"/>
  <Override PartName="/ppt/media/image13.jpeg" ContentType="image/jpeg"/>
  <Override PartName="/ppt/media/image33.png" ContentType="image/png"/>
  <Override PartName="/ppt/media/image35.png" ContentType="image/png"/>
  <Override PartName="/ppt/media/image5.jpeg" ContentType="image/jpeg"/>
  <Override PartName="/ppt/media/image36.png" ContentType="image/png"/>
  <Override PartName="/ppt/media/image37.png" ContentType="image/png"/>
  <Override PartName="/ppt/media/image34.png" ContentType="image/png"/>
  <Override PartName="/ppt/media/image12.jpeg" ContentType="image/jpeg"/>
  <Override PartName="/ppt/media/image28.png" ContentType="image/png"/>
  <Override PartName="/ppt/media/image7.jpeg" ContentType="image/jpeg"/>
  <Override PartName="/ppt/media/image6.jpeg" ContentType="image/jpeg"/>
  <Override PartName="/ppt/media/image18.png" ContentType="image/png"/>
  <Override PartName="/ppt/media/image4.jpeg" ContentType="image/jpeg"/>
  <Override PartName="/ppt/media/image25.png" ContentType="image/png"/>
  <Override PartName="/ppt/media/image42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30.png" ContentType="image/png"/>
  <Override PartName="/ppt/media/image3.jpeg" ContentType="image/jpe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6BADC-4169-49DD-84B4-0D17456F94A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38C48-F6F1-4817-88BF-F53A11876E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44905-439F-465C-96BD-E93F85D775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1AB5D-B9B8-4024-AD58-B0BB9522B2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9F9AA-79F6-42C8-894A-249B3F053F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C8241-7057-4179-9DA0-0F69D36C14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D40EF-E7D0-4F40-B03E-478F95F52E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289CE-3D8E-4A10-83C3-E63EE3D214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B206A-0471-48F5-B0F2-6656F16758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5F8C8-C408-41A9-8910-9D8C7C82EA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1337A-DAD3-4093-AED6-3548ECA124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10355-059C-4C66-94CE-9A43705F88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14934-DE9C-45EA-A939-44F3E41F71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21F05-0358-4377-9900-CC918C2585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42E43-7BA3-48A6-A3AF-9524AFDEDC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E0888-E9CB-4F79-8689-6E9CC21CC9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B5242-555A-4CB8-8774-7503078F35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825C0-5058-4F1F-9558-8FB308C2E3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581F2-A81A-484E-9E7F-D50E47D069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696F8-5390-469F-ACBA-8D229FD4AE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616A7-5744-4480-A1FC-14DDB8D61A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5E918-0C8C-46EF-AC7B-2E59DCB025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E7765-DB90-48F3-9517-3FB56F0054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4E74-6045-40F1-B6F0-C0332E91A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D4DA-D453-420F-B79D-5252E2477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33E7-3675-4DEA-8564-1EE24C3E5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FAAE-E394-4398-B224-56867771B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B3396-D893-4674-BC58-79B5DA650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CFC81-6A6B-48F0-B1A7-613B4D4E3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3DE4C-8BB2-4B87-A270-D77553815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DBA08-7B80-4E7A-8CD1-1BCE71D24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7D459-EA2F-48E1-A5CA-3118E93B0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34AAB-27BE-4908-8165-0B49B7784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4ECB0-5BFC-4EA4-8163-9BA2F874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C28E-7C5A-4B3F-9D40-B8490D913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4682A-49CC-4029-8036-C3684B77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0C204-8DD8-4314-B524-859D8243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C976D-B873-4A95-8062-2CF26E3A3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D9CD0-065B-407B-9EE2-68460AC2C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B7E74-A822-4730-8B02-852CDDB20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BA1D0-6FA9-4036-9BB0-D5180A90E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F5C59-DF2C-48FB-9136-4D83C4719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F3495-48B2-46E1-9D6F-3F29EB149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159FB-B989-4858-A456-9095E4FE1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FCE57-F8A8-4F4B-B1B1-17BE7F919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A34C-901E-4D36-AEF0-8DDE3D43C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1B03A-0F53-479D-A8FF-14E4CD320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72DB5-AE3E-4506-B174-02B5B6B4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E0941-F8BF-4136-BB0A-EA42C401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35BAA-8888-45C3-BB72-3CD1A359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422B8-36C8-4D99-A6AD-AC66B8E6A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02F39-B8D0-45F7-9BB2-4D42846B6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CF5D4-038B-4515-B21A-6B093547F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82460-B680-40E5-B3BC-C51B19507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1551A-EFDB-4FA9-9720-3AA5E3DC2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505B6-E4B9-496C-9EC7-9585A94FB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B537-DC32-450F-B86D-55044676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E6D36-A98A-4A16-8933-AC2F1D9B9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EBAAE-5BC2-409F-87A5-66B8ADF46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2590D-100E-415F-BE3B-2AB00D124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3C2A4-8351-4D94-946A-EE35CF7E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77F06-A44F-4097-8A55-1E47092C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12459-CFB4-463B-BCD4-4FF4F048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A63FB-D1AA-451F-BB15-83C6E5C43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C0144-3309-48FD-9B39-0366B2F27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281CC-8985-4F17-A103-497C84055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701DB-9145-405A-AC73-D71A937E0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2667-6702-491E-894E-20905DD93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6870A-B76F-4EB8-B4C8-86F23EE68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C7E78-7D07-431C-BCF1-07E1C1A75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82F24-F3B7-4C95-9FAB-BE1EE7C9B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570C5-D9FF-42AE-A77A-E034E2983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48087-3205-40A3-8E83-9E5CD02C5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AA99D-5502-49E3-B4E1-BD451B62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D3894-2420-47B3-B2C5-9B860E33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56A03-6ACE-4A26-9C0F-58F0CE70E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82267-01AD-4F3D-8262-AD4EF7749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57C31-9157-442F-A8EE-FB3805483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BFB4-ABC6-4881-A64E-964828E98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DD718-222B-41EE-85B0-740A2AC6A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5B0C-4404-4D01-8425-13D1A243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6619-F143-42A0-8E75-C53B53D3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C054-3E27-45B4-A120-594EA05E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8BE85-C617-46CA-BD03-A5B09BF035C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8BD73-1232-42E2-9847-DD9337793A25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B4894-2DB0-4A5C-A290-C2EB0366542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5FBD2-68CF-47FC-9CAA-8AF6A35B213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449B-7AAB-478E-9805-CA7291A2530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jpe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32.png"/><Relationship Id="rId16" Type="http://schemas.openxmlformats.org/officeDocument/2006/relationships/image" Target="../media/image32.png"/><Relationship Id="rId17" Type="http://schemas.openxmlformats.org/officeDocument/2006/relationships/image" Target="../media/image33.png"/><Relationship Id="rId18" Type="http://schemas.openxmlformats.org/officeDocument/2006/relationships/image" Target="../media/image34.png"/><Relationship Id="rId19" Type="http://schemas.openxmlformats.org/officeDocument/2006/relationships/image" Target="../media/image35.png"/><Relationship Id="rId20" Type="http://schemas.openxmlformats.org/officeDocument/2006/relationships/image" Target="../media/image35.png"/><Relationship Id="rId21" Type="http://schemas.openxmlformats.org/officeDocument/2006/relationships/image" Target="../media/image36.png"/><Relationship Id="rId22" Type="http://schemas.openxmlformats.org/officeDocument/2006/relationships/image" Target="../media/image37.png"/><Relationship Id="rId23" Type="http://schemas.openxmlformats.org/officeDocument/2006/relationships/image" Target="../media/image38.png"/><Relationship Id="rId24" Type="http://schemas.openxmlformats.org/officeDocument/2006/relationships/slideLayout" Target="../slideLayouts/slideLayout13.xml"/><Relationship Id="rId2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500" spc="-1" strike="noStrike">
                <a:solidFill>
                  <a:srgbClr val="ffffff"/>
                </a:solidFill>
                <a:latin typeface="Calibri"/>
              </a:rPr>
              <a:t>УМК «Перспектива»</a:t>
            </a:r>
            <a:endParaRPr b="0" lang="en-US" sz="65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71640"/>
          </a:xfrm>
          <a:prstGeom prst="rect">
            <a:avLst/>
          </a:prstGeom>
          <a:noFill/>
          <a:ln w="0">
            <a:noFill/>
          </a:ln>
        </p:spPr>
        <p:txBody>
          <a:bodyPr tIns="-19800" bIns="259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e7c5c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-360" y="1071360"/>
            <a:ext cx="52275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just">
              <a:lnSpc>
                <a:spcPct val="12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ое пособие «Читалочка» предназначено для отработки навыка чтения, закрепления знаний и общеучебных умений, полученных  учениками при работе по учебнику «Азбука». Система игровых и занимательных упражнений способствует формированию навыка чтения целыми словами, обогащает словарный запас первоклассников и развивает их речь.</a:t>
            </a:r>
            <a:br>
              <a:rPr sz="2400"/>
            </a:br>
            <a:br>
              <a:rPr sz="2000"/>
            </a:b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57" name="Picture 8" descr="chitalochka"/>
          <p:cNvPicPr/>
          <p:nvPr/>
        </p:nvPicPr>
        <p:blipFill>
          <a:blip r:embed="rId1"/>
          <a:stretch/>
        </p:blipFill>
        <p:spPr>
          <a:xfrm>
            <a:off x="5429160" y="1500120"/>
            <a:ext cx="3398760" cy="450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58" name="Прямоугольник 1"/>
          <p:cNvSpPr/>
          <p:nvPr/>
        </p:nvSpPr>
        <p:spPr>
          <a:xfrm>
            <a:off x="0" y="2858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идактическое пособие «Читалочка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57132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Особенности  программы 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Климановой Л.Ф. «Литературное чтение» 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для 1 класса УМК«Перспектива»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 и учебника «Литературное чтение» 1 класс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60" name="Picture 11" descr="Attachment"/>
          <p:cNvPicPr/>
          <p:nvPr/>
        </p:nvPicPr>
        <p:blipFill>
          <a:blip r:embed="rId1"/>
          <a:stretch/>
        </p:blipFill>
        <p:spPr>
          <a:xfrm>
            <a:off x="5357880" y="2251080"/>
            <a:ext cx="3143160" cy="42400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3" descr="Attachment"/>
          <p:cNvPicPr/>
          <p:nvPr/>
        </p:nvPicPr>
        <p:blipFill>
          <a:blip r:embed="rId2"/>
          <a:stretch/>
        </p:blipFill>
        <p:spPr>
          <a:xfrm>
            <a:off x="1000080" y="2286000"/>
            <a:ext cx="311004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дачи курса «Литературное чтение»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24000" y="1071360"/>
            <a:ext cx="8820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ть у начинающего читателя интерес к книге и потребность в систематическом чтении литературных произведений, понимание того, что художественное произведение — это произведение словесного искусства;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ь воображение ребенка, чувство эстетического переживания прочитанного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навыка чтения, так как он является той основой, на которой развиваются все остальные коммуникативно-речевые умения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у учащихся нравственно-эстетического отношения к людям и окружающему миру.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00040" y="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algn="ctr">
              <a:lnSpc>
                <a:spcPct val="1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брики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амостоятельное чтение», «Идем в библиотеку», «Наш театр», «Читалочка - обучалочка», «Маленькие и большие секреты страны Литературии», «Мои любимые писатели»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ют различные формы работы с литературным произведением, систематизируют знания и обогащают практический опыт ребенка, в них представлена система работы с книгой как в урочной так и во внеурочной деятельности.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395280" y="0"/>
            <a:ext cx="44956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вторами учебника «Литературное чтение» для 1 класса, во все разделы введена рубрика «Семейное чтение», в которую помещены более объемные тексты, чем те, которые может осилить первоклассник. Предполагается, что подобные произведения будут читать и обсуждать с детьми родители. А это значит укрепятся семейные связи, возрастет роль родителей в воспитании детей.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66" name="Picture 7" descr="16-3-3-1"/>
          <p:cNvPicPr/>
          <p:nvPr/>
        </p:nvPicPr>
        <p:blipFill>
          <a:blip r:embed="rId1"/>
          <a:stretch/>
        </p:blipFill>
        <p:spPr>
          <a:xfrm>
            <a:off x="6500880" y="285840"/>
            <a:ext cx="2386080" cy="32623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8" descr="16-3-3"/>
          <p:cNvPicPr/>
          <p:nvPr/>
        </p:nvPicPr>
        <p:blipFill>
          <a:blip r:embed="rId2"/>
          <a:stretch/>
        </p:blipFill>
        <p:spPr>
          <a:xfrm>
            <a:off x="5072040" y="2857680"/>
            <a:ext cx="24526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1214280"/>
            <a:ext cx="9144000" cy="7588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собенности  программы </a:t>
            </a:r>
            <a:br>
              <a:rPr sz="3200"/>
            </a:b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лимановой Л.Ф. «Русский язык» 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ля 1 класса УМК«Перспектива»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и учебника «Русский язык» 1 класс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0" y="2000160"/>
            <a:ext cx="464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обучения грамоте начинается раздельное изучение русского языка и литературного чтения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СВЕДЕНИЯ О ЯЗЫКЕ И РЕЧИ, УСВОЕННЫЕ ДЕТЬМИ ПРИ РАБОТЕ «Азбукой», в курсе русского языка закрепляются, обобщаются и получают дальнейшее развитие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70" name="Picture 7" descr="Attachment"/>
          <p:cNvPicPr/>
          <p:nvPr/>
        </p:nvPicPr>
        <p:blipFill>
          <a:blip r:embed="rId1"/>
          <a:stretch/>
        </p:blipFill>
        <p:spPr>
          <a:xfrm>
            <a:off x="4786200" y="3357720"/>
            <a:ext cx="2454480" cy="31924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9" descr="Attachment"/>
          <p:cNvPicPr/>
          <p:nvPr/>
        </p:nvPicPr>
        <p:blipFill>
          <a:blip r:embed="rId2"/>
          <a:stretch/>
        </p:blipFill>
        <p:spPr>
          <a:xfrm>
            <a:off x="6215040" y="2071800"/>
            <a:ext cx="2571840" cy="32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зучение систематического курса русского языка обеспечивает: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0" y="1341360"/>
            <a:ext cx="88884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нательное овладение (на доступном детям уровне) родным языком как средством общения и познания для свободного пользования им в различных ситуациях общения;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коммуникативно-речевых умений (писать и говорить, слушать и читать);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бережного отношения к языку, его богатству, глубине и выразительности;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интереса к родному языку, его изучению;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стиля речевого общения учащихся, основанного на уважении к собеседнику и его мнению;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бщение учащихся к духовно-нравственным ценностям русского языка и отечественной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культуры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-2862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здел «Развитие речи»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-360" y="1214280"/>
            <a:ext cx="892980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сматривает не только обогащение словаря, совершенствование грамматического строя речи (в устной и письменной форме), освоение различных видов работы с текстом, но и формирование представлений о речи в целом, о речевом общении, о средствах общения (вербальных и невербальных).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систематического курса русского языка начинается с обобщения первоначальных сведений о речевом общении и языке как средстве коммуникации, полученных в период обучения грамоте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7138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чебно-методический комплекс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«Математика «Учусь учиться»» автор Л. Г.Петерсон</a:t>
            </a: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77" name="Picture 7" descr="Attachment"/>
          <p:cNvPicPr/>
          <p:nvPr/>
        </p:nvPicPr>
        <p:blipFill>
          <a:blip r:embed="rId1"/>
          <a:stretch/>
        </p:blipFill>
        <p:spPr>
          <a:xfrm>
            <a:off x="6143760" y="1857240"/>
            <a:ext cx="2558880" cy="33530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9" descr="Attachment"/>
          <p:cNvPicPr/>
          <p:nvPr/>
        </p:nvPicPr>
        <p:blipFill>
          <a:blip r:embed="rId2"/>
          <a:stretch/>
        </p:blipFill>
        <p:spPr>
          <a:xfrm>
            <a:off x="428760" y="1714680"/>
            <a:ext cx="2487600" cy="33462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1" descr="Attachment"/>
          <p:cNvPicPr/>
          <p:nvPr/>
        </p:nvPicPr>
        <p:blipFill>
          <a:blip r:embed="rId3"/>
          <a:stretch/>
        </p:blipFill>
        <p:spPr>
          <a:xfrm>
            <a:off x="3357720" y="3143160"/>
            <a:ext cx="236520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сновные цели курса: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28760" y="1714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у учащихся основ умения учиться;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их мышления, качеств личности, интереса к математике;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возможностей для математической подготовки каждого ребёнка на высоком уровне.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сновная цель  УМК «Перспектива»: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99680" y="2071440"/>
            <a:ext cx="8139240" cy="31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стороннее гармоничное развитие личности (духовно-нравственное, познавательное, эстетическое), реализуемое в процессе усвоения школьных предметных дисциплин.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чебно-методический комплекс «Окружающий мир» авторы А. А. Плешаков, М.Ю. Новицкая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84" name="Picture 5" descr="Attachment"/>
          <p:cNvPicPr/>
          <p:nvPr/>
        </p:nvPicPr>
        <p:blipFill>
          <a:blip r:embed="rId1"/>
          <a:stretch/>
        </p:blipFill>
        <p:spPr>
          <a:xfrm>
            <a:off x="1071720" y="1643040"/>
            <a:ext cx="3024000" cy="44910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7" descr="Attachment"/>
          <p:cNvPicPr/>
          <p:nvPr/>
        </p:nvPicPr>
        <p:blipFill>
          <a:blip r:embed="rId2"/>
          <a:stretch/>
        </p:blipFill>
        <p:spPr>
          <a:xfrm>
            <a:off x="5000760" y="1643040"/>
            <a:ext cx="320832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6426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Цели изучения предмета «Окружающий мир» в начальной школе </a:t>
            </a:r>
            <a:br>
              <a:rPr sz="3600"/>
            </a:b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99680" y="1447560"/>
            <a:ext cx="8186760" cy="48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целостной картины мира и осознание места в нём человека на основе единства рационально-научного познания и эмоционально-ценностного осмысления ребёнком личного опыта общения с людьми и природой;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ховно-нравственное развитие и воспитание личности гражданина России в условиях культурного многообразия российского общества.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28584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омплект для начальной школы «ПЕРСПЕКТИВА» 1 – 4 классы: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усский язык, литературное чтение, математика, окружающий мир, технология, музыка</a:t>
            </a:r>
            <a:br>
              <a:rPr sz="2200"/>
            </a:br>
            <a:endParaRPr b="0" lang="en-US" sz="2000" spc="-1" strike="noStrike">
              <a:solidFill>
                <a:srgbClr val="696464"/>
              </a:solidFill>
              <a:latin typeface="Calibri"/>
            </a:endParaRPr>
          </a:p>
        </p:txBody>
      </p:sp>
      <p:grpSp>
        <p:nvGrpSpPr>
          <p:cNvPr id="289" name="Group 5"/>
          <p:cNvGrpSpPr/>
          <p:nvPr/>
        </p:nvGrpSpPr>
        <p:grpSpPr>
          <a:xfrm>
            <a:off x="611280" y="1989000"/>
            <a:ext cx="8086680" cy="4689360"/>
            <a:chOff x="611280" y="1989000"/>
            <a:chExt cx="8086680" cy="4689360"/>
          </a:xfrm>
        </p:grpSpPr>
        <p:grpSp>
          <p:nvGrpSpPr>
            <p:cNvPr id="290" name="Group 6"/>
            <p:cNvGrpSpPr/>
            <p:nvPr/>
          </p:nvGrpSpPr>
          <p:grpSpPr>
            <a:xfrm>
              <a:off x="611280" y="2060640"/>
              <a:ext cx="1071000" cy="1279080"/>
              <a:chOff x="611280" y="2060640"/>
              <a:chExt cx="1071000" cy="1279080"/>
            </a:xfrm>
          </p:grpSpPr>
          <p:pic>
            <p:nvPicPr>
              <p:cNvPr id="291" name="Picture 7" descr="7"/>
              <p:cNvPicPr/>
              <p:nvPr/>
            </p:nvPicPr>
            <p:blipFill>
              <a:blip r:embed="rId1"/>
              <a:stretch/>
            </p:blipFill>
            <p:spPr>
              <a:xfrm>
                <a:off x="752760" y="2060640"/>
                <a:ext cx="929520" cy="11606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292" name="Picture 8" descr="9"/>
              <p:cNvPicPr/>
              <p:nvPr/>
            </p:nvPicPr>
            <p:blipFill>
              <a:blip r:embed="rId2"/>
              <a:stretch/>
            </p:blipFill>
            <p:spPr>
              <a:xfrm>
                <a:off x="611280" y="2190600"/>
                <a:ext cx="918000" cy="11491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pic>
          <p:nvPicPr>
            <p:cNvPr id="293" name="Picture 9" descr="12"/>
            <p:cNvPicPr/>
            <p:nvPr/>
          </p:nvPicPr>
          <p:blipFill>
            <a:blip r:embed="rId3"/>
            <a:stretch/>
          </p:blipFill>
          <p:spPr>
            <a:xfrm>
              <a:off x="1116000" y="3068640"/>
              <a:ext cx="914400" cy="1160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grpSp>
          <p:nvGrpSpPr>
            <p:cNvPr id="294" name="Group 10"/>
            <p:cNvGrpSpPr/>
            <p:nvPr/>
          </p:nvGrpSpPr>
          <p:grpSpPr>
            <a:xfrm>
              <a:off x="4033800" y="1989000"/>
              <a:ext cx="1074600" cy="1288800"/>
              <a:chOff x="4033800" y="1989000"/>
              <a:chExt cx="1074600" cy="1288800"/>
            </a:xfrm>
          </p:grpSpPr>
          <p:pic>
            <p:nvPicPr>
              <p:cNvPr id="295" name="Picture 11" descr="8"/>
              <p:cNvPicPr/>
              <p:nvPr/>
            </p:nvPicPr>
            <p:blipFill>
              <a:blip r:embed="rId4"/>
              <a:stretch/>
            </p:blipFill>
            <p:spPr>
              <a:xfrm>
                <a:off x="4175640" y="1989000"/>
                <a:ext cx="932760" cy="11592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296" name="Picture 12" descr="8"/>
              <p:cNvPicPr/>
              <p:nvPr/>
            </p:nvPicPr>
            <p:blipFill>
              <a:blip r:embed="rId5"/>
              <a:stretch/>
            </p:blipFill>
            <p:spPr>
              <a:xfrm>
                <a:off x="4033800" y="2118960"/>
                <a:ext cx="932760" cy="11588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297" name="Group 13"/>
            <p:cNvGrpSpPr/>
            <p:nvPr/>
          </p:nvGrpSpPr>
          <p:grpSpPr>
            <a:xfrm>
              <a:off x="5940360" y="1989000"/>
              <a:ext cx="1090440" cy="1290240"/>
              <a:chOff x="5940360" y="1989000"/>
              <a:chExt cx="1090440" cy="1290240"/>
            </a:xfrm>
          </p:grpSpPr>
          <p:pic>
            <p:nvPicPr>
              <p:cNvPr id="298" name="Picture 14" descr="okrmir"/>
              <p:cNvPicPr/>
              <p:nvPr/>
            </p:nvPicPr>
            <p:blipFill>
              <a:blip r:embed="rId6"/>
              <a:stretch/>
            </p:blipFill>
            <p:spPr>
              <a:xfrm>
                <a:off x="6107040" y="1989000"/>
                <a:ext cx="923760" cy="112068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299" name="Picture 15" descr="11&amp;14"/>
              <p:cNvPicPr/>
              <p:nvPr/>
            </p:nvPicPr>
            <p:blipFill>
              <a:blip r:embed="rId7"/>
              <a:stretch/>
            </p:blipFill>
            <p:spPr>
              <a:xfrm>
                <a:off x="5940360" y="2118960"/>
                <a:ext cx="917640" cy="116028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pic>
          <p:nvPicPr>
            <p:cNvPr id="300" name="Picture 16" descr="технология_учебник_1класс"/>
            <p:cNvPicPr/>
            <p:nvPr/>
          </p:nvPicPr>
          <p:blipFill>
            <a:blip r:embed="rId8"/>
            <a:stretch/>
          </p:blipFill>
          <p:spPr>
            <a:xfrm>
              <a:off x="7812000" y="4508640"/>
              <a:ext cx="885960" cy="1152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grpSp>
          <p:nvGrpSpPr>
            <p:cNvPr id="301" name="Group 17"/>
            <p:cNvGrpSpPr/>
            <p:nvPr/>
          </p:nvGrpSpPr>
          <p:grpSpPr>
            <a:xfrm>
              <a:off x="1403280" y="4149720"/>
              <a:ext cx="1177920" cy="1519200"/>
              <a:chOff x="1403280" y="4149720"/>
              <a:chExt cx="1177920" cy="1519200"/>
            </a:xfrm>
          </p:grpSpPr>
          <p:pic>
            <p:nvPicPr>
              <p:cNvPr id="302" name="Picture 18" descr=""/>
              <p:cNvPicPr/>
              <p:nvPr/>
            </p:nvPicPr>
            <p:blipFill>
              <a:blip r:embed="rId9"/>
              <a:stretch/>
            </p:blipFill>
            <p:spPr>
              <a:xfrm>
                <a:off x="1403280" y="4149720"/>
                <a:ext cx="935280" cy="121572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  <p:pic>
            <p:nvPicPr>
              <p:cNvPr id="303" name="Picture 1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692360" y="4510080"/>
                <a:ext cx="888840" cy="115884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304" name="Group 20"/>
            <p:cNvGrpSpPr/>
            <p:nvPr/>
          </p:nvGrpSpPr>
          <p:grpSpPr>
            <a:xfrm>
              <a:off x="2268360" y="5157720"/>
              <a:ext cx="1173240" cy="1520640"/>
              <a:chOff x="2268360" y="5157720"/>
              <a:chExt cx="1173240" cy="1520640"/>
            </a:xfrm>
          </p:grpSpPr>
          <p:pic>
            <p:nvPicPr>
              <p:cNvPr id="305" name="Picture 21" descr=""/>
              <p:cNvPicPr/>
              <p:nvPr/>
            </p:nvPicPr>
            <p:blipFill>
              <a:blip r:embed="rId11"/>
              <a:stretch/>
            </p:blipFill>
            <p:spPr>
              <a:xfrm>
                <a:off x="2268360" y="5157720"/>
                <a:ext cx="889200" cy="115884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  <p:pic>
            <p:nvPicPr>
              <p:cNvPr id="306" name="Picture 22" descr=""/>
              <p:cNvPicPr/>
              <p:nvPr/>
            </p:nvPicPr>
            <p:blipFill>
              <a:blip r:embed="rId12"/>
              <a:stretch/>
            </p:blipFill>
            <p:spPr>
              <a:xfrm>
                <a:off x="2552760" y="5518080"/>
                <a:ext cx="888840" cy="116028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307" name="Group 23"/>
            <p:cNvGrpSpPr/>
            <p:nvPr/>
          </p:nvGrpSpPr>
          <p:grpSpPr>
            <a:xfrm>
              <a:off x="2268360" y="2060640"/>
              <a:ext cx="1198440" cy="1512720"/>
              <a:chOff x="2268360" y="2060640"/>
              <a:chExt cx="1198440" cy="1512720"/>
            </a:xfrm>
          </p:grpSpPr>
          <p:pic>
            <p:nvPicPr>
              <p:cNvPr id="308" name="Picture 24" descr=""/>
              <p:cNvPicPr/>
              <p:nvPr/>
            </p:nvPicPr>
            <p:blipFill>
              <a:blip r:embed="rId13"/>
              <a:stretch/>
            </p:blipFill>
            <p:spPr>
              <a:xfrm>
                <a:off x="2268360" y="2060640"/>
                <a:ext cx="888840" cy="115740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  <p:pic>
            <p:nvPicPr>
              <p:cNvPr id="309" name="Picture 25" descr="литературное_чтение_учебник_1часть_1класс"/>
              <p:cNvPicPr/>
              <p:nvPr/>
            </p:nvPicPr>
            <p:blipFill>
              <a:blip r:embed="rId14"/>
              <a:stretch/>
            </p:blipFill>
            <p:spPr>
              <a:xfrm>
                <a:off x="2580840" y="2421000"/>
                <a:ext cx="885960" cy="11523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310" name="Group 26"/>
            <p:cNvGrpSpPr/>
            <p:nvPr/>
          </p:nvGrpSpPr>
          <p:grpSpPr>
            <a:xfrm>
              <a:off x="2916360" y="3429000"/>
              <a:ext cx="1317600" cy="1446120"/>
              <a:chOff x="2916360" y="3429000"/>
              <a:chExt cx="1317600" cy="1446120"/>
            </a:xfrm>
          </p:grpSpPr>
          <p:pic>
            <p:nvPicPr>
              <p:cNvPr id="311" name="Picture 27" descr=""/>
              <p:cNvPicPr/>
              <p:nvPr/>
            </p:nvPicPr>
            <p:blipFill>
              <a:blip r:embed="rId15"/>
              <a:stretch/>
            </p:blipFill>
            <p:spPr>
              <a:xfrm>
                <a:off x="3355920" y="3429000"/>
                <a:ext cx="878040" cy="115884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  <p:pic>
            <p:nvPicPr>
              <p:cNvPr id="312" name="Picture 28" descr=""/>
              <p:cNvPicPr/>
              <p:nvPr/>
            </p:nvPicPr>
            <p:blipFill>
              <a:blip r:embed="rId16"/>
              <a:stretch/>
            </p:blipFill>
            <p:spPr>
              <a:xfrm>
                <a:off x="2916360" y="3716280"/>
                <a:ext cx="877680" cy="115884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313" name="Group 29"/>
            <p:cNvGrpSpPr/>
            <p:nvPr/>
          </p:nvGrpSpPr>
          <p:grpSpPr>
            <a:xfrm>
              <a:off x="4572000" y="3213000"/>
              <a:ext cx="1349280" cy="1576440"/>
              <a:chOff x="4572000" y="3213000"/>
              <a:chExt cx="1349280" cy="1576440"/>
            </a:xfrm>
          </p:grpSpPr>
          <p:pic>
            <p:nvPicPr>
              <p:cNvPr id="314" name="Picture 30" descr=""/>
              <p:cNvPicPr/>
              <p:nvPr/>
            </p:nvPicPr>
            <p:blipFill>
              <a:blip r:embed="rId17"/>
              <a:stretch/>
            </p:blipFill>
            <p:spPr>
              <a:xfrm>
                <a:off x="4572000" y="3213000"/>
                <a:ext cx="917640" cy="121608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  <p:pic>
            <p:nvPicPr>
              <p:cNvPr id="315" name="Picture 31" descr=""/>
              <p:cNvPicPr/>
              <p:nvPr/>
            </p:nvPicPr>
            <p:blipFill>
              <a:blip r:embed="rId18"/>
              <a:stretch/>
            </p:blipFill>
            <p:spPr>
              <a:xfrm>
                <a:off x="5003640" y="3573360"/>
                <a:ext cx="917640" cy="121608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316" name="Group 32"/>
            <p:cNvGrpSpPr/>
            <p:nvPr/>
          </p:nvGrpSpPr>
          <p:grpSpPr>
            <a:xfrm>
              <a:off x="5148360" y="4653000"/>
              <a:ext cx="1285920" cy="1504440"/>
              <a:chOff x="5148360" y="4653000"/>
              <a:chExt cx="1285920" cy="1504440"/>
            </a:xfrm>
          </p:grpSpPr>
          <p:pic>
            <p:nvPicPr>
              <p:cNvPr id="317" name="Picture 33" descr=""/>
              <p:cNvPicPr/>
              <p:nvPr/>
            </p:nvPicPr>
            <p:blipFill>
              <a:blip r:embed="rId19"/>
              <a:stretch/>
            </p:blipFill>
            <p:spPr>
              <a:xfrm>
                <a:off x="5148360" y="4653000"/>
                <a:ext cx="925560" cy="121572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  <p:pic>
            <p:nvPicPr>
              <p:cNvPr id="318" name="Picture 34" descr=""/>
              <p:cNvPicPr/>
              <p:nvPr/>
            </p:nvPicPr>
            <p:blipFill>
              <a:blip r:embed="rId20"/>
              <a:stretch/>
            </p:blipFill>
            <p:spPr>
              <a:xfrm>
                <a:off x="5508720" y="4941720"/>
                <a:ext cx="925560" cy="121572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319" name="Group 35"/>
            <p:cNvGrpSpPr/>
            <p:nvPr/>
          </p:nvGrpSpPr>
          <p:grpSpPr>
            <a:xfrm>
              <a:off x="6732720" y="2658960"/>
              <a:ext cx="1366560" cy="1539720"/>
              <a:chOff x="6732720" y="2658960"/>
              <a:chExt cx="1366560" cy="1539720"/>
            </a:xfrm>
          </p:grpSpPr>
          <p:pic>
            <p:nvPicPr>
              <p:cNvPr id="320" name="Picture 36" descr=""/>
              <p:cNvPicPr/>
              <p:nvPr/>
            </p:nvPicPr>
            <p:blipFill>
              <a:blip r:embed="rId21"/>
              <a:stretch/>
            </p:blipFill>
            <p:spPr>
              <a:xfrm>
                <a:off x="6732720" y="2658960"/>
                <a:ext cx="934920" cy="121752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  <p:pic>
            <p:nvPicPr>
              <p:cNvPr id="321" name="Picture 37" descr=""/>
              <p:cNvPicPr/>
              <p:nvPr/>
            </p:nvPicPr>
            <p:blipFill>
              <a:blip r:embed="rId22"/>
              <a:stretch/>
            </p:blipFill>
            <p:spPr>
              <a:xfrm>
                <a:off x="7164360" y="2981160"/>
                <a:ext cx="934920" cy="121752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</p:grpSp>
        <p:pic>
          <p:nvPicPr>
            <p:cNvPr id="322" name="Picture 38" descr=""/>
            <p:cNvPicPr/>
            <p:nvPr/>
          </p:nvPicPr>
          <p:blipFill>
            <a:blip r:embed="rId23"/>
            <a:stretch/>
          </p:blipFill>
          <p:spPr>
            <a:xfrm>
              <a:off x="7093080" y="5084640"/>
              <a:ext cx="885600" cy="116064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чебники музыка, ИЗО, технология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24" name="Picture 5" descr="Attachment"/>
          <p:cNvPicPr/>
          <p:nvPr/>
        </p:nvPicPr>
        <p:blipFill>
          <a:blip r:embed="rId1"/>
          <a:stretch/>
        </p:blipFill>
        <p:spPr>
          <a:xfrm>
            <a:off x="357120" y="1285920"/>
            <a:ext cx="2075040" cy="30844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7" descr="Attachment"/>
          <p:cNvPicPr/>
          <p:nvPr/>
        </p:nvPicPr>
        <p:blipFill>
          <a:blip r:embed="rId2"/>
          <a:stretch/>
        </p:blipFill>
        <p:spPr>
          <a:xfrm>
            <a:off x="2428920" y="3500280"/>
            <a:ext cx="2143080" cy="301176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9" descr="Attachment"/>
          <p:cNvPicPr/>
          <p:nvPr/>
        </p:nvPicPr>
        <p:blipFill>
          <a:blip r:embed="rId3"/>
          <a:stretch/>
        </p:blipFill>
        <p:spPr>
          <a:xfrm>
            <a:off x="4357800" y="1357200"/>
            <a:ext cx="2214360" cy="29401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1" descr="Attachment"/>
          <p:cNvPicPr/>
          <p:nvPr/>
        </p:nvPicPr>
        <p:blipFill>
          <a:blip r:embed="rId4"/>
          <a:stretch/>
        </p:blipFill>
        <p:spPr>
          <a:xfrm>
            <a:off x="6429240" y="3429000"/>
            <a:ext cx="241164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57120" y="428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чебники УМК «Перспектива» формируют интерес детей к истории: 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24000" y="1916280"/>
            <a:ext cx="8503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ей семьи;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ой и большой Родины;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дициям и обычаям народов России, культурному наследию;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овой деятельности и т.д.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еимущества УМК «Перспектива»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85480" y="1915920"/>
            <a:ext cx="864396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1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ясь по этой программе, ученик на каждом уроке открывает для себя будущие темы обучения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lnSpc>
                <a:spcPct val="11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строится по диалектическому принципу, когда введение новых понятий и идей, первоначально представленных в наглядно-образной форме или в виде проблемной ситуации, предшествует их детальному изучению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857160"/>
            <a:ext cx="8534520" cy="1268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собенности программы 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Обучение грамоте на коммуникативной основе» и учебника «Азбука» Л. Ф. Климановой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0" y="2214360"/>
            <a:ext cx="55008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ики УМК «Перспектива»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ивают интерес  к русскому языку, раскрывают секреты его «оживления», вводят в мир науки о языке, помогают ощутить его, как  стройную и гармоничную систему, приобщают ребят к искусству слова, помогают младшему школьнику  понять и почувствовать эстетическую ценность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ого языка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44" name="Picture 7" descr="Attachment"/>
          <p:cNvPicPr/>
          <p:nvPr/>
        </p:nvPicPr>
        <p:blipFill>
          <a:blip r:embed="rId1"/>
          <a:stretch/>
        </p:blipFill>
        <p:spPr>
          <a:xfrm>
            <a:off x="5929200" y="2071800"/>
            <a:ext cx="292284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24000" y="285480"/>
            <a:ext cx="846288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й УМК отличает новый, нестандартный способ организации речевой творческой деятельности – обучения детей грамоте на коммуникативно-познавательной основе.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и на каждом уроке создается коммуникативно - речевая ситуация, позволяющая вступать в сотрудничество со своими сверстниками и со взрослыми, что позволяет организовать постоянную речевую деятельность учащихся.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ркие занимательные иллюстрации вызывают у первоклассников горячее желание рассказать о своих любимых занятиях, выслушать выступления других ребят.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1680" y="274320"/>
            <a:ext cx="81151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бочая тетрадь 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Рисуй, думай, рассказывай»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68000" y="1357200"/>
            <a:ext cx="46753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назначена для работы в подготовительный период обучения грамоте.  Работая с ней, дети имеют возможность рисовать, раскрашивать, штриховать и т. п., что помогает укрепить мелкую мускулатуру пальцев, развить координацию движений руки при письме и тем самым хорошо подготовиться к написанию букв русского алфавита, слов и предложений</a:t>
            </a:r>
            <a:r>
              <a:rPr b="1" lang="ru-RU" sz="1700" spc="-1" strike="noStrike">
                <a:solidFill>
                  <a:srgbClr val="000000"/>
                </a:solidFill>
                <a:latin typeface="Cambria"/>
              </a:rPr>
              <a:t>.       </a:t>
            </a:r>
            <a:endParaRPr b="0" lang="en-US" sz="17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endParaRPr b="0" lang="en-US" sz="17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48" name="Picture 9" descr="Attachment"/>
          <p:cNvPicPr/>
          <p:nvPr/>
        </p:nvPicPr>
        <p:blipFill>
          <a:blip r:embed="rId1"/>
          <a:stretch/>
        </p:blipFill>
        <p:spPr>
          <a:xfrm>
            <a:off x="5572080" y="1857240"/>
            <a:ext cx="31370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описи «Мой алфавит» 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в 2-х частях)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00040" y="1571760"/>
            <a:ext cx="45007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ют образцы печатной и письменной буквы, простейшие структурно-семантические модели слов, включают упражнения на написание слов, предложений и небольших текстов, формируют начальные орфографические навыки.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51" name="Picture 5" descr="Attachment"/>
          <p:cNvPicPr/>
          <p:nvPr/>
        </p:nvPicPr>
        <p:blipFill>
          <a:blip r:embed="rId1"/>
          <a:stretch/>
        </p:blipFill>
        <p:spPr>
          <a:xfrm>
            <a:off x="5429160" y="1571760"/>
            <a:ext cx="3279960" cy="43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40096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бочая тетрадь «Пиши красиво»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99680" y="1661760"/>
            <a:ext cx="407196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назначена для закрепления каллиграфических навыков, развития мелкой мускулатуры руки, овладения письменным шрифтом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54" name="Picture 5" descr="Attachment"/>
          <p:cNvPicPr/>
          <p:nvPr/>
        </p:nvPicPr>
        <p:blipFill>
          <a:blip r:embed="rId1"/>
          <a:stretch/>
        </p:blipFill>
        <p:spPr>
          <a:xfrm>
            <a:off x="5286240" y="1571760"/>
            <a:ext cx="3354480" cy="43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2T03:00:40Z</dcterms:created>
  <dc:creator>привет</dc:creator>
  <dc:description/>
  <dc:language>en-US</dc:language>
  <cp:lastModifiedBy>user</cp:lastModifiedBy>
  <dcterms:modified xsi:type="dcterms:W3CDTF">2019-04-14T14:35:59Z</dcterms:modified>
  <cp:revision>20</cp:revision>
  <dc:subject/>
  <dc:title>Комплект для начальной школы «ПЕРСПЕКТИВА» 1 – 4 классы: русский язык, литературное чтение, математика, окружающий мир, технология</dc:title>
</cp:coreProperties>
</file>