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9.png" ContentType="image/png"/>
  <Override PartName="/ppt/media/image10.png" ContentType="image/png"/>
  <Override PartName="/ppt/media/image3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B728-6430-4C6B-A5A1-F3D7AE940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B83-53A1-4E57-B88E-0AF799D7B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3871-6A2E-4C88-9B8A-80F4B4ADD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5D66-6998-40FA-BC3A-76BADF5AD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AF5-06B4-4BDF-A760-A210EAC5A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DA4F-3985-4C0B-9C5E-77111642A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6FEC-2ED5-4AE4-8188-1E8201D5C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3ADB-D93B-4739-AAC4-E633281FF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4CF-CD2E-407C-887A-EE81F39E2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F6EE-2CE0-4547-8B8E-369D5345E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D6F1-4AE6-4E0C-97BA-94F3EF98B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60B7-1675-44EC-876A-074771D38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AA1-FF82-4C1B-AF0F-DC2AA1D69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8CF0-B442-4B4C-BC5F-B6F19FC42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4550-5A5E-4B01-88D2-6003F02D8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BE0-86CC-4E2D-9529-0420636F1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ECE8-9C7E-455C-99C8-6878F5AB0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E3A-E958-4E50-B334-4CD7DF7CC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842E-2FB1-4BAD-B277-00E0F4B11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545-4251-4032-A1F6-AD8D0490B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A59-5E39-4FB3-8709-F2809833C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5BD-1E01-4E53-9A0E-D56819481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C08-ABD3-43BE-8A51-50F2C5F97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F2E-CFEC-4E2E-8613-29A8F824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926-5228-431C-AF0C-0522372B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0B6-8C74-4A38-A42E-1AE4198B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C12-56B2-4CC6-98A5-F1DD03F9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DF18-53B4-493E-9F81-50234725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8420-C46C-47B7-9D44-E12AD300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53D1-BA16-4D34-A665-01409C6E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C25-9CE6-4A91-BF67-9A9AEF1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F785-4578-40CA-A1E6-88C3AD5A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4A97-9071-4689-8CC6-C007F4A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228-3FB8-41E1-A003-C9321E7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7D9-A0B4-4A64-BA62-9F21C79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7C99-77DC-4F73-A3CB-693A401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942-24B6-4A1F-923F-5495228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824E-A4A0-4632-9391-96320B8B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E48A-70A7-4689-873B-65D51305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FF96-DC43-45FC-A60C-53D419F2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BDAF-B0E0-46BD-AC89-A1D9408A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03B7-6E03-4B8E-9E3A-582E1E3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1B73-21C3-459E-9D36-DC089408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FF97-40CC-438D-8726-9E759C55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F974-8BEF-4297-975A-CCEBE5A2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18C-719D-4DB5-BE90-38B1B26A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6C08-4E2B-47AA-AF99-8B35B490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56B8-3623-4DFE-A4BD-43B837C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A3A8-ED6C-48E4-9861-E152E41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35F9-9BD1-4417-87A8-4EE736F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18FE-B4A1-4E28-8901-B6588DA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6147-AB72-4802-BA19-E1BDA9A7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7A61-7094-4445-AC3E-4A6F5198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009CF-DD4D-4A32-9E17-09597AC4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E182-4E6B-4A11-8613-D7CEBFF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4838-1012-46D2-B48E-345A1AE2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5A4-280A-42E3-8191-85FC387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5713-BB82-438D-8B5D-68DF1CFA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EEA7-12C4-4F00-AB2F-E5C51EF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A296-44F5-4297-BAA8-92EE4A90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FB5B-968F-4F5A-ACD9-43125220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63D1-FFD4-49BC-AA73-A7313A68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4588-FD8A-420D-97FD-651D0FEB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A485-26B8-473D-8A09-13307CA3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F62B-2AAF-48FC-A5E8-24436D92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84D2-0A1B-48F5-B1F2-C696D453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0C3E-CC5D-4CD9-B2F9-CF288AD3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B81-2097-4355-A34C-2C529C74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E1CC7-889E-4B59-97F4-6111761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3DB4-D58B-4B89-92F2-8E3D823C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3CAE-17B8-4970-8374-C0867B23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2240-4BB6-44F1-8852-2BF780B2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B8F2A-59C8-4D22-8680-A7D191E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26AA-2E5D-4315-B576-B9FF819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44E2-F344-44D1-A379-34D47A6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2B11C-84F3-44D3-A962-E07DA0A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10F7-4517-4596-AE8D-5E5380FE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4B35-0AF5-449E-8B80-9847DA7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F1B-B603-4B6B-8A7E-07E5B1D5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548F-C1F5-4C01-8AE8-B4B73880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6F6-B26A-494C-942C-E42C7FE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3C2-B534-48EF-AA0A-2051915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6AE-3480-40EB-83E9-768BA41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8375-032B-4ABB-B0C4-8E669D446A6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409B-0DA5-4CCB-A293-FC1F5692DE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42F-6525-40CB-9449-4433EAF7EEC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07E9-859F-44C1-A7D4-C813D7AB82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BF3E-825E-4C7E-BA7E-6E1F0DBEFF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3.xml"/><Relationship Id="rId2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alibri"/>
              </a:rPr>
              <a:t>УМК «Перспектива»</a:t>
            </a:r>
            <a:endParaRPr b="0" lang="en-US" sz="65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-19800" bIns="25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e7c5c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1071360"/>
            <a:ext cx="52275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ое пособие «Читалочка» предназначено для отработки навыка чтения, закрепления знаний и общеучебных умений, полученных  учениками при работе по учебнику «Азбука». Система игровых и занимательных упражнений способствует формированию навыка чтения целыми словами, обогащает словарный запас первоклассников и развивает их речь.</a:t>
            </a:r>
            <a:br>
              <a:rPr sz="24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7" name="Picture 8" descr="chitalochka"/>
          <p:cNvPicPr/>
          <p:nvPr/>
        </p:nvPicPr>
        <p:blipFill>
          <a:blip r:embed="rId1"/>
          <a:stretch/>
        </p:blipFill>
        <p:spPr>
          <a:xfrm>
            <a:off x="5429160" y="1500120"/>
            <a:ext cx="3398760" cy="45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Прямоугольник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ое пособие «Читалоч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собенности  программы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Климановой Л.Ф. «Литературное чтение»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для 1 класса УМК«Перспектива»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Picture 11" descr="Attachment"/>
          <p:cNvPicPr/>
          <p:nvPr/>
        </p:nvPicPr>
        <p:blipFill>
          <a:blip r:embed="rId1"/>
          <a:stretch/>
        </p:blipFill>
        <p:spPr>
          <a:xfrm>
            <a:off x="5357880" y="2251080"/>
            <a:ext cx="3143160" cy="4240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Attachment"/>
          <p:cNvPicPr/>
          <p:nvPr/>
        </p:nvPicPr>
        <p:blipFill>
          <a:blip r:embed="rId2"/>
          <a:stretch/>
        </p:blipFill>
        <p:spPr>
          <a:xfrm>
            <a:off x="1000080" y="2286000"/>
            <a:ext cx="3110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курса «Литературное чтение»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107136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начинающего читателя интерес к книге и потребность в систематическом чтении 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00040" y="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9528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Picture 7" descr="16-3-3-1"/>
          <p:cNvPicPr/>
          <p:nvPr/>
        </p:nvPicPr>
        <p:blipFill>
          <a:blip r:embed="rId1"/>
          <a:stretch/>
        </p:blipFill>
        <p:spPr>
          <a:xfrm>
            <a:off x="6500880" y="28584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16-3-3"/>
          <p:cNvPicPr/>
          <p:nvPr/>
        </p:nvPicPr>
        <p:blipFill>
          <a:blip r:embed="rId2"/>
          <a:stretch/>
        </p:blipFill>
        <p:spPr>
          <a:xfrm>
            <a:off x="5072040" y="285768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сти  программы </a:t>
            </a:r>
            <a:br>
              <a:rPr sz="32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имановой Л.Ф. «Русский язык»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1 класса УМК«Перспектива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 учебника «Русский язык» 1 класс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00016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0" name="Picture 7" descr="Attachment"/>
          <p:cNvPicPr/>
          <p:nvPr/>
        </p:nvPicPr>
        <p:blipFill>
          <a:blip r:embed="rId1"/>
          <a:stretch/>
        </p:blipFill>
        <p:spPr>
          <a:xfrm>
            <a:off x="4786200" y="3357720"/>
            <a:ext cx="2454480" cy="3192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ttachment"/>
          <p:cNvPicPr/>
          <p:nvPr/>
        </p:nvPicPr>
        <p:blipFill>
          <a:blip r:embed="rId2"/>
          <a:stretch/>
        </p:blipFill>
        <p:spPr>
          <a:xfrm>
            <a:off x="6215040" y="2071800"/>
            <a:ext cx="25718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ение систематического курса русского языка обеспечивает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341360"/>
            <a:ext cx="8888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о-речевых умений (писать и говорить, слушать и читать)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языку, его богатству, глубине и выразительност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реса к родному языку, его изучению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учащихся к духовно-нравственным ценностям русского языка и отечественной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дел «Развитие речи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214280"/>
            <a:ext cx="8929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о-методический комплекс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«Математика «Учусь учиться»» автор Л. Г.Петерсон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Picture 7" descr="Attachment"/>
          <p:cNvPicPr/>
          <p:nvPr/>
        </p:nvPicPr>
        <p:blipFill>
          <a:blip r:embed="rId1"/>
          <a:stretch/>
        </p:blipFill>
        <p:spPr>
          <a:xfrm>
            <a:off x="6143760" y="1857240"/>
            <a:ext cx="2558880" cy="3353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ttachment"/>
          <p:cNvPicPr/>
          <p:nvPr/>
        </p:nvPicPr>
        <p:blipFill>
          <a:blip r:embed="rId2"/>
          <a:stretch/>
        </p:blipFill>
        <p:spPr>
          <a:xfrm>
            <a:off x="428760" y="1714680"/>
            <a:ext cx="2487600" cy="334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ttachment"/>
          <p:cNvPicPr/>
          <p:nvPr/>
        </p:nvPicPr>
        <p:blipFill>
          <a:blip r:embed="rId3"/>
          <a:stretch/>
        </p:blipFill>
        <p:spPr>
          <a:xfrm>
            <a:off x="3357720" y="3143160"/>
            <a:ext cx="23652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цели курс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76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основ умения учиться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х мышления, качеств личности, интереса к математике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ая цель  УМК «Перспектива»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9680" y="2071440"/>
            <a:ext cx="813924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о-методический комплекс «Окружающий мир» авторы А. А. Плешаков, М.Ю. Новицка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4" name="Picture 5" descr="Attachment"/>
          <p:cNvPicPr/>
          <p:nvPr/>
        </p:nvPicPr>
        <p:blipFill>
          <a:blip r:embed="rId1"/>
          <a:stretch/>
        </p:blipFill>
        <p:spPr>
          <a:xfrm>
            <a:off x="1071720" y="1643040"/>
            <a:ext cx="3024000" cy="4491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Attachment"/>
          <p:cNvPicPr/>
          <p:nvPr/>
        </p:nvPicPr>
        <p:blipFill>
          <a:blip r:embed="rId2"/>
          <a:stretch/>
        </p:blipFill>
        <p:spPr>
          <a:xfrm>
            <a:off x="5000760" y="1643040"/>
            <a:ext cx="32083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изучения предмета «Окружающий мир» в начальной школе 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9680" y="1447560"/>
            <a:ext cx="818676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лект для начальной школы «ПЕРСПЕКТИВА» 1 – 4 классы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сский язык, литературное чтение, математика, окружающий мир, технология, музыка</a:t>
            </a:r>
            <a:br>
              <a:rPr sz="22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290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29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9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293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294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29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9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297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29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9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30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01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30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0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04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30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0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07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30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0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0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31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1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3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31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1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6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31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1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9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32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2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322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ики музыка, ИЗО, технолог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4" name="Picture 5" descr="Attachment"/>
          <p:cNvPicPr/>
          <p:nvPr/>
        </p:nvPicPr>
        <p:blipFill>
          <a:blip r:embed="rId1"/>
          <a:stretch/>
        </p:blipFill>
        <p:spPr>
          <a:xfrm>
            <a:off x="357120" y="1285920"/>
            <a:ext cx="2075040" cy="3084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tachment"/>
          <p:cNvPicPr/>
          <p:nvPr/>
        </p:nvPicPr>
        <p:blipFill>
          <a:blip r:embed="rId2"/>
          <a:stretch/>
        </p:blipFill>
        <p:spPr>
          <a:xfrm>
            <a:off x="2428920" y="3500280"/>
            <a:ext cx="2143080" cy="3011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Attachment"/>
          <p:cNvPicPr/>
          <p:nvPr/>
        </p:nvPicPr>
        <p:blipFill>
          <a:blip r:embed="rId3"/>
          <a:stretch/>
        </p:blipFill>
        <p:spPr>
          <a:xfrm>
            <a:off x="4357800" y="1357200"/>
            <a:ext cx="2214360" cy="2940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Attachment"/>
          <p:cNvPicPr/>
          <p:nvPr/>
        </p:nvPicPr>
        <p:blipFill>
          <a:blip r:embed="rId4"/>
          <a:stretch/>
        </p:blipFill>
        <p:spPr>
          <a:xfrm>
            <a:off x="6429240" y="3429000"/>
            <a:ext cx="2411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ики УМК «Перспектива» формируют интерес детей к истории: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916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емьи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 и большой Родины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м и обычаям народов России, культурному наследию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еятельности и т.д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имущества УМК «Перспектив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85480" y="1915920"/>
            <a:ext cx="86439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сь по этой программе, ученик на каждом уроке 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857160"/>
            <a:ext cx="8534520" cy="1268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сти программы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бучение грамоте на коммуникативной основе» и учебника «Азбука» Л. Ф. Климановой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214360"/>
            <a:ext cx="5500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 УМК «Перспектива»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ют интерес  к русскому языку, раскрывают секреты его «оживления», вводят в мир науки о языке, помогают ощутить его, как  стройную и гармоничную систему, приобщают ребят к искусству слова, помогают младшему школьнику  понять и почувствовать эстетическую цен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Picture 7" descr="Attachment"/>
          <p:cNvPicPr/>
          <p:nvPr/>
        </p:nvPicPr>
        <p:blipFill>
          <a:blip r:embed="rId1"/>
          <a:stretch/>
        </p:blipFill>
        <p:spPr>
          <a:xfrm>
            <a:off x="5929200" y="2071800"/>
            <a:ext cx="2922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285480"/>
            <a:ext cx="8462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на каждом уроке создается коммуникативно - 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чая тетрадь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исуй, думай, рассказывай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357200"/>
            <a:ext cx="4675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работы в подготовительный период обучения грамоте.  Работая с ней, дети имеют возможность рисовать, раскрашивать, штриховать и т. п., что помогает укрепить мелкую мускулатуру пальцев, развить координацию движений руки при письме и тем самым хорошо подготовиться к написанию букв русского алфавита, слов и предложений</a:t>
            </a:r>
            <a:r>
              <a:rPr b="1" lang="ru-RU" sz="1700" spc="-1" strike="noStrike">
                <a:solidFill>
                  <a:srgbClr val="000000"/>
                </a:solidFill>
                <a:latin typeface="Cambria"/>
              </a:rPr>
              <a:t>.       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Picture 9" descr="Attachment"/>
          <p:cNvPicPr/>
          <p:nvPr/>
        </p:nvPicPr>
        <p:blipFill>
          <a:blip r:embed="rId1"/>
          <a:stretch/>
        </p:blipFill>
        <p:spPr>
          <a:xfrm>
            <a:off x="5572080" y="1857240"/>
            <a:ext cx="3137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писи «Мой алфавит»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в 2-х частях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571760"/>
            <a:ext cx="4500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5" descr="Attachment"/>
          <p:cNvPicPr/>
          <p:nvPr/>
        </p:nvPicPr>
        <p:blipFill>
          <a:blip r:embed="rId1"/>
          <a:stretch/>
        </p:blipFill>
        <p:spPr>
          <a:xfrm>
            <a:off x="5429160" y="1571760"/>
            <a:ext cx="32799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чая тетрадь «Пиши красиво»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99680" y="1661760"/>
            <a:ext cx="40719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4" name="Picture 5" descr="Attachment"/>
          <p:cNvPicPr/>
          <p:nvPr/>
        </p:nvPicPr>
        <p:blipFill>
          <a:blip r:embed="rId1"/>
          <a:stretch/>
        </p:blipFill>
        <p:spPr>
          <a:xfrm>
            <a:off x="5286240" y="1571760"/>
            <a:ext cx="33544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user</cp:lastModifiedBy>
  <dcterms:modified xsi:type="dcterms:W3CDTF">2019-04-14T14:35:59Z</dcterms:modified>
  <cp:revision>20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