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6356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математики</a:t>
            </a:r>
            <a:endParaRPr b="0" lang="en-US" sz="88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39" name="Picture 2" descr="C:\Users\Полиночка\AppData\Local\Microsoft\Windows\Temporary Internet Files\Content.IE5\M546O57N\curriculum-icons-mathematics-1[1].png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78920" y="18864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, 39, 56, 20, 3, 30, 3, 64, 64.</a:t>
            </a:r>
            <a:br>
              <a:rPr sz="7200"/>
            </a:br>
            <a:endParaRPr b="0" lang="en-US" sz="7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1" name="Содержимое 2"/>
          <p:cNvSpPr/>
          <p:nvPr/>
        </p:nvSpPr>
        <p:spPr>
          <a:xfrm>
            <a:off x="250920" y="2708280"/>
            <a:ext cx="3025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8 - 26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5 - 17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0 - 11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 - 15</a:t>
            </a:r>
            <a:br>
              <a:rPr sz="6000"/>
            </a:b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Содержимое 2"/>
          <p:cNvSpPr/>
          <p:nvPr/>
        </p:nvSpPr>
        <p:spPr>
          <a:xfrm>
            <a:off x="4211640" y="2852640"/>
            <a:ext cx="4681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8 - 26 = 22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5 - 17 = 18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0 - 11 = 79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 - 15 = 10</a:t>
            </a:r>
            <a:br>
              <a:rPr sz="6000"/>
            </a:b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333360"/>
            <a:ext cx="8642160" cy="194328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читания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ёхзначных чисел 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324000" y="2708280"/>
            <a:ext cx="8640720" cy="280836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ся с алгоритмом вычитания трёхзначных чисел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creenshot_7"/>
          <p:cNvPicPr/>
          <p:nvPr/>
        </p:nvPicPr>
        <p:blipFill>
          <a:blip r:embed="rId1"/>
          <a:stretch/>
        </p:blipFill>
        <p:spPr>
          <a:xfrm>
            <a:off x="324000" y="1700280"/>
            <a:ext cx="8594640" cy="127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creenshot_6"/>
          <p:cNvPicPr/>
          <p:nvPr/>
        </p:nvPicPr>
        <p:blipFill>
          <a:blip r:embed="rId2"/>
          <a:stretch/>
        </p:blipFill>
        <p:spPr>
          <a:xfrm>
            <a:off x="324000" y="189000"/>
            <a:ext cx="84722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280" y="475920"/>
            <a:ext cx="842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72 № 4,7</a:t>
            </a: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удачи в выполнении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☺</a:t>
            </a:r>
            <a:endParaRPr b="0" lang="en-US" sz="6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8T12:44:50Z</dcterms:created>
  <dc:creator>Полиночка</dc:creator>
  <dc:description/>
  <dc:language>en-US</dc:language>
  <cp:lastModifiedBy>Полиночка</cp:lastModifiedBy>
  <dcterms:modified xsi:type="dcterms:W3CDTF">2019-04-08T13:33:47Z</dcterms:modified>
  <cp:revision>5</cp:revision>
  <dc:subject/>
  <dc:title>Урок математики</dc:title>
</cp:coreProperties>
</file>