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AC2-AEB6-44E1-A42D-FA7DCECE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547-2DAE-4826-8645-9AB08DE5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4EB-9E2F-4B4A-8117-AEF633B8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1EE-7D7E-4C5B-9BCB-A9F638D6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524-2A58-4B24-95AE-1AA1FDC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05F-8494-4E16-8A56-F6FB7FDB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A5D-1B72-4535-92BF-BDAACC63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008-30A4-4F80-BD58-6FE2A44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259-A819-4E2E-BB1B-481F798F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46E-6FDC-4541-B92D-D8D8BBFA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9CB-3458-4F8C-8560-328E5855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CD2-237D-4C6F-8592-D7B09C2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461-C9F6-45D9-8FE1-480F17AEE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Propisi"/>
              </a:rPr>
              <a:t>Урок математик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Полиночка\AppData\Local\Microsoft\Windows\Temporary Internet Files\Content.IE5\M546O57N\curriculum-icons-mathematics-1[1].png"/>
          <p:cNvPicPr/>
          <p:nvPr/>
        </p:nvPicPr>
        <p:blipFill>
          <a:blip r:embed="rId1"/>
          <a:stretch/>
        </p:blipFill>
        <p:spPr>
          <a:xfrm>
            <a:off x="2556000" y="2276640"/>
            <a:ext cx="4149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Screenshot_1.jpg"/>
          <p:cNvPicPr/>
          <p:nvPr/>
        </p:nvPicPr>
        <p:blipFill>
          <a:blip r:embed="rId1"/>
          <a:stretch/>
        </p:blipFill>
        <p:spPr>
          <a:xfrm>
            <a:off x="395280" y="404640"/>
            <a:ext cx="8604360" cy="1927440"/>
          </a:xfrm>
          <a:prstGeom prst="rect">
            <a:avLst/>
          </a:prstGeom>
          <a:ln w="0">
            <a:noFill/>
          </a:ln>
        </p:spPr>
      </p:pic>
      <p:cxnSp>
        <p:nvCxnSpPr>
          <p:cNvPr id="44" name="Прямая со стрелкой 5"/>
          <p:cNvCxnSpPr/>
          <p:nvPr/>
        </p:nvCxnSpPr>
        <p:spPr>
          <a:xfrm flipV="1">
            <a:off x="3132000" y="619920"/>
            <a:ext cx="936000" cy="13690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5" name="Прямая со стрелкой 6"/>
          <p:cNvCxnSpPr/>
          <p:nvPr/>
        </p:nvCxnSpPr>
        <p:spPr>
          <a:xfrm>
            <a:off x="3132000" y="691920"/>
            <a:ext cx="936000" cy="64980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6" name="Прямая со стрелкой 9"/>
          <p:cNvCxnSpPr/>
          <p:nvPr/>
        </p:nvCxnSpPr>
        <p:spPr>
          <a:xfrm>
            <a:off x="3132000" y="1341000"/>
            <a:ext cx="936000" cy="6483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7T12:35:39Z</dcterms:created>
  <dc:creator>Полиночка</dc:creator>
  <dc:description/>
  <dc:language>en-US</dc:language>
  <cp:lastModifiedBy>Полиночка</cp:lastModifiedBy>
  <dcterms:modified xsi:type="dcterms:W3CDTF">2019-04-17T14:45:57Z</dcterms:modified>
  <cp:revision>13</cp:revision>
  <dc:subject/>
  <dc:title>Урок математики</dc:title>
</cp:coreProperties>
</file>