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1FD-52A8-4BAE-8129-40764F78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F46-4202-4D0F-92F3-FF72477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0F8-476F-4990-9415-14A55B60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8D7-B4F7-4D1E-8BEA-7E067CDA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255-4132-4568-9FFC-2C037C4B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3B2-71DF-45C3-8D82-DB823CD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20C-3F28-4D21-945C-744E0526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DE1-5AA7-4F35-850E-BDE4038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574-C8D5-4410-9329-199F365D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977-D871-4800-8233-139C347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9C8-F3AB-49BF-A776-62893F2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253-0E4A-4A21-9EE4-155C1003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119-F563-4AD4-9559-9F75A221C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Урок математик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Полиночка\AppData\Local\Microsoft\Windows\Temporary Internet Files\Content.IE5\M546O57N\curriculum-icons-mathematics-1[1].png"/>
          <p:cNvPicPr/>
          <p:nvPr/>
        </p:nvPicPr>
        <p:blipFill>
          <a:blip r:embed="rId1"/>
          <a:stretch/>
        </p:blipFill>
        <p:spPr>
          <a:xfrm>
            <a:off x="2556000" y="2276640"/>
            <a:ext cx="4149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Screenshot_1.jpg"/>
          <p:cNvPicPr/>
          <p:nvPr/>
        </p:nvPicPr>
        <p:blipFill>
          <a:blip r:embed="rId1"/>
          <a:stretch/>
        </p:blipFill>
        <p:spPr>
          <a:xfrm>
            <a:off x="395280" y="404640"/>
            <a:ext cx="8604360" cy="1927440"/>
          </a:xfrm>
          <a:prstGeom prst="rect">
            <a:avLst/>
          </a:prstGeom>
          <a:ln w="0">
            <a:noFill/>
          </a:ln>
        </p:spPr>
      </p:pic>
      <p:cxnSp>
        <p:nvCxnSpPr>
          <p:cNvPr id="44" name="Прямая со стрелкой 5"/>
          <p:cNvCxnSpPr/>
          <p:nvPr/>
        </p:nvCxnSpPr>
        <p:spPr>
          <a:xfrm flipV="1">
            <a:off x="3132000" y="619920"/>
            <a:ext cx="936000" cy="13690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5" name="Прямая со стрелкой 6"/>
          <p:cNvCxnSpPr/>
          <p:nvPr/>
        </p:nvCxnSpPr>
        <p:spPr>
          <a:xfrm>
            <a:off x="3132000" y="691920"/>
            <a:ext cx="936000" cy="64980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6" name="Прямая со стрелкой 9"/>
          <p:cNvCxnSpPr/>
          <p:nvPr/>
        </p:nvCxnSpPr>
        <p:spPr>
          <a:xfrm>
            <a:off x="3132000" y="1341000"/>
            <a:ext cx="936000" cy="6483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7T12:35:39Z</dcterms:created>
  <dc:creator>Полиночка</dc:creator>
  <dc:description/>
  <dc:language>en-US</dc:language>
  <cp:lastModifiedBy>Полиночка</cp:lastModifiedBy>
  <dcterms:modified xsi:type="dcterms:W3CDTF">2019-04-17T14:45:57Z</dcterms:modified>
  <cp:revision>13</cp:revision>
  <dc:subject/>
  <dc:title>Урок математики</dc:title>
</cp:coreProperties>
</file>