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D0D-A732-4164-82F6-AD38F7E8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BB6-1108-4B6D-A4D4-E089BDA8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BD771-DC8E-457E-8EC0-E33441D3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2B59F-687B-48B8-940D-858F1770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05C8B-F08A-4948-8B74-1D57F1BD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E60BE-7B69-442E-9258-A0E3543D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6079E-37B0-43F7-BCB9-B0103A98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1A7C2-14B5-4BE5-A2F9-00B3F19F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23346-4760-48B5-A26C-88FCC94F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04422-AAAE-4A93-86E1-CA40C2A0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04DBE-109B-4F16-A58D-D61C8FD2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5802E-17BC-4B70-87E2-006DA5D3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0A3-76AD-41FE-818F-44679F20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47760-4E9B-4F6F-B612-C850564C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23FBA-1658-4360-97DF-22CA66A9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03DF8-8F84-472E-995E-532AF257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4A084-E859-4EB9-B539-64432C85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AE185-FCA1-4D73-8D9E-542952D9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38654-04FD-44AB-9BFA-8A197A70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F582B-F5A8-41DA-8F34-4EEB500C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6C03C-7C9D-4828-9787-E371DA0F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4F596-6387-427A-B86A-BBE579EC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82160-BDBE-4FFD-9AF9-BDD33982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610-BB51-4037-B13E-5D8DFF51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F22F8-6BF6-4276-A354-639903E3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14A78-DBD7-4B8E-A12B-434D3D69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5D9EC-6C30-434A-B939-B1387C62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E852A-6466-46C4-918E-B8B16F6D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1BA91-FC37-448A-B481-9D0EDF22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2B0CD-A932-4463-A2A1-8C253660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BAB6E-8A8D-4FDD-99CD-D5EC1F63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42E9F-1241-4337-B273-3AF173C7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FA0C8-9417-40EE-B8AD-9BD6CE31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B916C-AB51-4472-8D85-0ECC53A9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BEA7-CBBF-4B53-A420-4ED27765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25B8C-1E7E-475A-AE7E-26D14350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B9C6A-303E-49BD-92B2-F8457C6D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15F8B-9243-4773-8BA9-90C81271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C5554-1BB1-43F6-9E08-50ABFE5F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7F63E-0AF2-4319-9D0B-61485B14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F2346-DD24-425A-B675-1068175C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03A2B-C8AD-4DB2-9E19-42F076D5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BB7F3-CD96-4DE3-B798-0293E0A9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10CD7-A057-490C-B7CA-586C38E5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FBEDB-73F1-48D1-A297-DEF7032E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4959-ADEB-4818-9D09-0ABFB882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7E668-49E4-4F7F-8A0C-29B68928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CA17E-F89D-4C4B-BFAA-470103E3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0F06F-B3E5-45B0-941C-96636656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069D4-4589-4A9C-BCEA-BCAB30A7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9FA38-8C87-472C-94F0-2AA6BA2F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657E3-CF89-441E-BED2-D793D9A1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3B0B6-BA97-4C9C-8E3A-73309CB0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DA102-AD11-4C74-B4B3-BFBFE7E3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1C41BF-78A0-4D1D-AE74-16D9AC4B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BB10C-2FA7-4087-866F-42A7D2C4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1BA6-25E4-4734-A8D5-3505E788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A45E1-0F77-4B26-BAD9-B9388831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3A5D3-7C03-4536-AAAD-57550B5B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F47F9-0BB1-49F8-987A-255B47B1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F630C-10DF-4195-9A63-5F322F09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0C155-589D-4ACA-B00A-634DEC47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EF098-68D2-4B21-BEAE-0C856166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6D303-CD9C-4ABD-9DBA-B35DD735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EEB95-425D-4A59-81AD-CD3ED9A3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F055BB-76ED-4516-BADB-9C221DCB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90DC7-79DD-40F5-9C12-09676E6C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5D0A-229D-4404-82D2-A9DCFD55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185957-008B-4B1F-AD32-4B47E00C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7249C-EE21-44A1-B125-7B39A64C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9FD8E-DFDC-49A7-A21E-05009519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76403-D35B-4F74-AB93-D925FCCC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386CB3-E3F9-47EE-8AFC-9F87998F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2EC5A-9FB5-4421-B371-70C78BF5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E479C-611E-45D1-93A8-87485C0D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DFB6C-7DCE-4D03-A1A9-E87225FD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32839-B4D1-4902-BCCE-FC824AC7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AFF1E-D7D7-4E02-83BF-078C08B3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27D8-4553-4BA9-818B-83141EDC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4ED378-E0DC-415B-8001-EAA37530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B1863B-1DB9-4513-8A67-9CBAFB73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5F0F19-7369-4E48-98A8-D002AB87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93BB2F-7B8A-4788-9ED3-A2A2184C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59970-8F46-45DB-9DDB-FD2B8548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300D8-2A05-4C9B-9EB7-DF5EA852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0E4D1C-3530-430B-9522-03B163CD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58FE6-C13A-48EF-8BC0-855B5A18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8C666C-B77A-4EDA-AFFA-3E29318E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9800A-6C79-4C6E-9111-913D9AF9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FD53-06E6-417E-90E1-F66332D5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C84DA-5D39-45D2-80C8-25E68FAF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6FA70C-18CE-430D-9B7B-04B08D09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52402A-D354-4703-89C3-D39AC17D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6BC2C8-671D-4FCE-885D-92BAB6FC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C25DFA-50FF-4A4A-807B-98E15A02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395923-36F6-463C-85E4-CC44B0A8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AD0B4B-E5CD-48CD-A560-18E52DC0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E8B57-83EF-41F8-8A13-F3BFDC93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B2FFA3-2485-42F3-A963-1EC48329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E0760C-785C-480C-90E6-639AE23E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9415-4A87-4BFC-A38B-52677855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EE802-E3E0-4B8C-AB5F-8F8F16FB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725BD-0A53-44C8-9054-B8790F38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5DD6DD-0578-4165-8B9E-B14C6E53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D77A03-8158-4061-89EE-46FC7071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6A27C5-1424-40C4-A96F-53AF3E06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481681-3D74-4DA7-9770-FF0BD5CB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E2DE63-7034-4F8C-9D52-3CD0D823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3B55F-66DA-4F26-BDB7-8986D86B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5C3B8A-7F17-4973-BC6F-C3C0654A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8EBA99-9643-4CD5-9BA0-CACD86E9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152-4AF7-4E5D-8762-ED4B217E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86CB-5DDD-481B-A0B7-7B91F65E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24F537-2CF5-4CAD-87D2-3D575115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7C2DFA-6F11-4860-9CB8-F183DE32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C37BE7-942F-4348-8E51-DEC70EF8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EDCA7-C69A-44CE-AA3D-1D7E3F66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1A9AB6-7106-45EC-9A6C-DE65E111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B506-859B-400A-A89C-5FC3972F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C3BA-513F-41B9-8D82-CAF87DF5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3558-7D33-431F-B372-F35D63B8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1BDB-B678-45CE-BB98-FA6BFE19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5279-0144-4DA7-A435-C439E6BE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93C13-0C66-4B4B-942F-B5A5C637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6544D-E597-44D0-A2FF-DECC63C2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904F1-29CD-4B64-8FB8-27B4C82F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8458-574A-482B-A778-6BFF1547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A6E-1DE9-4FB0-A23A-7DF93457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AD785-4DF6-40D2-A484-F0D48314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F1CE-9A92-4CA1-B260-49157797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9A7F3-8C9F-4417-BF22-0CE15451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9812-1445-478D-9B83-08520081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18AB9-E401-45D7-9F49-0A6342FD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29A3-3323-4D52-944D-29F6C72B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0D28A-7D5C-4553-85B3-B4D305F3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38905-F681-4DAD-A3D7-01B6A611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169AB-8C68-4432-AA5F-A0416784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ABBF6-93EF-452C-B2A4-A21F5A10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C5B-F20A-42AE-863D-EFE64F84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A361D-30BF-4F46-96D8-C42E6E9F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B1384-2AF2-438E-8027-F66E7E8C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00D50-BE64-41B6-A8A5-7602565D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93131-3550-48C8-9C82-4E255FE7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107DD-E252-48E3-9734-B328E079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582CE-10F5-4E90-8779-57145AC1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8A437-CC85-4FAA-BDB5-51D3F60A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0AAD5-8ECF-4E6B-9F77-F79F0225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F2BF9-7AC3-471D-A37A-16918092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3278B-A03F-485A-B1E2-2A985ACC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3EC-FD21-4E6D-98B5-09E60557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BB966-C34D-4F9C-B3CB-90D70EEA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A4CDA-1DA2-48B9-B71D-39397489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3AE6A-DB47-4977-9C91-C5026D90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E7432-4CC1-4230-8218-2491FF0A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AD745-1D9D-402E-94EF-546CC400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526DC-F836-4213-8242-94D8E1B1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22014-CAE3-4EBF-B23C-828D7469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18641-AB69-4842-B814-7138D4C0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F2FA5-5583-4EBD-B3E3-8693D4B4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779BA-CF65-4FF3-B6C0-E863C4AF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550-5097-49CD-ADCF-39C668EB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C9EFA-E4FB-4670-92A0-E86B227C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0C214-926B-4120-8138-F80063AE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78544-D36D-4075-8E1C-AA7774EE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06C79-613F-45B1-91C6-39E44FDE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F5BF5-25A0-48D3-B713-AABE1E37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F55B1-722C-416F-B093-0052F3B6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BD459-BF58-4C7F-A131-15B904B9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8D467-7839-4DCF-93D3-7917389E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C7B00-BA9B-4682-B412-58732245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C253B-9702-4991-A311-CD2841BD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3B0-11FF-45FF-B54A-8AA2CA65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CC89E-5C0A-4FB8-B523-1522867B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27C41-354B-4EDB-9C1F-16F9BDFC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17F7A-096D-450B-8678-90B27EB2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16CBD-496F-4C2F-88AC-C1BD14C2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AC4AE-A092-4B67-8308-039D2393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76152-DB53-4A0D-AD89-EF1D5802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1A968-8C26-4F24-B65F-77704DBF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60E90-59C3-4E6B-A1D4-A1296D9D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565CB-A1FE-4807-8BB1-D3C1CCA4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BBC89-8703-4082-8259-FDAAFE3C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EDB-756F-4EB7-AF05-D737F811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40518-F4C7-4321-B79F-46743F58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39867-4662-4C43-A5F2-B17DB9F1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572B2-0E3D-401A-BBC5-2C531AE3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0C73A-1EBE-4655-99D6-FDF59764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EABF2-08EF-4A5A-9E9C-48E8EBA1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C7E93-EA32-4198-84F1-27206462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2A96F-AADD-4D9E-8800-3C949C17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1FC2C-D614-4179-B80B-672948C0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3ADCB-A9C8-4D9D-A781-A13FB291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B3B96-4C53-4B52-A9C3-78F56A08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F1C-F02A-4C78-AA5E-27874159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ADF5A-2EA6-478F-AB3D-116462B6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B25BC-A3B3-4D9A-85F4-E81E6E4A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D79D7-8570-4C7F-AB94-BEC6CC75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CFC5A-97A4-41C8-B9DF-332AB1E0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0D74E-1DF2-4FEE-B75F-C24EA052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77869-BD3C-4C6A-B297-CC25252F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B4730-B152-4162-AE44-03255BB2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FA6AE-E401-4F3D-A635-B29ACDDE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79130-4E2C-4753-B5BE-ED92AFE7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E9387-783F-49A3-9836-22EF419F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278B-3E9C-4925-AD23-EAF826C048B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188B-1464-4AC1-903F-2B1A06BFBAD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A107-9C4F-47EA-A9F7-C061935DE05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7EEF-7E44-4C9D-A7F0-FE361123353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F7FE-8B36-42F8-9315-C45D65E8A28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96DA-4891-4F8E-8238-CC2F7BAE4AC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4840-59CD-407B-94DF-B61DD22B2F3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79BC-DFA1-4C8A-B023-7691B10A305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27AE-7F23-4BC9-805C-F13046A90BD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4499-C529-4A86-9BDA-1C9532F4CE9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D761-5DE4-4517-8ABA-B40FC28A23D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8CEF-F53D-4883-9A26-D0AF96296B7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E6DC-CE69-4E98-A877-2C64C7A6023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54B1-0432-46C9-B313-3008B9DFB7C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9576-B236-40C8-928F-4673B42DBE3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EE3E-9A46-4186-935B-04CC8A6619D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4B33-2D85-494C-80EE-42783F96B09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CustomShape 1"/>
          <p:cNvSpPr/>
          <p:nvPr/>
        </p:nvSpPr>
        <p:spPr>
          <a:xfrm>
            <a:off x="684360" y="907920"/>
            <a:ext cx="78483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юмова Диан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удентка 39 групп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ма курсовой работы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развития скоростно-силовых способностей в легкой атлетике детей 9-11 ле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ководитель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упина Н. В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Прямоугольник 1"/>
          <p:cNvSpPr/>
          <p:nvPr/>
        </p:nvSpPr>
        <p:spPr>
          <a:xfrm>
            <a:off x="1042920" y="105264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ГЛА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. ОСОБЕННОСТИ МЕТОДИКИ РАЗВИТИЯ СКОРОСТНО-СИЛОВЫХ СПОСОБНОСТЕЙ У ДЕТЕЙ 9-11 ЛЕ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1. Возрастные особенности развития скоростно-силовых способностей у детей 9-11 ле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2. Методика развития взрывной сил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3.Контрольные тесты для определения скоростно-   силовых способносте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Прямоугольник 1"/>
          <p:cNvSpPr/>
          <p:nvPr/>
        </p:nvSpPr>
        <p:spPr>
          <a:xfrm>
            <a:off x="324000" y="1052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9" name="Прямоугольник 1"/>
          <p:cNvSpPr/>
          <p:nvPr/>
        </p:nvSpPr>
        <p:spPr>
          <a:xfrm>
            <a:off x="755640" y="148428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зрывная сила мыш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представляет собой способность мышц выдавать максимальную силу за короткий промежуток време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Прямоугольник 1"/>
          <p:cNvSpPr/>
          <p:nvPr/>
        </p:nvSpPr>
        <p:spPr>
          <a:xfrm>
            <a:off x="971640" y="765000"/>
            <a:ext cx="7848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методические особенност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коснительное выполнение требований техники безопасности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яженность с определенным техническим элементом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редоточенность на максимально быстром переходе от амортизации к собственно преодолевающей работе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ый активный и пассивный отдых между упражнениями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одбор оптимальных дозировок физических упражнений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ый переход к более сложным упражнения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Прямоугольник 1"/>
          <p:cNvSpPr/>
          <p:nvPr/>
        </p:nvSpPr>
        <p:spPr>
          <a:xfrm>
            <a:off x="826920" y="1052640"/>
            <a:ext cx="806616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систематически с  помощью  специальных  упражнений  развивать скоростно-силовые   качества   с   акцентом   на   увеличение   объема  упражнений  взрывного  характера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CustomShape 1"/>
          <p:cNvSpPr/>
          <p:nvPr/>
        </p:nvSpPr>
        <p:spPr>
          <a:xfrm>
            <a:off x="684360" y="1341360"/>
            <a:ext cx="828036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ипломной работ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ланируем продолжить изучение данной темы и…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CustomShape 1"/>
          <p:cNvSpPr/>
          <p:nvPr/>
        </p:nvSpPr>
        <p:spPr>
          <a:xfrm>
            <a:off x="1793880" y="4371840"/>
            <a:ext cx="65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4" name="CustomShape 2"/>
          <p:cNvSpPr/>
          <p:nvPr/>
        </p:nvSpPr>
        <p:spPr>
          <a:xfrm>
            <a:off x="324000" y="2492280"/>
            <a:ext cx="822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пасибо за внимание! 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CustomShape 1"/>
          <p:cNvSpPr/>
          <p:nvPr/>
        </p:nvSpPr>
        <p:spPr>
          <a:xfrm>
            <a:off x="900000" y="765000"/>
            <a:ext cx="7848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Актуальность проблемы исследования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нению многих специалистов, значительное место в процессе физического воспитания подрастающего поколения должно быть отведено воспитанию скоростно-силовых способносте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ных данных показывает, что весьма актуальным вопросом является разработка и экспериментальное обоснование эффективных средств и методов развития скоростно-силовых качеств у представителей различных видов спор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CustomShape 1"/>
          <p:cNvSpPr/>
          <p:nvPr/>
        </p:nvSpPr>
        <p:spPr>
          <a:xfrm>
            <a:off x="611280" y="33336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Тема исследования: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тодика развития скоростно-силовых способностей в легкой атлетике детей 9-11 лет»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CustomShape 1"/>
          <p:cNvSpPr/>
          <p:nvPr/>
        </p:nvSpPr>
        <p:spPr>
          <a:xfrm>
            <a:off x="1332000" y="189000"/>
            <a:ext cx="7632720" cy="77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исследования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 проанализировать основные методики  развития скоростно-силовых способностей в легкой атлетике  детей 9-11 ле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исследования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научно-методическую литературу по теме «скоростно-силовые способности»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особенности развития скоростно-силовых особенностей у детей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11 лет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методы, средства развития скоростно-силовых способностей у детей 9-11 лет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результаты теоретического исследования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CustomShape 1"/>
          <p:cNvSpPr/>
          <p:nvPr/>
        </p:nvSpPr>
        <p:spPr>
          <a:xfrm>
            <a:off x="1763640" y="620640"/>
            <a:ext cx="828036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ы  исследования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иск тематической литературы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нализ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общение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истематизация материала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Прямоугольник 1"/>
          <p:cNvSpPr/>
          <p:nvPr/>
        </p:nvSpPr>
        <p:spPr>
          <a:xfrm>
            <a:off x="1476360" y="620640"/>
            <a:ext cx="72723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I. ОБЩАЯ ХАРАКТЕРИСТИКА И ВОЗРАСТНЫЕ ОСОБЕННОСТИ РАЗВИТИЯ СКОРОСТНО-СИЛОВЫХ СПОСОБНОСТЕ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Общая характеристика скоростно-силовых способно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Анатомо-физиологические особенности развития у детей 9-11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Особенности тренировки на этапе начальной специализаци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Прямоугольник 1"/>
          <p:cNvSpPr/>
          <p:nvPr/>
        </p:nvSpPr>
        <p:spPr>
          <a:xfrm>
            <a:off x="971640" y="765000"/>
            <a:ext cx="763272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едварительной подготовки юных спринтеров (9-11 лет)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здоровья и всестороннее физическое развитие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основам техники выполнения широкого комплекса общеразвивающих упражнений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устойчивого интереса к регулярным занятиям спортом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CustomShape 1"/>
          <p:cNvSpPr/>
          <p:nvPr/>
        </p:nvSpPr>
        <p:spPr>
          <a:xfrm>
            <a:off x="431640" y="115920"/>
            <a:ext cx="853128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понятия исследования: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4" name="Прямоугольник 1"/>
          <p:cNvSpPr/>
          <p:nvPr/>
        </p:nvSpPr>
        <p:spPr>
          <a:xfrm>
            <a:off x="1042920" y="1268280"/>
            <a:ext cx="7777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5" name="Прямоугольник 1"/>
          <p:cNvSpPr/>
          <p:nvPr/>
        </p:nvSpPr>
        <p:spPr>
          <a:xfrm>
            <a:off x="684360" y="1535040"/>
            <a:ext cx="8135640" cy="31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ла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способность человека преодолевать внешнее сопротивление или противостоять ему за счет мышечных усилий (напряжений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строт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пособность человека совершать двигательные действия в минимальный для данных условий отрезок времен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Прямоугольник 1"/>
          <p:cNvSpPr/>
          <p:nvPr/>
        </p:nvSpPr>
        <p:spPr>
          <a:xfrm>
            <a:off x="1116000" y="1484280"/>
            <a:ext cx="739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но-силовые способ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это способность человека к проявлению предельно возможных усилий в кратчайший промежуток времени при сохранении оптимальной амплитуды движений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7-12-22T09:29:45Z</dcterms:modified>
  <cp:revision>26</cp:revision>
  <dc:subject/>
  <dc:title>Презентация PowerPoint</dc:title>
</cp:coreProperties>
</file>