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4C5-EFB9-4144-B25D-1A173191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E06E-E9A8-4407-A597-50E324D8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CED4B-9F81-4C9C-908C-CFC6F811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82443-6865-4F13-BAE5-821091A0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ECD0A-07F5-4A58-83F1-C21EF334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31DDC-EB0E-462C-9BA6-528EC933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C5A32-D918-48E7-93A5-7015EBE3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32973-0E6C-4D94-BA1A-BB815D8E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082EA-9969-427C-A74B-4B77AB50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F4838-FC7B-4EDE-96E4-E0C0DF0B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83DCF-9C80-4FFA-A102-28CA841B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0B2E2-E552-4C26-8203-4DDEEA9C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A424-4714-4DE6-92AB-C2BEBFB0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E5099-C6A4-4C50-BA1C-37D0599C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49F0F-8560-4C3B-91B4-25C386B7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12423-7D00-415B-A90D-7A468B0D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BB09E-8A92-4E65-992B-5401C6CD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2EC10-4E4B-4C39-8CE8-E84EFB12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BE5A6-F3AE-487C-A695-1A96DCB7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04BC1-7612-4EB4-BADB-6FA71F9F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7A284-B2D1-4A77-8481-3728526F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593DA-BE1C-4F26-92F0-32932AA3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ECD37-D978-4FFB-BA68-F71F25F2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883-4B08-4D9D-880E-2EB04C3A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CA14E-5B62-4985-A6BB-2FB4D144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7A002-BDC0-4208-83B6-5331032D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CB918-2777-40B7-99AC-2528E5E8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FBEDA-32B6-4684-A5F0-FB47F5EB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59F76-83F9-4C4D-8F22-558176AC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6F166-E021-40F1-AC75-DA4B910B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91EC6-9EB5-47FF-98BB-8D910F09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34094-CE62-4324-B80B-064CE04B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2EFDF-8183-4AE2-8C49-710E0D84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11C21-7D69-40D6-BFC3-1C1FDC49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DC2D-0EAD-4FF8-AFE2-5EA94FD7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DBE64-7BAD-4AE1-9A7C-9DE8DD07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98EC0-FA55-4E7F-965A-9F2EB068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5A40D-FD14-438F-9C22-2F01A3A9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13935-D07A-4E6B-9E11-CA0C8468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DAEEAC-AE60-49F6-9794-FA4AEFAC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CB15B-081E-4551-B97E-8B929FEF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BE0B2-039F-4F7B-9301-AAD4B141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0F12C-AB71-4632-B949-31FD9973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0F655-7474-4868-86E3-0BEB584B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785EC-4629-4368-8002-A7D322E0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4AA2-62BA-4C1B-A172-A5B7576A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406E0-FBFC-406A-884A-E46F7D29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04933-AE6D-402D-A20E-94374AC7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ADC82-42E7-4647-9984-65C08F58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707AA-F1DC-4266-B212-552C6B96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F8C5F-55F3-4565-9CCA-68854A97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51A0F-A6F5-4992-8E7D-B4E0F949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D46040-BD94-4D01-B1CD-68048022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5F1D2-9DD4-4342-B322-4680DAC1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78A54-FA40-4738-8BD1-F7034A87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FDBE6-3E35-4DE8-B61C-4707150B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66F7-31CA-4283-BD98-9D9E81A9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D9ACC2-AA10-4AE2-B87D-27EBD60C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703CF-C676-42DE-87B8-BF1606CB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40871-2B91-4F04-9532-58A04892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8D67E-56AB-411D-AB67-6D9F782F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25B65-99DF-42B4-97C7-3BAD9FBC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B4ECA-0DE6-43E4-99FA-555A4823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36A53C-6A87-49FB-A1B1-98C2D3B5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62B980-701B-40A0-B562-88FD034E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9A935-A2A4-40D8-9CEA-93744181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4B01D2-C84E-4625-B4E3-4A50F033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5314-1B87-455A-A207-14298997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93769-55D7-49D7-B102-E66BDB90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BA6FE2-9DB1-4A83-A50E-176B0455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C16C64-0E3D-452C-920E-D96EC696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B9508B-6F61-4310-9404-E12B1C92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07490-AFDB-4CB2-BCD8-9FB6AC0D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F729FA-6DEC-47DC-913B-F1ED913C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55D17-3D68-4970-95AC-5A78535D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3CE661-71B6-4D4D-A888-A1678868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A2431-5E41-4AD9-B9FC-10ED99F8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93CA9A-2CCB-453B-8C15-9646205F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8016-9B98-48AA-816F-44D023BE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7B6525-B903-44E3-9A31-258D80DB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E0902E-2D6B-4A79-AB13-5FD3BA67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8FE55F-6224-4B5A-A53E-D442EC68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A25A8-8051-465E-B8DB-08B837AA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FDB138-CCCF-42B0-A664-3A36B846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5108E6-F8F8-42D7-9629-16AE3823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EF7EBF-8B1F-4D18-BF9F-31BCA6CF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CDAD2A-48B4-439B-BABB-FEC431CE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403E86-2DD9-44BC-B262-5E142446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B575BE-A914-477A-B91C-D56B50CA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7F4D-72A3-4078-A46F-1F9D78B2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FBAB5C-F57F-404B-A686-47731852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A4B966-4EBD-4804-8128-81FD99A8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5C6EFB-867B-4C0C-A4A3-0949AC3A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D94E24-5B5F-469B-A576-67070BA8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A9D362-BA72-46DB-AA44-EB6D04FD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091459-F21A-4DA2-AD54-243E623E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B9F024-3859-4CFB-94D6-FCA350E9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FE1A1A-0187-485E-9B55-0D68E789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371035-69C0-47E8-A689-8A88E0AF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E2D893-B289-4A33-9D67-693A608B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6E7D-2A43-4DF4-B93B-D262D3D8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210A45-290E-495F-827A-FB4D2419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EEE1C5-FCCF-4FEE-9E9B-EFA77AB8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5C73AE-168A-4A41-96A8-AB449FEB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B7B3DB-2A47-4147-B9A4-5E84D4F7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E1BFBA-A856-47EE-9242-AE6498B6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5E4AA5-B38D-4CB0-B0ED-C10C32F6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F49A0D-E765-427D-8CA5-9D49FD18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BF9E41-AF8C-4CCF-A09B-61A11E4C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0AB94D-4EC6-4D17-8153-0D903210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89EC0E-48EF-44EE-BD4C-FF4696DC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909-88A3-4323-A782-D96FA192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1AC6-0135-47FA-B131-A419422F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A398CD-984C-4A9B-BC7E-E9DD421C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F1BD58-E8A2-4EBC-9619-76AE43E3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4CC1ED-B60D-4EB9-9A2A-8182205B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ADC99D-AC09-4826-BDC7-802CAD31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F25F8B-8BB1-4565-B2C2-9B83072D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3C71-47D5-419A-BD52-A5169ABD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9749-545B-4107-91CB-4EE14495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24C2-1408-4613-99A6-83393847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6D8E-77AF-46C0-B6C9-A210D3B2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F431B-9DA9-4C68-ACDD-5DF992AF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1F97B-F8D6-4695-9BEC-F4859FED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64CBA-D345-4D1C-AAFA-E81C0B8C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82DC3-6B9B-4D60-B0D5-4622162B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BAE23-DADA-4F7D-942D-C1EFABA7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6FF-A99B-45E7-9E67-A91F6AAE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41A48-7D71-4A49-A0C8-F1B31AB9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45C4D-9B68-43A8-ACE0-776B5F7D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B796C-7FA0-48F2-BFFF-28189A87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47A1A-7C9B-43AC-B32F-CF2D014F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6FDDB-59FC-480D-BBA9-463779B1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C3BBC-2FDB-4DC2-B133-66118668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0D5CB-D1E0-4253-A128-636DEBF3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7CB44-C646-4D58-A699-366EA36C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B39AA-CE51-4F76-96B6-911C7E78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60827-D8F6-48BB-AA01-50411C9F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4AB-ABF9-4169-922A-6F0CD6E7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854CF-9469-4B0C-9265-72B8FE31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538D2-8D64-49E9-B79C-FB420D13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76D13-C064-44C2-9CCD-8E60CD32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F629E-58CB-4593-AAD5-C7CDFBDD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41EFE-EF5E-4F91-9C6F-742E67F9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1454C-8A1F-4B9C-82C0-84048427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F5F36-4D47-4FA1-88EF-C907125F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72DB1-33FE-439A-B4D8-FDD61660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F8B52-6FB0-4451-9023-61910426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25A38-1A79-403D-A507-83DA59A4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F822-1D6D-498A-A217-EC5C6A31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5CA43-5351-4A96-93C5-42AA9AA7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8769C-1754-48A0-8381-1B07698E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68BA4-C033-4B3E-AED4-8C02F2C5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2E45C-EB38-4D59-9E92-5D5D8CC0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CBA4E-6902-4BA8-ABE9-AEFEEAD0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87551-7337-4846-8076-8B492ACB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36FCC-3AC7-4FA6-801F-091B6B9D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1ACCC-D642-4AC0-BF1E-5DA17285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B4A5E-FB9D-4692-87E0-A3EAD1CF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FA0CF-DB17-4768-8DC1-2C190FA3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EA6-0DE6-4CA4-BF2C-03540296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72306-9001-4A7D-A0D3-70E45200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9F129-DFC1-419D-BDD6-AA488D1A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B82E0-857E-426C-A4A0-40A0952F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F8334-B72F-4311-ADA8-609F1755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7EF1A-C3EC-45F6-9839-3819CD6A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4138D-4F35-4F00-AE5C-4A4C5CB4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CE65A-FB3E-42ED-A22C-960EA3B4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AE61D-7DE8-468C-9958-0AA6F54B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55C7B-A6B8-4C7B-B5F6-96D26D5F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71E29-5846-4B36-B513-46A7E83A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345-9F23-4EFA-9030-F2144B33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5A967-DA1A-4690-99A7-5A2BE5BF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B7DE1-C0C3-4B12-B439-5F6F12FC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F08CE-2374-4D62-8DBB-6A95E93D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54A1A-9A71-464A-85A9-823C0483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3EBBA-AD51-4D70-8558-B8AF6F62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3B6C9-C9D4-476F-A809-8D4B94CA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10106-FFF3-4E7F-9E20-DFD76922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04034-0933-4F52-B249-2E3592E4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76584-F0A7-46A4-AE74-D5C60A70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A0C33-B4E2-4A2C-BC42-9F91EB9C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31DF-16BE-485F-AACB-3D5F51C4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8C085-4CCC-4ECE-A572-71D4AC6E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185AE-9354-45A1-A094-6833DAEA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02FA8-21D2-4E8F-AFD4-FF8C46C8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0915D-1F5A-4ADF-A124-341A490C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AD96B-8155-415A-9BDC-6EDF8696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42E39-9BC0-4FD3-92CF-460EA443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5DF43-B9A3-4795-983C-1514F6E0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99BF2-696E-4238-AA4C-050DF9C5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C7E3F-4AEC-45C6-9260-669B2AE1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043F9-429C-43BF-B8B0-08AEC802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888-C26E-4C86-B7B2-AF275B96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518F9-D10E-4CDE-B009-6769EC31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40888-8CA2-43A2-A19B-35152345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96348-2A71-4294-ABC7-501699DD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F5DC9-1DCA-4D22-BFA8-E11D462C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50A66-3ACE-49D9-9D2A-84439F0C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C9E7A-5FC9-4C50-AEBE-C772CE04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4C1EF-F98A-4AE9-8424-2E0F23BD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D5262-DF87-45E0-B1D2-7F398AFC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61867-0371-4924-ABDF-08AD58E0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AAA31-B2EC-4B79-BD81-6B436603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4FE5-FE43-4ADB-8DA5-F83BC364EFE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3264-3C12-4F9C-A05E-0566F8D610C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B128-31E1-415D-9A19-4B95EAA92E9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136B-BC16-463D-A1C0-F2EA341911B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1564-E968-430B-BD8B-F94E6F414A5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AC89-DDAF-4076-AAD7-9C52FD234BC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5B7A-4ABF-4B60-B91B-CF0C3F935DA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18B9-B45D-438D-934F-BF6D0620356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6EAA-0BF1-4E8B-916D-173B1452A07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C9DA-F680-4661-84BB-A05675E5058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51BC-E8F5-4496-97CC-73CB6BFC98C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F682-8AD4-4CB8-ACE8-AA6431A4DA3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4B19-67CE-4F31-9513-B85D2BD5AC1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273E-34B3-4F2F-88CF-F4EEFFE5DA0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8562-5CCF-4049-B264-E81F611E14D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0131-B62B-4B62-A1D0-277AF72554C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7FFC-09BA-4FA2-B653-497EC21BBB8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CustomShape 1"/>
          <p:cNvSpPr/>
          <p:nvPr/>
        </p:nvSpPr>
        <p:spPr>
          <a:xfrm>
            <a:off x="684360" y="907920"/>
            <a:ext cx="784836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юмова Диан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удентка 39 группы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ма курсовой работы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развития скоростно-силовых способностей в легкой атлетике детей 9-11 ле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уководитель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упина Н. В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Прямоугольник 1"/>
          <p:cNvSpPr/>
          <p:nvPr/>
        </p:nvSpPr>
        <p:spPr>
          <a:xfrm>
            <a:off x="1042920" y="105264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ГЛАВ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. ОСОБЕННОСТИ МЕТОДИКИ РАЗВИТИЯ СКОРОСТНО-СИЛОВЫХ СПОСОБНОСТЕЙ У ДЕТЕЙ 9-11 ЛЕ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1. Возрастные особенности развития скоростно-силовых способностей у детей 9-11 лет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2. Методика развития взрывной силы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3.Контрольные тесты для определения скоростно-   силовых способносте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Прямоугольник 1"/>
          <p:cNvSpPr/>
          <p:nvPr/>
        </p:nvSpPr>
        <p:spPr>
          <a:xfrm>
            <a:off x="324000" y="1052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9" name="Прямоугольник 1"/>
          <p:cNvSpPr/>
          <p:nvPr/>
        </p:nvSpPr>
        <p:spPr>
          <a:xfrm>
            <a:off x="755640" y="148428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зрывная сила мыш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 представляет собой способность мышц выдавать максимальную силу за короткий промежуток време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Прямоугольник 1"/>
          <p:cNvSpPr/>
          <p:nvPr/>
        </p:nvSpPr>
        <p:spPr>
          <a:xfrm>
            <a:off x="971640" y="765000"/>
            <a:ext cx="7848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методические особенности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коснительное выполнение требований техники безопасности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яженность с определенным техническим элементом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редоточенность на максимально быстром переходе от амортизации к собственно преодолевающей работе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точный активный и пассивный отдых между упражнениями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подбор оптимальных дозировок физических упражнений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ый переход к более сложным упражнениям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Прямоугольник 1"/>
          <p:cNvSpPr/>
          <p:nvPr/>
        </p:nvSpPr>
        <p:spPr>
          <a:xfrm>
            <a:off x="826920" y="1052640"/>
            <a:ext cx="806616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систематически с  помощью  специальных  упражнений  развивать скоростно-силовые   качества   с   акцентом   на   увеличение   объема  упражнений  взрывного  характера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CustomShape 1"/>
          <p:cNvSpPr/>
          <p:nvPr/>
        </p:nvSpPr>
        <p:spPr>
          <a:xfrm>
            <a:off x="684360" y="1341360"/>
            <a:ext cx="828036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ипломной работ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ланируем продолжить изучение данной темы и…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CustomShape 1"/>
          <p:cNvSpPr/>
          <p:nvPr/>
        </p:nvSpPr>
        <p:spPr>
          <a:xfrm>
            <a:off x="1793880" y="4371840"/>
            <a:ext cx="65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4" name="CustomShape 2"/>
          <p:cNvSpPr/>
          <p:nvPr/>
        </p:nvSpPr>
        <p:spPr>
          <a:xfrm>
            <a:off x="324000" y="2492280"/>
            <a:ext cx="822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пасибо за внимание! 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CustomShape 1"/>
          <p:cNvSpPr/>
          <p:nvPr/>
        </p:nvSpPr>
        <p:spPr>
          <a:xfrm>
            <a:off x="900000" y="765000"/>
            <a:ext cx="78487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3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MS Gothic"/>
              </a:rPr>
              <a:t>Актуальность проблемы исследования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нению многих специалистов, значительное место в процессе физического воспитания подрастающего поколения должно быть отведено воспитанию скоростно-силовых способносте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ных данных показывает, что весьма актуальным вопросом является разработка и экспериментальное обоснование эффективных средств и методов развития скоростно-силовых качеств у представителей различных видов спор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CustomShape 1"/>
          <p:cNvSpPr/>
          <p:nvPr/>
        </p:nvSpPr>
        <p:spPr>
          <a:xfrm>
            <a:off x="611280" y="33336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Тема исследования: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тодика развития скоростно-силовых способностей в легкой атлетике детей 9-11 лет»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CustomShape 1"/>
          <p:cNvSpPr/>
          <p:nvPr/>
        </p:nvSpPr>
        <p:spPr>
          <a:xfrm>
            <a:off x="1332000" y="189000"/>
            <a:ext cx="7632720" cy="77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исследования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и проанализировать основные методики  развития скоростно-силовых способностей в легкой атлетике  детей 9-11 ле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 исследования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научно-методическую литературу по теме «скоростно-силовые способности»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особенности развития скоростно-силовых особенностей у детей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11 лет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методы, средства развития скоростно-силовых способностей у детей 9-11 лет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ить результаты теоретического исследования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CustomShape 1"/>
          <p:cNvSpPr/>
          <p:nvPr/>
        </p:nvSpPr>
        <p:spPr>
          <a:xfrm>
            <a:off x="1763640" y="620640"/>
            <a:ext cx="828036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4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оды  исследования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иск тематической литературы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нализ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общение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истематизация материала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Прямоугольник 1"/>
          <p:cNvSpPr/>
          <p:nvPr/>
        </p:nvSpPr>
        <p:spPr>
          <a:xfrm>
            <a:off x="1476360" y="620640"/>
            <a:ext cx="72723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I. ОБЩАЯ ХАРАКТЕРИСТИКА И ВОЗРАСТНЫЕ ОСОБЕННОСТИ РАЗВИТИЯ СКОРОСТНО-СИЛОВЫХ СПОСОБНОСТЕ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Общая характеристика скоростно-силовых способно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Анатомо-физиологические особенности развития у детей 9-11 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 Особенности тренировки на этапе начальной специализаци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Прямоугольник 1"/>
          <p:cNvSpPr/>
          <p:nvPr/>
        </p:nvSpPr>
        <p:spPr>
          <a:xfrm>
            <a:off x="971640" y="765000"/>
            <a:ext cx="763272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едварительной подготовки юных спринтеров (9-11 лет)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е здоровья и всестороннее физическое развитие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основам техники выполнения широкого комплекса общеразвивающих упражнений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4492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устойчивого интереса к регулярным занятиям спортом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CustomShape 1"/>
          <p:cNvSpPr/>
          <p:nvPr/>
        </p:nvSpPr>
        <p:spPr>
          <a:xfrm>
            <a:off x="431640" y="115920"/>
            <a:ext cx="853128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понятия исследования: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4" name="Прямоугольник 1"/>
          <p:cNvSpPr/>
          <p:nvPr/>
        </p:nvSpPr>
        <p:spPr>
          <a:xfrm>
            <a:off x="1042920" y="1268280"/>
            <a:ext cx="7777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5" name="Прямоугольник 1"/>
          <p:cNvSpPr/>
          <p:nvPr/>
        </p:nvSpPr>
        <p:spPr>
          <a:xfrm>
            <a:off x="684360" y="1535040"/>
            <a:ext cx="8135640" cy="31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ла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способность человека преодолевать внешнее сопротивление или противостоять ему за счет мышечных усилий (напряжений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строт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пособность человека совершать двигательные действия в минимальный для данных условий отрезок времени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Прямоугольник 1"/>
          <p:cNvSpPr/>
          <p:nvPr/>
        </p:nvSpPr>
        <p:spPr>
          <a:xfrm>
            <a:off x="1116000" y="1484280"/>
            <a:ext cx="739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но-силовые способ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это способность человека к проявлению предельно возможных усилий в кратчайший промежуток времени при сохранении оптимальной амплитуды движений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7-12-22T09:29:45Z</dcterms:modified>
  <cp:revision>26</cp:revision>
  <dc:subject/>
  <dc:title>Презентация PowerPoint</dc:title>
</cp:coreProperties>
</file>