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BE3-AB12-4D7B-99EB-5E5E8153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373-AFFE-4DEB-9375-EB92CE79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E49-B161-47B9-847D-87CBDECC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70D-5191-476A-8923-0F53478E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2CA-E309-42E1-90B1-9B024322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D55-C5EC-4842-BE8D-33A044A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DA6-ACF3-4081-A734-BEF4309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F22-F5E2-4734-B374-FC05727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C461-11E7-4E40-BE20-7A0384D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9B20-BF08-490A-90D0-0803846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40B-127A-42B8-A287-D328915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8D0-29CC-42B1-88D2-B727C93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F268-27C7-48A8-81A8-8F061AF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E836-2E15-40DA-973A-EFBB75D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9951-C69A-4E12-B974-F9A4BD6D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51A-7761-4A9F-8934-F62F04D1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570E-2FFB-4E51-8277-D528CC21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7E0-1047-45C2-A111-D5D2C582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FE6-73D9-408F-AE8D-52291BE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009-BF46-4797-B1F5-6BD2B727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80B-6583-4409-833F-328747E0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A54-1363-4DE1-8C5E-C4EAA93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AE1-D08D-4452-839D-20BF95FF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322-0AD4-4F07-A84A-0A310D5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2A7C-1BBE-4B5D-9656-FDEBDD04E2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B63-1B7E-401A-922F-39863F524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Физика – 8 клас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Решение задач по теме: «Количество теплоты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~PP3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кажи формулы для вычисления велич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V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ение температуры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/(cm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c=Q/(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V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ffb8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менение температуры </a:t>
            </a:r>
            <a:r>
              <a:rPr b="0" lang="el-GR" sz="3200" spc="-1" strike="noStrike">
                <a:solidFill>
                  <a:srgbClr val="000099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Q/(cm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дельная теплоёмкость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  c=Q/(m</a:t>
            </a:r>
            <a:r>
              <a:rPr b="0" lang="el-GR" sz="3200" spc="-1" strike="noStrike">
                <a:solidFill>
                  <a:srgbClr val="008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t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7416720" cy="27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99cc"/>
                </a:solidFill>
                <a:latin typeface="Comic Sans MS"/>
              </a:rPr>
              <a:t>II</a:t>
            </a:r>
            <a:r>
              <a:rPr b="0" lang="ru-RU" sz="5400" spc="-1" strike="noStrike">
                <a:solidFill>
                  <a:srgbClr val="0099cc"/>
                </a:solidFill>
                <a:latin typeface="Comic Sans MS"/>
              </a:rPr>
              <a:t> этап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Реши задач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При нагревании куска меди от 20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‘C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до 170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‘C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 было затрачено 140000 Дж тепла. Определить массу меди.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Удельная теплоёмкость меди 400 Дж/(кг*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Дано:               Решение: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2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m=Q/(c*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70 ‘C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40000/(400*150)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=400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=2,33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=14000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                     Ответ: 2,33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1c1c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omic Sans MS"/>
              </a:rPr>
              <a:t>* 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количество теплоты отдаёт 500мл воды при охлаждении с 5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C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 1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 Удельная теплоёмкость воды 4200 Дж/(кг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C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ь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но:           СИ       Реш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= 500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л    500/1000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,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200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1= 50 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2= 10 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211640" y="2924280"/>
            <a:ext cx="3959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 как плотность воды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1000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 масса воды равн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=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V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1000*0,5=0,5 к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=cm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4200*0,5*(10-50)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- 84000 Дж = - 84 кД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вет: -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4 кДж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к «-» в ответе указывает на то, что вода отдает тепл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дводим итоги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вим итоговую оценку и сдаем «Лист успех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Закрепить знания по тем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 Sans MS"/>
              </a:rPr>
              <a:t>Отработать алгоритм решения задач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учиться самостоятельно себя оцени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Учиться анализировать материа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~PP1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Фронтальный 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Что такое Количество теплот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Когда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Q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положительно? Отрицательно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 каком направлении идёт тепло у двух взаимодействующих тел (нагретого и охлажденного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Что такое удельная теплоёмкос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Почему в пустыни днем жарко, а ночью температура падает ниже 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‘C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spcBef>
                <a:spcPts val="700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Почему железные печи скорее нагревают комнату, чем кирпичные, но не так долго остаются теплым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~PP1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478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Лист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успеха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  Ф.И.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~PP3116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324000" y="1125360"/>
          <a:ext cx="7905600" cy="4618080"/>
        </p:xfrm>
        <a:graphic>
          <a:graphicData uri="http://schemas.openxmlformats.org/drawingml/2006/table">
            <a:tbl>
              <a:tblPr/>
              <a:tblGrid>
                <a:gridCol w="1116000"/>
                <a:gridCol w="3943080"/>
                <a:gridCol w="870120"/>
                <a:gridCol w="197640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ри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/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Буквенно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Единицы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Форм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Усло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Выбор форму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Расчеты и 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счеты и от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340000" y="5734080"/>
          <a:ext cx="5832360" cy="574560"/>
        </p:xfrm>
        <a:graphic>
          <a:graphicData uri="http://schemas.openxmlformats.org/drawingml/2006/table">
            <a:tbl>
              <a:tblPr/>
              <a:tblGrid>
                <a:gridCol w="3960720"/>
                <a:gridCol w="18716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тоговая 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Установите соответствия физических величин и буквенных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обозначений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пература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т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ь                                 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91636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 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отность                           </a:t>
            </a:r>
            <a:r>
              <a:rPr b="0" lang="el-GR" sz="3200" spc="-1" strike="noStrike">
                <a:solidFill>
                  <a:srgbClr val="000099"/>
                </a:solidFill>
                <a:latin typeface="Comic Sans MS"/>
              </a:rPr>
              <a:t>ρ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Количество теплоты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       Q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асса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Температура           </a:t>
            </a: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       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Comic Sans MS"/>
              </a:rPr>
              <a:t>Удельная теплоёмкость</a:t>
            </a: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1c1c"/>
                </a:solidFill>
                <a:latin typeface="Comic Sans MS"/>
              </a:rPr>
              <a:t>Укажи единицы измерения величи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дельная теплоёмкость        к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ичество теплоты         кг/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а                                   Д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тность                     Дж/(кг*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’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пература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~PP1119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1c1c"/>
                </a:solidFill>
                <a:latin typeface="Comic Sans MS"/>
              </a:rPr>
              <a:t>Проверь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Плотность                         кг/м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Масса                                   к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Удельная теплоёмкость   Дж/(кг*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’C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omic Sans MS"/>
              </a:rPr>
              <a:t>Количество теплоты          Дж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Температура                      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‘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54:08Z</dcterms:created>
  <dc:creator>леша</dc:creator>
  <dc:description/>
  <dc:language>en-US</dc:language>
  <cp:lastModifiedBy>Учитель</cp:lastModifiedBy>
  <dcterms:modified xsi:type="dcterms:W3CDTF">2014-11-17T12:49:22Z</dcterms:modified>
  <cp:revision>28</cp:revision>
  <dc:subject/>
  <dc:title>Физика – 7 класс</dc:title>
</cp:coreProperties>
</file>