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889-7A65-48CD-B6B1-9CCA87F4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DE6-53AC-4FF2-9520-B83BD5D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976-BA39-45BF-A35A-BBD722F9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077-9869-41C2-9C22-1C51F4C6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A29-D4EF-4D1C-94FE-1605328E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E3A7-BBB6-48D4-B77C-51E65C24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FAE0-49F5-4718-9377-6EF49C2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6743-C56D-4AF9-9B14-079B3AB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92B-C7E4-48C2-939F-EFA3D7D3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8505-5C0C-479F-8F54-E0EA011E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78AB-FE7A-497F-B81C-7F5C4DF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3E1-ED87-4806-9E5A-E5246605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F9B4-9034-4FDE-B81F-E3CA048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83F5-A9FB-4050-8E84-9257D3E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39A8-21C8-4325-A008-579A465C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B5E7-2FCE-4CB4-8169-572C97AC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22FC-95D0-4C46-B2AF-7EB8164E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B2F-B6FD-484C-B0AD-6FBE533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F30-8E67-4C26-BDE0-E9CAB5E1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B65-7D9D-47FC-8C29-98FB688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32C-A729-439D-9627-8BD8A393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577-93C9-4855-8C20-22DB9AF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BCE-37F5-458B-8596-129D6C0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40-BB8E-4235-BCF5-6C9000D0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3D77-AB98-4D21-B075-7437A8B085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681-FFD8-4680-88B9-5E9965825F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Физика – 8 клас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Решение задач по теме: «Количество теплоты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~PP3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кажи формулы для вычисления велич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=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V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е температуры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=cm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дельная теплоёмкос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/(cm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ичество теплот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c=Q/(m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=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V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Количество теплоты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Q=cm</a:t>
            </a:r>
            <a:r>
              <a:rPr b="0" lang="el-GR" sz="3200" spc="-1" strike="noStrike">
                <a:solidFill>
                  <a:srgbClr val="ffb8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менение температуры </a:t>
            </a:r>
            <a:r>
              <a:rPr b="0" lang="el-GR" sz="3200" spc="-1" strike="noStrike">
                <a:solidFill>
                  <a:srgbClr val="000099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Q/(cm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дельная теплоёмкость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c=Q/(m</a:t>
            </a:r>
            <a:r>
              <a:rPr b="0" lang="el-GR" sz="3200" spc="-1" strike="noStrike">
                <a:solidFill>
                  <a:srgbClr val="008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t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741672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99cc"/>
                </a:solidFill>
                <a:latin typeface="Comic Sans MS"/>
              </a:rPr>
              <a:t>II</a:t>
            </a:r>
            <a:r>
              <a:rPr b="0" lang="ru-RU" sz="5400" spc="-1" strike="noStrike">
                <a:solidFill>
                  <a:srgbClr val="0099cc"/>
                </a:solidFill>
                <a:latin typeface="Comic Sans MS"/>
              </a:rPr>
              <a:t> этап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Реши задач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При нагревании куска меди от 20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‘C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до 170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‘C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 было затрачено 140000 Дж тепла. Определить массу меди.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Удельная теплоёмкость меди 400 Дж/(кг*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’C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Дано:               Решение: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=cm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2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m=Q/(c*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0 ‘C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=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40000/(400*150)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=400 Дж/(кг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=2,33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=14000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                     Ответ: 2,33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1c1c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* Задач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количество теплоты отдаёт 500мл воды при охлаждении с 5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C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 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 Удельная теплоёмкость воды 4200 Дж/(кг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C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ь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но:           СИ       Реш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50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л    500/1000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,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200 Дж/(кг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1= 50 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2= 10 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211640" y="2924280"/>
            <a:ext cx="3959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 как плотность воды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1000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 масса воды равн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V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1000*0,5=0,5 к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=cm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4200*0,5*(10-50)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 - 84000 Дж = - 84 кД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вет: -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4 кДж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к «-» в ответе указывает на то, что вода отдает тепл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дводим итоги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вим итоговую оценку и сдаем «Лист успех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Закрепить знания по тем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Отработать алгоритм решения задач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учиться самостоятельно себя оцени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Учиться анализировать материа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~PP1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Фронтальный 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Что такое Количество теплот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Когда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Q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положительно? Отрицательно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каком направлении идёт тепло у двух взаимодействующих тел (нагретого и охлажденного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Что такое удельная теплоёмкос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Почему в пустыни днем жарко, а ночью температура падает ниже 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‘C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Почему железные печи скорее нагревают комнату, чем кирпичные, но не так долго остаются теплым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~PP1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478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Лист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успеха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  Ф.И.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~PP3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324000" y="1125360"/>
          <a:ext cx="7905600" cy="4618080"/>
        </p:xfrm>
        <a:graphic>
          <a:graphicData uri="http://schemas.openxmlformats.org/drawingml/2006/table">
            <a:tbl>
              <a:tblPr/>
              <a:tblGrid>
                <a:gridCol w="1116000"/>
                <a:gridCol w="3943080"/>
                <a:gridCol w="870120"/>
                <a:gridCol w="197640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/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Буквенно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Единицы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Форм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Усло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Выбор форм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Расчеты и 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счеты и 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340000" y="5734080"/>
          <a:ext cx="5832360" cy="574560"/>
        </p:xfrm>
        <a:graphic>
          <a:graphicData uri="http://schemas.openxmlformats.org/drawingml/2006/table">
            <a:tbl>
              <a:tblPr/>
              <a:tblGrid>
                <a:gridCol w="3960720"/>
                <a:gridCol w="18716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тоговая 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Установите соответствия физических величин и буквенных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обозначений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дельная теплоёмкость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пература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ичество теплот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тн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ь                                 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91636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 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отность                           </a:t>
            </a:r>
            <a:r>
              <a:rPr b="0" lang="el-GR" sz="3200" spc="-1" strike="noStrike">
                <a:solidFill>
                  <a:srgbClr val="000099"/>
                </a:solidFill>
                <a:latin typeface="Comic Sans MS"/>
              </a:rPr>
              <a:t>ρ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Количество теплоты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       Q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асса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Температура          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       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omic Sans MS"/>
              </a:rPr>
              <a:t>Удельная теплоёмкость</a:t>
            </a: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"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1c1c"/>
                </a:solidFill>
                <a:latin typeface="Comic Sans MS"/>
              </a:rPr>
              <a:t>Укажи единицы измерения велич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дельная теплоёмкость       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ичество теплоты         кг/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                                   Д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тность                     Дж/(кг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пература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~PP1119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Плотность                         кг/м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Масса                                   к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Удельная теплоёмкость   Дж/(кг*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’C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Количество теплоты          Дж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Температура                       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6:54:08Z</dcterms:created>
  <dc:creator>леша</dc:creator>
  <dc:description/>
  <dc:language>en-US</dc:language>
  <cp:lastModifiedBy>Учитель</cp:lastModifiedBy>
  <dcterms:modified xsi:type="dcterms:W3CDTF">2014-11-17T12:49:22Z</dcterms:modified>
  <cp:revision>28</cp:revision>
  <dc:subject/>
  <dc:title>Физика – 7 класс</dc:title>
</cp:coreProperties>
</file>