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F3A7-0074-40B3-943F-283CD49663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2343-D598-4B1F-AF98-E86F8EC7E60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F759-ECA9-4594-A092-73E7C973904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DCE7-BFBC-4F2D-9A28-0C2789D8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B28-B46A-48AB-9020-15246B25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D41E-1767-46EA-BABF-5048F4DF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D719-DFC1-4A3B-A9FD-6E82BFFD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28AE-B4BE-482D-9551-1580D917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1E5C-67E6-40D3-B500-09675A3A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3239-44B1-4852-8E89-2FCC9058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5F4E-AE33-4DAC-A96F-0D962E5F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3969-64C8-480B-AB24-ABEAA891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007A-B73C-4C65-B484-67F776A0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68AB-E5AA-40CE-94DA-DFE2B36E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CAD4-D34F-4598-95C8-65CD38F0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4D94-4577-4781-B9AF-E570FF8687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79;&#1072;&#1082;&#1086;&#1085;%20&#1086;&#1073;%20&#1086;&#1073;&#1088;&#1072;&#1079;&#1086;&#1074;&#1072;&#1085;&#1080;&#1080;%20&#1074;%20&#1088;&#1092;%20&#1074;%20&#1082;&#1072;&#1088;&#1090;&#1080;&#1085;&#1082;&#1072;&#1093;&amp;noreask=1&amp;img_url=http://mm.dsmp.mos.ru/images/anonce/preview/125994698969462images_81.jpg&amp;pos=32&amp;rpt=simage&amp;lr=213&amp;noj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Arial"/>
              </a:rPr>
              <a:t>Федеральный закон «Об образовании в РФ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едеральный закон «Об образовании в РФ» был подписан Президентом РФ В.В. Путиным 29 декабря 2012 года и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вступил в силу с 1 сентября 2013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1" descr="i?id=321006235-59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3684600"/>
            <a:ext cx="243864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Новые понятия (Гл 1, ст. 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137160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разовательная организация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–это некоммерческая организация, осуществляющая образовательную деятельность в соответствии с целями, ради которых такая организация созд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разование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    </a:t>
            </a:r>
            <a:r>
              <a:rPr b="1" i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а)единый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целенаправленный </a:t>
            </a:r>
            <a:r>
              <a:rPr b="1" i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роцесс воспитания и обучения,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являющий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щественно значимым благ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и осуществляемый в интересах человека, семьи, общества и государст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   </a:t>
            </a:r>
            <a:r>
              <a:rPr b="1" i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б)совокупность приобретаемых знаний, умений, навыков, ценностных установок, опыта деятельности и компетенции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в целях интеллектуального, духовно-нравственного, творческого, физического и профессионального развития человека, удовлетворения его образовательных потребностей и интере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"/>
              </a:rPr>
              <a:t>Новые понятия (Гл 1, ст. 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ровень образования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– завершенный цикл образования, характеризующийся определенной единой совокупностью треб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учающийс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– физическое лицо, осваивающее образовательную программу (воспитанники,  учащиеся, студенты, экстерны, аспиран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нфликт интересов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- ситуация при которой, у педагогического работника возникает личная заинтересованность в получении материальной вы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клюзивное образование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– обеспечение равного доступа к образованию для всех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-360" y="6215040"/>
            <a:ext cx="4040280" cy="457200"/>
          </a:xfrm>
          <a:prstGeom prst="rect">
            <a:avLst/>
          </a:prstGeom>
          <a:solidFill>
            <a:srgbClr val="ff9900"/>
          </a:solidFill>
          <a:ln w="9720">
            <a:solidFill>
              <a:srgbClr val="99ccf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Законе 1992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101920" y="6215040"/>
            <a:ext cx="4041720" cy="457200"/>
          </a:xfrm>
          <a:prstGeom prst="rect">
            <a:avLst/>
          </a:prstGeom>
          <a:solidFill>
            <a:srgbClr val="99ccff"/>
          </a:solidFill>
          <a:ln w="9720">
            <a:solidFill>
              <a:srgbClr val="99ccf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Законе 2012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Содержимое 10" descr=""/>
          <p:cNvPicPr/>
          <p:nvPr/>
        </p:nvPicPr>
        <p:blipFill>
          <a:blip r:embed="rId1"/>
          <a:stretch/>
        </p:blipFill>
        <p:spPr>
          <a:xfrm>
            <a:off x="-73080" y="1852560"/>
            <a:ext cx="4168800" cy="3853080"/>
          </a:xfrm>
          <a:prstGeom prst="rect">
            <a:avLst/>
          </a:prstGeom>
          <a:ln w="0">
            <a:noFill/>
          </a:ln>
        </p:spPr>
      </p:pic>
      <p:sp>
        <p:nvSpPr>
          <p:cNvPr id="231" name="Стрелка вправо 12"/>
          <p:cNvSpPr/>
          <p:nvPr/>
        </p:nvSpPr>
        <p:spPr>
          <a:xfrm>
            <a:off x="4429080" y="6072120"/>
            <a:ext cx="571680" cy="714600"/>
          </a:xfrm>
          <a:prstGeom prst="rightArrow">
            <a:avLst>
              <a:gd name="adj1" fmla="val 42889"/>
              <a:gd name="adj2" fmla="val 100000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Номер слайда 1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33A5-EB61-43AC-93B6-906511E47C24}" type="slidenum">
              <a:rPr b="0" lang="ru-RU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Содержимое 4"/>
          <p:cNvGrpSpPr/>
          <p:nvPr/>
        </p:nvGrpSpPr>
        <p:grpSpPr>
          <a:xfrm>
            <a:off x="0" y="1146240"/>
            <a:ext cx="5200560" cy="517320"/>
            <a:chOff x="0" y="1146240"/>
            <a:chExt cx="5200560" cy="517320"/>
          </a:xfrm>
        </p:grpSpPr>
        <p:pic>
          <p:nvPicPr>
            <p:cNvPr id="234" name="Содержимое 4" descr=""/>
            <p:cNvPicPr/>
            <p:nvPr/>
          </p:nvPicPr>
          <p:blipFill>
            <a:blip r:embed="rId2"/>
            <a:stretch/>
          </p:blipFill>
          <p:spPr>
            <a:xfrm>
              <a:off x="0" y="1146240"/>
              <a:ext cx="52005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7920" y="1152360"/>
              <a:ext cx="518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Lucida Sans Unicode"/>
                </a:rPr>
                <a:t>Уровни образ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Содержимое 4"/>
          <p:cNvGrpSpPr/>
          <p:nvPr/>
        </p:nvGrpSpPr>
        <p:grpSpPr>
          <a:xfrm>
            <a:off x="249120" y="212760"/>
            <a:ext cx="8645760" cy="768240"/>
            <a:chOff x="249120" y="212760"/>
            <a:chExt cx="8645760" cy="768240"/>
          </a:xfrm>
        </p:grpSpPr>
        <p:pic>
          <p:nvPicPr>
            <p:cNvPr id="237" name="Содержимое 4" descr=""/>
            <p:cNvPicPr/>
            <p:nvPr/>
          </p:nvPicPr>
          <p:blipFill>
            <a:blip r:embed="rId3"/>
            <a:stretch/>
          </p:blipFill>
          <p:spPr>
            <a:xfrm>
              <a:off x="249120" y="212760"/>
              <a:ext cx="86457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250920" y="214200"/>
              <a:ext cx="864216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ff9900"/>
                  </a:solidFill>
                  <a:latin typeface="Arial"/>
                </a:rPr>
                <a:t>Изменение структуры уровней образовани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Содержимое 10" descr=""/>
          <p:cNvPicPr/>
          <p:nvPr/>
        </p:nvPicPr>
        <p:blipFill>
          <a:blip r:embed="rId4"/>
          <a:stretch/>
        </p:blipFill>
        <p:spPr>
          <a:xfrm>
            <a:off x="4651200" y="-476280"/>
            <a:ext cx="4303800" cy="733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19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5C43-EC8C-427F-ABBC-25205D4D4991}" type="slidenum">
              <a:rPr b="0" lang="ru-RU" sz="1800" spc="-1" strike="noStrike">
                <a:solidFill>
                  <a:srgbClr val="ffffff"/>
                </a:solidFill>
                <a:latin typeface="Georgia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Прямоугольная выноска 16"/>
          <p:cNvGrpSpPr/>
          <p:nvPr/>
        </p:nvGrpSpPr>
        <p:grpSpPr>
          <a:xfrm>
            <a:off x="341280" y="1011240"/>
            <a:ext cx="4492800" cy="903240"/>
            <a:chOff x="341280" y="1011240"/>
            <a:chExt cx="4492800" cy="903240"/>
          </a:xfrm>
        </p:grpSpPr>
        <p:pic>
          <p:nvPicPr>
            <p:cNvPr id="242" name="Прямоугольная выноска 16" descr=""/>
            <p:cNvPicPr/>
            <p:nvPr/>
          </p:nvPicPr>
          <p:blipFill>
            <a:blip r:embed="rId1"/>
            <a:stretch/>
          </p:blipFill>
          <p:spPr>
            <a:xfrm>
              <a:off x="341280" y="1011240"/>
              <a:ext cx="44928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500040" y="1143000"/>
              <a:ext cx="3214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тдельный уровень  образ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Прямоугольная выноска 17"/>
          <p:cNvGrpSpPr/>
          <p:nvPr/>
        </p:nvGrpSpPr>
        <p:grpSpPr>
          <a:xfrm>
            <a:off x="201600" y="2798640"/>
            <a:ext cx="4638600" cy="1292400"/>
            <a:chOff x="201600" y="2798640"/>
            <a:chExt cx="4638600" cy="1292400"/>
          </a:xfrm>
        </p:grpSpPr>
        <p:pic>
          <p:nvPicPr>
            <p:cNvPr id="245" name="Прямоугольная выноска 17" descr=""/>
            <p:cNvPicPr/>
            <p:nvPr/>
          </p:nvPicPr>
          <p:blipFill>
            <a:blip r:embed="rId2"/>
            <a:stretch/>
          </p:blipFill>
          <p:spPr>
            <a:xfrm>
              <a:off x="201600" y="2798640"/>
              <a:ext cx="463860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57120" y="2928960"/>
              <a:ext cx="32148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водится два вида программ СПО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(прием на общедоступной основ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Прямоугольная выноска 20"/>
          <p:cNvGrpSpPr/>
          <p:nvPr/>
        </p:nvGrpSpPr>
        <p:grpSpPr>
          <a:xfrm>
            <a:off x="201600" y="4584600"/>
            <a:ext cx="4626000" cy="1432080"/>
            <a:chOff x="201600" y="4584600"/>
            <a:chExt cx="4626000" cy="1432080"/>
          </a:xfrm>
        </p:grpSpPr>
        <p:pic>
          <p:nvPicPr>
            <p:cNvPr id="248" name="Прямоугольная выноска 20" descr=""/>
            <p:cNvPicPr/>
            <p:nvPr/>
          </p:nvPicPr>
          <p:blipFill>
            <a:blip r:embed="rId3"/>
            <a:stretch/>
          </p:blipFill>
          <p:spPr>
            <a:xfrm>
              <a:off x="201600" y="4584600"/>
              <a:ext cx="46260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357120" y="4714920"/>
              <a:ext cx="32148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веден третий уровень высшего образ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Содержимое 13" descr=""/>
          <p:cNvPicPr/>
          <p:nvPr/>
        </p:nvPicPr>
        <p:blipFill>
          <a:blip r:embed="rId4"/>
          <a:stretch/>
        </p:blipFill>
        <p:spPr>
          <a:xfrm>
            <a:off x="4340160" y="1268280"/>
            <a:ext cx="4267440" cy="5046840"/>
          </a:xfrm>
          <a:prstGeom prst="rect">
            <a:avLst/>
          </a:prstGeom>
          <a:ln w="0">
            <a:noFill/>
          </a:ln>
        </p:spPr>
      </p:pic>
      <p:grpSp>
        <p:nvGrpSpPr>
          <p:cNvPr id="251" name="Содержимое 4"/>
          <p:cNvGrpSpPr/>
          <p:nvPr/>
        </p:nvGrpSpPr>
        <p:grpSpPr>
          <a:xfrm>
            <a:off x="249120" y="212760"/>
            <a:ext cx="7828200" cy="768240"/>
            <a:chOff x="249120" y="212760"/>
            <a:chExt cx="7828200" cy="768240"/>
          </a:xfrm>
        </p:grpSpPr>
        <p:pic>
          <p:nvPicPr>
            <p:cNvPr id="252" name="Содержимое 4" descr=""/>
            <p:cNvPicPr/>
            <p:nvPr/>
          </p:nvPicPr>
          <p:blipFill>
            <a:blip r:embed="rId5"/>
            <a:stretch/>
          </p:blipFill>
          <p:spPr>
            <a:xfrm>
              <a:off x="249120" y="212760"/>
              <a:ext cx="7828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50920" y="214200"/>
              <a:ext cx="782640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 algn="ctr">
                <a:lnSpc>
                  <a:spcPct val="8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ff9900"/>
                  </a:solidFill>
                  <a:latin typeface="Arial"/>
                </a:rPr>
                <a:t>Изменение структуры системы образовани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Прямоугольная выноска 23"/>
          <p:cNvGrpSpPr/>
          <p:nvPr/>
        </p:nvGrpSpPr>
        <p:grpSpPr>
          <a:xfrm>
            <a:off x="341280" y="944640"/>
            <a:ext cx="4535640" cy="1433520"/>
            <a:chOff x="341280" y="944640"/>
            <a:chExt cx="4535640" cy="1433520"/>
          </a:xfrm>
        </p:grpSpPr>
        <p:pic>
          <p:nvPicPr>
            <p:cNvPr id="255" name="Прямоугольная выноска 23" descr=""/>
            <p:cNvPicPr/>
            <p:nvPr/>
          </p:nvPicPr>
          <p:blipFill>
            <a:blip r:embed="rId6"/>
            <a:stretch/>
          </p:blipFill>
          <p:spPr>
            <a:xfrm>
              <a:off x="341280" y="944640"/>
              <a:ext cx="453564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00040" y="1071720"/>
              <a:ext cx="32148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ведены как самостоятельные уровни образ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Прямоугольная выноска 24"/>
          <p:cNvGrpSpPr/>
          <p:nvPr/>
        </p:nvGrpSpPr>
        <p:grpSpPr>
          <a:xfrm>
            <a:off x="201600" y="3943440"/>
            <a:ext cx="4784760" cy="811080"/>
            <a:chOff x="201600" y="3943440"/>
            <a:chExt cx="4784760" cy="811080"/>
          </a:xfrm>
        </p:grpSpPr>
        <p:pic>
          <p:nvPicPr>
            <p:cNvPr id="258" name="Прямоугольная выноска 24" descr=""/>
            <p:cNvPicPr/>
            <p:nvPr/>
          </p:nvPicPr>
          <p:blipFill>
            <a:blip r:embed="rId7"/>
            <a:stretch/>
          </p:blipFill>
          <p:spPr>
            <a:xfrm>
              <a:off x="201600" y="3943440"/>
              <a:ext cx="478476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57120" y="4071960"/>
              <a:ext cx="32148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ПО включено в систему СП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омер слайда 19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13F7-5685-4D3F-A1B4-19CA9F925886}" type="slidenum">
              <a:rPr b="0" lang="ru-RU" sz="1800" spc="-1" strike="noStrike">
                <a:solidFill>
                  <a:srgbClr val="ffffff"/>
                </a:solidFill>
                <a:latin typeface="Georgia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Содержимое 15" descr=""/>
          <p:cNvPicPr/>
          <p:nvPr/>
        </p:nvPicPr>
        <p:blipFill>
          <a:blip r:embed="rId1"/>
          <a:stretch/>
        </p:blipFill>
        <p:spPr>
          <a:xfrm>
            <a:off x="285840" y="1616040"/>
            <a:ext cx="3768480" cy="3973680"/>
          </a:xfrm>
          <a:prstGeom prst="rect">
            <a:avLst/>
          </a:prstGeom>
          <a:ln w="0">
            <a:noFill/>
          </a:ln>
        </p:spPr>
      </p:pic>
      <p:pic>
        <p:nvPicPr>
          <p:cNvPr id="262" name="Содержимое 16" descr=""/>
          <p:cNvPicPr/>
          <p:nvPr/>
        </p:nvPicPr>
        <p:blipFill>
          <a:blip r:embed="rId2"/>
          <a:stretch/>
        </p:blipFill>
        <p:spPr>
          <a:xfrm>
            <a:off x="4248000" y="1504800"/>
            <a:ext cx="4524480" cy="4499280"/>
          </a:xfrm>
          <a:prstGeom prst="rect">
            <a:avLst/>
          </a:prstGeom>
          <a:ln w="0">
            <a:noFill/>
          </a:ln>
        </p:spPr>
      </p:pic>
      <p:grpSp>
        <p:nvGrpSpPr>
          <p:cNvPr id="263" name="Содержимое 4"/>
          <p:cNvGrpSpPr/>
          <p:nvPr/>
        </p:nvGrpSpPr>
        <p:grpSpPr>
          <a:xfrm>
            <a:off x="249120" y="212760"/>
            <a:ext cx="7602480" cy="768240"/>
            <a:chOff x="249120" y="212760"/>
            <a:chExt cx="7602480" cy="768240"/>
          </a:xfrm>
        </p:grpSpPr>
        <p:pic>
          <p:nvPicPr>
            <p:cNvPr id="264" name="Содержимое 4" descr=""/>
            <p:cNvPicPr/>
            <p:nvPr/>
          </p:nvPicPr>
          <p:blipFill>
            <a:blip r:embed="rId3"/>
            <a:stretch/>
          </p:blipFill>
          <p:spPr>
            <a:xfrm>
              <a:off x="249120" y="212760"/>
              <a:ext cx="7602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250920" y="214200"/>
              <a:ext cx="759780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9900"/>
                  </a:solidFill>
                  <a:latin typeface="Arial"/>
                </a:rPr>
                <a:t>Образовательные программ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Текст 2"/>
          <p:cNvSpPr/>
          <p:nvPr/>
        </p:nvSpPr>
        <p:spPr>
          <a:xfrm>
            <a:off x="457200" y="6215040"/>
            <a:ext cx="4040280" cy="457200"/>
          </a:xfrm>
          <a:prstGeom prst="rect">
            <a:avLst/>
          </a:prstGeom>
          <a:solidFill>
            <a:srgbClr val="99ccff"/>
          </a:solidFill>
          <a:ln w="97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Законе 1992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Текст 3"/>
          <p:cNvSpPr/>
          <p:nvPr/>
        </p:nvSpPr>
        <p:spPr>
          <a:xfrm>
            <a:off x="4645080" y="6215040"/>
            <a:ext cx="4041720" cy="457200"/>
          </a:xfrm>
          <a:prstGeom prst="rect">
            <a:avLst/>
          </a:prstGeom>
          <a:solidFill>
            <a:srgbClr val="99ccff"/>
          </a:solidFill>
          <a:ln w="97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коне 2012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Стрелка вправо 9"/>
          <p:cNvSpPr/>
          <p:nvPr/>
        </p:nvSpPr>
        <p:spPr>
          <a:xfrm>
            <a:off x="4429080" y="6143760"/>
            <a:ext cx="571680" cy="714240"/>
          </a:xfrm>
          <a:prstGeom prst="rightArrow">
            <a:avLst>
              <a:gd name="adj1" fmla="val 42889"/>
              <a:gd name="adj2" fmla="val 100000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-360" y="6215040"/>
            <a:ext cx="4040280" cy="457200"/>
          </a:xfrm>
          <a:prstGeom prst="rect">
            <a:avLst/>
          </a:prstGeom>
          <a:solidFill>
            <a:srgbClr val="3399ff"/>
          </a:solidFill>
          <a:ln w="9720">
            <a:solidFill>
              <a:srgbClr val="99ccf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Законе 1992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101920" y="6215040"/>
            <a:ext cx="4041720" cy="457200"/>
          </a:xfrm>
          <a:prstGeom prst="rect">
            <a:avLst/>
          </a:prstGeom>
          <a:solidFill>
            <a:srgbClr val="3399ff"/>
          </a:solidFill>
          <a:ln w="9720">
            <a:solidFill>
              <a:srgbClr val="99ccf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Законе 2012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Стрелка вправо 12"/>
          <p:cNvSpPr/>
          <p:nvPr/>
        </p:nvSpPr>
        <p:spPr>
          <a:xfrm>
            <a:off x="4429080" y="6143760"/>
            <a:ext cx="571680" cy="714240"/>
          </a:xfrm>
          <a:prstGeom prst="rightArrow">
            <a:avLst>
              <a:gd name="adj1" fmla="val 42889"/>
              <a:gd name="adj2" fmla="val 100000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Номер слайда 17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B34F-A3EB-45EA-8015-585BCE68B637}" type="slidenum">
              <a:rPr b="0" lang="ru-RU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Содержимое 4"/>
          <p:cNvGrpSpPr/>
          <p:nvPr/>
        </p:nvGrpSpPr>
        <p:grpSpPr>
          <a:xfrm>
            <a:off x="249120" y="212760"/>
            <a:ext cx="7907400" cy="933480"/>
            <a:chOff x="249120" y="212760"/>
            <a:chExt cx="7907400" cy="933480"/>
          </a:xfrm>
        </p:grpSpPr>
        <p:pic>
          <p:nvPicPr>
            <p:cNvPr id="274" name="Содержимое 4" descr=""/>
            <p:cNvPicPr/>
            <p:nvPr/>
          </p:nvPicPr>
          <p:blipFill>
            <a:blip r:embed="rId1"/>
            <a:stretch/>
          </p:blipFill>
          <p:spPr>
            <a:xfrm>
              <a:off x="249120" y="212760"/>
              <a:ext cx="790740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250920" y="214200"/>
              <a:ext cx="790236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200" spc="-1" strike="noStrike">
                  <a:solidFill>
                    <a:srgbClr val="ff9900"/>
                  </a:solidFill>
                  <a:latin typeface="Arial"/>
                </a:rPr>
                <a:t>Федеральные государственные </a:t>
              </a:r>
              <a:r>
                <a:rPr b="1" lang="ru-RU" sz="2200" spc="-1" strike="noStrike" u="sng">
                  <a:solidFill>
                    <a:srgbClr val="ff9900"/>
                  </a:solidFill>
                  <a:uFillTx/>
                  <a:latin typeface="Arial"/>
                </a:rPr>
                <a:t>образовательные стандарты (ФГОС)</a:t>
              </a:r>
              <a:r>
                <a:rPr b="1" lang="ru-RU" sz="2200" spc="-1" strike="noStrike">
                  <a:solidFill>
                    <a:srgbClr val="ff9900"/>
                  </a:solidFill>
                  <a:latin typeface="Arial"/>
                </a:rPr>
                <a:t>. Федеральные государственные </a:t>
              </a:r>
              <a:r>
                <a:rPr b="1" lang="ru-RU" sz="2200" spc="-1" strike="noStrike" u="sng">
                  <a:solidFill>
                    <a:srgbClr val="ff9900"/>
                  </a:solidFill>
                  <a:uFillTx/>
                  <a:latin typeface="Arial"/>
                </a:rPr>
                <a:t>требования (ФГТ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6" name="Схема 16" descr=""/>
          <p:cNvPicPr/>
          <p:nvPr/>
        </p:nvPicPr>
        <p:blipFill>
          <a:blip r:embed="rId2"/>
          <a:stretch/>
        </p:blipFill>
        <p:spPr>
          <a:xfrm>
            <a:off x="347760" y="1427040"/>
            <a:ext cx="4022640" cy="4572000"/>
          </a:xfrm>
          <a:prstGeom prst="rect">
            <a:avLst/>
          </a:prstGeom>
          <a:ln w="0">
            <a:noFill/>
          </a:ln>
        </p:spPr>
      </p:pic>
      <p:pic>
        <p:nvPicPr>
          <p:cNvPr id="277" name="Схема 20" descr=""/>
          <p:cNvPicPr/>
          <p:nvPr/>
        </p:nvPicPr>
        <p:blipFill>
          <a:blip r:embed="rId3"/>
          <a:stretch/>
        </p:blipFill>
        <p:spPr>
          <a:xfrm>
            <a:off x="4632480" y="1347840"/>
            <a:ext cx="4024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ФГОС и ФГТ  обеспечиваю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1)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единство образовательного пространства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2)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реемственность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сновных образовательных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3)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ариативность содержания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бразовательных программ соответствующего уровня образования, возможность формирования образовательных программ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различных уровней сложности и направленности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с учетом образовательных потребностей и способностей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4)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государственные гарантии уровня и качества образования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а основе единства обязательных требований к условиям реализации основных образовательных программ и результатам их осво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Современные требования</a:t>
            </a:r>
            <a:br>
              <a:rPr sz="3200"/>
            </a:b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к образованию. Гл. 2</a:t>
            </a:r>
            <a:br>
              <a:rPr sz="3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 rot="19733400">
            <a:off x="3738600" y="3119040"/>
            <a:ext cx="1764720" cy="845640"/>
          </a:xfrm>
          <a:prstGeom prst="rect">
            <a:avLst/>
          </a:prstGeom>
          <a:gradFill rotWithShape="0">
            <a:gsLst>
              <a:gs pos="0">
                <a:srgbClr val="1c2a00"/>
              </a:gs>
              <a:gs pos="50000">
                <a:srgbClr val="669900"/>
              </a:gs>
              <a:gs pos="100000">
                <a:srgbClr val="1c2a00"/>
              </a:gs>
            </a:gsLst>
            <a:lin ang="4566000"/>
          </a:gra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ubPieSlice"/>
          <p:cNvSpPr/>
          <p:nvPr/>
        </p:nvSpPr>
        <p:spPr>
          <a:xfrm rot="19868400">
            <a:off x="1317600" y="1638000"/>
            <a:ext cx="6227640" cy="4271760"/>
          </a:xfrm>
          <a:custGeom>
            <a:avLst/>
            <a:gdLst>
              <a:gd name="textAreaLeft" fmla="*/ 911880 w 6227640"/>
              <a:gd name="textAreaRight" fmla="*/ 5315760 w 6227640"/>
              <a:gd name="textAreaTop" fmla="*/ 625320 h 4271760"/>
              <a:gd name="textAreaBottom" fmla="*/ 3646440 h 4271760"/>
            </a:gdLst>
            <a:ahLst/>
            <a:rect l="textAreaLeft" t="textAreaTop" r="textAreaRight" b="textAreaBottom"/>
            <a:pathLst>
              <a:path w="21600" h="21600">
                <a:moveTo>
                  <a:pt x="13091" y="246"/>
                </a:moveTo>
                <a:cubicBezTo>
                  <a:pt x="12338" y="82"/>
                  <a:pt x="11570" y="0"/>
                  <a:pt x="10800" y="0"/>
                </a:cubicBezTo>
                <a:cubicBezTo>
                  <a:pt x="7908" y="0"/>
                  <a:pt x="5137" y="1159"/>
                  <a:pt x="3107" y="3218"/>
                </a:cubicBezTo>
                <a:lnTo>
                  <a:pt x="10800" y="10800"/>
                </a:lnTo>
                <a:lnTo>
                  <a:pt x="13091" y="246"/>
                </a:lnTo>
                <a:close/>
              </a:path>
            </a:pathLst>
          </a:custGeom>
          <a:gradFill rotWithShape="0">
            <a:gsLst>
              <a:gs pos="0">
                <a:srgbClr val="ccff99"/>
              </a:gs>
              <a:gs pos="100000">
                <a:srgbClr val="445533"/>
              </a:gs>
            </a:gsLst>
            <a:lin ang="44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ubPieSlice"/>
          <p:cNvSpPr/>
          <p:nvPr/>
        </p:nvSpPr>
        <p:spPr>
          <a:xfrm rot="19858800">
            <a:off x="1349280" y="1636200"/>
            <a:ext cx="6154920" cy="4275360"/>
          </a:xfrm>
          <a:custGeom>
            <a:avLst/>
            <a:gdLst>
              <a:gd name="textAreaLeft" fmla="*/ 901080 w 6154920"/>
              <a:gd name="textAreaRight" fmla="*/ 5253840 w 6154920"/>
              <a:gd name="textAreaTop" fmla="*/ 626040 h 4275360"/>
              <a:gd name="textAreaBottom" fmla="*/ 3649320 h 4275360"/>
            </a:gdLst>
            <a:ahLst/>
            <a:rect l="textAreaLeft" t="textAreaTop" r="textAreaRight" b="textAreaBottom"/>
            <a:pathLst>
              <a:path w="21600" h="21600">
                <a:moveTo>
                  <a:pt x="21417" y="8823"/>
                </a:moveTo>
                <a:cubicBezTo>
                  <a:pt x="20622" y="4552"/>
                  <a:pt x="17345" y="1173"/>
                  <a:pt x="13101" y="247"/>
                </a:cubicBezTo>
                <a:lnTo>
                  <a:pt x="10800" y="10800"/>
                </a:lnTo>
                <a:lnTo>
                  <a:pt x="21417" y="8823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926d"/>
              </a:gs>
            </a:gsLst>
            <a:lin ang="4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ubPieSlice"/>
          <p:cNvSpPr/>
          <p:nvPr/>
        </p:nvSpPr>
        <p:spPr>
          <a:xfrm rot="19858800">
            <a:off x="1501920" y="1788840"/>
            <a:ext cx="6154560" cy="4275000"/>
          </a:xfrm>
          <a:custGeom>
            <a:avLst/>
            <a:gdLst>
              <a:gd name="textAreaLeft" fmla="*/ 901080 w 6154560"/>
              <a:gd name="textAreaRight" fmla="*/ 5253480 w 6154560"/>
              <a:gd name="textAreaTop" fmla="*/ 626040 h 4275000"/>
              <a:gd name="textAreaBottom" fmla="*/ 3648960 h 4275000"/>
            </a:gdLst>
            <a:ahLst/>
            <a:rect l="textAreaLeft" t="textAreaTop" r="textAreaRight" b="textAreaBottom"/>
            <a:pathLst>
              <a:path w="21600" h="21600">
                <a:moveTo>
                  <a:pt x="21417" y="8823"/>
                </a:moveTo>
                <a:cubicBezTo>
                  <a:pt x="20622" y="4552"/>
                  <a:pt x="17345" y="1173"/>
                  <a:pt x="13101" y="247"/>
                </a:cubicBezTo>
                <a:lnTo>
                  <a:pt x="10800" y="10800"/>
                </a:lnTo>
                <a:lnTo>
                  <a:pt x="21417" y="8823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926d"/>
              </a:gs>
            </a:gsLst>
            <a:lin ang="4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ubPieSlice"/>
          <p:cNvSpPr/>
          <p:nvPr/>
        </p:nvSpPr>
        <p:spPr>
          <a:xfrm rot="19868400">
            <a:off x="1336680" y="1634760"/>
            <a:ext cx="6156360" cy="4303800"/>
          </a:xfrm>
          <a:custGeom>
            <a:avLst/>
            <a:gdLst>
              <a:gd name="textAreaLeft" fmla="*/ 901440 w 6156360"/>
              <a:gd name="textAreaRight" fmla="*/ 5254920 w 6156360"/>
              <a:gd name="textAreaTop" fmla="*/ 630000 h 4303800"/>
              <a:gd name="textAreaBottom" fmla="*/ 3673800 h 4303800"/>
            </a:gdLst>
            <a:ahLst/>
            <a:rect l="textAreaLeft" t="textAreaTop" r="textAreaRight" b="textAreaBottom"/>
            <a:pathLst>
              <a:path w="21600" h="21600">
                <a:moveTo>
                  <a:pt x="18494" y="18378"/>
                </a:moveTo>
                <a:cubicBezTo>
                  <a:pt x="20484" y="16358"/>
                  <a:pt x="21600" y="13635"/>
                  <a:pt x="21600" y="10800"/>
                </a:cubicBezTo>
                <a:cubicBezTo>
                  <a:pt x="21600" y="9806"/>
                  <a:pt x="21463" y="8818"/>
                  <a:pt x="21192" y="7863"/>
                </a:cubicBezTo>
                <a:lnTo>
                  <a:pt x="10800" y="10800"/>
                </a:lnTo>
                <a:lnTo>
                  <a:pt x="18494" y="18378"/>
                </a:lnTo>
                <a:close/>
              </a:path>
            </a:pathLst>
          </a:custGeom>
          <a:gradFill rotWithShape="0">
            <a:gsLst>
              <a:gs pos="0">
                <a:srgbClr val="61c78a"/>
              </a:gs>
              <a:gs pos="100000">
                <a:srgbClr val="74eea5"/>
              </a:gs>
            </a:gsLst>
            <a:lin ang="206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ubPieSlice"/>
          <p:cNvSpPr/>
          <p:nvPr/>
        </p:nvSpPr>
        <p:spPr>
          <a:xfrm rot="19868400">
            <a:off x="1365120" y="1665000"/>
            <a:ext cx="6140520" cy="4252680"/>
          </a:xfrm>
          <a:custGeom>
            <a:avLst/>
            <a:gdLst>
              <a:gd name="textAreaLeft" fmla="*/ 898920 w 6140520"/>
              <a:gd name="textAreaRight" fmla="*/ 5241600 w 6140520"/>
              <a:gd name="textAreaTop" fmla="*/ 622440 h 4252680"/>
              <a:gd name="textAreaBottom" fmla="*/ 3630240 h 4252680"/>
            </a:gdLst>
            <a:ahLst/>
            <a:rect l="textAreaLeft" t="textAreaTop" r="textAreaRight" b="textAreaBottom"/>
            <a:pathLst>
              <a:path w="21600" h="21600">
                <a:moveTo>
                  <a:pt x="8318" y="21311"/>
                </a:moveTo>
                <a:cubicBezTo>
                  <a:pt x="9132" y="21503"/>
                  <a:pt x="9964" y="21599"/>
                  <a:pt x="10800" y="21599"/>
                </a:cubicBezTo>
                <a:cubicBezTo>
                  <a:pt x="13756" y="21599"/>
                  <a:pt x="16583" y="20388"/>
                  <a:pt x="18621" y="18247"/>
                </a:cubicBezTo>
                <a:lnTo>
                  <a:pt x="10800" y="10800"/>
                </a:lnTo>
                <a:lnTo>
                  <a:pt x="8318" y="21311"/>
                </a:lnTo>
                <a:close/>
              </a:path>
            </a:pathLst>
          </a:custGeom>
          <a:gradFill rotWithShape="0">
            <a:gsLst>
              <a:gs pos="0">
                <a:srgbClr val="c1e99d"/>
              </a:gs>
              <a:gs pos="100000">
                <a:srgbClr val="61c804"/>
              </a:gs>
            </a:gsLst>
            <a:lin ang="20634000"/>
          </a:gra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ubPieSlice"/>
          <p:cNvSpPr/>
          <p:nvPr/>
        </p:nvSpPr>
        <p:spPr>
          <a:xfrm rot="21058200">
            <a:off x="1066680" y="1066680"/>
            <a:ext cx="6262920" cy="4937400"/>
          </a:xfrm>
          <a:custGeom>
            <a:avLst/>
            <a:gdLst>
              <a:gd name="textAreaLeft" fmla="*/ 916920 w 6262920"/>
              <a:gd name="textAreaRight" fmla="*/ 5346000 w 6262920"/>
              <a:gd name="textAreaTop" fmla="*/ 722880 h 4937400"/>
              <a:gd name="textAreaBottom" fmla="*/ 4214520 h 4937400"/>
            </a:gdLst>
            <a:ahLst/>
            <a:rect l="textAreaLeft" t="textAreaTop" r="textAreaRight" b="textAreaBottom"/>
            <a:pathLst>
              <a:path w="21600" h="21600">
                <a:moveTo>
                  <a:pt x="15290" y="978"/>
                </a:moveTo>
                <a:cubicBezTo>
                  <a:pt x="13881" y="333"/>
                  <a:pt x="12349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599" y="6597"/>
                  <a:pt x="19161" y="2775"/>
                  <a:pt x="15349" y="1005"/>
                </a:cubicBezTo>
                <a:lnTo>
                  <a:pt x="10800" y="10800"/>
                </a:lnTo>
                <a:lnTo>
                  <a:pt x="15290" y="978"/>
                </a:lnTo>
                <a:close/>
              </a:path>
            </a:pathLst>
          </a:custGeom>
          <a:gradFill rotWithShape="0">
            <a:gsLst>
              <a:gs pos="0">
                <a:srgbClr val="27d47d"/>
              </a:gs>
              <a:gs pos="100000">
                <a:srgbClr val="00cc66"/>
              </a:gs>
            </a:gsLst>
            <a:lin ang="1944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ubPieSlice"/>
          <p:cNvSpPr/>
          <p:nvPr/>
        </p:nvSpPr>
        <p:spPr>
          <a:xfrm rot="19868400">
            <a:off x="1325520" y="1644120"/>
            <a:ext cx="6189840" cy="4253040"/>
          </a:xfrm>
          <a:custGeom>
            <a:avLst/>
            <a:gdLst>
              <a:gd name="textAreaLeft" fmla="*/ 906120 w 6189840"/>
              <a:gd name="textAreaRight" fmla="*/ 5283720 w 6189840"/>
              <a:gd name="textAreaTop" fmla="*/ 622800 h 4253040"/>
              <a:gd name="textAreaBottom" fmla="*/ 3630240 h 4253040"/>
            </a:gdLst>
            <a:ahLst/>
            <a:rect l="textAreaLeft" t="textAreaTop" r="textAreaRight" b="textAreaBottom"/>
            <a:pathLst>
              <a:path w="21600" h="21600">
                <a:moveTo>
                  <a:pt x="3097" y="3229"/>
                </a:moveTo>
                <a:cubicBezTo>
                  <a:pt x="1112" y="5249"/>
                  <a:pt x="0" y="7967"/>
                  <a:pt x="0" y="10799"/>
                </a:cubicBezTo>
                <a:cubicBezTo>
                  <a:pt x="0" y="12026"/>
                  <a:pt x="208" y="13243"/>
                  <a:pt x="617" y="14399"/>
                </a:cubicBezTo>
                <a:lnTo>
                  <a:pt x="10800" y="10800"/>
                </a:lnTo>
                <a:lnTo>
                  <a:pt x="3097" y="3229"/>
                </a:lnTo>
                <a:close/>
              </a:path>
            </a:pathLst>
          </a:custGeom>
          <a:gradFill rotWithShape="0">
            <a:gsLst>
              <a:gs pos="0">
                <a:srgbClr val="9ae567"/>
              </a:gs>
              <a:gs pos="100000">
                <a:srgbClr val="679945"/>
              </a:gs>
            </a:gsLst>
            <a:lin ang="206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ubPieSlice"/>
          <p:cNvSpPr/>
          <p:nvPr/>
        </p:nvSpPr>
        <p:spPr>
          <a:xfrm rot="19868400">
            <a:off x="1371600" y="1599840"/>
            <a:ext cx="6227640" cy="4538520"/>
          </a:xfrm>
          <a:custGeom>
            <a:avLst/>
            <a:gdLst>
              <a:gd name="textAreaLeft" fmla="*/ 911880 w 6227640"/>
              <a:gd name="textAreaRight" fmla="*/ 5315760 w 6227640"/>
              <a:gd name="textAreaTop" fmla="*/ 664560 h 4538520"/>
              <a:gd name="textAreaBottom" fmla="*/ 3873960 h 4538520"/>
            </a:gdLst>
            <a:ahLst/>
            <a:rect l="textAreaLeft" t="textAreaTop" r="textAreaRight" b="textAreaBottom"/>
            <a:pathLst>
              <a:path w="21600" h="21600">
                <a:moveTo>
                  <a:pt x="13091" y="246"/>
                </a:moveTo>
                <a:cubicBezTo>
                  <a:pt x="12338" y="82"/>
                  <a:pt x="11570" y="0"/>
                  <a:pt x="10800" y="0"/>
                </a:cubicBezTo>
                <a:cubicBezTo>
                  <a:pt x="7908" y="0"/>
                  <a:pt x="5137" y="1159"/>
                  <a:pt x="3107" y="3218"/>
                </a:cubicBezTo>
                <a:lnTo>
                  <a:pt x="10800" y="10800"/>
                </a:lnTo>
                <a:lnTo>
                  <a:pt x="13091" y="246"/>
                </a:lnTo>
                <a:close/>
              </a:path>
            </a:pathLst>
          </a:custGeom>
          <a:gradFill rotWithShape="0">
            <a:gsLst>
              <a:gs pos="0">
                <a:srgbClr val="ccff99"/>
              </a:gs>
              <a:gs pos="100000">
                <a:srgbClr val="445533"/>
              </a:gs>
            </a:gsLst>
            <a:lin ang="44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ubPieSlice"/>
          <p:cNvSpPr/>
          <p:nvPr/>
        </p:nvSpPr>
        <p:spPr>
          <a:xfrm rot="19858800">
            <a:off x="1371600" y="1599840"/>
            <a:ext cx="6154560" cy="4275000"/>
          </a:xfrm>
          <a:custGeom>
            <a:avLst/>
            <a:gdLst>
              <a:gd name="textAreaLeft" fmla="*/ 901080 w 6154560"/>
              <a:gd name="textAreaRight" fmla="*/ 5253480 w 6154560"/>
              <a:gd name="textAreaTop" fmla="*/ 626040 h 4275000"/>
              <a:gd name="textAreaBottom" fmla="*/ 3648960 h 4275000"/>
            </a:gdLst>
            <a:ahLst/>
            <a:rect l="textAreaLeft" t="textAreaTop" r="textAreaRight" b="textAreaBottom"/>
            <a:pathLst>
              <a:path w="21600" h="21600">
                <a:moveTo>
                  <a:pt x="21417" y="8823"/>
                </a:moveTo>
                <a:cubicBezTo>
                  <a:pt x="20622" y="4552"/>
                  <a:pt x="17345" y="1173"/>
                  <a:pt x="13101" y="247"/>
                </a:cubicBezTo>
                <a:lnTo>
                  <a:pt x="10800" y="10800"/>
                </a:lnTo>
                <a:lnTo>
                  <a:pt x="21417" y="8823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926d"/>
              </a:gs>
            </a:gsLst>
            <a:lin ang="44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ubPieSlice"/>
          <p:cNvSpPr/>
          <p:nvPr/>
        </p:nvSpPr>
        <p:spPr>
          <a:xfrm rot="19868400">
            <a:off x="1523880" y="1599840"/>
            <a:ext cx="6156360" cy="4303800"/>
          </a:xfrm>
          <a:custGeom>
            <a:avLst/>
            <a:gdLst>
              <a:gd name="textAreaLeft" fmla="*/ 901440 w 6156360"/>
              <a:gd name="textAreaRight" fmla="*/ 5254920 w 6156360"/>
              <a:gd name="textAreaTop" fmla="*/ 630000 h 4303800"/>
              <a:gd name="textAreaBottom" fmla="*/ 3673800 h 4303800"/>
            </a:gdLst>
            <a:ahLst/>
            <a:rect l="textAreaLeft" t="textAreaTop" r="textAreaRight" b="textAreaBottom"/>
            <a:pathLst>
              <a:path w="21600" h="21600">
                <a:moveTo>
                  <a:pt x="18494" y="18378"/>
                </a:moveTo>
                <a:cubicBezTo>
                  <a:pt x="20484" y="16358"/>
                  <a:pt x="21600" y="13635"/>
                  <a:pt x="21600" y="10800"/>
                </a:cubicBezTo>
                <a:cubicBezTo>
                  <a:pt x="21600" y="9806"/>
                  <a:pt x="21463" y="8818"/>
                  <a:pt x="21192" y="7863"/>
                </a:cubicBezTo>
                <a:lnTo>
                  <a:pt x="10800" y="10800"/>
                </a:lnTo>
                <a:lnTo>
                  <a:pt x="18494" y="18378"/>
                </a:lnTo>
                <a:close/>
              </a:path>
            </a:pathLst>
          </a:custGeom>
          <a:gradFill rotWithShape="0">
            <a:gsLst>
              <a:gs pos="0">
                <a:srgbClr val="61c78a"/>
              </a:gs>
              <a:gs pos="100000">
                <a:srgbClr val="74eea5"/>
              </a:gs>
            </a:gsLst>
            <a:lin ang="206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ubPieSlice"/>
          <p:cNvSpPr/>
          <p:nvPr/>
        </p:nvSpPr>
        <p:spPr>
          <a:xfrm rot="19868400">
            <a:off x="1447920" y="1676520"/>
            <a:ext cx="6140160" cy="4252680"/>
          </a:xfrm>
          <a:custGeom>
            <a:avLst/>
            <a:gdLst>
              <a:gd name="textAreaLeft" fmla="*/ 898920 w 6140160"/>
              <a:gd name="textAreaRight" fmla="*/ 5241240 w 6140160"/>
              <a:gd name="textAreaTop" fmla="*/ 622440 h 4252680"/>
              <a:gd name="textAreaBottom" fmla="*/ 3630240 h 4252680"/>
            </a:gdLst>
            <a:ahLst/>
            <a:rect l="textAreaLeft" t="textAreaTop" r="textAreaRight" b="textAreaBottom"/>
            <a:pathLst>
              <a:path w="21600" h="21600">
                <a:moveTo>
                  <a:pt x="8318" y="21311"/>
                </a:moveTo>
                <a:cubicBezTo>
                  <a:pt x="9132" y="21503"/>
                  <a:pt x="9964" y="21599"/>
                  <a:pt x="10800" y="21599"/>
                </a:cubicBezTo>
                <a:cubicBezTo>
                  <a:pt x="13756" y="21599"/>
                  <a:pt x="16583" y="20388"/>
                  <a:pt x="18621" y="18247"/>
                </a:cubicBezTo>
                <a:lnTo>
                  <a:pt x="10800" y="10800"/>
                </a:lnTo>
                <a:lnTo>
                  <a:pt x="8318" y="21311"/>
                </a:lnTo>
                <a:close/>
              </a:path>
            </a:pathLst>
          </a:custGeom>
          <a:gradFill rotWithShape="0">
            <a:gsLst>
              <a:gs pos="0">
                <a:srgbClr val="c1e99d"/>
              </a:gs>
              <a:gs pos="100000">
                <a:srgbClr val="61c804"/>
              </a:gs>
            </a:gsLst>
            <a:lin ang="20634000"/>
          </a:gra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1"/>
          <p:cNvSpPr/>
          <p:nvPr/>
        </p:nvSpPr>
        <p:spPr>
          <a:xfrm rot="19733400">
            <a:off x="3169800" y="2939760"/>
            <a:ext cx="2568600" cy="1582560"/>
          </a:xfrm>
          <a:prstGeom prst="ellipse">
            <a:avLst/>
          </a:prstGeom>
          <a:gradFill rotWithShape="0">
            <a:gsLst>
              <a:gs pos="0">
                <a:srgbClr val="1c2a00"/>
              </a:gs>
              <a:gs pos="50000">
                <a:srgbClr val="669900"/>
              </a:gs>
              <a:gs pos="100000">
                <a:srgbClr val="1c2a00"/>
              </a:gs>
            </a:gsLst>
            <a:lin ang="456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9"/>
          <p:cNvSpPr/>
          <p:nvPr/>
        </p:nvSpPr>
        <p:spPr>
          <a:xfrm>
            <a:off x="533520" y="24382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информ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сурсы (ст. 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0"/>
          <p:cNvSpPr/>
          <p:nvPr/>
        </p:nvSpPr>
        <p:spPr>
          <a:xfrm>
            <a:off x="2590920" y="5410080"/>
            <a:ext cx="3952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ловия 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сперимент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инновацио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ятельности (ст.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 flipV="1" rot="10800000">
            <a:off x="5789160" y="5102640"/>
            <a:ext cx="274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иров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ы (ст.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2"/>
          <p:cNvSpPr/>
          <p:nvPr/>
        </p:nvSpPr>
        <p:spPr>
          <a:xfrm>
            <a:off x="6324480" y="25909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тан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электр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ии (ст. 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4419720" y="1523880"/>
            <a:ext cx="24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те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аимодействие (ст. 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2"/>
          <p:cNvSpPr/>
          <p:nvPr/>
        </p:nvSpPr>
        <p:spPr>
          <a:xfrm rot="19729800">
            <a:off x="2743200" y="2666520"/>
            <a:ext cx="3357720" cy="2086200"/>
          </a:xfrm>
          <a:custGeom>
            <a:avLst/>
            <a:gdLst>
              <a:gd name="textAreaLeft" fmla="*/ 491400 w 3357720"/>
              <a:gd name="textAreaRight" fmla="*/ 2866320 w 3357720"/>
              <a:gd name="textAreaTop" fmla="*/ 305280 h 2086200"/>
              <a:gd name="textAreaBottom" fmla="*/ 1780920 h 2086200"/>
            </a:gdLst>
            <a:ahLst/>
            <a:rect l="textAreaLeft" t="textAreaTop" r="textAreaRight" b="textAreaBottom"/>
            <a:pathLst>
              <a:path w="21600" h="21600">
                <a:moveTo>
                  <a:pt x="18115" y="14512"/>
                </a:moveTo>
                <a:cubicBezTo>
                  <a:pt x="18699" y="13362"/>
                  <a:pt x="19004" y="12090"/>
                  <a:pt x="19004" y="10800"/>
                </a:cubicBezTo>
                <a:cubicBezTo>
                  <a:pt x="19004" y="6269"/>
                  <a:pt x="15330" y="2596"/>
                  <a:pt x="10800" y="2596"/>
                </a:cubicBezTo>
                <a:cubicBezTo>
                  <a:pt x="6269" y="2596"/>
                  <a:pt x="2596" y="6269"/>
                  <a:pt x="2596" y="10800"/>
                </a:cubicBezTo>
                <a:cubicBezTo>
                  <a:pt x="2596" y="15330"/>
                  <a:pt x="6269" y="19004"/>
                  <a:pt x="10800" y="19004"/>
                </a:cubicBezTo>
                <a:cubicBezTo>
                  <a:pt x="11106" y="19003"/>
                  <a:pt x="11412" y="18986"/>
                  <a:pt x="11716" y="18952"/>
                </a:cubicBezTo>
                <a:lnTo>
                  <a:pt x="12006" y="21532"/>
                </a:lnTo>
                <a:cubicBezTo>
                  <a:pt x="11605" y="21577"/>
                  <a:pt x="11203" y="21599"/>
                  <a:pt x="10800" y="21599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599" y="12498"/>
                  <a:pt x="21199" y="14173"/>
                  <a:pt x="20430" y="15687"/>
                </a:cubicBezTo>
                <a:lnTo>
                  <a:pt x="22838" y="16909"/>
                </a:lnTo>
                <a:lnTo>
                  <a:pt x="17463" y="18665"/>
                </a:lnTo>
                <a:lnTo>
                  <a:pt x="15708" y="13290"/>
                </a:lnTo>
                <a:lnTo>
                  <a:pt x="18115" y="14512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b5ff9c"/>
              </a:gs>
            </a:gsLst>
            <a:lin ang="4572000"/>
          </a:gradFill>
          <a:ln w="9360">
            <a:solidFill>
              <a:srgbClr val="336600"/>
            </a:solidFill>
            <a:miter/>
          </a:ln>
          <a:effectLst>
            <a:outerShdw dist="180599" dir="3039742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Электронные и дистанционные техноло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0880" y="1371600"/>
            <a:ext cx="4724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Arial"/>
              </a:rPr>
              <a:t>Электронное обучение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– это организация образовательной деятельности с применением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информации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, содержащейся в базах данных и используемой при реализации о/программ,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информационных технологий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, обеспечивающих ее обработку,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технических средств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, а также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информационно-телекоммуникационных сетей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, обеспечивающих передачу по линиям связи указанной информации,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взаимодействие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бучающихся и педагогических работ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181120" y="137160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Arial"/>
              </a:rPr>
              <a:t>Дистанционные образовательные технологии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– это образовательные технологии, реализуемые в основном с применением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информационно-телекоммуникационных сетей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при опосредованном (на расстоянии)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взаимодействии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обучающихся и педагогических работ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Экспериментальная и инновационная деятельность в сфере образования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ff9900"/>
                </a:solidFill>
                <a:latin typeface="Arial"/>
              </a:rPr>
              <a:t>Цель: обеспечение модернизации и развития системы 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0520" y="15235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Arial"/>
              </a:rPr>
              <a:t>Экспериментальная деятельность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аправлена на разработку, апробацию и внедрение новых образовательных технологий, образовательных ресурсов и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осуществляется в форме экспериментов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, порядок и условия проведения которых определяются Правительством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495320" y="152352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Arial"/>
              </a:rPr>
              <a:t>Инновационная деятельность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риентирована на совершенствование научно-педагогического, учебно-методического, организационного, правового, финансово-экономического, кадрового, материально-технического обеспечения системы образования и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осуществляется в форме реализации инновационных проектов и програм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9900"/>
                </a:solidFill>
                <a:latin typeface="Arial Narrow"/>
              </a:rPr>
              <a:t>Общая характеристика законодательства в области образования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66000" y="1656720"/>
            <a:ext cx="3772440" cy="2019960"/>
          </a:xfrm>
          <a:prstGeom prst="rect">
            <a:avLst/>
          </a:prstGeom>
          <a:solidFill>
            <a:srgbClr val="9999ff"/>
          </a:solidFill>
          <a:ln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669999">
                <a:alpha val="50000"/>
              </a:srgbClr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намичное развитие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ы модер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ы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2200" y="3959280"/>
            <a:ext cx="3892680" cy="259704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669999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ыв меж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ребност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тельной пра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её законодате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спеч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270760" y="1918080"/>
            <a:ext cx="3174480" cy="355536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ание для разработки ФЗ "Об образовании в Российской Федерации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10"/>
          <p:cNvCxnSpPr/>
          <p:nvPr/>
        </p:nvCxnSpPr>
        <p:spPr>
          <a:xfrm flipV="1">
            <a:off x="4660560" y="3924000"/>
            <a:ext cx="965880" cy="10288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9"/>
          <p:cNvCxnSpPr/>
          <p:nvPr/>
        </p:nvCxnSpPr>
        <p:spPr>
          <a:xfrm>
            <a:off x="4660560" y="2819160"/>
            <a:ext cx="965880" cy="11055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Изменение и упорядочение типологии</a:t>
            </a:r>
            <a:br>
              <a:rPr sz="2400"/>
            </a:b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бразовательных организаций. Гл. 3, ст. 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005480" y="2802960"/>
            <a:ext cx="3018240" cy="3233520"/>
          </a:xfrm>
          <a:prstGeom prst="rect">
            <a:avLst/>
          </a:prstGeom>
          <a:gradFill rotWithShape="0">
            <a:gsLst>
              <a:gs pos="0">
                <a:srgbClr val="003b76"/>
              </a:gs>
              <a:gs pos="100000">
                <a:srgbClr val="54d060"/>
              </a:gs>
            </a:gsLst>
            <a:lin ang="0"/>
          </a:gra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шко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тель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образовате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фессион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тель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тельная организация высше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7"/>
          <p:cNvSpPr/>
          <p:nvPr/>
        </p:nvSpPr>
        <p:spPr>
          <a:xfrm>
            <a:off x="4800600" y="2209680"/>
            <a:ext cx="3962520" cy="4572000"/>
          </a:xfrm>
          <a:prstGeom prst="ellipse">
            <a:avLst/>
          </a:prstGeom>
          <a:gradFill rotWithShape="0">
            <a:gsLst>
              <a:gs pos="0">
                <a:srgbClr val="eab764"/>
              </a:gs>
              <a:gs pos="100000">
                <a:srgbClr val="003b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фессиона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380880" y="12952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е организа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ализующие осн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е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4495680" y="13716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е организа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ализующие допол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е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Федеральный закон «Об образовании в Российской Федерации» Гл.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Рисунок 3" descr="10006.png"/>
          <p:cNvPicPr/>
          <p:nvPr/>
        </p:nvPicPr>
        <p:blipFill>
          <a:blip r:embed="rId1"/>
          <a:srcRect l="0" t="8624" r="0" b="0"/>
          <a:stretch/>
        </p:blipFill>
        <p:spPr>
          <a:xfrm>
            <a:off x="609480" y="1600200"/>
            <a:ext cx="7696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Устав образовательной организации. Гл 3, ст. 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742840" y="5410080"/>
            <a:ext cx="57913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зменение Устава до 1 января 2016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4"/>
          <p:cNvSpPr/>
          <p:nvPr/>
        </p:nvSpPr>
        <p:spPr>
          <a:xfrm>
            <a:off x="3124080" y="3048120"/>
            <a:ext cx="1729080" cy="98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ТА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5"/>
          <p:cNvSpPr/>
          <p:nvPr/>
        </p:nvSpPr>
        <p:spPr>
          <a:xfrm>
            <a:off x="990720" y="1981080"/>
            <a:ext cx="1790640" cy="1150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ователь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6"/>
          <p:cNvSpPr/>
          <p:nvPr/>
        </p:nvSpPr>
        <p:spPr>
          <a:xfrm>
            <a:off x="5334120" y="1981080"/>
            <a:ext cx="1828800" cy="1155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реди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учредител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ователь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7"/>
          <p:cNvSpPr/>
          <p:nvPr/>
        </p:nvSpPr>
        <p:spPr>
          <a:xfrm>
            <a:off x="838080" y="4191120"/>
            <a:ext cx="1981440" cy="1218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уктура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ов 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ователь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8"/>
          <p:cNvSpPr/>
          <p:nvPr/>
        </p:nvSpPr>
        <p:spPr>
          <a:xfrm>
            <a:off x="5334120" y="4114800"/>
            <a:ext cx="188424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иды реализуем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ова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2819520" y="2743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H="1">
            <a:off x="4800240" y="2819520"/>
            <a:ext cx="68580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2590920" y="3809880"/>
            <a:ext cx="68580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 flipV="1">
            <a:off x="4648320" y="38098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Управление образовательной организацией. 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Статья 26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052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Единоличным исполнительным органом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бразовательной организации является руководитель образовательной организации (ректор,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директор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, заведующий, начальник или иной руководитель), который осуществляет текущее руководство деятельностью образовательной орган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Коллегиальные органы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управления в образовательной организации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бщее собрание (конференция) работников образовательной организ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педагогический совет/ученый со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попечительский со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управляющий со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аблюдательный совет и другие коллегиальные органы управления, предусмотренные уставом соответствующей образовательной орган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Локальные нормативные акты, регулирующие образовательные отношения.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Статья 30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бразовательная организация принимает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локальные нормативные акты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по основным вопросам организации и осуществления образовательн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регламентирующие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равила приема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бучающих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режим занятий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обучающих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форма, периодичность и порядок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текущего контроля успеваемости и промежуточной аттестации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обучающих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орядок и основания перевода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отчисления и восстановления обучающихся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орядок оформления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возникновения, приостановления и прекращения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отношений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между образовательной организацией и обучающимися и (или) родителями (законными представителями) несовершеннолетних обучаю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Содержимое 4"/>
          <p:cNvGrpSpPr/>
          <p:nvPr/>
        </p:nvGrpSpPr>
        <p:grpSpPr>
          <a:xfrm>
            <a:off x="249120" y="212760"/>
            <a:ext cx="8645760" cy="768240"/>
            <a:chOff x="249120" y="212760"/>
            <a:chExt cx="8645760" cy="768240"/>
          </a:xfrm>
        </p:grpSpPr>
        <p:pic>
          <p:nvPicPr>
            <p:cNvPr id="329" name="Содержимое 4" descr=""/>
            <p:cNvPicPr/>
            <p:nvPr/>
          </p:nvPicPr>
          <p:blipFill>
            <a:blip r:embed="rId1"/>
            <a:stretch/>
          </p:blipFill>
          <p:spPr>
            <a:xfrm>
              <a:off x="249120" y="212760"/>
              <a:ext cx="86457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250920" y="214200"/>
              <a:ext cx="864216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Обучающиес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Diagram 6"/>
          <p:cNvGrpSpPr/>
          <p:nvPr/>
        </p:nvGrpSpPr>
        <p:grpSpPr>
          <a:xfrm>
            <a:off x="1137240" y="1248480"/>
            <a:ext cx="7016760" cy="5070240"/>
            <a:chOff x="1137240" y="1248480"/>
            <a:chExt cx="7016760" cy="5070240"/>
          </a:xfrm>
        </p:grpSpPr>
        <p:sp>
          <p:nvSpPr>
            <p:cNvPr id="332" name="_s1028"/>
            <p:cNvSpPr/>
            <p:nvPr/>
          </p:nvSpPr>
          <p:spPr>
            <a:xfrm flipH="1" flipV="1">
              <a:off x="2952360" y="3149280"/>
              <a:ext cx="849960" cy="3189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029"/>
            <p:cNvSpPr/>
            <p:nvPr/>
          </p:nvSpPr>
          <p:spPr>
            <a:xfrm>
              <a:off x="1137240" y="2200680"/>
              <a:ext cx="1949760" cy="126792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ЕРЫ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ЦИА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ДДЕРЖ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030"/>
            <p:cNvSpPr/>
            <p:nvPr/>
          </p:nvSpPr>
          <p:spPr>
            <a:xfrm flipH="1">
              <a:off x="2954880" y="4100040"/>
              <a:ext cx="849960" cy="3189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031"/>
            <p:cNvSpPr/>
            <p:nvPr/>
          </p:nvSpPr>
          <p:spPr>
            <a:xfrm>
              <a:off x="1140120" y="4101840"/>
              <a:ext cx="1949760" cy="1267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ЯЗАН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032"/>
            <p:cNvSpPr/>
            <p:nvPr/>
          </p:nvSpPr>
          <p:spPr>
            <a:xfrm>
              <a:off x="4646880" y="4413960"/>
              <a:ext cx="0" cy="6382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033"/>
            <p:cNvSpPr/>
            <p:nvPr/>
          </p:nvSpPr>
          <p:spPr>
            <a:xfrm>
              <a:off x="3673800" y="5050440"/>
              <a:ext cx="1949760" cy="12682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АЩИТА ПРА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РЕГУЛ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ОР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034"/>
            <p:cNvSpPr/>
            <p:nvPr/>
          </p:nvSpPr>
          <p:spPr>
            <a:xfrm>
              <a:off x="5485680" y="4098240"/>
              <a:ext cx="849960" cy="3175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035"/>
            <p:cNvSpPr/>
            <p:nvPr/>
          </p:nvSpPr>
          <p:spPr>
            <a:xfrm>
              <a:off x="6203520" y="4100040"/>
              <a:ext cx="1950480" cy="126792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ИСЦИПЛИНАРНАЯ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ТВЕТСВЕ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036"/>
            <p:cNvSpPr/>
            <p:nvPr/>
          </p:nvSpPr>
          <p:spPr>
            <a:xfrm flipV="1">
              <a:off x="5485680" y="3147840"/>
              <a:ext cx="847080" cy="3189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037"/>
            <p:cNvSpPr/>
            <p:nvPr/>
          </p:nvSpPr>
          <p:spPr>
            <a:xfrm>
              <a:off x="6203520" y="2199240"/>
              <a:ext cx="1950480" cy="1267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ХРАНА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ДОРОВ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038"/>
            <p:cNvSpPr/>
            <p:nvPr/>
          </p:nvSpPr>
          <p:spPr>
            <a:xfrm flipV="1">
              <a:off x="4644360" y="2514240"/>
              <a:ext cx="0" cy="6368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039"/>
            <p:cNvSpPr/>
            <p:nvPr/>
          </p:nvSpPr>
          <p:spPr>
            <a:xfrm>
              <a:off x="3670560" y="1248480"/>
              <a:ext cx="1949760" cy="126792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КАДЕМИЧЕСКИЕ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А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040"/>
            <p:cNvSpPr/>
            <p:nvPr/>
          </p:nvSpPr>
          <p:spPr>
            <a:xfrm>
              <a:off x="3670560" y="3151440"/>
              <a:ext cx="1949760" cy="126792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ТАТУ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AutoShape 22"/>
          <p:cNvSpPr/>
          <p:nvPr/>
        </p:nvSpPr>
        <p:spPr>
          <a:xfrm>
            <a:off x="108000" y="1052640"/>
            <a:ext cx="1584360" cy="1224000"/>
          </a:xfrm>
          <a:prstGeom prst="wedgeEllipseCallout">
            <a:avLst>
              <a:gd name="adj1" fmla="val 39578"/>
              <a:gd name="adj2" fmla="val 78791"/>
            </a:avLst>
          </a:prstGeom>
          <a:solidFill>
            <a:srgbClr val="ffff99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ипендии, обеспечение учебниками, питанием, транспортом, общежития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т.д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23"/>
          <p:cNvSpPr/>
          <p:nvPr/>
        </p:nvSpPr>
        <p:spPr>
          <a:xfrm>
            <a:off x="7524720" y="5373720"/>
            <a:ext cx="1619280" cy="936720"/>
          </a:xfrm>
          <a:prstGeom prst="wedgeEllipseCallout">
            <a:avLst>
              <a:gd name="adj1" fmla="val -53921"/>
              <a:gd name="adj2" fmla="val -63726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 учетом мнения мнение органа самоуправления обучающихс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Содержимое 4"/>
          <p:cNvGrpSpPr/>
          <p:nvPr/>
        </p:nvGrpSpPr>
        <p:grpSpPr>
          <a:xfrm>
            <a:off x="249120" y="212760"/>
            <a:ext cx="8645760" cy="768240"/>
            <a:chOff x="249120" y="212760"/>
            <a:chExt cx="8645760" cy="768240"/>
          </a:xfrm>
        </p:grpSpPr>
        <p:pic>
          <p:nvPicPr>
            <p:cNvPr id="348" name="Содержимое 4" descr=""/>
            <p:cNvPicPr/>
            <p:nvPr/>
          </p:nvPicPr>
          <p:blipFill>
            <a:blip r:embed="rId1"/>
            <a:stretch/>
          </p:blipFill>
          <p:spPr>
            <a:xfrm>
              <a:off x="249120" y="212760"/>
              <a:ext cx="86457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50920" y="214200"/>
              <a:ext cx="864216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Педагогические работни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Diagram 6"/>
          <p:cNvGrpSpPr/>
          <p:nvPr/>
        </p:nvGrpSpPr>
        <p:grpSpPr>
          <a:xfrm>
            <a:off x="747720" y="1259280"/>
            <a:ext cx="7582680" cy="4943160"/>
            <a:chOff x="747720" y="1259280"/>
            <a:chExt cx="7582680" cy="4943160"/>
          </a:xfrm>
        </p:grpSpPr>
        <p:sp>
          <p:nvSpPr>
            <p:cNvPr id="351" name="_s2052"/>
            <p:cNvSpPr/>
            <p:nvPr/>
          </p:nvSpPr>
          <p:spPr>
            <a:xfrm flipH="1" flipV="1">
              <a:off x="3024360" y="3024720"/>
              <a:ext cx="760320" cy="4006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2053"/>
            <p:cNvSpPr/>
            <p:nvPr/>
          </p:nvSpPr>
          <p:spPr>
            <a:xfrm>
              <a:off x="1305360" y="1985040"/>
              <a:ext cx="1932480" cy="12837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ВЫШЕНИЕ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ВАЛИФИКАЦИИ И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ПРОФЕССИОНАЛЬНАЯ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ЕРЕПОДГОТОВ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2054"/>
            <p:cNvSpPr/>
            <p:nvPr/>
          </p:nvSpPr>
          <p:spPr>
            <a:xfrm flipH="1">
              <a:off x="2651760" y="3966480"/>
              <a:ext cx="945000" cy="1450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2055"/>
            <p:cNvSpPr/>
            <p:nvPr/>
          </p:nvSpPr>
          <p:spPr>
            <a:xfrm>
              <a:off x="747720" y="3614760"/>
              <a:ext cx="1932480" cy="128340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ТТЕСТ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2056"/>
            <p:cNvSpPr/>
            <p:nvPr/>
          </p:nvSpPr>
          <p:spPr>
            <a:xfrm flipH="1">
              <a:off x="3699360" y="4401000"/>
              <a:ext cx="417960" cy="5803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2057"/>
            <p:cNvSpPr/>
            <p:nvPr/>
          </p:nvSpPr>
          <p:spPr>
            <a:xfrm>
              <a:off x="2318760" y="4918680"/>
              <a:ext cx="1932480" cy="1283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РУДОВЫЕ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А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2058"/>
            <p:cNvSpPr/>
            <p:nvPr/>
          </p:nvSpPr>
          <p:spPr>
            <a:xfrm>
              <a:off x="4954680" y="4401000"/>
              <a:ext cx="421200" cy="5803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2059"/>
            <p:cNvSpPr/>
            <p:nvPr/>
          </p:nvSpPr>
          <p:spPr>
            <a:xfrm>
              <a:off x="4832640" y="4917240"/>
              <a:ext cx="1932480" cy="128340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ЯЗАННОСТИ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ТВЕТСТВЕННОСТЬ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2060"/>
            <p:cNvSpPr/>
            <p:nvPr/>
          </p:nvSpPr>
          <p:spPr>
            <a:xfrm>
              <a:off x="5475600" y="3967920"/>
              <a:ext cx="945000" cy="1418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2061"/>
            <p:cNvSpPr/>
            <p:nvPr/>
          </p:nvSpPr>
          <p:spPr>
            <a:xfrm>
              <a:off x="6397920" y="3611160"/>
              <a:ext cx="1932480" cy="128340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ОЦИАЛЬНЫЕ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АРАНТИИ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 КОМПЕНС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2062"/>
            <p:cNvSpPr/>
            <p:nvPr/>
          </p:nvSpPr>
          <p:spPr>
            <a:xfrm flipV="1">
              <a:off x="5290920" y="3024720"/>
              <a:ext cx="757080" cy="4006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2063"/>
            <p:cNvSpPr/>
            <p:nvPr/>
          </p:nvSpPr>
          <p:spPr>
            <a:xfrm>
              <a:off x="5837040" y="1983240"/>
              <a:ext cx="1932480" cy="12834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КАДЕМИЧЕСКИЕ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АВА И СВОБ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2064"/>
            <p:cNvSpPr/>
            <p:nvPr/>
          </p:nvSpPr>
          <p:spPr>
            <a:xfrm flipV="1">
              <a:off x="4536360" y="2540880"/>
              <a:ext cx="0" cy="6444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2065"/>
            <p:cNvSpPr/>
            <p:nvPr/>
          </p:nvSpPr>
          <p:spPr>
            <a:xfrm>
              <a:off x="3571200" y="1259280"/>
              <a:ext cx="1932480" cy="128340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нятие и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номенклатура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олжностей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едагогических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аботни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2066"/>
            <p:cNvSpPr/>
            <p:nvPr/>
          </p:nvSpPr>
          <p:spPr>
            <a:xfrm>
              <a:off x="3571200" y="3185640"/>
              <a:ext cx="1932480" cy="128340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ТАТУ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AutoShape 23"/>
          <p:cNvSpPr/>
          <p:nvPr/>
        </p:nvSpPr>
        <p:spPr>
          <a:xfrm>
            <a:off x="250920" y="1052640"/>
            <a:ext cx="2017440" cy="1008000"/>
          </a:xfrm>
          <a:prstGeom prst="wedgeEllipseCallout">
            <a:avLst>
              <a:gd name="adj1" fmla="val 15615"/>
              <a:gd name="adj2" fmla="val 74722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дин раз в 3 года, единовременно или дискретно за счет работодате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4"/>
          <p:cNvSpPr/>
          <p:nvPr/>
        </p:nvSpPr>
        <p:spPr>
          <a:xfrm>
            <a:off x="7093080" y="4941720"/>
            <a:ext cx="1944720" cy="1727280"/>
          </a:xfrm>
          <a:prstGeom prst="wedgeEllipseCallout">
            <a:avLst>
              <a:gd name="adj1" fmla="val -35388"/>
              <a:gd name="adj2" fmla="val -58916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арантии заработной платы не ниже средней по экономике в субъекте РФ, гарантии для сельских учителей, меры поддержки для молодых специалистов и т.д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25"/>
          <p:cNvSpPr/>
          <p:nvPr/>
        </p:nvSpPr>
        <p:spPr>
          <a:xfrm>
            <a:off x="468360" y="5516640"/>
            <a:ext cx="2158920" cy="1081080"/>
          </a:xfrm>
          <a:prstGeom prst="wedgeEllipseCallout">
            <a:avLst>
              <a:gd name="adj1" fmla="val 65296"/>
              <a:gd name="adj2" fmla="val -9912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кращенная продолжительность рабочего времени, ежегодный удлиненный отпуск, и т.д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c000"/>
                </a:solidFill>
                <a:latin typeface="Arial"/>
              </a:rPr>
              <a:t>Договор об образовании. 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Гл.6, ст.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09120" y="14479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Договор об образовании заключается в простой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исьменной форме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межд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организацией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, осуществляющей образовательную деятельность, и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лицом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, зачисляемым на обучение (родителями (законными представителями) несовершеннолетнего лиц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В договоре об образовании должны быть указаны основные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характеристики образования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(вид, уровень и (или) направленность образовательной программы, форма обучения, срок освоения образовательной программы/продолжительность обуч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9900"/>
                </a:solidFill>
                <a:latin typeface="Arial"/>
              </a:rPr>
              <a:t>Итоговая аттестация. Гл 6, ст. 59 п.13,14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Результаты ЕГЭ действительны 4 года, следующих за годом получения результатов (для выпускников 2013-2014  учебного года и дале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Федеральный закон «Об образовании в Российской Федерации» Гл. 7, ст. 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Рисунок 3" descr="10004.png"/>
          <p:cNvPicPr/>
          <p:nvPr/>
        </p:nvPicPr>
        <p:blipFill>
          <a:blip r:embed="rId1"/>
          <a:srcRect l="0" t="9877" r="0" b="0"/>
          <a:stretch/>
        </p:blipFill>
        <p:spPr>
          <a:xfrm>
            <a:off x="457200" y="1600200"/>
            <a:ext cx="7696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9900"/>
                </a:solidFill>
                <a:latin typeface="Arial"/>
              </a:rPr>
              <a:t>Проблемы законодательства</a:t>
            </a:r>
            <a:br>
              <a:rPr sz="3800"/>
            </a:br>
            <a:r>
              <a:rPr b="1" lang="ru-RU" sz="3800" spc="-1" strike="noStrike">
                <a:solidFill>
                  <a:srgbClr val="ff9900"/>
                </a:solidFill>
                <a:latin typeface="Arial"/>
              </a:rPr>
              <a:t>об образовани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11"/>
          <p:cNvGrpSpPr/>
          <p:nvPr/>
        </p:nvGrpSpPr>
        <p:grpSpPr>
          <a:xfrm>
            <a:off x="164160" y="1117440"/>
            <a:ext cx="8750880" cy="1346760"/>
            <a:chOff x="164160" y="1117440"/>
            <a:chExt cx="8750880" cy="1346760"/>
          </a:xfrm>
        </p:grpSpPr>
        <p:sp>
          <p:nvSpPr>
            <p:cNvPr id="63" name="AutoShape 12"/>
            <p:cNvSpPr/>
            <p:nvPr/>
          </p:nvSpPr>
          <p:spPr>
            <a:xfrm>
              <a:off x="863640" y="1494000"/>
              <a:ext cx="805140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3"/>
            <p:cNvSpPr/>
            <p:nvPr/>
          </p:nvSpPr>
          <p:spPr>
            <a:xfrm>
              <a:off x="1652760" y="1523880"/>
              <a:ext cx="6407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4"/>
            <p:cNvGrpSpPr/>
            <p:nvPr/>
          </p:nvGrpSpPr>
          <p:grpSpPr>
            <a:xfrm>
              <a:off x="164160" y="1117440"/>
              <a:ext cx="1693800" cy="1346760"/>
              <a:chOff x="164160" y="1117440"/>
              <a:chExt cx="1693800" cy="1346760"/>
            </a:xfrm>
          </p:grpSpPr>
          <p:sp>
            <p:nvSpPr>
              <p:cNvPr id="66" name="Oval 15"/>
              <p:cNvSpPr/>
              <p:nvPr/>
            </p:nvSpPr>
            <p:spPr>
              <a:xfrm rot="1758000">
                <a:off x="269640" y="1471680"/>
                <a:ext cx="1523880" cy="6620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16"/>
              <p:cNvSpPr/>
              <p:nvPr/>
            </p:nvSpPr>
            <p:spPr>
              <a:xfrm rot="1758000">
                <a:off x="228600" y="1447920"/>
                <a:ext cx="1524600" cy="662040"/>
              </a:xfrm>
              <a:prstGeom prst="ellipse">
                <a:avLst/>
              </a:prstGeom>
              <a:gradFill rotWithShape="0">
                <a:gsLst>
                  <a:gs pos="0">
                    <a:srgbClr val="a67a32"/>
                  </a:gs>
                  <a:gs pos="100000">
                    <a:srgbClr val="4d3817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" name="Picture 17" descr="Picture1"/>
              <p:cNvPicPr/>
              <p:nvPr/>
            </p:nvPicPr>
            <p:blipFill>
              <a:blip r:embed="rId1"/>
              <a:stretch/>
            </p:blipFill>
            <p:spPr>
              <a:xfrm>
                <a:off x="371160" y="1486080"/>
                <a:ext cx="708840" cy="385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" name="Text Box 18"/>
            <p:cNvSpPr/>
            <p:nvPr/>
          </p:nvSpPr>
          <p:spPr>
            <a:xfrm>
              <a:off x="834840" y="1476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9"/>
          <p:cNvGrpSpPr/>
          <p:nvPr/>
        </p:nvGrpSpPr>
        <p:grpSpPr>
          <a:xfrm>
            <a:off x="164160" y="1955520"/>
            <a:ext cx="8750880" cy="1346760"/>
            <a:chOff x="164160" y="1955520"/>
            <a:chExt cx="8750880" cy="1346760"/>
          </a:xfrm>
        </p:grpSpPr>
        <p:sp>
          <p:nvSpPr>
            <p:cNvPr id="71" name="AutoShape 20"/>
            <p:cNvSpPr/>
            <p:nvPr/>
          </p:nvSpPr>
          <p:spPr>
            <a:xfrm>
              <a:off x="863640" y="2332080"/>
              <a:ext cx="805140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1"/>
            <p:cNvSpPr/>
            <p:nvPr/>
          </p:nvSpPr>
          <p:spPr>
            <a:xfrm>
              <a:off x="1652760" y="2362320"/>
              <a:ext cx="6407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164160" y="1955520"/>
              <a:ext cx="1693800" cy="1346760"/>
              <a:chOff x="164160" y="1955520"/>
              <a:chExt cx="1693800" cy="1346760"/>
            </a:xfrm>
          </p:grpSpPr>
          <p:sp>
            <p:nvSpPr>
              <p:cNvPr id="74" name="Oval 23"/>
              <p:cNvSpPr/>
              <p:nvPr/>
            </p:nvSpPr>
            <p:spPr>
              <a:xfrm rot="1758000">
                <a:off x="269640" y="2309760"/>
                <a:ext cx="1523880" cy="6620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24"/>
              <p:cNvSpPr/>
              <p:nvPr/>
            </p:nvSpPr>
            <p:spPr>
              <a:xfrm rot="1758000">
                <a:off x="228600" y="2286000"/>
                <a:ext cx="1524600" cy="662040"/>
              </a:xfrm>
              <a:prstGeom prst="ellipse">
                <a:avLst/>
              </a:prstGeom>
              <a:gradFill rotWithShape="0">
                <a:gsLst>
                  <a:gs pos="0">
                    <a:srgbClr val="74a731"/>
                  </a:gs>
                  <a:gs pos="100000">
                    <a:srgbClr val="364d17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" name="Picture 25" descr="Picture1"/>
              <p:cNvPicPr/>
              <p:nvPr/>
            </p:nvPicPr>
            <p:blipFill>
              <a:blip r:embed="rId2"/>
              <a:stretch/>
            </p:blipFill>
            <p:spPr>
              <a:xfrm>
                <a:off x="371160" y="2324160"/>
                <a:ext cx="708840" cy="38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" name="Text Box 26"/>
            <p:cNvSpPr/>
            <p:nvPr/>
          </p:nvSpPr>
          <p:spPr>
            <a:xfrm>
              <a:off x="655560" y="2314800"/>
              <a:ext cx="76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27"/>
          <p:cNvGrpSpPr/>
          <p:nvPr/>
        </p:nvGrpSpPr>
        <p:grpSpPr>
          <a:xfrm>
            <a:off x="164160" y="2793600"/>
            <a:ext cx="8750880" cy="1346760"/>
            <a:chOff x="164160" y="2793600"/>
            <a:chExt cx="8750880" cy="1346760"/>
          </a:xfrm>
        </p:grpSpPr>
        <p:sp>
          <p:nvSpPr>
            <p:cNvPr id="79" name="AutoShape 28"/>
            <p:cNvSpPr/>
            <p:nvPr/>
          </p:nvSpPr>
          <p:spPr>
            <a:xfrm>
              <a:off x="863640" y="3170160"/>
              <a:ext cx="805140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9"/>
            <p:cNvSpPr/>
            <p:nvPr/>
          </p:nvSpPr>
          <p:spPr>
            <a:xfrm>
              <a:off x="1652760" y="3200040"/>
              <a:ext cx="6407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30"/>
            <p:cNvGrpSpPr/>
            <p:nvPr/>
          </p:nvGrpSpPr>
          <p:grpSpPr>
            <a:xfrm>
              <a:off x="164160" y="2793600"/>
              <a:ext cx="1693800" cy="1346760"/>
              <a:chOff x="164160" y="2793600"/>
              <a:chExt cx="1693800" cy="1346760"/>
            </a:xfrm>
          </p:grpSpPr>
          <p:sp>
            <p:nvSpPr>
              <p:cNvPr id="82" name="Oval 31"/>
              <p:cNvSpPr/>
              <p:nvPr/>
            </p:nvSpPr>
            <p:spPr>
              <a:xfrm rot="1758000">
                <a:off x="269640" y="3147840"/>
                <a:ext cx="1523880" cy="6620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32"/>
              <p:cNvSpPr/>
              <p:nvPr/>
            </p:nvSpPr>
            <p:spPr>
              <a:xfrm rot="1758000">
                <a:off x="228600" y="3124080"/>
                <a:ext cx="1524600" cy="662040"/>
              </a:xfrm>
              <a:prstGeom prst="ellipse">
                <a:avLst/>
              </a:prstGeom>
              <a:gradFill rotWithShape="0">
                <a:gsLst>
                  <a:gs pos="0">
                    <a:srgbClr val="a67a32"/>
                  </a:gs>
                  <a:gs pos="100000">
                    <a:srgbClr val="4d3817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" name="Picture 33" descr="Picture1"/>
              <p:cNvPicPr/>
              <p:nvPr/>
            </p:nvPicPr>
            <p:blipFill>
              <a:blip r:embed="rId3"/>
              <a:stretch/>
            </p:blipFill>
            <p:spPr>
              <a:xfrm>
                <a:off x="371160" y="3162240"/>
                <a:ext cx="708840" cy="385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" name="Text Box 34"/>
            <p:cNvSpPr/>
            <p:nvPr/>
          </p:nvSpPr>
          <p:spPr>
            <a:xfrm>
              <a:off x="655560" y="3152520"/>
              <a:ext cx="76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3"/>
          <p:cNvGrpSpPr/>
          <p:nvPr/>
        </p:nvGrpSpPr>
        <p:grpSpPr>
          <a:xfrm>
            <a:off x="239760" y="3634560"/>
            <a:ext cx="8674920" cy="1340280"/>
            <a:chOff x="239760" y="3634560"/>
            <a:chExt cx="8674920" cy="1340280"/>
          </a:xfrm>
        </p:grpSpPr>
        <p:sp>
          <p:nvSpPr>
            <p:cNvPr id="87" name="AutoShape 4"/>
            <p:cNvSpPr/>
            <p:nvPr/>
          </p:nvSpPr>
          <p:spPr>
            <a:xfrm>
              <a:off x="936720" y="4008600"/>
              <a:ext cx="797796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5"/>
            <p:cNvSpPr/>
            <p:nvPr/>
          </p:nvSpPr>
          <p:spPr>
            <a:xfrm>
              <a:off x="1716480" y="4038840"/>
              <a:ext cx="6351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6"/>
            <p:cNvGrpSpPr/>
            <p:nvPr/>
          </p:nvGrpSpPr>
          <p:grpSpPr>
            <a:xfrm>
              <a:off x="239760" y="3634560"/>
              <a:ext cx="1682280" cy="1340280"/>
              <a:chOff x="239760" y="3634560"/>
              <a:chExt cx="1682280" cy="1340280"/>
            </a:xfrm>
          </p:grpSpPr>
          <p:sp>
            <p:nvSpPr>
              <p:cNvPr id="90" name="Oval 7"/>
              <p:cNvSpPr/>
              <p:nvPr/>
            </p:nvSpPr>
            <p:spPr>
              <a:xfrm rot="1758000">
                <a:off x="348840" y="3986280"/>
                <a:ext cx="1507680" cy="6620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8"/>
              <p:cNvSpPr/>
              <p:nvPr/>
            </p:nvSpPr>
            <p:spPr>
              <a:xfrm rot="1758000">
                <a:off x="304920" y="3962520"/>
                <a:ext cx="1513800" cy="662040"/>
              </a:xfrm>
              <a:prstGeom prst="ellipse">
                <a:avLst/>
              </a:prstGeom>
              <a:gradFill rotWithShape="0">
                <a:gsLst>
                  <a:gs pos="0">
                    <a:srgbClr val="74a731"/>
                  </a:gs>
                  <a:gs pos="100000">
                    <a:srgbClr val="364d17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Picture 9" descr="Picture1"/>
              <p:cNvPicPr/>
              <p:nvPr/>
            </p:nvPicPr>
            <p:blipFill>
              <a:blip r:embed="rId4"/>
              <a:stretch/>
            </p:blipFill>
            <p:spPr>
              <a:xfrm>
                <a:off x="446040" y="4000680"/>
                <a:ext cx="702360" cy="385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Text Box 10"/>
            <p:cNvSpPr/>
            <p:nvPr/>
          </p:nvSpPr>
          <p:spPr>
            <a:xfrm>
              <a:off x="728280" y="3990960"/>
              <a:ext cx="76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35"/>
          <p:cNvGrpSpPr/>
          <p:nvPr/>
        </p:nvGrpSpPr>
        <p:grpSpPr>
          <a:xfrm>
            <a:off x="239400" y="4473000"/>
            <a:ext cx="8675280" cy="1340640"/>
            <a:chOff x="239400" y="4473000"/>
            <a:chExt cx="8675280" cy="1340640"/>
          </a:xfrm>
        </p:grpSpPr>
        <p:sp>
          <p:nvSpPr>
            <p:cNvPr id="95" name="AutoShape 36"/>
            <p:cNvSpPr/>
            <p:nvPr/>
          </p:nvSpPr>
          <p:spPr>
            <a:xfrm>
              <a:off x="934200" y="4846680"/>
              <a:ext cx="798048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7"/>
            <p:cNvSpPr/>
            <p:nvPr/>
          </p:nvSpPr>
          <p:spPr>
            <a:xfrm>
              <a:off x="1716480" y="4876920"/>
              <a:ext cx="6351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38"/>
            <p:cNvGrpSpPr/>
            <p:nvPr/>
          </p:nvGrpSpPr>
          <p:grpSpPr>
            <a:xfrm>
              <a:off x="239400" y="4473000"/>
              <a:ext cx="1682280" cy="1340640"/>
              <a:chOff x="239400" y="4473000"/>
              <a:chExt cx="1682280" cy="1340640"/>
            </a:xfrm>
          </p:grpSpPr>
          <p:sp>
            <p:nvSpPr>
              <p:cNvPr id="98" name="Oval 39"/>
              <p:cNvSpPr/>
              <p:nvPr/>
            </p:nvSpPr>
            <p:spPr>
              <a:xfrm rot="1758000">
                <a:off x="345600" y="4824360"/>
                <a:ext cx="1510560" cy="6620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40"/>
              <p:cNvSpPr/>
              <p:nvPr/>
            </p:nvSpPr>
            <p:spPr>
              <a:xfrm rot="1758000">
                <a:off x="304560" y="4800240"/>
                <a:ext cx="1511280" cy="662040"/>
              </a:xfrm>
              <a:prstGeom prst="ellipse">
                <a:avLst/>
              </a:prstGeom>
              <a:gradFill rotWithShape="0">
                <a:gsLst>
                  <a:gs pos="0">
                    <a:srgbClr val="a67a32"/>
                  </a:gs>
                  <a:gs pos="100000">
                    <a:srgbClr val="4d3817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" name="Picture 41" descr="Picture1"/>
              <p:cNvPicPr/>
              <p:nvPr/>
            </p:nvPicPr>
            <p:blipFill>
              <a:blip r:embed="rId5"/>
              <a:stretch/>
            </p:blipFill>
            <p:spPr>
              <a:xfrm>
                <a:off x="446040" y="4838760"/>
                <a:ext cx="702360" cy="38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" name="Text Box 42"/>
            <p:cNvSpPr/>
            <p:nvPr/>
          </p:nvSpPr>
          <p:spPr>
            <a:xfrm>
              <a:off x="901080" y="48294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45"/>
          <p:cNvGrpSpPr/>
          <p:nvPr/>
        </p:nvGrpSpPr>
        <p:grpSpPr>
          <a:xfrm>
            <a:off x="239760" y="5310720"/>
            <a:ext cx="8674920" cy="1340280"/>
            <a:chOff x="239760" y="5310720"/>
            <a:chExt cx="8674920" cy="1340280"/>
          </a:xfrm>
        </p:grpSpPr>
        <p:sp>
          <p:nvSpPr>
            <p:cNvPr id="103" name="AutoShape 46"/>
            <p:cNvSpPr/>
            <p:nvPr/>
          </p:nvSpPr>
          <p:spPr>
            <a:xfrm>
              <a:off x="936720" y="5684760"/>
              <a:ext cx="797796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47"/>
            <p:cNvSpPr/>
            <p:nvPr/>
          </p:nvSpPr>
          <p:spPr>
            <a:xfrm>
              <a:off x="1716480" y="5715000"/>
              <a:ext cx="6351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48"/>
            <p:cNvGrpSpPr/>
            <p:nvPr/>
          </p:nvGrpSpPr>
          <p:grpSpPr>
            <a:xfrm>
              <a:off x="239760" y="5310720"/>
              <a:ext cx="1682280" cy="1340280"/>
              <a:chOff x="239760" y="5310720"/>
              <a:chExt cx="1682280" cy="1340280"/>
            </a:xfrm>
          </p:grpSpPr>
          <p:sp>
            <p:nvSpPr>
              <p:cNvPr id="106" name="Oval 49"/>
              <p:cNvSpPr/>
              <p:nvPr/>
            </p:nvSpPr>
            <p:spPr>
              <a:xfrm rot="1758000">
                <a:off x="348840" y="5662440"/>
                <a:ext cx="1507680" cy="6620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50"/>
              <p:cNvSpPr/>
              <p:nvPr/>
            </p:nvSpPr>
            <p:spPr>
              <a:xfrm rot="1758000">
                <a:off x="304920" y="5638680"/>
                <a:ext cx="1513800" cy="662040"/>
              </a:xfrm>
              <a:prstGeom prst="ellipse">
                <a:avLst/>
              </a:prstGeom>
              <a:gradFill rotWithShape="0">
                <a:gsLst>
                  <a:gs pos="0">
                    <a:srgbClr val="74a731"/>
                  </a:gs>
                  <a:gs pos="100000">
                    <a:srgbClr val="364d17"/>
                  </a:gs>
                </a:gsLst>
                <a:lin ang="36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" name="Picture 51" descr="Picture1"/>
              <p:cNvPicPr/>
              <p:nvPr/>
            </p:nvPicPr>
            <p:blipFill>
              <a:blip r:embed="rId6"/>
              <a:stretch/>
            </p:blipFill>
            <p:spPr>
              <a:xfrm>
                <a:off x="446040" y="5676840"/>
                <a:ext cx="702360" cy="385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" name="Text Box 52"/>
            <p:cNvSpPr/>
            <p:nvPr/>
          </p:nvSpPr>
          <p:spPr>
            <a:xfrm>
              <a:off x="728280" y="5667120"/>
              <a:ext cx="76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Rectangle 54"/>
          <p:cNvSpPr/>
          <p:nvPr/>
        </p:nvSpPr>
        <p:spPr>
          <a:xfrm>
            <a:off x="1752480" y="15238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целостности системы правового регу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5"/>
          <p:cNvSpPr/>
          <p:nvPr/>
        </p:nvSpPr>
        <p:spPr>
          <a:xfrm>
            <a:off x="2514600" y="23623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полнота правового регу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6"/>
          <p:cNvSpPr/>
          <p:nvPr/>
        </p:nvSpPr>
        <p:spPr>
          <a:xfrm>
            <a:off x="1752480" y="324648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вая неопределённость функционирования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7"/>
          <p:cNvSpPr/>
          <p:nvPr/>
        </p:nvSpPr>
        <p:spPr>
          <a:xfrm>
            <a:off x="2075040" y="4114800"/>
            <a:ext cx="63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ыточные административные ограни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8"/>
          <p:cNvSpPr/>
          <p:nvPr/>
        </p:nvSpPr>
        <p:spPr>
          <a:xfrm>
            <a:off x="2424240" y="4968720"/>
            <a:ext cx="55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блирование норм законода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9"/>
          <p:cNvSpPr/>
          <p:nvPr/>
        </p:nvSpPr>
        <p:spPr>
          <a:xfrm flipV="1" rot="10800000">
            <a:off x="1274400" y="5936400"/>
            <a:ext cx="74120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тиворечие положениям международных правовых а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9900"/>
                </a:solidFill>
                <a:latin typeface="Arial"/>
              </a:rPr>
              <a:t>Плата, взимаемая с родителе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Уход и присмотр в дошкольных образовательных организациях (Гл. 7,ст. 6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Уход и присмотр в ГПД (Гл. 7,ст. 6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Квота бюджетных мест высшего образования: 800 на 10000 граждан от 17 до 3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Дополнительное образование. Гл.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791320" y="2984400"/>
            <a:ext cx="2362320" cy="966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ессион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. 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3352680" y="1447920"/>
            <a:ext cx="2590920" cy="17524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895480"/>
            <a:ext cx="2362320" cy="14479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ей и взросл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. 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1"/>
          <p:cNvSpPr/>
          <p:nvPr/>
        </p:nvSpPr>
        <p:spPr>
          <a:xfrm>
            <a:off x="685800" y="4572000"/>
            <a:ext cx="1676520" cy="129528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развивающ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взросл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3"/>
          <p:cNvSpPr/>
          <p:nvPr/>
        </p:nvSpPr>
        <p:spPr>
          <a:xfrm>
            <a:off x="2743200" y="4572000"/>
            <a:ext cx="1676520" cy="121932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проф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он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4"/>
          <p:cNvSpPr/>
          <p:nvPr/>
        </p:nvSpPr>
        <p:spPr>
          <a:xfrm>
            <a:off x="4876920" y="4495680"/>
            <a:ext cx="1600200" cy="121932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выш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валифик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5"/>
          <p:cNvSpPr/>
          <p:nvPr/>
        </p:nvSpPr>
        <p:spPr>
          <a:xfrm>
            <a:off x="6705720" y="4495680"/>
            <a:ext cx="1828800" cy="121932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ессиона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гото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6"/>
          <p:cNvSpPr/>
          <p:nvPr/>
        </p:nvSpPr>
        <p:spPr>
          <a:xfrm rot="5400000">
            <a:off x="6248520" y="1905120"/>
            <a:ext cx="914400" cy="914400"/>
          </a:xfrm>
          <a:custGeom>
            <a:avLst/>
            <a:gdLst>
              <a:gd name="textAreaLeft" fmla="*/ 525960 w 914400"/>
              <a:gd name="textAreaRight" fmla="*/ 771840 w 914400"/>
              <a:gd name="textAreaTop" fmla="*/ 123120 h 914400"/>
              <a:gd name="textAreaBottom" fmla="*/ 3913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8"/>
          <p:cNvSpPr/>
          <p:nvPr/>
        </p:nvSpPr>
        <p:spPr>
          <a:xfrm flipH="1" rot="16111200">
            <a:off x="2057760" y="1979280"/>
            <a:ext cx="1015920" cy="866880"/>
          </a:xfrm>
          <a:custGeom>
            <a:avLst/>
            <a:gdLst>
              <a:gd name="textAreaLeft" fmla="*/ 584640 w 1015920"/>
              <a:gd name="textAreaRight" fmla="*/ 857520 w 101592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9"/>
          <p:cNvSpPr/>
          <p:nvPr/>
        </p:nvSpPr>
        <p:spPr>
          <a:xfrm>
            <a:off x="152280" y="39625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0"/>
          <p:cNvSpPr/>
          <p:nvPr/>
        </p:nvSpPr>
        <p:spPr>
          <a:xfrm>
            <a:off x="4952880" y="34290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2"/>
          <p:cNvSpPr/>
          <p:nvPr/>
        </p:nvSpPr>
        <p:spPr>
          <a:xfrm flipH="1" rot="520200">
            <a:off x="3048120" y="3581280"/>
            <a:ext cx="942840" cy="1215000"/>
          </a:xfrm>
          <a:custGeom>
            <a:avLst/>
            <a:gdLst>
              <a:gd name="textAreaLeft" fmla="*/ 126360 w 942840"/>
              <a:gd name="textAreaRight" fmla="*/ 816480 w 942840"/>
              <a:gd name="textAreaTop" fmla="*/ 212400 h 1215000"/>
              <a:gd name="textAreaBottom" fmla="*/ 880920 h 121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3"/>
          <p:cNvSpPr/>
          <p:nvPr/>
        </p:nvSpPr>
        <p:spPr>
          <a:xfrm flipH="1" rot="520200">
            <a:off x="8077320" y="3581280"/>
            <a:ext cx="942840" cy="1215000"/>
          </a:xfrm>
          <a:custGeom>
            <a:avLst/>
            <a:gdLst>
              <a:gd name="textAreaLeft" fmla="*/ 126360 w 942840"/>
              <a:gd name="textAreaRight" fmla="*/ 816480 w 942840"/>
              <a:gd name="textAreaTop" fmla="*/ 212400 h 1215000"/>
              <a:gd name="textAreaBottom" fmla="*/ 880920 h 121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9900"/>
                </a:solidFill>
                <a:latin typeface="Calibri"/>
              </a:rPr>
              <a:t>Государственная регламентация образовательной деятельности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(Гл. 1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28240" y="13716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Лицензирование (ст.9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Аккредитация(ст.9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Государственный контроль (надзор): </a:t>
            </a:r>
            <a:r>
              <a:rPr b="0" i="1" lang="ru-RU" sz="3600" spc="-1" strike="noStrike">
                <a:solidFill>
                  <a:srgbClr val="7030a0"/>
                </a:solidFill>
                <a:latin typeface="Arial"/>
              </a:rPr>
              <a:t>а)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федеральный государственный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контроль качества образования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б) федеральный государственный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надзор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 в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сфере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Лицензирование, аккредит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533520" y="1523520"/>
            <a:ext cx="3581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бразовательная деятельность подлежит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лицензированию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в соответствии с законодательством Российской Федерации о лицензировании отдельных видов деятельности с учетом особенностей, установленных настоящей стать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190760" y="1523520"/>
            <a:ext cx="4343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Предметом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ккредитационной</a:t>
            </a:r>
            <a:r>
              <a:rPr b="0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экспертизы является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определение соответствия содержания образования и качества подготовки обучающихся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федеральным государственным образовательным стандартам в организации, осуществляющей образовательную деятельность по заявленным образовательным программ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Государственный контроль (надзор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1295280"/>
            <a:ext cx="4343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Федеральный государственный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онтроль качества образования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– это деятельность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по оценке соответствия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образовательной деятельности и подготовки обучающихся посредством организации и проведения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проверок качества образования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и принятия предусмотренных мер по пресечению и устранению выявленных нарушений требований федеральных государственных образовательных стандартов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114440" y="1295280"/>
            <a:ext cx="4800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Федеральный государственный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адзор в сфере образования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– это деятельность, направленная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на предупреждение, выявление и пресечение нарушения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рганами государственной власти субъектов РФ, осуществляющими государственное управление в сфере образования, и органами местного самоуправления, осуществляющими управление в сфере образования, и организациями, осуществляющими образовательную деятельность, посредством организации и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проведения проверок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9900"/>
                </a:solidFill>
                <a:latin typeface="Arial"/>
              </a:rPr>
              <a:t>Общая характеристика</a:t>
            </a:r>
            <a:r>
              <a:rPr b="0" lang="ru-RU" sz="3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3800" spc="-1" strike="noStrike">
                <a:solidFill>
                  <a:srgbClr val="ff9900"/>
                </a:solidFill>
                <a:latin typeface="Arial"/>
              </a:rPr>
              <a:t>закона "Об образовании в РФ». Цели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65280" y="2341440"/>
            <a:ext cx="7813440" cy="1031400"/>
          </a:xfrm>
          <a:prstGeom prst="rect">
            <a:avLst/>
          </a:prstGeom>
          <a:gradFill rotWithShape="0">
            <a:gsLst>
              <a:gs pos="0">
                <a:srgbClr val="4f5139"/>
              </a:gs>
              <a:gs pos="50000">
                <a:srgbClr val="abb07c"/>
              </a:gs>
              <a:gs pos="100000">
                <a:srgbClr val="4f5139"/>
              </a:gs>
            </a:gsLst>
            <a:lin ang="2700000"/>
          </a:gradFill>
          <a:ln w="19080">
            <a:solidFill>
              <a:srgbClr val="c0c0c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правовых условий для обновлени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я российской системы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533520" y="3886200"/>
            <a:ext cx="786276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84f25"/>
              </a:gs>
              <a:gs pos="50000">
                <a:srgbClr val="bfaa4f"/>
              </a:gs>
              <a:gs pos="100000">
                <a:srgbClr val="584f25"/>
              </a:gs>
            </a:gsLst>
            <a:lin ang="27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ная модер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одательства РФ об образов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2"/>
          <p:cNvSpPr/>
          <p:nvPr/>
        </p:nvSpPr>
        <p:spPr>
          <a:xfrm>
            <a:off x="609480" y="5486400"/>
            <a:ext cx="77724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54629"/>
              </a:gs>
              <a:gs pos="50000">
                <a:srgbClr val="729759"/>
              </a:gs>
              <a:gs pos="100000">
                <a:srgbClr val="354629"/>
              </a:gs>
            </a:gsLst>
            <a:lin ang="27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стабильности и преемственности в разви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ы образования и её законодательных ос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3"/>
          <p:cNvSpPr/>
          <p:nvPr/>
        </p:nvSpPr>
        <p:spPr>
          <a:xfrm>
            <a:off x="4419720" y="3429000"/>
            <a:ext cx="457200" cy="457200"/>
          </a:xfrm>
          <a:prstGeom prst="downArrow">
            <a:avLst>
              <a:gd name="adj1" fmla="val 38889"/>
              <a:gd name="adj2" fmla="val 50519"/>
            </a:avLst>
          </a:prstGeom>
          <a:gradFill rotWithShape="0">
            <a:gsLst>
              <a:gs pos="0">
                <a:srgbClr val="5e4700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4"/>
          <p:cNvSpPr/>
          <p:nvPr/>
        </p:nvSpPr>
        <p:spPr>
          <a:xfrm>
            <a:off x="4419720" y="5105520"/>
            <a:ext cx="457200" cy="380880"/>
          </a:xfrm>
          <a:prstGeom prst="downArrow">
            <a:avLst>
              <a:gd name="adj1" fmla="val 38889"/>
              <a:gd name="adj2" fmla="val 50519"/>
            </a:avLst>
          </a:prstGeom>
          <a:gradFill rotWithShape="0">
            <a:gsLst>
              <a:gs pos="0">
                <a:srgbClr val="5e4700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8"/>
          <p:cNvGrpSpPr/>
          <p:nvPr/>
        </p:nvGrpSpPr>
        <p:grpSpPr>
          <a:xfrm>
            <a:off x="4414680" y="1371600"/>
            <a:ext cx="822240" cy="914040"/>
            <a:chOff x="4414680" y="1371600"/>
            <a:chExt cx="822240" cy="914040"/>
          </a:xfrm>
        </p:grpSpPr>
        <p:sp>
          <p:nvSpPr>
            <p:cNvPr id="123" name="AutoShape 29"/>
            <p:cNvSpPr/>
            <p:nvPr/>
          </p:nvSpPr>
          <p:spPr>
            <a:xfrm>
              <a:off x="4549680" y="1371600"/>
              <a:ext cx="687240" cy="551880"/>
            </a:xfrm>
            <a:prstGeom prst="parallelogram">
              <a:avLst>
                <a:gd name="adj" fmla="val 90801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30"/>
            <p:cNvSpPr/>
            <p:nvPr/>
          </p:nvSpPr>
          <p:spPr>
            <a:xfrm>
              <a:off x="4414680" y="1918080"/>
              <a:ext cx="457920" cy="367560"/>
            </a:xfrm>
            <a:prstGeom prst="downArrow">
              <a:avLst>
                <a:gd name="adj1" fmla="val 38889"/>
                <a:gd name="adj2" fmla="val 50519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Предмет регулирования настоящего Федерального закона. (Гл.1,ст. 1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2189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Общественные отношения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, возникающие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 сфере образования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в связи с реализацией права на образование, обеспечение государственных гарантий прав и свобод человека в сфере образования и создание условий для реализации права на образов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астоящий Федеральный закон устанавливает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основы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образ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равовы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организацио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экономические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ринципы государственной политики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РФ в сфере образов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бщие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равила функционирования системы образования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осуществления образовательной деятельности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пределяет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равовое положение участников отношений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в сфере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Структура закона</a:t>
            </a:r>
            <a:br>
              <a:rPr sz="3600"/>
            </a:b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(15 глав, 111 статей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21"/>
          <p:cNvGrpSpPr/>
          <p:nvPr/>
        </p:nvGrpSpPr>
        <p:grpSpPr>
          <a:xfrm>
            <a:off x="304920" y="2438280"/>
            <a:ext cx="4418280" cy="2818800"/>
            <a:chOff x="304920" y="2438280"/>
            <a:chExt cx="4418280" cy="2818800"/>
          </a:xfrm>
        </p:grpSpPr>
        <p:grpSp>
          <p:nvGrpSpPr>
            <p:cNvPr id="129" name="Group 22"/>
            <p:cNvGrpSpPr/>
            <p:nvPr/>
          </p:nvGrpSpPr>
          <p:grpSpPr>
            <a:xfrm>
              <a:off x="304920" y="2438280"/>
              <a:ext cx="4418280" cy="2818800"/>
              <a:chOff x="304920" y="2438280"/>
              <a:chExt cx="4418280" cy="2818800"/>
            </a:xfrm>
          </p:grpSpPr>
          <p:sp>
            <p:nvSpPr>
              <p:cNvPr id="130" name="Oval 23"/>
              <p:cNvSpPr/>
              <p:nvPr/>
            </p:nvSpPr>
            <p:spPr>
              <a:xfrm>
                <a:off x="304920" y="2438280"/>
                <a:ext cx="4418280" cy="2818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4"/>
              <p:cNvSpPr/>
              <p:nvPr/>
            </p:nvSpPr>
            <p:spPr>
              <a:xfrm>
                <a:off x="810000" y="2485080"/>
                <a:ext cx="3408480" cy="1063800"/>
              </a:xfrm>
              <a:custGeom>
                <a:avLst/>
                <a:gdLst>
                  <a:gd name="textAreaLeft" fmla="*/ 0 w 3408480"/>
                  <a:gd name="textAreaRight" fmla="*/ 3408840 w 3408480"/>
                  <a:gd name="textAreaTop" fmla="*/ 0 h 1063800"/>
                  <a:gd name="textAreaBottom" fmla="*/ 1064160 h 10638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Text Box 25"/>
            <p:cNvSpPr/>
            <p:nvPr/>
          </p:nvSpPr>
          <p:spPr>
            <a:xfrm>
              <a:off x="2361240" y="3664080"/>
              <a:ext cx="184320" cy="45756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13"/>
          <p:cNvSpPr/>
          <p:nvPr/>
        </p:nvSpPr>
        <p:spPr>
          <a:xfrm>
            <a:off x="685800" y="3124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т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ламентация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одсистем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0"/>
          <p:cNvGrpSpPr/>
          <p:nvPr/>
        </p:nvGrpSpPr>
        <p:grpSpPr>
          <a:xfrm>
            <a:off x="4572000" y="1447920"/>
            <a:ext cx="4113720" cy="2057400"/>
            <a:chOff x="4572000" y="1447920"/>
            <a:chExt cx="4113720" cy="2057400"/>
          </a:xfrm>
        </p:grpSpPr>
        <p:grpSp>
          <p:nvGrpSpPr>
            <p:cNvPr id="135" name="Group 11"/>
            <p:cNvGrpSpPr/>
            <p:nvPr/>
          </p:nvGrpSpPr>
          <p:grpSpPr>
            <a:xfrm>
              <a:off x="4572000" y="1447920"/>
              <a:ext cx="4113720" cy="2057400"/>
              <a:chOff x="4572000" y="1447920"/>
              <a:chExt cx="4113720" cy="2057400"/>
            </a:xfrm>
          </p:grpSpPr>
          <p:sp>
            <p:nvSpPr>
              <p:cNvPr id="136" name="Oval 12"/>
              <p:cNvSpPr/>
              <p:nvPr/>
            </p:nvSpPr>
            <p:spPr>
              <a:xfrm>
                <a:off x="4572000" y="1447920"/>
                <a:ext cx="4113720" cy="2057400"/>
              </a:xfrm>
              <a:prstGeom prst="ellipse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3"/>
              <p:cNvSpPr/>
              <p:nvPr/>
            </p:nvSpPr>
            <p:spPr>
              <a:xfrm>
                <a:off x="5042160" y="1481760"/>
                <a:ext cx="3173400" cy="776520"/>
              </a:xfrm>
              <a:custGeom>
                <a:avLst/>
                <a:gdLst>
                  <a:gd name="textAreaLeft" fmla="*/ 0 w 3173400"/>
                  <a:gd name="textAreaRight" fmla="*/ 3173760 w 3173400"/>
                  <a:gd name="textAreaTop" fmla="*/ 0 h 776520"/>
                  <a:gd name="textAreaBottom" fmla="*/ 776880 h 776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 Box 14"/>
            <p:cNvSpPr/>
            <p:nvPr/>
          </p:nvSpPr>
          <p:spPr>
            <a:xfrm>
              <a:off x="6513480" y="2362320"/>
              <a:ext cx="184320" cy="51912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angle 19"/>
          <p:cNvSpPr/>
          <p:nvPr/>
        </p:nvSpPr>
        <p:spPr>
          <a:xfrm>
            <a:off x="5181480" y="1752480"/>
            <a:ext cx="34290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ения, регулиру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дельные под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н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бщее, профессиональное, высшее, дополнительно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6"/>
          <p:cNvGrpSpPr/>
          <p:nvPr/>
        </p:nvGrpSpPr>
        <p:grpSpPr>
          <a:xfrm>
            <a:off x="4648320" y="3809880"/>
            <a:ext cx="4114080" cy="2057400"/>
            <a:chOff x="4648320" y="3809880"/>
            <a:chExt cx="4114080" cy="2057400"/>
          </a:xfrm>
        </p:grpSpPr>
        <p:grpSp>
          <p:nvGrpSpPr>
            <p:cNvPr id="141" name="Group 17"/>
            <p:cNvGrpSpPr/>
            <p:nvPr/>
          </p:nvGrpSpPr>
          <p:grpSpPr>
            <a:xfrm>
              <a:off x="4648320" y="3809880"/>
              <a:ext cx="4114080" cy="2057400"/>
              <a:chOff x="4648320" y="3809880"/>
              <a:chExt cx="4114080" cy="2057400"/>
            </a:xfrm>
          </p:grpSpPr>
          <p:sp>
            <p:nvSpPr>
              <p:cNvPr id="142" name="Oval 18"/>
              <p:cNvSpPr/>
              <p:nvPr/>
            </p:nvSpPr>
            <p:spPr>
              <a:xfrm>
                <a:off x="4648320" y="3809880"/>
                <a:ext cx="4114080" cy="2057400"/>
              </a:xfrm>
              <a:prstGeom prst="ellipse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9"/>
              <p:cNvSpPr/>
              <p:nvPr/>
            </p:nvSpPr>
            <p:spPr>
              <a:xfrm>
                <a:off x="5118480" y="3843720"/>
                <a:ext cx="3173760" cy="776520"/>
              </a:xfrm>
              <a:custGeom>
                <a:avLst/>
                <a:gdLst>
                  <a:gd name="textAreaLeft" fmla="*/ 0 w 3173760"/>
                  <a:gd name="textAreaRight" fmla="*/ 3174120 w 3173760"/>
                  <a:gd name="textAreaTop" fmla="*/ 0 h 776520"/>
                  <a:gd name="textAreaBottom" fmla="*/ 776880 h 776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Text Box 20"/>
            <p:cNvSpPr/>
            <p:nvPr/>
          </p:nvSpPr>
          <p:spPr>
            <a:xfrm>
              <a:off x="6774120" y="4701240"/>
              <a:ext cx="185040" cy="5155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25"/>
          <p:cNvSpPr/>
          <p:nvPr/>
        </p:nvSpPr>
        <p:spPr>
          <a:xfrm>
            <a:off x="4800600" y="3838680"/>
            <a:ext cx="396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ения, регулирующие получение образования отдельными категориями обучающихс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оспитанниками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ающимися, студентами, курсантами, аспирантами, адъюнктами, ординаторами, ассистентами-стажерами, слушателями, экстернами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AutoShape 30"/>
          <p:cNvCxnSpPr/>
          <p:nvPr/>
        </p:nvCxnSpPr>
        <p:spPr>
          <a:xfrm flipV="1" rot="10800000">
            <a:off x="2742480" y="2056320"/>
            <a:ext cx="2286720" cy="3438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31"/>
          <p:cNvCxnSpPr/>
          <p:nvPr/>
        </p:nvCxnSpPr>
        <p:spPr>
          <a:xfrm rot="10800000">
            <a:off x="2894760" y="5180760"/>
            <a:ext cx="2286720" cy="3438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9900"/>
                </a:solidFill>
                <a:latin typeface="Arial"/>
              </a:rPr>
              <a:t>Сохранённые базовые</a:t>
            </a:r>
            <a:br>
              <a:rPr sz="3800"/>
            </a:br>
            <a:r>
              <a:rPr b="1" lang="ru-RU" sz="3800" spc="-1" strike="noStrike">
                <a:solidFill>
                  <a:srgbClr val="ff9900"/>
                </a:solidFill>
                <a:latin typeface="Arial"/>
              </a:rPr>
              <a:t>принципы и норм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607920" y="2949120"/>
            <a:ext cx="2048040" cy="20480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5ff67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3429000" y="3048120"/>
            <a:ext cx="2286000" cy="2209680"/>
            <a:chOff x="3429000" y="3048120"/>
            <a:chExt cx="2286000" cy="2209680"/>
          </a:xfrm>
        </p:grpSpPr>
        <p:sp>
          <p:nvSpPr>
            <p:cNvPr id="151" name="Oval 5"/>
            <p:cNvSpPr/>
            <p:nvPr/>
          </p:nvSpPr>
          <p:spPr>
            <a:xfrm>
              <a:off x="3429000" y="3048120"/>
              <a:ext cx="2286000" cy="22096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>
              <a:off x="3690360" y="3084480"/>
              <a:ext cx="1763280" cy="833760"/>
            </a:xfrm>
            <a:custGeom>
              <a:avLst/>
              <a:gdLst>
                <a:gd name="textAreaLeft" fmla="*/ 0 w 1763280"/>
                <a:gd name="textAreaRight" fmla="*/ 1763640 w 1763280"/>
                <a:gd name="textAreaTop" fmla="*/ 0 h 833760"/>
                <a:gd name="textAreaBottom" fmla="*/ 834120 h 8337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7"/>
          <p:cNvSpPr/>
          <p:nvPr/>
        </p:nvSpPr>
        <p:spPr>
          <a:xfrm>
            <a:off x="3657600" y="33526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с. гарант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 в 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1"/>
          <p:cNvGrpSpPr/>
          <p:nvPr/>
        </p:nvGrpSpPr>
        <p:grpSpPr>
          <a:xfrm>
            <a:off x="2362320" y="3124080"/>
            <a:ext cx="685800" cy="685800"/>
            <a:chOff x="2362320" y="3124080"/>
            <a:chExt cx="685800" cy="685800"/>
          </a:xfrm>
        </p:grpSpPr>
        <p:grpSp>
          <p:nvGrpSpPr>
            <p:cNvPr id="155" name="Group 32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sp>
            <p:nvSpPr>
              <p:cNvPr id="156" name="Oval 33"/>
              <p:cNvSpPr/>
              <p:nvPr/>
            </p:nvSpPr>
            <p:spPr>
              <a:xfrm>
                <a:off x="2362320" y="3124080"/>
                <a:ext cx="685800" cy="68580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7446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34"/>
              <p:cNvSpPr/>
              <p:nvPr/>
            </p:nvSpPr>
            <p:spPr>
              <a:xfrm>
                <a:off x="2440440" y="3135240"/>
                <a:ext cx="529200" cy="258840"/>
              </a:xfrm>
              <a:custGeom>
                <a:avLst/>
                <a:gdLst>
                  <a:gd name="textAreaLeft" fmla="*/ 0 w 529200"/>
                  <a:gd name="textAreaRight" fmla="*/ 529560 w 52920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 Box 35"/>
            <p:cNvSpPr/>
            <p:nvPr/>
          </p:nvSpPr>
          <p:spPr>
            <a:xfrm>
              <a:off x="2533680" y="3186000"/>
              <a:ext cx="3664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 Narrow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8"/>
          <p:cNvGrpSpPr/>
          <p:nvPr/>
        </p:nvGrpSpPr>
        <p:grpSpPr>
          <a:xfrm>
            <a:off x="4191120" y="1447920"/>
            <a:ext cx="685800" cy="609480"/>
            <a:chOff x="4191120" y="1447920"/>
            <a:chExt cx="685800" cy="609480"/>
          </a:xfrm>
        </p:grpSpPr>
        <p:grpSp>
          <p:nvGrpSpPr>
            <p:cNvPr id="160" name="Group 9"/>
            <p:cNvGrpSpPr/>
            <p:nvPr/>
          </p:nvGrpSpPr>
          <p:grpSpPr>
            <a:xfrm>
              <a:off x="4191120" y="1447920"/>
              <a:ext cx="685800" cy="609480"/>
              <a:chOff x="4191120" y="1447920"/>
              <a:chExt cx="685800" cy="609480"/>
            </a:xfrm>
          </p:grpSpPr>
          <p:sp>
            <p:nvSpPr>
              <p:cNvPr id="161" name="Oval 10"/>
              <p:cNvSpPr/>
              <p:nvPr/>
            </p:nvSpPr>
            <p:spPr>
              <a:xfrm>
                <a:off x="4191120" y="144792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6c56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1"/>
              <p:cNvSpPr/>
              <p:nvPr/>
            </p:nvSpPr>
            <p:spPr>
              <a:xfrm>
                <a:off x="4269240" y="1458000"/>
                <a:ext cx="529200" cy="230040"/>
              </a:xfrm>
              <a:custGeom>
                <a:avLst/>
                <a:gdLst>
                  <a:gd name="textAreaLeft" fmla="*/ 0 w 529200"/>
                  <a:gd name="textAreaRight" fmla="*/ 529560 w 52920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Text Box 12"/>
            <p:cNvSpPr/>
            <p:nvPr/>
          </p:nvSpPr>
          <p:spPr>
            <a:xfrm>
              <a:off x="4365720" y="1528200"/>
              <a:ext cx="3664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6097680" y="3146400"/>
            <a:ext cx="681120" cy="693720"/>
            <a:chOff x="6097680" y="3146400"/>
            <a:chExt cx="681120" cy="693720"/>
          </a:xfrm>
        </p:grpSpPr>
        <p:grpSp>
          <p:nvGrpSpPr>
            <p:cNvPr id="165" name="Group 22"/>
            <p:cNvGrpSpPr/>
            <p:nvPr/>
          </p:nvGrpSpPr>
          <p:grpSpPr>
            <a:xfrm>
              <a:off x="6097680" y="3146400"/>
              <a:ext cx="681120" cy="693720"/>
              <a:chOff x="6097680" y="3146400"/>
              <a:chExt cx="681120" cy="693720"/>
            </a:xfrm>
          </p:grpSpPr>
          <p:sp>
            <p:nvSpPr>
              <p:cNvPr id="166" name="Oval 23"/>
              <p:cNvSpPr/>
              <p:nvPr/>
            </p:nvSpPr>
            <p:spPr>
              <a:xfrm>
                <a:off x="6097680" y="3146400"/>
                <a:ext cx="681120" cy="69372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21446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24"/>
              <p:cNvSpPr/>
              <p:nvPr/>
            </p:nvSpPr>
            <p:spPr>
              <a:xfrm>
                <a:off x="6175440" y="3157920"/>
                <a:ext cx="525600" cy="261720"/>
              </a:xfrm>
              <a:custGeom>
                <a:avLst/>
                <a:gdLst>
                  <a:gd name="textAreaLeft" fmla="*/ 0 w 525600"/>
                  <a:gd name="textAreaRight" fmla="*/ 525960 w 52560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Text Box 25"/>
            <p:cNvSpPr/>
            <p:nvPr/>
          </p:nvSpPr>
          <p:spPr>
            <a:xfrm>
              <a:off x="6244920" y="3227400"/>
              <a:ext cx="3664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6"/>
          <p:cNvGrpSpPr/>
          <p:nvPr/>
        </p:nvGrpSpPr>
        <p:grpSpPr>
          <a:xfrm>
            <a:off x="5500800" y="5113440"/>
            <a:ext cx="653760" cy="622080"/>
            <a:chOff x="5500800" y="5113440"/>
            <a:chExt cx="653760" cy="622080"/>
          </a:xfrm>
        </p:grpSpPr>
        <p:grpSp>
          <p:nvGrpSpPr>
            <p:cNvPr id="170" name="Group 27"/>
            <p:cNvGrpSpPr/>
            <p:nvPr/>
          </p:nvGrpSpPr>
          <p:grpSpPr>
            <a:xfrm>
              <a:off x="5500800" y="5113440"/>
              <a:ext cx="653760" cy="622080"/>
              <a:chOff x="5500800" y="5113440"/>
              <a:chExt cx="653760" cy="622080"/>
            </a:xfrm>
          </p:grpSpPr>
          <p:sp>
            <p:nvSpPr>
              <p:cNvPr id="171" name="Oval 28"/>
              <p:cNvSpPr/>
              <p:nvPr/>
            </p:nvSpPr>
            <p:spPr>
              <a:xfrm>
                <a:off x="5500800" y="5113440"/>
                <a:ext cx="653760" cy="622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462e74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9"/>
              <p:cNvSpPr/>
              <p:nvPr/>
            </p:nvSpPr>
            <p:spPr>
              <a:xfrm>
                <a:off x="5575320" y="5123520"/>
                <a:ext cx="504360" cy="23472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Text Box 30"/>
            <p:cNvSpPr/>
            <p:nvPr/>
          </p:nvSpPr>
          <p:spPr>
            <a:xfrm>
              <a:off x="5676480" y="5132160"/>
              <a:ext cx="3664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 Narrow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2895480" y="5257800"/>
            <a:ext cx="685800" cy="757080"/>
            <a:chOff x="2895480" y="5257800"/>
            <a:chExt cx="685800" cy="757080"/>
          </a:xfrm>
        </p:grpSpPr>
        <p:grpSp>
          <p:nvGrpSpPr>
            <p:cNvPr id="175" name="Group 17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sp>
            <p:nvSpPr>
              <p:cNvPr id="176" name="Oval 18"/>
              <p:cNvSpPr/>
              <p:nvPr/>
            </p:nvSpPr>
            <p:spPr>
              <a:xfrm>
                <a:off x="2895480" y="5329080"/>
                <a:ext cx="685800" cy="68580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23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9"/>
              <p:cNvSpPr/>
              <p:nvPr/>
            </p:nvSpPr>
            <p:spPr>
              <a:xfrm>
                <a:off x="2973600" y="5340240"/>
                <a:ext cx="529200" cy="258840"/>
              </a:xfrm>
              <a:custGeom>
                <a:avLst/>
                <a:gdLst>
                  <a:gd name="textAreaLeft" fmla="*/ 0 w 529200"/>
                  <a:gd name="textAreaRight" fmla="*/ 529560 w 52920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20"/>
            <p:cNvSpPr/>
            <p:nvPr/>
          </p:nvSpPr>
          <p:spPr>
            <a:xfrm>
              <a:off x="3043080" y="5257800"/>
              <a:ext cx="4734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 Narrow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4"/>
          <p:cNvGrpSpPr/>
          <p:nvPr/>
        </p:nvGrpSpPr>
        <p:grpSpPr>
          <a:xfrm>
            <a:off x="3429000" y="2743200"/>
            <a:ext cx="2209680" cy="2209680"/>
            <a:chOff x="3429000" y="2743200"/>
            <a:chExt cx="2209680" cy="2209680"/>
          </a:xfrm>
        </p:grpSpPr>
        <p:sp>
          <p:nvSpPr>
            <p:cNvPr id="180" name="Oval 5"/>
            <p:cNvSpPr/>
            <p:nvPr/>
          </p:nvSpPr>
          <p:spPr>
            <a:xfrm>
              <a:off x="3429000" y="2743200"/>
              <a:ext cx="2209680" cy="22096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"/>
            <p:cNvSpPr/>
            <p:nvPr/>
          </p:nvSpPr>
          <p:spPr>
            <a:xfrm>
              <a:off x="3681360" y="2779560"/>
              <a:ext cx="1704600" cy="833760"/>
            </a:xfrm>
            <a:custGeom>
              <a:avLst/>
              <a:gdLst>
                <a:gd name="textAreaLeft" fmla="*/ 0 w 1704600"/>
                <a:gd name="textAreaRight" fmla="*/ 1704960 w 1704600"/>
                <a:gd name="textAreaTop" fmla="*/ 0 h 833760"/>
                <a:gd name="textAreaBottom" fmla="*/ 834120 h 8337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37"/>
          <p:cNvSpPr/>
          <p:nvPr/>
        </p:nvSpPr>
        <p:spPr>
          <a:xfrm>
            <a:off x="5257800" y="121932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учение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оответствии с особенностями психофизического развития и состояния здоровья, с уче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лонностей и потребностей  обучающихся (вариативност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Гл. 2, ст. 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6"/>
          <p:cNvSpPr/>
          <p:nvPr/>
        </p:nvSpPr>
        <p:spPr>
          <a:xfrm>
            <a:off x="6264360" y="3776760"/>
            <a:ext cx="26748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зык  обучения ( на родном, изучать родной язык, на иностранном язык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Гл.2, ст. 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7"/>
          <p:cNvSpPr/>
          <p:nvPr/>
        </p:nvSpPr>
        <p:spPr>
          <a:xfrm>
            <a:off x="6192720" y="5133960"/>
            <a:ext cx="27464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сударственно-обществе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арактер управления образованием (Гл. 12, ст. 8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8"/>
          <p:cNvSpPr/>
          <p:nvPr/>
        </p:nvSpPr>
        <p:spPr>
          <a:xfrm>
            <a:off x="360360" y="4267080"/>
            <a:ext cx="29275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овые гарантии обеспечения доступ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сплатности и ка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ния для всех категорий гражд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Гл.1, ст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4"/>
          <p:cNvSpPr/>
          <p:nvPr/>
        </p:nvSpPr>
        <p:spPr>
          <a:xfrm>
            <a:off x="638280" y="1770120"/>
            <a:ext cx="324792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бор образов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и,  выбор  учебного плана (инд.п.), выбор факультативов и электив. кур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Гл.4, ст. 3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2"/>
          <p:cNvSpPr/>
          <p:nvPr/>
        </p:nvSpPr>
        <p:spPr>
          <a:xfrm>
            <a:off x="3733920" y="3048120"/>
            <a:ext cx="175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ые гарант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 в 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41"/>
          <p:cNvGrpSpPr/>
          <p:nvPr/>
        </p:nvGrpSpPr>
        <p:grpSpPr>
          <a:xfrm>
            <a:off x="4471200" y="2182320"/>
            <a:ext cx="187200" cy="468000"/>
            <a:chOff x="4471200" y="2182320"/>
            <a:chExt cx="187200" cy="468000"/>
          </a:xfrm>
        </p:grpSpPr>
        <p:sp>
          <p:nvSpPr>
            <p:cNvPr id="189" name="Oval 42"/>
            <p:cNvSpPr/>
            <p:nvPr/>
          </p:nvSpPr>
          <p:spPr>
            <a:xfrm rot="18226800">
              <a:off x="4499640" y="220572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aa8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3"/>
            <p:cNvSpPr/>
            <p:nvPr/>
          </p:nvSpPr>
          <p:spPr>
            <a:xfrm rot="18226800">
              <a:off x="4499640" y="248832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aa8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Oval 45"/>
          <p:cNvSpPr/>
          <p:nvPr/>
        </p:nvSpPr>
        <p:spPr>
          <a:xfrm rot="18226800">
            <a:off x="5718960" y="3729240"/>
            <a:ext cx="129960" cy="1382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66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44"/>
          <p:cNvSpPr/>
          <p:nvPr/>
        </p:nvSpPr>
        <p:spPr>
          <a:xfrm rot="18226800">
            <a:off x="5966640" y="3605400"/>
            <a:ext cx="129960" cy="1382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66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37"/>
          <p:cNvSpPr/>
          <p:nvPr/>
        </p:nvSpPr>
        <p:spPr>
          <a:xfrm rot="18226800">
            <a:off x="5414040" y="5025240"/>
            <a:ext cx="130320" cy="13824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6644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36"/>
          <p:cNvSpPr/>
          <p:nvPr/>
        </p:nvSpPr>
        <p:spPr>
          <a:xfrm rot="18226800">
            <a:off x="5480640" y="5061600"/>
            <a:ext cx="130320" cy="13788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6644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3"/>
          <p:cNvGrpSpPr/>
          <p:nvPr/>
        </p:nvGrpSpPr>
        <p:grpSpPr>
          <a:xfrm>
            <a:off x="3525120" y="5038200"/>
            <a:ext cx="368280" cy="334800"/>
            <a:chOff x="3525120" y="5038200"/>
            <a:chExt cx="368280" cy="334800"/>
          </a:xfrm>
        </p:grpSpPr>
        <p:sp>
          <p:nvSpPr>
            <p:cNvPr id="196" name="Oval 14"/>
            <p:cNvSpPr/>
            <p:nvPr/>
          </p:nvSpPr>
          <p:spPr>
            <a:xfrm rot="18226800">
              <a:off x="3553560" y="521100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288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5"/>
            <p:cNvSpPr/>
            <p:nvPr/>
          </p:nvSpPr>
          <p:spPr>
            <a:xfrm rot="18226800">
              <a:off x="3734280" y="506160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288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38"/>
          <p:cNvGrpSpPr/>
          <p:nvPr/>
        </p:nvGrpSpPr>
        <p:grpSpPr>
          <a:xfrm>
            <a:off x="3099600" y="3553920"/>
            <a:ext cx="415800" cy="261000"/>
            <a:chOff x="3099600" y="3553920"/>
            <a:chExt cx="415800" cy="261000"/>
          </a:xfrm>
        </p:grpSpPr>
        <p:sp>
          <p:nvSpPr>
            <p:cNvPr id="199" name="Oval 39"/>
            <p:cNvSpPr/>
            <p:nvPr/>
          </p:nvSpPr>
          <p:spPr>
            <a:xfrm rot="18226800">
              <a:off x="3128040" y="357732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aa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40"/>
            <p:cNvSpPr/>
            <p:nvPr/>
          </p:nvSpPr>
          <p:spPr>
            <a:xfrm rot="18226800">
              <a:off x="3356640" y="365292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aa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Расширение базовых</a:t>
            </a:r>
            <a:br>
              <a:rPr sz="3600"/>
            </a:b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принципов и норм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30"/>
          <p:cNvGrpSpPr/>
          <p:nvPr/>
        </p:nvGrpSpPr>
        <p:grpSpPr>
          <a:xfrm>
            <a:off x="1143000" y="1371600"/>
            <a:ext cx="3656880" cy="2080800"/>
            <a:chOff x="1143000" y="1371600"/>
            <a:chExt cx="3656880" cy="2080800"/>
          </a:xfrm>
        </p:grpSpPr>
        <p:sp>
          <p:nvSpPr>
            <p:cNvPr id="203" name="AutoShape 31"/>
            <p:cNvSpPr/>
            <p:nvPr/>
          </p:nvSpPr>
          <p:spPr>
            <a:xfrm>
              <a:off x="1173240" y="1406880"/>
              <a:ext cx="3626640" cy="2045520"/>
            </a:xfrm>
            <a:prstGeom prst="hexagon">
              <a:avLst>
                <a:gd name="adj" fmla="val 44324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32"/>
            <p:cNvSpPr/>
            <p:nvPr/>
          </p:nvSpPr>
          <p:spPr>
            <a:xfrm>
              <a:off x="1143000" y="1371600"/>
              <a:ext cx="3626640" cy="2045520"/>
            </a:xfrm>
            <a:prstGeom prst="hexagon">
              <a:avLst>
                <a:gd name="adj" fmla="val 4432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33"/>
            <p:cNvSpPr/>
            <p:nvPr/>
          </p:nvSpPr>
          <p:spPr>
            <a:xfrm>
              <a:off x="1355400" y="1494720"/>
              <a:ext cx="3187440" cy="1799280"/>
            </a:xfrm>
            <a:prstGeom prst="hexagon">
              <a:avLst>
                <a:gd name="adj" fmla="val 44288"/>
                <a:gd name="vf" fmla="val 115470"/>
              </a:avLst>
            </a:prstGeom>
            <a:gradFill rotWithShape="0">
              <a:gsLst>
                <a:gs pos="0">
                  <a:srgbClr val="7262ec"/>
                </a:gs>
                <a:gs pos="100000">
                  <a:srgbClr val="2614aa"/>
                </a:gs>
              </a:gsLst>
              <a:lin ang="2700000"/>
            </a:gra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40"/>
          <p:cNvGrpSpPr/>
          <p:nvPr/>
        </p:nvGrpSpPr>
        <p:grpSpPr>
          <a:xfrm>
            <a:off x="4572000" y="2590920"/>
            <a:ext cx="3657240" cy="2057040"/>
            <a:chOff x="4572000" y="2590920"/>
            <a:chExt cx="3657240" cy="2057040"/>
          </a:xfrm>
        </p:grpSpPr>
        <p:sp>
          <p:nvSpPr>
            <p:cNvPr id="207" name="AutoShape 41"/>
            <p:cNvSpPr/>
            <p:nvPr/>
          </p:nvSpPr>
          <p:spPr>
            <a:xfrm>
              <a:off x="4602960" y="2625840"/>
              <a:ext cx="3626280" cy="2022120"/>
            </a:xfrm>
            <a:prstGeom prst="hexagon">
              <a:avLst>
                <a:gd name="adj" fmla="val 4483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42"/>
            <p:cNvSpPr/>
            <p:nvPr/>
          </p:nvSpPr>
          <p:spPr>
            <a:xfrm>
              <a:off x="4572000" y="2590920"/>
              <a:ext cx="3626640" cy="2022120"/>
            </a:xfrm>
            <a:prstGeom prst="hexagon">
              <a:avLst>
                <a:gd name="adj" fmla="val 44837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43"/>
            <p:cNvSpPr/>
            <p:nvPr/>
          </p:nvSpPr>
          <p:spPr>
            <a:xfrm>
              <a:off x="4784400" y="2712600"/>
              <a:ext cx="3187080" cy="1778400"/>
            </a:xfrm>
            <a:prstGeom prst="hexagon">
              <a:avLst>
                <a:gd name="adj" fmla="val 44803"/>
                <a:gd name="vf" fmla="val 115470"/>
              </a:avLst>
            </a:prstGeom>
            <a:gradFill rotWithShape="0">
              <a:gsLst>
                <a:gs pos="0">
                  <a:srgbClr val="cc7032"/>
                </a:gs>
                <a:gs pos="100000">
                  <a:srgbClr val="844820"/>
                </a:gs>
              </a:gsLst>
              <a:lin ang="2700000"/>
            </a:gra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35"/>
          <p:cNvGrpSpPr/>
          <p:nvPr/>
        </p:nvGrpSpPr>
        <p:grpSpPr>
          <a:xfrm>
            <a:off x="1143000" y="3962520"/>
            <a:ext cx="3656880" cy="2133000"/>
            <a:chOff x="1143000" y="3962520"/>
            <a:chExt cx="3656880" cy="2133000"/>
          </a:xfrm>
        </p:grpSpPr>
        <p:sp>
          <p:nvSpPr>
            <p:cNvPr id="211" name="AutoShape 36"/>
            <p:cNvSpPr/>
            <p:nvPr/>
          </p:nvSpPr>
          <p:spPr>
            <a:xfrm>
              <a:off x="1173240" y="3998880"/>
              <a:ext cx="3626640" cy="2096640"/>
            </a:xfrm>
            <a:prstGeom prst="hexagon">
              <a:avLst>
                <a:gd name="adj" fmla="val 4324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37"/>
            <p:cNvSpPr/>
            <p:nvPr/>
          </p:nvSpPr>
          <p:spPr>
            <a:xfrm>
              <a:off x="1143000" y="3962520"/>
              <a:ext cx="3626640" cy="2096640"/>
            </a:xfrm>
            <a:prstGeom prst="hexagon">
              <a:avLst>
                <a:gd name="adj" fmla="val 43243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38"/>
            <p:cNvSpPr/>
            <p:nvPr/>
          </p:nvSpPr>
          <p:spPr>
            <a:xfrm>
              <a:off x="1355400" y="4088880"/>
              <a:ext cx="3187440" cy="1844280"/>
            </a:xfrm>
            <a:prstGeom prst="hexagon">
              <a:avLst>
                <a:gd name="adj" fmla="val 43207"/>
                <a:gd name="vf" fmla="val 115470"/>
              </a:avLst>
            </a:prstGeom>
            <a:gradFill rotWithShape="0">
              <a:gsLst>
                <a:gs pos="0">
                  <a:srgbClr val="24b443"/>
                </a:gs>
                <a:gs pos="100000">
                  <a:srgbClr val="115d16"/>
                </a:gs>
              </a:gsLst>
              <a:lin ang="2700000"/>
            </a:gra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16"/>
          <p:cNvSpPr/>
          <p:nvPr/>
        </p:nvSpPr>
        <p:spPr>
          <a:xfrm>
            <a:off x="1752480" y="19051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еспечение пр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образование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тяжении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7"/>
          <p:cNvSpPr/>
          <p:nvPr/>
        </p:nvSpPr>
        <p:spPr>
          <a:xfrm>
            <a:off x="5486400" y="29718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крытость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нешним за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1981080" y="4191120"/>
            <a:ext cx="2362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зн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венства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куренции субъект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уществля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разовательн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9"/>
          <p:cNvSpPr/>
          <p:nvPr/>
        </p:nvSpPr>
        <p:spPr>
          <a:xfrm>
            <a:off x="4952880" y="144792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енное участие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це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ости образовательной деятельност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управл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0"/>
          <p:cNvSpPr/>
          <p:nvPr/>
        </p:nvSpPr>
        <p:spPr>
          <a:xfrm flipV="1" rot="10800000">
            <a:off x="5334120" y="495972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ая открыт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отребителя услуг.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(Гл.3 ст.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AutoShape 46"/>
          <p:cNvCxnSpPr/>
          <p:nvPr/>
        </p:nvCxnSpPr>
        <p:spPr>
          <a:xfrm flipH="1" flipV="1" rot="10800000">
            <a:off x="1142640" y="2394360"/>
            <a:ext cx="2160" cy="2616840"/>
          </a:xfrm>
          <a:prstGeom prst="bentConnector3">
            <a:avLst>
              <a:gd name="adj1" fmla="val -14400000"/>
            </a:avLst>
          </a:prstGeom>
          <a:ln w="28440">
            <a:solidFill>
              <a:srgbClr val="336600"/>
            </a:solidFill>
            <a:miter/>
          </a:ln>
        </p:spPr>
      </p:cxnSp>
      <p:cxnSp>
        <p:nvCxnSpPr>
          <p:cNvPr id="220" name="AutoShape 45"/>
          <p:cNvCxnSpPr/>
          <p:nvPr/>
        </p:nvCxnSpPr>
        <p:spPr>
          <a:xfrm flipV="1" rot="16200000">
            <a:off x="5479920" y="1684440"/>
            <a:ext cx="196200" cy="1616760"/>
          </a:xfrm>
          <a:prstGeom prst="bentConnector2">
            <a:avLst/>
          </a:prstGeom>
          <a:ln w="28440">
            <a:solidFill>
              <a:srgbClr val="336600"/>
            </a:solidFill>
            <a:miter/>
          </a:ln>
        </p:spPr>
      </p:cxnSp>
      <p:cxnSp>
        <p:nvCxnSpPr>
          <p:cNvPr id="221" name="AutoShape 47"/>
          <p:cNvCxnSpPr/>
          <p:nvPr/>
        </p:nvCxnSpPr>
        <p:spPr>
          <a:xfrm flipV="1">
            <a:off x="4800240" y="4613040"/>
            <a:ext cx="1586520" cy="435600"/>
          </a:xfrm>
          <a:prstGeom prst="bentConnector2">
            <a:avLst/>
          </a:prstGeom>
          <a:ln w="28440">
            <a:solidFill>
              <a:srgbClr val="3366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Информационная открытость образовательной организации (Статья 2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192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Контент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(content) - вербальное наполнение сайта, образно и логически связанное с графическими элементами и системой навигации. Небольшой по объему, но максимально информативный контент, гармонично сосуществующий с дизайном сайта — оптимальный, хотя и не часто встречающийся вариа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царь Юрий Анатольевич</cp:lastModifiedBy>
  <cp:lastPrinted>2013-02-06T09:47:28Z</cp:lastPrinted>
  <dcterms:modified xsi:type="dcterms:W3CDTF">2015-09-07T09:02:29Z</dcterms:modified>
  <cp:revision>1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