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9B4-D8E5-4818-B277-E6DC7631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0BE-FA74-4501-B281-80895E10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6CC-F11F-47F0-981B-43388BAC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7FB-081D-4D17-BC9E-6BDE484B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115-49A9-4F3F-BCE2-D2354672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3E8-35E3-43EF-868B-FBAFD2F6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726-54AF-496E-B3FE-1F52892B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18B-8404-491A-8E93-A2119EFC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6FA-501A-4D36-8762-471E4C17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204-5C91-4221-A290-8F790068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D1E-CF37-499A-B415-230C8A71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8A3-089D-468E-AF3E-144C8A8D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65D9-3ED6-4EE6-B926-3ADE4D0E0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нутый угол 5" descr=""/>
          <p:cNvPicPr/>
          <p:nvPr/>
        </p:nvPicPr>
        <p:blipFill>
          <a:blip r:embed="rId1"/>
          <a:stretch/>
        </p:blipFill>
        <p:spPr>
          <a:xfrm>
            <a:off x="1274760" y="1042920"/>
            <a:ext cx="7126200" cy="240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cuments and Settings\User\Рабочий стол\Безимени-2.png"/>
          <p:cNvPicPr/>
          <p:nvPr/>
        </p:nvPicPr>
        <p:blipFill>
          <a:blip r:embed="rId2"/>
          <a:srcRect l="30039" t="44356" r="59987" b="37508"/>
          <a:stretch/>
        </p:blipFill>
        <p:spPr>
          <a:xfrm>
            <a:off x="1143000" y="380880"/>
            <a:ext cx="71136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User\Рабочий стол\Безимени-2.png"/>
          <p:cNvPicPr/>
          <p:nvPr/>
        </p:nvPicPr>
        <p:blipFill>
          <a:blip r:embed="rId3"/>
          <a:srcRect l="30039" t="44356" r="59987" b="37508"/>
          <a:stretch/>
        </p:blipFill>
        <p:spPr>
          <a:xfrm>
            <a:off x="7543800" y="380880"/>
            <a:ext cx="71136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товность ребёнка к обучению в школ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http://www.sch2000.ru/parents/sobranie/readiness/1.jpg"/>
          <p:cNvPicPr/>
          <p:nvPr/>
        </p:nvPicPr>
        <p:blipFill>
          <a:blip r:embed="rId4"/>
          <a:stretch/>
        </p:blipFill>
        <p:spPr>
          <a:xfrm>
            <a:off x="3276720" y="36576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676520" y="38088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знания должны быть сформированы у будущего первоклассник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Мои документы\Картинки и открытки\Готовы ли к школе 2.jpg"/>
          <p:cNvPicPr/>
          <p:nvPr/>
        </p:nvPicPr>
        <p:blipFill>
          <a:blip r:embed="rId1"/>
          <a:stretch/>
        </p:blipFill>
        <p:spPr>
          <a:xfrm>
            <a:off x="1523880" y="1981080"/>
            <a:ext cx="670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066680" y="228600"/>
            <a:ext cx="7772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ласти развития речи и готовности к овладению грамотой будущему первокласснику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выделять заданный звук в потоке реч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определять место звука в слове ( в начале, в середине, в конц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произносить слова по слогам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оставлять предложения из 3-5 сло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называть в предложении только 2-е слово, только 3-е слово, только 4-е слово и т.д.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использовать обобщающие понят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оставлять рассказ по картин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составлять несколько предложений о предмет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личать жанры художественной литературы (сказка, рассказ, стихотворение, басня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наизусть читать любимые стихотвор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последовательно передавать содержание сказ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914400" y="333360"/>
            <a:ext cx="8229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 началу обучения в школе у ребёнка должны быть развиты элементы математического предст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ть цифры от 0 до 9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читать до 10 и обратно, от 6 до 10, от 7 до 2 и т. д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называть предыдущее и последующее число относительно любого числа в пределах первого десятк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знаки +, - , =, &lt;, &gt;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равнивать числа первого десятка (например, 7&lt;8, 5&gt;4, 6=6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оотносить цифру и число предмето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равнивать две группы предметов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оставлять и решать задачи в одно действие на сложение и вычита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сравнивать предметы по цвету. Форме, размеру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названия фигур: треугольник, квадрат, круг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оперировать понятиями: «налево», «направо», «вверх», «вниз», «раньше», «позже», «перед», «за», «между» и т. д.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группировать по определённому признаку предложенные предмет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143000" y="609480"/>
            <a:ext cx="72388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бласти представлений об окружающем мире будущему первокласснику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различать по внешнему виду растения, распространённые в нашей местности и называть их отличительные признак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различать диких и домашних животных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уметь различать по внешнему виду птиц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иметь представление о сезонных признаках природ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названия 1-3 комнатных расте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названия 12 месяцев год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знать названия всех дней недел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приготовление уроков"/>
          <p:cNvPicPr/>
          <p:nvPr/>
        </p:nvPicPr>
        <p:blipFill>
          <a:blip r:embed="rId1"/>
          <a:stretch/>
        </p:blipFill>
        <p:spPr>
          <a:xfrm>
            <a:off x="6019920" y="3733920"/>
            <a:ext cx="2895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1447920" y="3222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роме того, ребёнок, поступающий в первый класс, должен 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какой стране он живёт, в каком городе, на какой улице, в каком дом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• полные имена членов своей семьи, иметь общие понятия о различных видах их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• знать правила поведения в общественных местах и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D:\Мои документы\Картинки и открытки\Готовы ли к школе 14.jpg"/>
          <p:cNvPicPr/>
          <p:nvPr/>
        </p:nvPicPr>
        <p:blipFill>
          <a:blip r:embed="rId1"/>
          <a:stretch/>
        </p:blipFill>
        <p:spPr>
          <a:xfrm>
            <a:off x="4419720" y="3505320"/>
            <a:ext cx="40957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981080" y="4572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Готовность к школе психологическая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ноним: школьная зрелость) — комплекс психических качеств, необходимых ребёнку для успешного начала обучения в ш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D:\Мои документы\Картинки и открытки\В школу3d967bf173bf.jpg"/>
          <p:cNvPicPr/>
          <p:nvPr/>
        </p:nvPicPr>
        <p:blipFill>
          <a:blip r:embed="rId1"/>
          <a:stretch/>
        </p:blipFill>
        <p:spPr>
          <a:xfrm>
            <a:off x="2438280" y="2438280"/>
            <a:ext cx="555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447920" y="4572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должен уметь вступать в об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 учителем и со сверс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Мои документы\Картинки и открытки\Готовимся в школу.7bc7d4718540.jpg"/>
          <p:cNvPicPr/>
          <p:nvPr/>
        </p:nvPicPr>
        <p:blipFill>
          <a:blip r:embed="rId1"/>
          <a:stretch/>
        </p:blipFill>
        <p:spPr>
          <a:xfrm>
            <a:off x="2057400" y="1752480"/>
            <a:ext cx="54975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295280" y="380880"/>
            <a:ext cx="4343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сверст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ны быть развиты такие качества личности, которые помогли бы общаться и взаимодействовать со сверстниками, уступать в одних обстоятельствах и не уступать в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ребёнок должен уметь быть членом детского общества и совместно действовать с другими деть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Мои документы\Картинки и открытки\Готовы ли к школе 5.jpg"/>
          <p:cNvPicPr/>
          <p:nvPr/>
        </p:nvPicPr>
        <p:blipFill>
          <a:blip r:embed="rId1"/>
          <a:stretch/>
        </p:blipFill>
        <p:spPr>
          <a:xfrm>
            <a:off x="6172200" y="1066680"/>
            <a:ext cx="2743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295280" y="0"/>
            <a:ext cx="746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родным и близ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я личное пространство в семье, ребёнок должен испытывать уважительное отношение родных к его новой роли ученика. Родные должны относиться к будущему школьнику, его учению, как к важной содержательной деятельности, гораздо более значимой, чем игра дошкольника. Учение для ребёнка становится основным видом его деятель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D:\Мои документы\Картинки и открытки\Первые занятия будущего первоклассника 230_9ce8_c590f1a1_XL.jpeg"/>
          <p:cNvPicPr/>
          <p:nvPr/>
        </p:nvPicPr>
        <p:blipFill>
          <a:blip r:embed="rId1"/>
          <a:stretch/>
        </p:blipFill>
        <p:spPr>
          <a:xfrm>
            <a:off x="3124080" y="3733920"/>
            <a:ext cx="5410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914400" y="31240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самому себ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 своим способностям, к своей деятельности, её результатам. Иметь адекватную самооценку. Высокая самооценка может вызывать неправильную реакцию на замечания учителя. В результате может оказаться, что "школа плохая", "учитель злой" и т.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ёнок должен уметь правильно оценивать себя и своё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Мои документы\Картинки и открытки\Готовы ли к школе 11.jpg"/>
          <p:cNvPicPr/>
          <p:nvPr/>
        </p:nvPicPr>
        <p:blipFill>
          <a:blip r:embed="rId1"/>
          <a:stretch/>
        </p:blipFill>
        <p:spPr>
          <a:xfrm>
            <a:off x="5029200" y="228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вы критерии психологической готовности ребёнка к школ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3000" y="25142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Социально-психологическая готовность к школ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ая мотивация (хочет идти в школу; понимает важность и необходимость учения; проявляет выраженный интерес к получению новых знани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общаться со сверстниками и взрослыми (ребёнок легко вступает в контакт, не агрессивен, умеет находить выход из проблемных ситуаций общения, признаёт авторитет взрослы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066680" y="1415880"/>
            <a:ext cx="7772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Развитие школьно-значимых психофизиологических функц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мелких мышц руки (рука развита хорошо, ребёнок уверенно владеет карандашом, ножницам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транственная ориентация, координация движений (умение правильно определять выше-ниже; больше-меньше, вперёд-назад, слева-справа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ординация в системе глаз-рука (ребёнок может правильно перенести в тетрадь простейший графический образ-узор, фигуру - зрительно воспринимаемый на рас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1371600" y="315360"/>
            <a:ext cx="6629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Развитие лог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особность находить сходство и различия разных предметов при сравнении, умение правильно объединять предметы в группы по общим существенным признака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Развитие произвольного вним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особность удерживать внимание на выполняемой работе в течение 15-20 мину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D:\Мои документы\Картинки и открытки\Готовы ли к школе1252933915_1252300422-shutterstock_104901313.jpg"/>
          <p:cNvPicPr/>
          <p:nvPr/>
        </p:nvPicPr>
        <p:blipFill>
          <a:blip r:embed="rId1"/>
          <a:stretch/>
        </p:blipFill>
        <p:spPr>
          <a:xfrm>
            <a:off x="3733920" y="3124080"/>
            <a:ext cx="511956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na</cp:lastModifiedBy>
  <dcterms:modified xsi:type="dcterms:W3CDTF">2011-03-21T16:54:4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