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55EF-5FAB-488E-B283-54A1E3D2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5FD2-267D-4310-8B73-6BEF9887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BF71-8584-48C4-B1A8-3A2E55C3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9E1C-8FF2-4421-9D27-54ABD08D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DD98-E638-4FC0-8BDD-1CC47955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9280-B22B-4DB4-8293-00681912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76B1-9448-4CEE-B5D0-2BB33508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19DC-8F46-429C-AD0C-BD374D1B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64B2-1B5E-48D0-A96D-58EB1450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212A-AAB1-4015-A49E-8D018CEE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02D-F2B6-454F-9E01-C747A75F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D300-A4D6-4298-8701-1C65AF81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7E51-78C9-4502-964E-EB2D8463B4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нутый угол 5" descr=""/>
          <p:cNvPicPr/>
          <p:nvPr/>
        </p:nvPicPr>
        <p:blipFill>
          <a:blip r:embed="rId1"/>
          <a:stretch/>
        </p:blipFill>
        <p:spPr>
          <a:xfrm>
            <a:off x="1274760" y="1042920"/>
            <a:ext cx="7126200" cy="2401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Documents and Settings\User\Рабочий стол\Безимени-2.png"/>
          <p:cNvPicPr/>
          <p:nvPr/>
        </p:nvPicPr>
        <p:blipFill>
          <a:blip r:embed="rId2"/>
          <a:srcRect l="30039" t="44356" r="59987" b="37508"/>
          <a:stretch/>
        </p:blipFill>
        <p:spPr>
          <a:xfrm>
            <a:off x="1143000" y="380880"/>
            <a:ext cx="711360" cy="914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Documents and Settings\User\Рабочий стол\Безимени-2.png"/>
          <p:cNvPicPr/>
          <p:nvPr/>
        </p:nvPicPr>
        <p:blipFill>
          <a:blip r:embed="rId3"/>
          <a:srcRect l="30039" t="44356" r="59987" b="37508"/>
          <a:stretch/>
        </p:blipFill>
        <p:spPr>
          <a:xfrm>
            <a:off x="7543800" y="380880"/>
            <a:ext cx="711360" cy="914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1142640"/>
            <a:ext cx="67816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отовность ребёнка к обучению в школ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http://www.sch2000.ru/parents/sobranie/readiness/1.jpg"/>
          <p:cNvPicPr/>
          <p:nvPr/>
        </p:nvPicPr>
        <p:blipFill>
          <a:blip r:embed="rId4"/>
          <a:stretch/>
        </p:blipFill>
        <p:spPr>
          <a:xfrm>
            <a:off x="3276720" y="36576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1676520" y="380880"/>
            <a:ext cx="5943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ие знания должны быть сформированы у будущего первоклассника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D:\Мои документы\Картинки и открытки\Готовы ли к школе 2.jpg"/>
          <p:cNvPicPr/>
          <p:nvPr/>
        </p:nvPicPr>
        <p:blipFill>
          <a:blip r:embed="rId1"/>
          <a:stretch/>
        </p:blipFill>
        <p:spPr>
          <a:xfrm>
            <a:off x="1523880" y="1981080"/>
            <a:ext cx="6705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1066680" y="228600"/>
            <a:ext cx="77724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бласти развития речи и готовности к овладению грамотой будущему первокласснику необходим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ть выделять заданный звук в потоке реч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определять место звука в слове ( в начале, в середине, в конце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произносить слова по слогам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составлять предложения из 3-5 слов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называть в предложении только 2-е слово, только 3-е слово, только 4-е слово и т.д.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использовать обобщающие поняти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составлять рассказ по картинк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ть составлять несколько предложений о предмет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различать жанры художественной литературы (сказка, рассказ, стихотворение, басня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наизусть читать любимые стихотворени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последовательно передавать содержание сказк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914400" y="333360"/>
            <a:ext cx="82296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 началу обучения в школе у ребёнка должны быть развиты элементы математического представ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ть цифры от 0 до 9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считать до 10 и обратно, от 6 до 10, от 7 до 2 и т. д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называть предыдущее и последующее число относительно любого числа в пределах первого десятк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знать знаки +, - , =, &lt;, &gt;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сравнивать числа первого десятка (например, 7&lt;8, 5&gt;4, 6=6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соотносить цифру и число предметов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сравнивать две группы предметов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составлять и решать задачи в одно действие на сложение и вычитани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сравнивать предметы по цвету. Форме, размеру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знать названия фигур: треугольник, квадрат, круг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оперировать понятиями: «налево», «направо», «вверх», «вниз», «раньше», «позже», «перед», «за», «между» и т. д.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группировать по определённому признаку предложенные предметы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1143000" y="609480"/>
            <a:ext cx="723888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области представлений об окружающем мире будущему первокласснику необходим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ть различать по внешнему виду растения, распространённые в нашей местности и называть их отличительные признак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различать диких и домашних животных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различать по внешнему виду птиц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иметь представление о сезонных признаках природы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знать названия 1-3 комнатных растений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знать названия 12 месяцев год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знать названия всех дней недел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приготовление уроков"/>
          <p:cNvPicPr/>
          <p:nvPr/>
        </p:nvPicPr>
        <p:blipFill>
          <a:blip r:embed="rId1"/>
          <a:stretch/>
        </p:blipFill>
        <p:spPr>
          <a:xfrm>
            <a:off x="6019920" y="3733920"/>
            <a:ext cx="28954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1447920" y="32220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Кроме того, ребёнок, поступающий в первый класс, должен зн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 какой стране он живёт, в каком городе, на какой улице, в каком дом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• полные имена членов своей семьи, иметь общие понятия о различных видах их деятель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• знать правила поведения в общественных местах и на ул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D:\Мои документы\Картинки и открытки\Готовы ли к школе 14.jpg"/>
          <p:cNvPicPr/>
          <p:nvPr/>
        </p:nvPicPr>
        <p:blipFill>
          <a:blip r:embed="rId1"/>
          <a:stretch/>
        </p:blipFill>
        <p:spPr>
          <a:xfrm>
            <a:off x="4419720" y="3505320"/>
            <a:ext cx="409572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1981080" y="45720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Готовность к школе психологическая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иноним: школьная зрелость) — комплекс психических качеств, необходимых ребёнку для успешного начала обучения в шко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D:\Мои документы\Картинки и открытки\В школу3d967bf173bf.jpg"/>
          <p:cNvPicPr/>
          <p:nvPr/>
        </p:nvPicPr>
        <p:blipFill>
          <a:blip r:embed="rId1"/>
          <a:stretch/>
        </p:blipFill>
        <p:spPr>
          <a:xfrm>
            <a:off x="2438280" y="2438280"/>
            <a:ext cx="5550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447920" y="4572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ёнок должен уметь вступать в общ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 учителем и со сверст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D:\Мои документы\Картинки и открытки\Готовимся в школу.7bc7d4718540.jpg"/>
          <p:cNvPicPr/>
          <p:nvPr/>
        </p:nvPicPr>
        <p:blipFill>
          <a:blip r:embed="rId1"/>
          <a:stretch/>
        </p:blipFill>
        <p:spPr>
          <a:xfrm>
            <a:off x="2057400" y="1752480"/>
            <a:ext cx="54975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295280" y="380880"/>
            <a:ext cx="4343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ношение к сверстни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жны быть развиты такие качества личности, которые помогли бы общаться и взаимодействовать со сверстниками, уступать в одних обстоятельствах и не уступать в друг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ребёнок должен уметь быть членом детского общества и совместно действовать с другими детьм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D:\Мои документы\Картинки и открытки\Готовы ли к школе 5.jpg"/>
          <p:cNvPicPr/>
          <p:nvPr/>
        </p:nvPicPr>
        <p:blipFill>
          <a:blip r:embed="rId1"/>
          <a:stretch/>
        </p:blipFill>
        <p:spPr>
          <a:xfrm>
            <a:off x="6172200" y="1066680"/>
            <a:ext cx="2743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295280" y="0"/>
            <a:ext cx="7467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ношение к родным и близ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я личное пространство в семье, ребёнок должен испытывать уважительное отношение родных к его новой роли ученика. Родные должны относиться к будущему школьнику, его учению, как к важной содержательной деятельности, гораздо более значимой, чем игра дошкольника. Учение для ребёнка становится основным видом его деятельност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D:\Мои документы\Картинки и открытки\Первые занятия будущего первоклассника 230_9ce8_c590f1a1_XL.jpeg"/>
          <p:cNvPicPr/>
          <p:nvPr/>
        </p:nvPicPr>
        <p:blipFill>
          <a:blip r:embed="rId1"/>
          <a:stretch/>
        </p:blipFill>
        <p:spPr>
          <a:xfrm>
            <a:off x="3124080" y="3733920"/>
            <a:ext cx="54104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914400" y="312408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ношение к самому себ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 своим способностям, к своей деятельности, её результатам. Иметь адекватную самооценку. Высокая самооценка может вызывать неправильную реакцию на замечания учителя. В результате может оказаться, что "школа плохая", "учитель злой" и т.д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ёнок должен уметь правильно оценивать себя и своё по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D:\Мои документы\Картинки и открытки\Готовы ли к школе 11.jpg"/>
          <p:cNvPicPr/>
          <p:nvPr/>
        </p:nvPicPr>
        <p:blipFill>
          <a:blip r:embed="rId1"/>
          <a:stretch/>
        </p:blipFill>
        <p:spPr>
          <a:xfrm>
            <a:off x="5029200" y="228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вы критерии психологической готовности ребёнка к школе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43000" y="25142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Социально-психологическая готовность к школ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ая мотивация (хочет идти в школу; понимает важность и необходимость учения; проявляет выраженный интерес к получению новых знаний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общаться со сверстниками и взрослыми (ребёнок легко вступает в контакт, не агрессивен, умеет находить выход из проблемных ситуаций общения, признаёт авторитет взрослых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1066680" y="1415880"/>
            <a:ext cx="7772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Развитие школьно-значимых психофизиологических функци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е мелких мышц руки (рука развита хорошо, ребёнок уверенно владеет карандашом, ножницами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странственная ориентация, координация движений (умение правильно определять выше-ниже; больше-меньше, вперёд-назад, слева-справа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ординация в системе глаз-рука (ребёнок может правильно перенести в тетрадь простейший графический образ-узор, фигуру - зрительно воспринимаемый на расстоя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1371600" y="315360"/>
            <a:ext cx="6629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Развитие логического мышл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особность находить сходство и различия разных предметов при сравнении, умение правильно объединять предметы в группы по общим существенным признакам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 Развитие произвольного вним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особность удерживать внимание на выполняемой работе в течение 15-20 мину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D:\Мои документы\Картинки и открытки\Готовы ли к школе1252933915_1252300422-shutterstock_104901313.jpg"/>
          <p:cNvPicPr/>
          <p:nvPr/>
        </p:nvPicPr>
        <p:blipFill>
          <a:blip r:embed="rId1"/>
          <a:stretch/>
        </p:blipFill>
        <p:spPr>
          <a:xfrm>
            <a:off x="3733920" y="3124080"/>
            <a:ext cx="5119560" cy="33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na</cp:lastModifiedBy>
  <dcterms:modified xsi:type="dcterms:W3CDTF">2011-03-21T16:54:4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