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84740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88640" y="4709880"/>
            <a:ext cx="84740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096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8640" y="47098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30960" y="47098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3880" y="22240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19120" y="22240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88640" y="47098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3880" y="47098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19120" y="4709880"/>
            <a:ext cx="27284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53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30960" y="2224080"/>
            <a:ext cx="41353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11700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0960" y="2224080"/>
            <a:ext cx="41353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88640" y="47098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53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096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30960" y="47098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864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0960" y="2224080"/>
            <a:ext cx="41353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8640" y="4709880"/>
            <a:ext cx="847404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5382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216000"/>
                <a:tab algn="l" pos="933480"/>
                <a:tab algn="l" pos="1652760"/>
                <a:tab algn="l" pos="2371680"/>
                <a:tab algn="l" pos="3090960"/>
                <a:tab algn="l" pos="3809880"/>
                <a:tab algn="l" pos="4529160"/>
                <a:tab algn="l" pos="5248440"/>
                <a:tab algn="l" pos="5967360"/>
                <a:tab algn="l" pos="6686640"/>
                <a:tab algn="l" pos="7405560"/>
                <a:tab algn="l" pos="8124840"/>
                <a:tab algn="l" pos="8844120"/>
                <a:tab algn="l" pos="9563040"/>
                <a:tab algn="l" pos="10282320"/>
                <a:tab algn="l" pos="11001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Игровые технологии на уроках физкультуры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1"/>
          <a:stretch/>
        </p:blipFill>
        <p:spPr>
          <a:xfrm>
            <a:off x="2232000" y="2232000"/>
            <a:ext cx="5688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38360" y="720360"/>
            <a:ext cx="87645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Где еще школьник почувствует себя раскрепощенным, свободным? Действительно, нигде так не раскрывается ребенок, как в играх. Здесь, кроме удовлетворения личных интересов, ученик сам того не замечая, развивает свои физические и моральные качества, учиться сопереживать, идти на помощь, учиться побеждать и проигрывать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8243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76360" y="576360"/>
            <a:ext cx="90532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Очень важно правильно подобрать игру, игровые задания, которые помогают овладению и закреплению необходимых знаний. Вспомогательные игры и создавая игровые условия, ученики овладевают умениями быстрее, лучше анализируют игровую обстановку, применяют самостоятельные решения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952720" y="3024360"/>
            <a:ext cx="374328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11080" y="36000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обучение детей целому ряду тактических приемов и перемещений полезно проводить в специально созданных игровых условиях. Их можно использовать при обучении легкой атлетики, спортивным играм, при обучении лыжной подготовки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92360" y="2533680"/>
            <a:ext cx="4738680" cy="40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22360" y="431280"/>
            <a:ext cx="847728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В младшем школьном возрасте закладываются основы игровой деятельности направленной на совершенствование, прежде всего естественных движений: ходьба, бег, прыжки, метания, а также самых простых игровых навыков: ловля мяча, передачи, броски. Особое внимание следует уделить на взаимодействие с партнером, командой, соперником, технико – тактические взаимодействия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92360" y="3672000"/>
            <a:ext cx="47624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63640" y="565200"/>
            <a:ext cx="8477280" cy="267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Физическую нагрузку нужно строго регулировать длительностью игры. Она должна быть небольшой, а игра с бегом и прыжками необходимо прерывать короткими отдыхами. Подвижная игра или игровые элементы развивают детей, но в отличие от физических упражнений не надоедают благодаря своему занимательному характеру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81200" y="34560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9640" y="576000"/>
            <a:ext cx="847728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1480" indent="-4302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501480"/>
                <a:tab algn="l" pos="876240"/>
                <a:tab algn="l" pos="1595520"/>
                <a:tab algn="l" pos="2314440"/>
                <a:tab algn="l" pos="3033720"/>
                <a:tab algn="l" pos="3753000"/>
                <a:tab algn="l" pos="4471920"/>
                <a:tab algn="l" pos="5191200"/>
                <a:tab algn="l" pos="5910120"/>
                <a:tab algn="l" pos="6629400"/>
                <a:tab algn="l" pos="7348680"/>
                <a:tab algn="l" pos="8067600"/>
                <a:tab algn="l" pos="8786880"/>
                <a:tab algn="l" pos="9505800"/>
                <a:tab algn="l" pos="10225080"/>
                <a:tab algn="l" pos="1094436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При планировании занятия с использованием игр, нужно учитывать общую нагрузку урока, определять основную цель, время и место проведения в ходе всего урока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71640" y="2303640"/>
            <a:ext cx="6388200" cy="39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07:46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User</cp:lastModifiedBy>
  <dcterms:modified xsi:type="dcterms:W3CDTF">2019-05-15T16:10:34Z</dcterms:modified>
  <cp:revision>1</cp:revision>
  <dc:subject/>
  <dc:title>Предложение стратегии</dc:title>
</cp:coreProperties>
</file>