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6475-1595-48D8-9C22-D0DDB69DE3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D42-6841-4D6A-A4BD-6ADE5126905A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F22-926C-4C0A-8700-85DADC9D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514-A689-44AA-8C9C-0DA7A5D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251-3AB9-447D-AA74-BE1EE14F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5D7-931D-4A2D-944E-EDC7CA62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A407-3FCD-479E-86E7-1071FB31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8B0-7722-4260-80C2-340F82F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1F5-4A56-4A82-8F12-795EC8B4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6C1-C919-4D13-BC6B-7A3330BF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06C-93F5-4B16-95B3-C6F448D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F3AE-739A-4291-B8DC-70507998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185-CB8E-4D70-B198-4820E56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515-5790-4F35-BF03-D0EF407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95B5-09DD-4B6A-8164-94B7633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BD0-94B3-41B0-93E9-4BBDFA0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FBC1-50DC-4CFD-BF57-2D996CF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DECA-FC6C-44E4-8BF9-812F4594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D1F4-BB2F-4710-A99D-905CEFD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3502-84A7-43FF-9760-B95F9AC9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CA23-D39F-46F3-856F-A5F9EE3C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FFCB-143A-40E6-9571-44E6245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27C7-80BF-4721-988B-3E47B6F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E2B0-30B7-46B3-AC2E-7D73C92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B41-0D58-4FF6-A984-A10A10A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59D3-C14D-4F49-AD7F-92C0C361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BEA3-DFFF-4831-9993-85B68CE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1B2C-2ABE-4732-BFA4-7151B8A3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1549-EAA7-403A-9557-CD93F922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8707-ECC5-4737-B9BC-EADE28C7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EF10-F068-404F-B812-4241288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3A3C-9EEE-4A2D-A9B1-05AFFB0F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9860-7466-45DE-AC90-04434BA4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321C-3DDC-4FA5-9CA3-09AF19C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5B68-AEBE-47A0-A955-AE7F12E2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72C-9662-4268-84C0-19241B4C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24D2-527D-4415-94F5-AD3E7A7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BEF8-B030-44BD-BAD8-8E5CAF1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AD42-81CC-48D9-989C-976102E1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A45C-0C6F-41C4-815D-FED4E6A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48DF-E06B-46CF-9415-3E4EFCD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A05A-0AD9-48C0-9FB1-2772B5B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C152-C756-4DEA-AE9B-6597CD9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E2EE-7768-4408-AA76-E2ABDD88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B7AF-1249-4E71-BD47-3E6220A8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0D0-DB80-4436-85C8-B9E1EAD0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524-9888-42F6-BCE4-89D97712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B85-B8D1-4C66-B778-56FCE06D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80E-2FA1-436F-8F4F-1849C8B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C93-7595-4949-8A10-4E6B06C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193-2DBC-43CA-8942-5693FE27466B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874ea9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530-B0D3-4D49-B533-4FC395807BBD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366A-2172-4B03-943B-30E57F1A1253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ad84c6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d84c6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4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74ea9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a347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5a347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874ea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74ea9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4ea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F82-54A4-48CB-96F7-979E63D86EDD}" type="slidenum">
              <a:rPr b="0" lang="ru-RU" sz="900" spc="-1" strike="noStrike">
                <a:solidFill>
                  <a:srgbClr val="874ea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6040" y="679320"/>
            <a:ext cx="671976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Тема</a:t>
            </a:r>
            <a:r>
              <a:rPr b="0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: </a:t>
            </a:r>
            <a:br>
              <a:rPr sz="5400"/>
            </a:br>
            <a:r>
              <a:rPr b="0" lang="ru-RU" sz="54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Классификация соревнований»</a:t>
            </a:r>
            <a:endParaRPr b="0" lang="en-US" sz="40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-360" y="5084280"/>
            <a:ext cx="298764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икулина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Анастаси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49 группа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425080" cy="14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Все соревнования классифицируются по различным признакам: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640" y="2603160"/>
            <a:ext cx="885672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масштабу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целям и задачам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условиям зачета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 форме организ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Стрелка вниз 3"/>
          <p:cNvSpPr/>
          <p:nvPr/>
        </p:nvSpPr>
        <p:spPr>
          <a:xfrm>
            <a:off x="4525920" y="2708280"/>
            <a:ext cx="333360" cy="4334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Стрелка вниз 12"/>
          <p:cNvSpPr/>
          <p:nvPr/>
        </p:nvSpPr>
        <p:spPr>
          <a:xfrm>
            <a:off x="5364000" y="3435480"/>
            <a:ext cx="335160" cy="43164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Стрелка вниз 13"/>
          <p:cNvSpPr/>
          <p:nvPr/>
        </p:nvSpPr>
        <p:spPr>
          <a:xfrm>
            <a:off x="6084720" y="4002120"/>
            <a:ext cx="333720" cy="43164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ad84c6"/>
          </a:solidFill>
          <a:ln cap="rnd" w="19080">
            <a:solidFill>
              <a:srgbClr val="7e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5200" y="34452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По масштабу </a:t>
            </a:r>
            <a:r>
              <a:rPr b="1" lang="ru-RU" sz="32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соревнования делятся на три группы: </a:t>
            </a:r>
            <a:endParaRPr b="0" lang="en-US" sz="32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557360"/>
            <a:ext cx="849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1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чемпионаты, кубки, первенств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2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оревнования окружных, районных, городских и других административных делений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3-я групп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соревнования в спортивных школа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целям и задачам соревнования делятся на: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1989000"/>
            <a:ext cx="6440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целев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бороч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онтроль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зачетно-классификацион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казательные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массово-оздоровительны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условиям зачета соревнования делятся на: </a:t>
            </a:r>
            <a:endParaRPr b="0" lang="en-US" sz="32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440" y="1844640"/>
            <a:ext cx="7521480" cy="30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андн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-командны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5-конечная звезда 9"/>
          <p:cNvSpPr/>
          <p:nvPr/>
        </p:nvSpPr>
        <p:spPr>
          <a:xfrm>
            <a:off x="704880" y="1859040"/>
            <a:ext cx="576360" cy="504720"/>
          </a:xfrm>
          <a:custGeom>
            <a:avLst/>
            <a:gdLst/>
            <a:ahLst/>
            <a:rect l="l" t="t" r="r" b="b"/>
            <a:pathLst>
              <a:path w="576263" h="504825">
                <a:moveTo>
                  <a:pt x="1" y="192826"/>
                </a:moveTo>
                <a:lnTo>
                  <a:pt x="220114" y="192827"/>
                </a:lnTo>
                <a:lnTo>
                  <a:pt x="288132" y="0"/>
                </a:lnTo>
                <a:lnTo>
                  <a:pt x="356149" y="192827"/>
                </a:lnTo>
                <a:lnTo>
                  <a:pt x="576262" y="192826"/>
                </a:lnTo>
                <a:lnTo>
                  <a:pt x="398186" y="311998"/>
                </a:lnTo>
                <a:lnTo>
                  <a:pt x="466206" y="504824"/>
                </a:lnTo>
                <a:lnTo>
                  <a:pt x="288132" y="385649"/>
                </a:lnTo>
                <a:lnTo>
                  <a:pt x="110057" y="504824"/>
                </a:lnTo>
                <a:lnTo>
                  <a:pt x="178077" y="311998"/>
                </a:lnTo>
                <a:lnTo>
                  <a:pt x="1" y="192826"/>
                </a:lnTo>
                <a:close/>
              </a:path>
            </a:pathLst>
          </a:custGeom>
          <a:solidFill>
            <a:srgbClr val="5d739a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5-конечная звезда 10"/>
          <p:cNvSpPr/>
          <p:nvPr/>
        </p:nvSpPr>
        <p:spPr>
          <a:xfrm>
            <a:off x="704880" y="2646360"/>
            <a:ext cx="576360" cy="504720"/>
          </a:xfrm>
          <a:custGeom>
            <a:avLst/>
            <a:gdLst/>
            <a:ahLst/>
            <a:rect l="l" t="t" r="r" b="b"/>
            <a:pathLst>
              <a:path w="576263" h="504825">
                <a:moveTo>
                  <a:pt x="1" y="192826"/>
                </a:moveTo>
                <a:lnTo>
                  <a:pt x="220114" y="192827"/>
                </a:lnTo>
                <a:lnTo>
                  <a:pt x="288132" y="0"/>
                </a:lnTo>
                <a:lnTo>
                  <a:pt x="356149" y="192827"/>
                </a:lnTo>
                <a:lnTo>
                  <a:pt x="576262" y="192826"/>
                </a:lnTo>
                <a:lnTo>
                  <a:pt x="398186" y="311998"/>
                </a:lnTo>
                <a:lnTo>
                  <a:pt x="466206" y="504824"/>
                </a:lnTo>
                <a:lnTo>
                  <a:pt x="288132" y="385649"/>
                </a:lnTo>
                <a:lnTo>
                  <a:pt x="110057" y="504824"/>
                </a:lnTo>
                <a:lnTo>
                  <a:pt x="178077" y="311998"/>
                </a:lnTo>
                <a:lnTo>
                  <a:pt x="1" y="192826"/>
                </a:lnTo>
                <a:close/>
              </a:path>
            </a:pathLst>
          </a:custGeom>
          <a:solidFill>
            <a:srgbClr val="8784c7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5-конечная звезда 14"/>
          <p:cNvSpPr/>
          <p:nvPr/>
        </p:nvSpPr>
        <p:spPr>
          <a:xfrm>
            <a:off x="704880" y="343368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8784c7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14222" r="3693" b="10268"/>
          <a:stretch/>
        </p:blipFill>
        <p:spPr>
          <a:xfrm>
            <a:off x="3924360" y="4111560"/>
            <a:ext cx="4751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По форме организации соревнования делятся на: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4040" y="1985760"/>
            <a:ext cx="842472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крыт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рытые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чевые встреч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Основные документы </a:t>
            </a:r>
            <a:br>
              <a:rPr sz="3600"/>
            </a:b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соревнований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78920" y="1844280"/>
            <a:ext cx="867276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лендарь соревнований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ожение о соревнованиях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явка участников соревнований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точка участника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й протокол результатов соревнований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чет главного судьи соревнований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5840" y="31248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874ea9"/>
                </a:solidFill>
                <a:latin typeface="Times New Roman"/>
                <a:ea typeface="Times New Roman"/>
              </a:rPr>
              <a:t>Календарь соревнований </a:t>
            </a:r>
            <a:endParaRPr b="0" lang="en-US" sz="3600" spc="-1" strike="noStrike">
              <a:solidFill>
                <a:srgbClr val="874ea9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412640"/>
            <a:ext cx="8713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атывается на один календарный год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лжны быть включены соревнования по ОФП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бходимо включать проведение массовых соревновани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усматривать проведение соревнований для различных возрастных групп и квалифик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ировать проведение соревнований на выходные дн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874ea9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ывать сроки проведения соревнований вышестоящими организаци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5160" y="2395440"/>
            <a:ext cx="752004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СПАСИБО </a:t>
            </a:r>
            <a:br>
              <a:rPr sz="4900"/>
            </a:b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ЗА </a:t>
            </a:r>
            <a:br>
              <a:rPr sz="4900"/>
            </a:br>
            <a:r>
              <a:rPr b="1" lang="ru-RU" sz="4900" spc="-1" strike="noStrike">
                <a:solidFill>
                  <a:srgbClr val="b7b5dd"/>
                </a:solidFill>
                <a:latin typeface="Times New Roman"/>
                <a:ea typeface="Times New Roman"/>
              </a:rPr>
              <a:t>ВНИМАНИЕ!</a:t>
            </a:r>
            <a:br>
              <a:rPr sz="1800"/>
            </a:br>
            <a:endParaRPr b="0" lang="en-US" sz="4900" spc="-1" strike="noStrike">
              <a:solidFill>
                <a:srgbClr val="874ea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4:14:43Z</dcterms:created>
  <dc:creator>пользователь</dc:creator>
  <dc:description/>
  <dc:language>en-US</dc:language>
  <cp:lastModifiedBy>Пользователь Windows</cp:lastModifiedBy>
  <dcterms:modified xsi:type="dcterms:W3CDTF">2019-05-15T03:50:17Z</dcterms:modified>
  <cp:revision>13</cp:revision>
  <dc:subject/>
  <dc:title>Тема:  Классификация соревнований</dc:title>
</cp:coreProperties>
</file>