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5872-A5EE-4581-9099-DB6EEBA61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612B-473C-4B53-AF1A-B4F8D39255B8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E66-51A6-449E-8AAF-4157FA0C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396-D66F-4D83-8677-AB345E11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9F4-163D-40C8-B944-A3671963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82E-64E4-4838-8236-6E3DAB26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4D9-9178-4D89-BFF2-FF4EB0CD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B1A-F8BA-410D-9D26-3AB43E53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FA5D-1243-4A38-BBFF-F881685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8BE-6DB2-4C99-99D9-23D7FB74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21A9-86F0-4AFA-A4F8-5396963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01E-D712-47DA-926A-B11B3C74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7299-5F14-49CA-9340-7BE1A6D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879-74B3-4FB7-B81F-D3EEE33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0A9-35BF-4802-A05F-C362A09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5131-6EA8-4268-BD8F-CBE6F736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F35E-B410-4F36-A75C-A2398396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92A1-782B-4601-804C-8FCFA8B5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801-E5FF-4471-A902-FE5735C4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AE79-E450-4A93-951F-A35E9E9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A049-CB41-40C3-80C0-3F17D2FC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12F2-0238-45AD-A28F-366F12C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DEF2-50DB-481D-991E-64E328CD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EB69-F621-488D-B25B-6BB49154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A7C-8355-4D40-86FF-C023337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4B54-E126-4127-A8AE-00881F2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5DE6-3599-4E20-A27D-6D50850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F59E-0C40-4973-B917-8F09BF8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471A-AD3C-4717-B89F-946A143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4E38-E801-4D16-88D7-B689DF2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280A-870E-437F-A292-B0EB7989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8199-0F16-4F86-BE4D-A34F35F0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6B87-5081-4054-851C-C9B0BD14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2060-C278-40E6-9E59-D8BFB558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004C-8B5F-4C31-9220-C3BF367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BF6-6115-4B8E-B4A5-781B488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E8EC-DFB4-4E5D-88ED-1A992D2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4605-61CD-4654-A23C-94A9D64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DD05-1CF0-45D0-A256-1CF2AC4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EE8C-6030-4FE8-97B2-AA3A8A6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5EB8-3915-4240-A299-1C104D37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5534-8CC5-40AE-8634-77977E0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5B5D-1ADD-4F98-96CD-D21CA19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4DCE-5EF0-4201-B2CD-378B7EFC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C511-56F2-46D7-86CD-2F159132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3D5-338B-46D7-9A07-C3E023A4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C23-66A5-4D33-AB3D-BE5BB88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E8F-214E-461A-A95E-57F5E26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AE8-F0A7-4796-898C-6CAD500D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D6F-A177-4524-9F58-2280D3C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1CAC-5D81-46F1-AC09-80586A379717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874ea9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790A-865D-47D9-B3F3-3CECC4F7820A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B1E-A839-42AE-9F1C-2838F4CCB5EB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134-2062-4083-B083-668980F9B3F0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6040" y="679320"/>
            <a:ext cx="671976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Тема</a:t>
            </a:r>
            <a:r>
              <a:rPr b="0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: </a:t>
            </a:r>
            <a:br>
              <a:rPr sz="5400"/>
            </a:br>
            <a:r>
              <a:rPr b="0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Классификация соревнований»</a:t>
            </a:r>
            <a:endParaRPr b="0" lang="en-US" sz="40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-360" y="5084280"/>
            <a:ext cx="298764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икулин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Анастаси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49 группа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425080" cy="14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Все соревнования классифицируются по различным признакам: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640" y="2603160"/>
            <a:ext cx="885672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масштабу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целям и задачам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условиям зачета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форме организ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Стрелка вниз 3"/>
          <p:cNvSpPr/>
          <p:nvPr/>
        </p:nvSpPr>
        <p:spPr>
          <a:xfrm>
            <a:off x="4525920" y="2708280"/>
            <a:ext cx="333360" cy="433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Стрелка вниз 12"/>
          <p:cNvSpPr/>
          <p:nvPr/>
        </p:nvSpPr>
        <p:spPr>
          <a:xfrm>
            <a:off x="5364000" y="3435480"/>
            <a:ext cx="335160" cy="4316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Стрелка вниз 13"/>
          <p:cNvSpPr/>
          <p:nvPr/>
        </p:nvSpPr>
        <p:spPr>
          <a:xfrm>
            <a:off x="6084720" y="4002120"/>
            <a:ext cx="333720" cy="43164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5200" y="34452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По масштабу </a:t>
            </a:r>
            <a:r>
              <a:rPr b="1" lang="ru-RU" sz="32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соревнования делятся на три группы: </a:t>
            </a:r>
            <a:endParaRPr b="0" lang="en-US" sz="32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557360"/>
            <a:ext cx="849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1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чемпионаты, кубки, первенств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2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оревнования окружных, районных, городских и других административных делений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3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оревнования в спортивных школа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целям и задачам соревнования делятся на: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89000"/>
            <a:ext cx="6440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целев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бороч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троль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зачетно-классификацион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казатель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массово-оздоровительны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условиям зачета соревнования делятся на: </a:t>
            </a:r>
            <a:endParaRPr b="0" lang="en-US" sz="32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440" y="1844640"/>
            <a:ext cx="7521480" cy="30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андн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-командны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5-конечная звезда 9"/>
          <p:cNvSpPr/>
          <p:nvPr/>
        </p:nvSpPr>
        <p:spPr>
          <a:xfrm>
            <a:off x="704880" y="1859040"/>
            <a:ext cx="576360" cy="504720"/>
          </a:xfrm>
          <a:custGeom>
            <a:avLst/>
            <a:gdLst/>
            <a:ahLst/>
            <a:rect l="l" t="t" r="r" b="b"/>
            <a:pathLst>
              <a:path w="576263" h="504825">
                <a:moveTo>
                  <a:pt x="1" y="192826"/>
                </a:moveTo>
                <a:lnTo>
                  <a:pt x="220114" y="192827"/>
                </a:lnTo>
                <a:lnTo>
                  <a:pt x="288132" y="0"/>
                </a:lnTo>
                <a:lnTo>
                  <a:pt x="356149" y="192827"/>
                </a:lnTo>
                <a:lnTo>
                  <a:pt x="576262" y="192826"/>
                </a:lnTo>
                <a:lnTo>
                  <a:pt x="398186" y="311998"/>
                </a:lnTo>
                <a:lnTo>
                  <a:pt x="466206" y="504824"/>
                </a:lnTo>
                <a:lnTo>
                  <a:pt x="288132" y="385649"/>
                </a:lnTo>
                <a:lnTo>
                  <a:pt x="110057" y="504824"/>
                </a:lnTo>
                <a:lnTo>
                  <a:pt x="178077" y="311998"/>
                </a:lnTo>
                <a:lnTo>
                  <a:pt x="1" y="192826"/>
                </a:lnTo>
                <a:close/>
              </a:path>
            </a:pathLst>
          </a:custGeom>
          <a:solidFill>
            <a:srgbClr val="5d739a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5-конечная звезда 10"/>
          <p:cNvSpPr/>
          <p:nvPr/>
        </p:nvSpPr>
        <p:spPr>
          <a:xfrm>
            <a:off x="704880" y="2646360"/>
            <a:ext cx="576360" cy="504720"/>
          </a:xfrm>
          <a:custGeom>
            <a:avLst/>
            <a:gdLst/>
            <a:ahLst/>
            <a:rect l="l" t="t" r="r" b="b"/>
            <a:pathLst>
              <a:path w="576263" h="504825">
                <a:moveTo>
                  <a:pt x="1" y="192826"/>
                </a:moveTo>
                <a:lnTo>
                  <a:pt x="220114" y="192827"/>
                </a:lnTo>
                <a:lnTo>
                  <a:pt x="288132" y="0"/>
                </a:lnTo>
                <a:lnTo>
                  <a:pt x="356149" y="192827"/>
                </a:lnTo>
                <a:lnTo>
                  <a:pt x="576262" y="192826"/>
                </a:lnTo>
                <a:lnTo>
                  <a:pt x="398186" y="311998"/>
                </a:lnTo>
                <a:lnTo>
                  <a:pt x="466206" y="504824"/>
                </a:lnTo>
                <a:lnTo>
                  <a:pt x="288132" y="385649"/>
                </a:lnTo>
                <a:lnTo>
                  <a:pt x="110057" y="504824"/>
                </a:lnTo>
                <a:lnTo>
                  <a:pt x="178077" y="311998"/>
                </a:lnTo>
                <a:lnTo>
                  <a:pt x="1" y="192826"/>
                </a:lnTo>
                <a:close/>
              </a:path>
            </a:pathLst>
          </a:custGeom>
          <a:solidFill>
            <a:srgbClr val="8784c7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5-конечная звезда 14"/>
          <p:cNvSpPr/>
          <p:nvPr/>
        </p:nvSpPr>
        <p:spPr>
          <a:xfrm>
            <a:off x="704880" y="343368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8784c7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14222" r="3693" b="10268"/>
          <a:stretch/>
        </p:blipFill>
        <p:spPr>
          <a:xfrm>
            <a:off x="3924360" y="4111560"/>
            <a:ext cx="4751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форме организации соревнования делятся на: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4040" y="1985760"/>
            <a:ext cx="84247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крыт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рыт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чевые встреч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Основные документы </a:t>
            </a:r>
            <a:br>
              <a:rPr sz="3600"/>
            </a:b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соревнований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8920" y="1844280"/>
            <a:ext cx="867276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лендарь соревнований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жение о соревнованиях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явка участников соревнований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точка участник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й протокол результатов соревнований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 главного судьи соревновани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5840" y="312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Календарь соревнований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412640"/>
            <a:ext cx="8713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атывается на один календарный год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ы быть включены соревнования по ОФП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бходимо включать проведение массовых соревнова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усматривать проведение соревнований для различных возрастных групп и квалифик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ировать проведение соревнований на выходные дн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ывать сроки проведения соревнований вышестоящими организаци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5160" y="2395440"/>
            <a:ext cx="752004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СПАСИБО </a:t>
            </a:r>
            <a:br>
              <a:rPr sz="4900"/>
            </a:b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ЗА </a:t>
            </a:r>
            <a:br>
              <a:rPr sz="4900"/>
            </a:b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ВНИМАНИЕ!</a:t>
            </a:r>
            <a:br>
              <a:rPr sz="1800"/>
            </a:br>
            <a:endParaRPr b="0" lang="en-US" sz="4900" spc="-1" strike="noStrike">
              <a:solidFill>
                <a:srgbClr val="874ea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4:14:43Z</dcterms:created>
  <dc:creator>пользователь</dc:creator>
  <dc:description/>
  <dc:language>en-US</dc:language>
  <cp:lastModifiedBy>Пользователь Windows</cp:lastModifiedBy>
  <dcterms:modified xsi:type="dcterms:W3CDTF">2019-05-15T03:50:17Z</dcterms:modified>
  <cp:revision>13</cp:revision>
  <dc:subject/>
  <dc:title>Тема:  Классификация соревнований</dc:title>
</cp:coreProperties>
</file>