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5B0-AB6A-450B-AE39-F9E8EB9A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C92-706F-4AE2-8E02-BAB384ED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DEE-4064-4174-88BC-7CB52F32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021-4EB2-4E8C-8CDF-3E892A92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C8B1-9F4C-472E-B099-F87D537C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ABFC-360A-47BC-AED1-A49FE83F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9FB0-D290-4C60-B8D7-818EB23D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C43C-63D9-4F17-9267-8604733D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A197-57E7-4D49-9CF8-7BB7C6B3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EBE7-C2EB-42F8-A684-42CE738B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1618-B0B3-4A76-AB0E-C8F777C9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703-BE2E-46EA-9507-567CCB3B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20F7-AB59-42C1-9377-7518E4D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FF91-2E5A-4E09-82BE-CBE0F3C2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5860-1003-4EA8-93A1-36C6DD44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CFAD-C972-4EC2-B37B-537A54C1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0E5D-D83B-49E2-8BD6-2F77B24A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7706-87CA-4CE8-BF57-083DA0C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70A-0BEC-4BF8-9B3A-ABF8BD35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289-5408-4549-A29C-32590780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81D-A12B-4DA6-A2D9-84C10A1B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F9B-7C7F-4D46-B31F-69454C14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023-466D-4095-9D93-0888E6BB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60A-88E2-478A-8987-1CBCBB4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6658-E34F-4D79-8374-3FABCCCB574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927C-B5A9-4ADD-8123-E1937242AAE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047600"/>
            <a:ext cx="8242200" cy="2360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7636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ификация соревнований Все соревнования по лыжным гонкам классифицируются по различным признакам: - по масштабу; - по целям и задачам; - по условиям зачета; - по форме организ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масштабу соревнования делятся на три группы: 1-я группа – чемпионаты, кубки, первенства. 2-я группа – соревнования окружных, районных, городских и других административных делений. 3-я группа – соревнования в спортивных школ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целям и задачам соревнования делятся на: - целевые; - отборочные; - контрольные; - зачетно-классификационные; - показательные; - массово-оздоровитель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условиям зачета соревнования делятся на: - личные; - командные; - лично-команд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форме организации соревнования делятся на: - открытые; - закрытые; - матчевые встре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1T10:59:48Z</dcterms:created>
  <dc:creator>User</dc:creator>
  <dc:description/>
  <dc:language>en-US</dc:language>
  <cp:lastModifiedBy>User</cp:lastModifiedBy>
  <dcterms:modified xsi:type="dcterms:W3CDTF">2019-04-11T11:09:48Z</dcterms:modified>
  <cp:revision>1</cp:revision>
  <dc:subject/>
  <dc:title>Классификация соревнований по лыжным гонкам</dc:title>
</cp:coreProperties>
</file>