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39B-EF02-4D82-B8A4-FD605977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22C-2FC0-41EE-8767-6C1ED92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82F-34BB-41D8-964F-E41D7750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075-B394-439D-9A8C-740A999B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9CF6-58E5-4D33-AF48-025832C4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F23E-DDC5-4BB2-A29C-5AD50DD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B08-F294-4F19-8245-E6D6C825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D7F0-9C8B-4F72-9FF1-FE5ACD6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6AD5-1D6D-4984-87CB-DA71866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76C9-F1BB-4D16-8DCF-8A41504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FBB4-7DA2-4CBC-97E0-7FEE6B2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46B-1860-4A4F-8436-51AC46E1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849-5296-43BF-A3EB-D4676D9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015B-1212-4B68-8AAF-CED6A8D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C1F-564B-4641-A9F9-C2C662C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08F-B49E-451D-9A2F-0A4CB856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FF0-9230-47BE-8C35-8589C126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7D5-7648-4D41-A46D-D5C9FC2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79B-36F9-4A7E-A338-4DABD55D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472-E8EB-4FDF-98BF-9409C4D4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172-B8B1-45C4-A5B4-87BCF96B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6BA-57F4-466E-A1A4-83FD23B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253-1B9C-4C71-9B92-D48C7E0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2AD-EC5F-4F15-802B-44760603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D24-5728-43C0-BB0B-51F21753281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23E-1A49-4741-A90B-89DF376E386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36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кация соревнований Все соревнования по лыжным гонкам классифицируются по различным признакам: - по масштабу; - по целям и задачам; - по условиям зачета; - по форме организ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масштабу соревнования делятся на три группы: 1-я группа – чемпионаты, кубки, первенства. 2-я группа – соревнования окружных, районных, городских и других административных делений. 3-я группа – соревнования в спортивных шко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целям и задачам соревнования делятся на: - целевые; - отборочные; - контрольные; - зачетно-классификационные; - показательные; - массово-оздоровите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условиям зачета соревнования делятся на: - личные; - командные; - лично-команд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форме организации соревнования делятся на: - открытые; - закрытые; - матчевые вст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0:59:48Z</dcterms:created>
  <dc:creator>User</dc:creator>
  <dc:description/>
  <dc:language>en-US</dc:language>
  <cp:lastModifiedBy>User</cp:lastModifiedBy>
  <dcterms:modified xsi:type="dcterms:W3CDTF">2019-04-11T11:09:48Z</dcterms:modified>
  <cp:revision>1</cp:revision>
  <dc:subject/>
  <dc:title>Классификация соревнований по лыжным гонкам</dc:title>
</cp:coreProperties>
</file>