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57CD3-F95C-4B7D-A495-B64ACC9546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75215-5712-4372-B76C-0C3C58B0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8BCF7-A25C-45B8-8007-B4FF43FE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81BAC-F76E-4DFF-BABB-DBC838E2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00455-40C1-4F21-994A-F39227F5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048B4-8F30-49E9-A83A-60B0FAAC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C6EE9-E917-4D21-B3BB-765455AD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CE822-0DA4-4324-83E2-F2B5EC32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945C1-6950-412C-96D1-FD399684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9A21F-7473-49CD-A95D-446095C6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EA879-2BDF-44B9-9838-F04E4D5D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7642F-8CC4-419C-9370-E9D9FAC8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932C6-A9BF-4F0B-87F9-4CFF0AA2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A3907-B671-428B-A4AD-6F926AB3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3C149-8502-4B5E-A8AE-58A7C099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8A27E-6316-4964-BA10-DC9AD3C0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7BCF6-4748-4686-8F53-12C6EF9D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44A6D-1255-45F9-84A9-046ECE80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70A6A-BD19-4136-87D6-0DB8692E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C38B1-7650-4630-BD58-E7E77966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48F69-37A8-44AE-816F-5BF3C26C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D97F0-CE3B-4B40-8493-B3E4685D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F8B79-AAF9-49E3-A38F-E3F0EFF7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77CC8-4EB5-4C07-8602-140B8F6D00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2DD22-C145-4CE1-906D-D1DF9836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1E691-0676-474D-A785-4E10A426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57072-61DA-43D1-84A2-DCF703F6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F825F-3273-4242-94F4-E04744F6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57307-15AE-4132-8194-80A5FA05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34700-8126-4EEB-9C64-B7C72B79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13947-5A63-443D-9064-7D460D6E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6CA3F-2C40-4357-946F-0B0508B4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51326-1C01-458F-8A94-2307FC64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3FAE1-382E-48B7-B199-76194230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B3730-984A-4FF0-8790-8FB1C713C8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539EE-7B46-4417-B823-42DBCCBF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DA3C2-3FB4-41A4-94A8-3052A9EB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BEDEF-B62C-4053-A580-8A8AB32C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49B05-5088-4CAB-AD79-CB885411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D5B91-24DA-4631-AC14-02F997C2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CE1B2-6BD5-4107-A909-16963C16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38952-8745-44C0-9482-1E382BB4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CC3BE-8925-49A3-A816-598005C3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ADAA8-719A-4A68-B8BF-A30A7AB4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9C7A6-6EE0-42E9-B8E9-2F18B272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58D90-AA26-4527-8010-AC2F6AEF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DA35E-7529-4831-9B4E-CDB2C66A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DE4EB-BFBB-41CF-859B-F136611D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9185E-6189-42C8-A195-131AE593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68E6B-933C-4C67-9B8E-69133766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09D29-02C1-4669-9CCE-C3BC3BD9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A271C-7AB0-4623-A4D7-BF2097ED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D9136-EAC2-43DC-BBBF-DD54B249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DD313-AC95-4B11-B828-782E7D29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EF1B8-64DF-4308-9688-37ADB8F1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19B5C-EF8F-4965-A77E-6608109A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8C9E2-2F8E-4170-87FE-02A8FE7C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58ECD-A451-43EE-BEB1-AF14828F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4A186-49A4-4D3D-936B-AD56D7A6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063FD-F35B-4975-89C2-2688A126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90FEF-C59C-4C49-962B-C2F12D87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CEC33-03B8-4046-BF74-114BB9D5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966D4-D7EE-4565-8701-D4AFF41F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5F409-8840-48C2-91FB-5C972EE2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E32B3-6844-4204-A5FA-1A1481CC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7D174-091C-4EDE-931A-54CE9BC3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2D51A-2C54-4D92-A984-466B16E2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BC222-E798-4264-9890-4FF921CB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186E7-CA0B-4871-A2AE-C761AE71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BA985-73C2-4D6D-9FF3-4B7D4A7A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C1018-48C0-43AC-8595-2A39B8D1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AD3E8-374E-4C7D-9433-18FAB552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AF3C6C-8D5F-4C12-911B-4BE9D26A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FFD0A7-8A7C-434E-B17C-6CD0D506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C8BAE1-A4B2-41BA-97EB-01E4ABBD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56CE7-D719-4226-BDD9-0B8767ED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BD6F4-FF4F-4786-9B05-5921A651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CD5F1-17F9-4540-B800-8A89FD89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5D36B-27B6-4841-9708-73756933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E50A6F-CCCB-431C-AFEC-EBCE6FD0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B1B175-EA17-49F6-BCCB-DD18FCA0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421265-78A3-4DA2-BEC9-A0D9BDA4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062904-5748-49FE-A912-E5C382B5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53D887-AB57-4441-9704-C86EF8AF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84E0D-2537-415D-AD7B-ECBB7283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E8468D-BBF6-4F56-AA30-892D7F6E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627371-A099-4D44-ACB8-9C59A078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1A2F83-C0C7-477F-AE6A-92244A8C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B92DBE-7F37-4D3C-884C-FFD84DA6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D59B0-8BF9-4871-BAF4-ADEBC4F4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2FB979-CF86-4DFE-8C44-4198F9B6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27581C-68E4-494A-96C5-F8E6643588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9E5BF3-FCAA-4D5F-9724-270E5B4C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B09B84-0D46-43EE-A4D3-76A82EB6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EC6BE4-2C72-40E0-B2DE-358563D1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E6C655-ADD6-4818-BF76-FB907580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6299324-D228-4F15-AD16-209B62FA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5069A9-45CE-43AF-AF51-A9B598FC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9C6F64-0E78-4DF1-B340-17839D74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273A4A-7161-4502-A849-18CE152C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A4EE5-3CF3-4653-8A39-DEEA91F1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379F1F-B2CE-40C8-899A-3E470BDC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2A2E0F-724E-4751-9063-C80EC0FE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6B8F87E-75BD-49AA-95D7-B440B497D1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C6789-F240-42AF-8081-74783886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C051A-0A23-4C04-B7A7-D7BEB2CC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3A284-6129-49BA-9837-24D483F3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5BEAF-39A9-446F-B501-E212644D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62E61-B583-41D3-B48A-A31A9E69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C7505-761D-49CE-89C3-3A581AE49A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EF69-92C9-4101-8123-C4FBCE89BA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5C60-43AD-4986-A44E-67E083DA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8BF5-C916-479C-A66B-2A7BC0E7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42FC-6647-427B-89B2-69DF0796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FDEC-DA7B-4F60-AD0A-15D5F99A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D2290-0FBD-41F2-B97F-D4720E91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B339-BAFC-40D7-859F-AE7602D2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1D46-02E0-4CE4-B83D-E5BDBB9F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C0D8-4B4A-42BC-A79E-C1F915F6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B2FA-6F6E-4CA8-8A6A-EBB8C255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B156-1A99-4ED2-BE23-8728BE11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7C0B-D9C4-4956-A833-06F88C67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A1C5-E003-4881-917E-888948894C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8C39E-BE2F-4CF0-B386-6E9DA7B6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4112E-CD9A-4AFF-8FB8-FFFADF59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EF1BC-24D8-4353-BC2C-DDC4BC1C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D6F5A-F914-4F0A-ACEB-98DE7E2C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522D6-1165-4B6B-BD26-90B38404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3C893-27C4-4034-A2A8-E82F49D4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D7657-F61A-470E-85B4-8523A9CC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02CB7-E133-461A-84B7-A0EAA055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73A30-D942-4483-8414-54A39E2F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960B8-65B7-46F3-B400-FF44D6F5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C0C79-FEEB-447D-AF14-908B8235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AC3FC-171E-470D-9C7C-C3DD8FFF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F50C1-DC65-44FB-8C2A-F30E866F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FFBD0-17B8-4EFB-9958-86723458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1C060-B225-40CB-A01D-76CD9818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A62F4-A7C3-45B5-9B2B-7A280E5F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27506-20F0-4732-8527-0115058A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D1566-30DA-4043-B79A-90E9E47D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87900-E5EA-4F34-B632-DB821814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E8B97-93AC-4F33-BAC4-2E8C8F75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46A1B-41E0-4949-BB53-652E2B50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58705-BAF9-4527-8268-6F8E1BC2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116A0-AD27-428B-B5D8-54139D7A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EA86E-58EE-4F04-9982-59FEEA1D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89C9E-A7CB-4012-916E-EF8E6483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69CCD-33A5-4792-ABD0-18DB3DFD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1CE8A-41E6-46C1-AE1C-0512DD2E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4E6E3-CD05-4645-A4EF-0AEC23F2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8B78D-C875-4A21-878B-10309005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3EC0E-550A-49E7-82A3-26B188FD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D0059-FBD8-4E12-8899-FBDB9EEE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0D687-251A-4769-B693-F2913C39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4C9D8-BC6F-436F-B52C-79F08D94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A341E-1CF6-45AB-B79A-6D3CD50D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23299-B575-43A3-B312-C0EDC9AE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0E178-8228-4BD1-9373-84A0F62D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E9EE5-F968-4298-8462-6D93225B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FA2A3-DEBB-47BE-AA5C-D7D08167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1BE09-F11C-4C30-AD19-F2087851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8A394-FDF8-4503-92B9-5539FA3C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D3306-8F05-4C65-BC7F-010F54ED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FE7C4-8163-47DE-AF95-86B940C7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BC1B3-1E42-4EFA-905E-EC6CF403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CD736-CF18-4201-895E-F0761E33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0B5E2-467C-4A66-AFAF-635E5AD5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FD990-22A2-4F39-BF71-5D6CA13E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1522C-24D5-4CA3-9F5F-28BA26B9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8A70A-A364-4644-AC42-BC734B4E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D6D38-BB0A-4BA0-A934-BE53E0F1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C24FB-56DD-49D6-90E3-CA76C5AC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F2EFA-D327-4C41-B4F6-A073464D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24C2B-ADEE-4ABF-B9DA-3F7C5F91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B4697-C557-447F-9A62-211C4ABA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80B12-87E8-487C-9B80-74FE7091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B45E5-01FD-4C0E-8932-565D240F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ADD41-76CA-494E-B2BF-16D84875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E2AC4-AF6A-43FA-AA41-F04B63C1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719CB-76A9-4644-AC0A-691241A1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B5AFB-54B2-4243-86A7-3DD0058D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320400"/>
            <a:ext cx="965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084C4-4878-4799-A418-B3AB40C1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83E60-29B0-411F-A2F7-FED3FA1A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8D996-9CB3-4D79-BAE6-98B0BC0F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F3679-C209-45F3-88D6-3D2F726E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4140720"/>
            <a:ext cx="96537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77B90-FE50-4D17-91A9-A83A4D3F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556240" y="160920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556240" y="4140720"/>
            <a:ext cx="47109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86AC5-A2D9-4BB6-BF21-19B5A86F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87360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137720" y="160920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87360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137720" y="4140720"/>
            <a:ext cx="31082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884DB-A151-4AED-B1FE-1C3063A1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FE1EB-59B6-449A-8D99-55796B68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4FC28-757E-4819-93A4-8CBB370F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1F5BB-6F27-4734-BB2A-3A81C882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150840" y="0"/>
            <a:ext cx="2428920" cy="6850080"/>
            <a:chOff x="150840" y="0"/>
            <a:chExt cx="2428920" cy="6850080"/>
          </a:xfrm>
        </p:grpSpPr>
        <p:sp>
          <p:nvSpPr>
            <p:cNvPr id="1" name="Freeform 2"/>
            <p:cNvSpPr/>
            <p:nvPr/>
          </p:nvSpPr>
          <p:spPr>
            <a:xfrm>
              <a:off x="457200" y="0"/>
              <a:ext cx="1114560" cy="532116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5321160"/>
                <a:gd name="textAreaBottom" fmla="*/ 5321520 h 532116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b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150840" y="0"/>
              <a:ext cx="1109520" cy="526896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5268960"/>
                <a:gd name="textAreaBottom" fmla="*/ 5269320 h 526896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150840" y="5238720"/>
              <a:ext cx="1220760" cy="161136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611360"/>
                <a:gd name="textAreaBottom" fmla="*/ 1611720 h 161136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57200" y="5291280"/>
              <a:ext cx="1487520" cy="1558800"/>
            </a:xfrm>
            <a:custGeom>
              <a:avLst/>
              <a:gdLst>
                <a:gd name="textAreaLeft" fmla="*/ 0 w 1487520"/>
                <a:gd name="textAreaRight" fmla="*/ 1487880 w 1487520"/>
                <a:gd name="textAreaTop" fmla="*/ 0 h 1558800"/>
                <a:gd name="textAreaBottom" fmla="*/ 1559160 h 155880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457200" y="5286240"/>
              <a:ext cx="2122560" cy="1563840"/>
            </a:xfrm>
            <a:custGeom>
              <a:avLst/>
              <a:gdLst>
                <a:gd name="textAreaLeft" fmla="*/ 0 w 2122560"/>
                <a:gd name="textAreaRight" fmla="*/ 2122920 w 21225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d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150840" y="5238720"/>
              <a:ext cx="1687320" cy="1611360"/>
            </a:xfrm>
            <a:custGeom>
              <a:avLst/>
              <a:gdLst>
                <a:gd name="textAreaLeft" fmla="*/ 0 w 1687320"/>
                <a:gd name="textAreaRight" fmla="*/ 1687680 w 1687320"/>
                <a:gd name="textAreaTop" fmla="*/ 0 h 1611360"/>
                <a:gd name="textAreaBottom" fmla="*/ 1611720 h 161136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0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0880" cy="31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984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35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2571840" y="5883120"/>
            <a:ext cx="7084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10952280" y="5882760"/>
            <a:ext cx="5428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7FBBCC-6528-4D1E-894E-7B12714C16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Прямоугольник 8"/>
          <p:cNvGrpSpPr/>
          <p:nvPr/>
        </p:nvGrpSpPr>
        <p:grpSpPr>
          <a:xfrm>
            <a:off x="10869480" y="-6480"/>
            <a:ext cx="1328760" cy="6870960"/>
            <a:chOff x="10869480" y="-6480"/>
            <a:chExt cx="1328760" cy="6870960"/>
          </a:xfrm>
        </p:grpSpPr>
        <p:pic>
          <p:nvPicPr>
            <p:cNvPr id="41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0869480" y="-6480"/>
              <a:ext cx="1328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10872720" y="0"/>
              <a:ext cx="1320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5662440" y="6558120"/>
            <a:ext cx="26704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609120" y="655776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8335440" y="6555960"/>
            <a:ext cx="78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467FAC-9738-4C41-B65B-5395E421507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Прямоугольник 8"/>
          <p:cNvGrpSpPr/>
          <p:nvPr/>
        </p:nvGrpSpPr>
        <p:grpSpPr>
          <a:xfrm>
            <a:off x="10869480" y="-6480"/>
            <a:ext cx="1328760" cy="6870960"/>
            <a:chOff x="10869480" y="-6480"/>
            <a:chExt cx="1328760" cy="6870960"/>
          </a:xfrm>
        </p:grpSpPr>
        <p:pic>
          <p:nvPicPr>
            <p:cNvPr id="45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0869480" y="-6480"/>
              <a:ext cx="1328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10872720" y="0"/>
              <a:ext cx="1320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8"/>
          </p:nvPr>
        </p:nvSpPr>
        <p:spPr>
          <a:xfrm>
            <a:off x="5662440" y="6558120"/>
            <a:ext cx="26704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9"/>
          </p:nvPr>
        </p:nvSpPr>
        <p:spPr>
          <a:xfrm>
            <a:off x="609120" y="655776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0"/>
          </p:nvPr>
        </p:nvSpPr>
        <p:spPr>
          <a:xfrm>
            <a:off x="8335440" y="6555960"/>
            <a:ext cx="78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DCE8BA-BF8C-42C5-8B24-66251414826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Прямоугольник 8"/>
          <p:cNvGrpSpPr/>
          <p:nvPr/>
        </p:nvGrpSpPr>
        <p:grpSpPr>
          <a:xfrm>
            <a:off x="10869480" y="-6480"/>
            <a:ext cx="1328760" cy="6870960"/>
            <a:chOff x="10869480" y="-6480"/>
            <a:chExt cx="1328760" cy="6870960"/>
          </a:xfrm>
        </p:grpSpPr>
        <p:pic>
          <p:nvPicPr>
            <p:cNvPr id="50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0869480" y="-6480"/>
              <a:ext cx="1328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10872720" y="0"/>
              <a:ext cx="1320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5662440" y="6558120"/>
            <a:ext cx="26704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609120" y="655776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335440" y="6555960"/>
            <a:ext cx="78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160491-20D7-4451-A502-AF7F9A8377C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ольник 7"/>
          <p:cNvSpPr/>
          <p:nvPr/>
        </p:nvSpPr>
        <p:spPr>
          <a:xfrm rot="21240000">
            <a:off x="797040" y="1004400"/>
            <a:ext cx="576108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Прямоугольник 9"/>
          <p:cNvSpPr/>
          <p:nvPr/>
        </p:nvSpPr>
        <p:spPr>
          <a:xfrm rot="21420000">
            <a:off x="794880" y="998640"/>
            <a:ext cx="576108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5662440" y="6558120"/>
            <a:ext cx="26704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609120" y="655776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8335440" y="6555960"/>
            <a:ext cx="78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01AF82-84AD-4998-AFA9-C1981D6A5073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Прямоугольник 8"/>
          <p:cNvGrpSpPr/>
          <p:nvPr/>
        </p:nvGrpSpPr>
        <p:grpSpPr>
          <a:xfrm>
            <a:off x="10869480" y="-6480"/>
            <a:ext cx="1328760" cy="6870960"/>
            <a:chOff x="10869480" y="-6480"/>
            <a:chExt cx="1328760" cy="6870960"/>
          </a:xfrm>
        </p:grpSpPr>
        <p:pic>
          <p:nvPicPr>
            <p:cNvPr id="589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0869480" y="-6480"/>
              <a:ext cx="1328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10872720" y="0"/>
              <a:ext cx="1320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37"/>
          </p:nvPr>
        </p:nvSpPr>
        <p:spPr>
          <a:xfrm>
            <a:off x="5662440" y="6558120"/>
            <a:ext cx="26704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38"/>
          </p:nvPr>
        </p:nvSpPr>
        <p:spPr>
          <a:xfrm>
            <a:off x="609120" y="655776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39"/>
          </p:nvPr>
        </p:nvSpPr>
        <p:spPr>
          <a:xfrm>
            <a:off x="8335440" y="6555960"/>
            <a:ext cx="78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4DD813-0494-4309-85B6-2F9B7689FD9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Прямоугольник 8"/>
          <p:cNvGrpSpPr/>
          <p:nvPr/>
        </p:nvGrpSpPr>
        <p:grpSpPr>
          <a:xfrm>
            <a:off x="10869480" y="-6480"/>
            <a:ext cx="1328760" cy="6870960"/>
            <a:chOff x="10869480" y="-6480"/>
            <a:chExt cx="1328760" cy="6870960"/>
          </a:xfrm>
        </p:grpSpPr>
        <p:pic>
          <p:nvPicPr>
            <p:cNvPr id="63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0869480" y="-6480"/>
              <a:ext cx="1328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10872720" y="0"/>
              <a:ext cx="1320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0"/>
          </p:nvPr>
        </p:nvSpPr>
        <p:spPr>
          <a:xfrm>
            <a:off x="5657400" y="6558120"/>
            <a:ext cx="26701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1"/>
          </p:nvPr>
        </p:nvSpPr>
        <p:spPr>
          <a:xfrm>
            <a:off x="609120" y="655596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2"/>
          </p:nvPr>
        </p:nvSpPr>
        <p:spPr>
          <a:xfrm>
            <a:off x="8340840" y="6552720"/>
            <a:ext cx="7840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6C6951-82BF-4BF7-A9E8-D4670A1B86D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Прямоугольник 8"/>
          <p:cNvGrpSpPr/>
          <p:nvPr/>
        </p:nvGrpSpPr>
        <p:grpSpPr>
          <a:xfrm>
            <a:off x="10869480" y="-6480"/>
            <a:ext cx="1328760" cy="6870960"/>
            <a:chOff x="10869480" y="-6480"/>
            <a:chExt cx="1328760" cy="6870960"/>
          </a:xfrm>
        </p:grpSpPr>
        <p:pic>
          <p:nvPicPr>
            <p:cNvPr id="6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0869480" y="-6480"/>
              <a:ext cx="1328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"/>
            <p:cNvSpPr/>
            <p:nvPr/>
          </p:nvSpPr>
          <p:spPr>
            <a:xfrm>
              <a:off x="10872720" y="0"/>
              <a:ext cx="1320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3"/>
          </p:nvPr>
        </p:nvSpPr>
        <p:spPr>
          <a:xfrm>
            <a:off x="9732600" y="5882760"/>
            <a:ext cx="1135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sldNum" idx="44"/>
          </p:nvPr>
        </p:nvSpPr>
        <p:spPr>
          <a:xfrm>
            <a:off x="10952280" y="5866920"/>
            <a:ext cx="542880" cy="3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1B4D54-CD23-407C-AD55-B3E2458F209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150840" y="0"/>
            <a:ext cx="2428920" cy="6850080"/>
            <a:chOff x="150840" y="0"/>
            <a:chExt cx="2428920" cy="6850080"/>
          </a:xfrm>
        </p:grpSpPr>
        <p:sp>
          <p:nvSpPr>
            <p:cNvPr id="49" name="Freeform 2"/>
            <p:cNvSpPr/>
            <p:nvPr/>
          </p:nvSpPr>
          <p:spPr>
            <a:xfrm>
              <a:off x="457200" y="0"/>
              <a:ext cx="1114560" cy="532116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5321160"/>
                <a:gd name="textAreaBottom" fmla="*/ 5321520 h 532116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b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0" name="Freeform 3"/>
            <p:cNvSpPr/>
            <p:nvPr/>
          </p:nvSpPr>
          <p:spPr>
            <a:xfrm>
              <a:off x="150840" y="0"/>
              <a:ext cx="1109520" cy="526896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5268960"/>
                <a:gd name="textAreaBottom" fmla="*/ 5269320 h 526896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150840" y="5238720"/>
              <a:ext cx="1220760" cy="161136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611360"/>
                <a:gd name="textAreaBottom" fmla="*/ 1611720 h 161136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457200" y="5291280"/>
              <a:ext cx="1487520" cy="1558800"/>
            </a:xfrm>
            <a:custGeom>
              <a:avLst/>
              <a:gdLst>
                <a:gd name="textAreaLeft" fmla="*/ 0 w 1487520"/>
                <a:gd name="textAreaRight" fmla="*/ 1487880 w 1487520"/>
                <a:gd name="textAreaTop" fmla="*/ 0 h 1558800"/>
                <a:gd name="textAreaBottom" fmla="*/ 1559160 h 155880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457200" y="5286240"/>
              <a:ext cx="2122560" cy="1563840"/>
            </a:xfrm>
            <a:custGeom>
              <a:avLst/>
              <a:gdLst>
                <a:gd name="textAreaLeft" fmla="*/ 0 w 2122560"/>
                <a:gd name="textAreaRight" fmla="*/ 2122920 w 21225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d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>
              <a:off x="150840" y="5238720"/>
              <a:ext cx="1687320" cy="1611360"/>
            </a:xfrm>
            <a:custGeom>
              <a:avLst/>
              <a:gdLst>
                <a:gd name="textAreaLeft" fmla="*/ 0 w 1687320"/>
                <a:gd name="textAreaRight" fmla="*/ 1687680 w 1687320"/>
                <a:gd name="textAreaTop" fmla="*/ 0 h 1611360"/>
                <a:gd name="textAreaBottom" fmla="*/ 1611720 h 161136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55" name="Text Box 8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0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0880" cy="31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984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732600" y="5882760"/>
            <a:ext cx="1135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571840" y="5883120"/>
            <a:ext cx="7084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10952280" y="5882760"/>
            <a:ext cx="5428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706175-509A-4752-843D-5EAF6B5D71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"/>
          <p:cNvGrpSpPr/>
          <p:nvPr/>
        </p:nvGrpSpPr>
        <p:grpSpPr>
          <a:xfrm>
            <a:off x="150840" y="0"/>
            <a:ext cx="2428920" cy="6850080"/>
            <a:chOff x="150840" y="0"/>
            <a:chExt cx="2428920" cy="6850080"/>
          </a:xfrm>
        </p:grpSpPr>
        <p:sp>
          <p:nvSpPr>
            <p:cNvPr id="99" name="Freeform 2"/>
            <p:cNvSpPr/>
            <p:nvPr/>
          </p:nvSpPr>
          <p:spPr>
            <a:xfrm>
              <a:off x="457200" y="0"/>
              <a:ext cx="1114560" cy="532116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5321160"/>
                <a:gd name="textAreaBottom" fmla="*/ 5321520 h 532116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b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00" name="Freeform 3"/>
            <p:cNvSpPr/>
            <p:nvPr/>
          </p:nvSpPr>
          <p:spPr>
            <a:xfrm>
              <a:off x="150840" y="0"/>
              <a:ext cx="1109520" cy="526896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5268960"/>
                <a:gd name="textAreaBottom" fmla="*/ 5269320 h 526896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01" name="Freeform 4"/>
            <p:cNvSpPr/>
            <p:nvPr/>
          </p:nvSpPr>
          <p:spPr>
            <a:xfrm>
              <a:off x="150840" y="5238720"/>
              <a:ext cx="1220760" cy="161136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611360"/>
                <a:gd name="textAreaBottom" fmla="*/ 1611720 h 161136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02" name="Freeform 5"/>
            <p:cNvSpPr/>
            <p:nvPr/>
          </p:nvSpPr>
          <p:spPr>
            <a:xfrm>
              <a:off x="457200" y="5291280"/>
              <a:ext cx="1487520" cy="1558800"/>
            </a:xfrm>
            <a:custGeom>
              <a:avLst/>
              <a:gdLst>
                <a:gd name="textAreaLeft" fmla="*/ 0 w 1487520"/>
                <a:gd name="textAreaRight" fmla="*/ 1487880 w 1487520"/>
                <a:gd name="textAreaTop" fmla="*/ 0 h 1558800"/>
                <a:gd name="textAreaBottom" fmla="*/ 1559160 h 155880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03" name="Freeform 6"/>
            <p:cNvSpPr/>
            <p:nvPr/>
          </p:nvSpPr>
          <p:spPr>
            <a:xfrm>
              <a:off x="457200" y="5286240"/>
              <a:ext cx="2122560" cy="1563840"/>
            </a:xfrm>
            <a:custGeom>
              <a:avLst/>
              <a:gdLst>
                <a:gd name="textAreaLeft" fmla="*/ 0 w 2122560"/>
                <a:gd name="textAreaRight" fmla="*/ 2122920 w 21225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d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104" name="Freeform 7"/>
            <p:cNvSpPr/>
            <p:nvPr/>
          </p:nvSpPr>
          <p:spPr>
            <a:xfrm>
              <a:off x="150840" y="5238720"/>
              <a:ext cx="1687320" cy="1611360"/>
            </a:xfrm>
            <a:custGeom>
              <a:avLst/>
              <a:gdLst>
                <a:gd name="textAreaLeft" fmla="*/ 0 w 1687320"/>
                <a:gd name="textAreaRight" fmla="*/ 1687680 w 1687320"/>
                <a:gd name="textAreaTop" fmla="*/ 0 h 1611360"/>
                <a:gd name="textAreaBottom" fmla="*/ 1611720 h 161136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0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0880" cy="31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98440"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298440" indent="-2984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5"/>
          </p:nvPr>
        </p:nvSpPr>
        <p:spPr>
          <a:xfrm>
            <a:off x="9732600" y="5882760"/>
            <a:ext cx="11350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2571840" y="5883120"/>
            <a:ext cx="7084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4288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08452D-6A87-4144-AD85-E5B558E879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Прямоугольник 8"/>
          <p:cNvGrpSpPr/>
          <p:nvPr/>
        </p:nvGrpSpPr>
        <p:grpSpPr>
          <a:xfrm>
            <a:off x="10869480" y="-6480"/>
            <a:ext cx="1328760" cy="6870960"/>
            <a:chOff x="10869480" y="-6480"/>
            <a:chExt cx="1328760" cy="6870960"/>
          </a:xfrm>
        </p:grpSpPr>
        <p:pic>
          <p:nvPicPr>
            <p:cNvPr id="149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0869480" y="-6480"/>
              <a:ext cx="1328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0872720" y="0"/>
              <a:ext cx="1320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5662440" y="6558120"/>
            <a:ext cx="26704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609120" y="655776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8335440" y="6555960"/>
            <a:ext cx="78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D08BDA-1170-4B26-82B7-EF85B9B7651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Прямоугольник 7"/>
          <p:cNvGrpSpPr/>
          <p:nvPr/>
        </p:nvGrpSpPr>
        <p:grpSpPr>
          <a:xfrm>
            <a:off x="3548160" y="-6480"/>
            <a:ext cx="8650080" cy="6870960"/>
            <a:chOff x="3548160" y="-6480"/>
            <a:chExt cx="8650080" cy="6870960"/>
          </a:xfrm>
        </p:grpSpPr>
        <p:pic>
          <p:nvPicPr>
            <p:cNvPr id="19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548160" y="-6480"/>
              <a:ext cx="865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3556080" y="0"/>
              <a:ext cx="863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195" name="Прямая соединительная линия 9"/>
          <p:cNvSpPr/>
          <p:nvPr/>
        </p:nvSpPr>
        <p:spPr>
          <a:xfrm flipV="1">
            <a:off x="35560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7829280" y="6558120"/>
            <a:ext cx="26701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759120" y="6557760"/>
            <a:ext cx="3905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10508760" y="6555960"/>
            <a:ext cx="78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938622-248D-49FE-9CE5-5AE98C0C088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Прямоугольник 8"/>
          <p:cNvGrpSpPr/>
          <p:nvPr/>
        </p:nvGrpSpPr>
        <p:grpSpPr>
          <a:xfrm>
            <a:off x="10869480" y="-6480"/>
            <a:ext cx="1328760" cy="6870960"/>
            <a:chOff x="10869480" y="-6480"/>
            <a:chExt cx="1328760" cy="6870960"/>
          </a:xfrm>
        </p:grpSpPr>
        <p:pic>
          <p:nvPicPr>
            <p:cNvPr id="23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0869480" y="-6480"/>
              <a:ext cx="1328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0872720" y="0"/>
              <a:ext cx="1320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5662440" y="6558120"/>
            <a:ext cx="26704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609120" y="655776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8335440" y="6555960"/>
            <a:ext cx="78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65A766-E2EC-4D55-AD0E-AD57AB02C66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Прямоугольник 8"/>
          <p:cNvGrpSpPr/>
          <p:nvPr/>
        </p:nvGrpSpPr>
        <p:grpSpPr>
          <a:xfrm>
            <a:off x="10869480" y="-6480"/>
            <a:ext cx="1328760" cy="6870960"/>
            <a:chOff x="10869480" y="-6480"/>
            <a:chExt cx="1328760" cy="6870960"/>
          </a:xfrm>
        </p:grpSpPr>
        <p:pic>
          <p:nvPicPr>
            <p:cNvPr id="28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0869480" y="-6480"/>
              <a:ext cx="1328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0872720" y="0"/>
              <a:ext cx="1320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6298920" y="6555960"/>
            <a:ext cx="267012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2314080" y="6555960"/>
            <a:ext cx="3861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8980560" y="6554520"/>
            <a:ext cx="7840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E91D9D-D917-418B-B0AA-0096C44C3E2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Прямоугольник 8"/>
          <p:cNvGrpSpPr/>
          <p:nvPr/>
        </p:nvGrpSpPr>
        <p:grpSpPr>
          <a:xfrm>
            <a:off x="10869480" y="-6480"/>
            <a:ext cx="1328760" cy="6870960"/>
            <a:chOff x="10869480" y="-6480"/>
            <a:chExt cx="1328760" cy="6870960"/>
          </a:xfrm>
        </p:grpSpPr>
        <p:pic>
          <p:nvPicPr>
            <p:cNvPr id="32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0869480" y="-6480"/>
              <a:ext cx="1328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0872720" y="0"/>
              <a:ext cx="1320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9"/>
          </p:nvPr>
        </p:nvSpPr>
        <p:spPr>
          <a:xfrm>
            <a:off x="5662440" y="6558120"/>
            <a:ext cx="26704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0"/>
          </p:nvPr>
        </p:nvSpPr>
        <p:spPr>
          <a:xfrm>
            <a:off x="609120" y="655776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1"/>
          </p:nvPr>
        </p:nvSpPr>
        <p:spPr>
          <a:xfrm>
            <a:off x="8335440" y="6555960"/>
            <a:ext cx="78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EDAC70-22FC-4BF8-9C79-96BC07BFEAE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Прямоугольник 8"/>
          <p:cNvGrpSpPr/>
          <p:nvPr/>
        </p:nvGrpSpPr>
        <p:grpSpPr>
          <a:xfrm>
            <a:off x="10869480" y="-6480"/>
            <a:ext cx="1328760" cy="6870960"/>
            <a:chOff x="10869480" y="-6480"/>
            <a:chExt cx="1328760" cy="6870960"/>
          </a:xfrm>
        </p:grpSpPr>
        <p:pic>
          <p:nvPicPr>
            <p:cNvPr id="37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10869480" y="-6480"/>
              <a:ext cx="13287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10872720" y="0"/>
              <a:ext cx="1320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96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09480" y="1609200"/>
            <a:ext cx="96537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5662440" y="6558120"/>
            <a:ext cx="26704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609120" y="655776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8335440" y="6555960"/>
            <a:ext cx="784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C149C4-6F8E-4CEF-8977-55DF3AB19B8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1"/>
          <p:cNvSpPr/>
          <p:nvPr/>
        </p:nvSpPr>
        <p:spPr>
          <a:xfrm>
            <a:off x="1200240" y="1484280"/>
            <a:ext cx="857412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ДЕЙСТВИЯ В ВОЛЕЙБОЛЕ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0" name="Text Box 2"/>
          <p:cNvSpPr/>
          <p:nvPr/>
        </p:nvSpPr>
        <p:spPr>
          <a:xfrm>
            <a:off x="4944960" y="4581360"/>
            <a:ext cx="69883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полнил студен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 группы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линзер Вячеслав Игоревич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Rectangle 1" descr=""/>
          <p:cNvPicPr/>
          <p:nvPr/>
        </p:nvPicPr>
        <p:blipFill>
          <a:blip r:embed="rId2"/>
          <a:stretch/>
        </p:blipFill>
        <p:spPr>
          <a:xfrm>
            <a:off x="738360" y="2273400"/>
            <a:ext cx="10270800" cy="17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1"/>
          <p:cNvSpPr/>
          <p:nvPr/>
        </p:nvSpPr>
        <p:spPr>
          <a:xfrm>
            <a:off x="1498680" y="450720"/>
            <a:ext cx="10018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Цель проект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своить и совершенствовать технические действия игры в волейболе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1"/>
          <p:cNvSpPr/>
          <p:nvPr/>
        </p:nvSpPr>
        <p:spPr>
          <a:xfrm>
            <a:off x="1650960" y="366840"/>
            <a:ext cx="1044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Arial"/>
              </a:rPr>
              <a:t>Задачи проекта: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формировать понятие об игре Волейбол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овершенствовать технику пройденных элементов в игровой обстановке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оспитывать интерес к игре, взаимопомощ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1"/>
          <p:cNvSpPr/>
          <p:nvPr/>
        </p:nvSpPr>
        <p:spPr>
          <a:xfrm>
            <a:off x="1484280" y="442800"/>
            <a:ext cx="10018800" cy="53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ные задачи технической подготовки спортсмена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увеличение объёма и разнообразия двигательных умений и навыков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тижение высокой стабильности и рациональной вариативности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ледовательное превращение освоенных приёмов в целесообразные и эффективные соревновательные действия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усовершенствование структуры двигательных действий, их динамики и кинематики с учётом индивидуальных особенностей спортсменов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ышение надёжности и результативности технических действий спортсмена в экстремальных соревновательных условиях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1"/>
          <p:cNvSpPr/>
          <p:nvPr/>
        </p:nvSpPr>
        <p:spPr>
          <a:xfrm>
            <a:off x="1484280" y="360360"/>
            <a:ext cx="1001880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Занимающиеся должны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изучить варианты выполнения прие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научиться ориентироваться в обстановке и оценивать е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ыполнять прием в условиях противодействия (условного и безусловного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ути усложнения условий выполнения приема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ключение факторов отвлекающих внимание; изменение характера перемещений и амплитуды движений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5" name=""/>
          <p:cNvGraphicFramePr/>
          <p:nvPr/>
        </p:nvGraphicFramePr>
        <p:xfrm>
          <a:off x="1511280" y="360360"/>
          <a:ext cx="10514160" cy="5621400"/>
        </p:xfrm>
        <a:graphic>
          <a:graphicData uri="http://schemas.openxmlformats.org/drawingml/2006/table">
            <a:tbl>
              <a:tblPr/>
              <a:tblGrid>
                <a:gridCol w="5254560"/>
                <a:gridCol w="5259600"/>
              </a:tblGrid>
              <a:tr h="1116000">
                <a:tc>
                  <a:txBody>
                    <a:bodyPr lIns="90000" rIns="90000" tIns="32544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Спортивно-массовая рабо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32544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Физкультурно-оздоровительная рабо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4505400">
                <a:tc>
                  <a:txBody>
                    <a:bodyPr lIns="90000" rIns="90000" tIns="3042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 Турнир по волейболу (8-9 кл.)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 Презеденские состязания (7-8 кл.)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) Первенство школы по ГТО среди 7-9 кл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3254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 Подвижные игры на переменах у 7 кл.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 Игры на внимание у 6 кл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Rectangle 1" descr=""/>
          <p:cNvPicPr/>
          <p:nvPr/>
        </p:nvPicPr>
        <p:blipFill>
          <a:blip r:embed="rId2"/>
          <a:stretch/>
        </p:blipFill>
        <p:spPr>
          <a:xfrm>
            <a:off x="1279440" y="255600"/>
            <a:ext cx="10229760" cy="1768320"/>
          </a:xfrm>
          <a:prstGeom prst="rect">
            <a:avLst/>
          </a:prstGeom>
          <a:ln w="0">
            <a:noFill/>
          </a:ln>
        </p:spPr>
      </p:pic>
      <p:sp>
        <p:nvSpPr>
          <p:cNvPr id="727" name="AutoShape 2"/>
          <p:cNvSpPr/>
          <p:nvPr/>
        </p:nvSpPr>
        <p:spPr>
          <a:xfrm rot="1440000">
            <a:off x="4298760" y="1795320"/>
            <a:ext cx="579240" cy="1079640"/>
          </a:xfrm>
          <a:prstGeom prst="downArrow">
            <a:avLst>
              <a:gd name="adj1" fmla="val 50000"/>
              <a:gd name="adj2" fmla="val 46597"/>
            </a:avLst>
          </a:prstGeom>
          <a:solidFill>
            <a:srgbClr val="99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8" name="Text Box 3"/>
          <p:cNvSpPr/>
          <p:nvPr/>
        </p:nvSpPr>
        <p:spPr>
          <a:xfrm>
            <a:off x="2590920" y="2952720"/>
            <a:ext cx="3744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стоятельное тренировочное занятие по теме: «Развитие ручной ловкости для учащихся 7 кл.»;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9" name="AutoShape 4"/>
          <p:cNvSpPr/>
          <p:nvPr/>
        </p:nvSpPr>
        <p:spPr>
          <a:xfrm rot="20280000">
            <a:off x="8034480" y="1792080"/>
            <a:ext cx="556920" cy="1122120"/>
          </a:xfrm>
          <a:prstGeom prst="downArrow">
            <a:avLst>
              <a:gd name="adj1" fmla="val 50000"/>
              <a:gd name="adj2" fmla="val 50372"/>
            </a:avLst>
          </a:prstGeom>
          <a:solidFill>
            <a:srgbClr val="99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7415280" y="3132000"/>
            <a:ext cx="2376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кторина «Спорт и МЫ»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Rectangle 1" descr=""/>
          <p:cNvPicPr/>
          <p:nvPr/>
        </p:nvPicPr>
        <p:blipFill>
          <a:blip r:embed="rId2"/>
          <a:stretch/>
        </p:blipFill>
        <p:spPr>
          <a:xfrm>
            <a:off x="1255680" y="-79200"/>
            <a:ext cx="10844280" cy="80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2" name=""/>
          <p:cNvGraphicFramePr/>
          <p:nvPr/>
        </p:nvGraphicFramePr>
        <p:xfrm>
          <a:off x="144360" y="647640"/>
          <a:ext cx="11953800" cy="6178680"/>
        </p:xfrm>
        <a:graphic>
          <a:graphicData uri="http://schemas.openxmlformats.org/drawingml/2006/table">
            <a:tbl>
              <a:tblPr/>
              <a:tblGrid>
                <a:gridCol w="416160"/>
                <a:gridCol w="3068640"/>
                <a:gridCol w="4340160"/>
                <a:gridCol w="1236600"/>
                <a:gridCol w="2892240"/>
              </a:tblGrid>
              <a:tr h="402480"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ы работ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ок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ветственны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066320"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знакомление с расписанием тренирово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явление медицинских противопоказаний у дете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седа с родителям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кетировани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нтябр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итель физкультуры (тренер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</a:tr>
              <a:tr h="580320"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Познакомимся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крытое заняти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тябр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итель физкультуры (тренер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</a:tr>
              <a:tr h="580320"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Поддержи свой класс красиво!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курс (изготовление плакатов, атрибутов своими руками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ябр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97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дительский комит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</a:tr>
              <a:tr h="402480"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Я техничен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актикум (по техническим действиям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кабр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97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итель физкультуры (тренер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</a:tr>
              <a:tr h="580320"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Буду лучше всех!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дивидуальные консультации по подготовке домашнего зад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нвар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97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итель физкультуры (тренер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</a:tr>
              <a:tr h="402480"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Возможности вашего ребёнка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седа с детьми и родителям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врал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97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итель физкультуры (тренер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</a:tr>
              <a:tr h="580320"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А мы готовимся!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вместная физкультурно-оздоровительная спортивная деятельность родителей с детьм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р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97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дительский комитет и учитель физкультуры (тренер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</a:tr>
              <a:tr h="888480"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Подготовка полным ходом!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Самый технический класс по волейболу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товыставк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мейные соревн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прел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97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дительский комит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итель физкультуры (тренер), администрац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</a:tr>
              <a:tr h="710640"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Вот такие мы молодцы!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Подведём итоги за год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формление стенда об итогах соревновани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седа с родителями и детьм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7748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19728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дительский комит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858680"/>
                          <a:tab algn="l" pos="1158228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итель физкультуры (тренер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3" name=""/>
          <p:cNvGraphicFramePr/>
          <p:nvPr/>
        </p:nvGraphicFramePr>
        <p:xfrm>
          <a:off x="1871640" y="1440000"/>
          <a:ext cx="10136160" cy="4954320"/>
        </p:xfrm>
        <a:graphic>
          <a:graphicData uri="http://schemas.openxmlformats.org/drawingml/2006/table">
            <a:tbl>
              <a:tblPr/>
              <a:tblGrid>
                <a:gridCol w="816120"/>
                <a:gridCol w="6262560"/>
                <a:gridCol w="1684440"/>
                <a:gridCol w="1373040"/>
              </a:tblGrid>
              <a:tr h="873000"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льч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воч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808200"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ижняя прямая подача с расстояния 6 м от сетк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кол-во удачных попыток из 10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-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-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08200"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онглирование мячом на собой верхней передачей (кол-во раз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-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-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08200"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онглирование мячом на собой нижней передачей (кол-во раз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-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-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069560"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ямой нападающий удар после подбрасыва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яча партнёром через сетку высотой 180 см (кол-во удачных попыток из 10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-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-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87880"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дача мяча сверху двумя руками, стоя у стен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 се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2383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1013472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 се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pic>
        <p:nvPicPr>
          <p:cNvPr id="734" name="Rectangle 84" descr=""/>
          <p:cNvPicPr/>
          <p:nvPr/>
        </p:nvPicPr>
        <p:blipFill>
          <a:blip r:embed="rId2"/>
          <a:stretch/>
        </p:blipFill>
        <p:spPr>
          <a:xfrm>
            <a:off x="1341360" y="66600"/>
            <a:ext cx="10618920" cy="152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3T17:08:43Z</dcterms:created>
  <dc:creator>Пользователь Windows</dc:creator>
  <dc:description/>
  <dc:language>en-US</dc:language>
  <cp:lastModifiedBy>User</cp:lastModifiedBy>
  <dcterms:modified xsi:type="dcterms:W3CDTF">2019-05-15T15:49:30Z</dcterms:modified>
  <cp:revision>12</cp:revision>
  <dc:subject/>
  <dc:title>ТЕХНИЧЕСКИЕ ДЕЙСТВИЯ В ВОЛЕЙБОЛЕ</dc:title>
</cp:coreProperties>
</file>