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2289-4E34-4EF2-BE3D-1D1D02CBF8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5DDAC-F912-4964-9BE7-2D060077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0CA29-7CD9-4A3C-9C25-2D943A2E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12C08-2954-4BAA-8E8D-14E510E6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9AE6E-C59F-4801-8F4A-32FFB4F2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A2CCE-E0CA-48BA-A2B5-D35C6BE0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AB977-717B-4282-A7C5-9F0779E8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3C4E8-05DE-4FEA-AE53-2A66C9D1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83DDC-F230-4423-AAF6-DD28FB5C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5EE7B-5089-45F4-B122-03990C0B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E1EB9-7184-4050-A153-8F9ACC34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4E675-E175-482B-AFC9-C6A2AB2C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687C-D1FA-4D0F-B062-E555CD3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FD9C0-F9A4-44CF-8298-ED792776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582D7-176F-4055-9752-3E497A19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EEACF-8AB4-4272-9E22-3E2682BF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E390E-03A6-4010-82B4-3714E4DE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97EDD-9E5B-4C6B-AA42-75551BB0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D6E37-D9FB-4376-B5F3-8740D75C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84FA2-2AD8-41A1-B194-B83E4D08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5AA4E-D145-4EE4-B426-C5669851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5E9DE-4026-4D70-9BA3-F17C6926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54F75-FDB1-4D9C-93C5-67E606D0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8CB38-2667-40A6-A18A-5F4C10A34B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03C4C-7B0A-4B80-8329-4399CBFF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CA943-4DD6-4A87-8D0C-AABC0E32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66D78-1A8C-4556-B9E3-DF6996BB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C2CFE-F2FC-4EC3-98BC-CBD5F515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2FDFF-E648-42BF-8665-D37122CE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C768A-8533-417E-B866-4DB7DD19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BC60A-3C42-4FE2-8BA7-AF26A282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09E37-175C-461F-9DC7-315ADB07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0E892-05B8-4296-A774-AD426F4A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1687C-6B0B-420F-B503-805B5CFB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0346D-8260-4AB3-9EFD-D0634350B8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18AD4-B0DD-4213-8702-AAFF0CA2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254D6-C51F-4F76-8477-D88AA275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703F6-E154-425B-BB49-6F6EA1A2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1034D-C7A6-4CCB-B192-632C993E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6604D-289F-4003-8B2C-F9479B81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19BD9-4324-4417-8E79-409B3750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2C60A-6FD8-4AD5-AE1D-81DA5994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7974C-A17D-4FC3-AE38-C6704BD8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886EC-0C3C-4912-8647-4FEB9FF9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3556F-3BF3-4741-BEE1-FCAD514F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28B44-D2BC-4AD0-97E0-0661CB08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ACE20-A11C-4A5D-85E2-1F7D942D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0FC76-44ED-4264-9C50-C8F343BE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49E33-890D-4456-A900-DB327688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56627-4611-492C-925A-0037C386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716D5-BB25-4B07-8A9D-063DB363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DA35D-895F-4337-832D-EBE22875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219AF-1DFD-4BF7-93F9-38F33122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67EBA-DBB8-48E1-A9AD-B61D28A7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A00A2-F969-4087-8DAC-EC983CD5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6FACE-B110-40F7-A9FF-C2FC4C00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C958F-1FAA-4AD9-BD21-933986FE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C2EC7-0904-4104-9DA9-95233B8D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9B8DB-9D2A-4623-9624-7798620A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C0FF8-D753-446F-8B68-92988D86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D6643-C3EE-4BBB-A873-1173B479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9BFE9-FE41-4E68-82CD-4D42A195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C8640-F954-49D1-B67D-EE0AEB0D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9DFBA-0B6E-4194-97A1-038979F7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78452-DCBA-412C-9D39-48128AB4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4BE28-CBB5-470E-BDC4-911C6CA4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17A83-7935-488B-800D-69FE882C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31DBB-3844-449C-9852-6DA8BBCB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3C891-A444-48A4-B7FC-D735BC69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6B39A-317C-46E3-83D1-402AB50C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FAECF-40F2-4BF6-9940-C2D21931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1CA69-CAE4-4C71-9D82-0D6E0C34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DD1DB-91AE-44D2-9453-4CDCE6AD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FC1C0-CD64-4EBD-A6B7-A9D0F38B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A7BCF-D551-477B-ABEB-A9E9D71A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2CD55-DA85-4B61-95D1-0012F3AA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3CFE2-65D7-4178-8E2F-2D3CAA6F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4A41E-6364-406E-B2BD-CFC83413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6E991-9D11-48C5-91CD-4F6F0228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415FE-D5F5-4496-ACF1-DACF4117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9DA84-6F79-4CEB-9DC2-F2D2A7CF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72DC4-1239-4C99-900F-1ECDAB75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AD690-E2ED-4D1B-B717-B667CC9B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A6CFA-2AEF-4C10-B5E4-B23A3C3F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84BB5-5FFB-4B40-B400-0341D94E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F9051-C0FE-41FD-819F-7D5A85A9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5079A-2E43-413B-9E15-CECC954F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0CE969-79DF-4F1D-A321-65504681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04705-A77A-4B39-A2C1-479D56F4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BD635-6A04-45B8-B809-2CD42DB8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4C87FF-9B1C-47BB-BA7E-A2C64771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83FDA2-1294-4A89-8BD1-0372BBAF3B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685577-B6E9-44FA-8B5E-B48753B7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3D14EA-FEA4-4069-8797-C776E326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E84099-49A6-4D3D-9D8E-8E87C84B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28F2E2-330A-4C5C-A6BA-D7DFDC27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0138D9-F0D5-4460-B3D5-9074067C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B81C43-8B1C-4F98-BCB4-EB459873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52ADD9-DD42-44EC-94A0-C4DF7124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6278B5-90C7-43E9-ACC7-ED0721A4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62DF5-675A-4415-AE17-7F9662AD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83BAFE-BE37-4A70-B8F4-1467F3D2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111FA4-98FF-42C5-A31D-5CD92DCC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D50E74-D604-48C4-BEED-EF5752522A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C76F-BA4D-4D94-B6DD-0317578C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9BEBB-5B43-4F80-817F-2854944E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2EBC9-A1A0-451B-B9FB-3CE8C3DD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2145C-BA13-4394-8B47-3E0E8D24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2B6A2-C64D-4A11-8686-24CE0B3A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90631-DADB-437D-8682-501CEC94DF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1AEA-999E-44E2-9ACA-BC0AB534FC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57D8-E71C-4F07-A65A-12A2A2F3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64BA-3FC9-4150-828A-045D03EA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9D56-0042-4BCB-8AF9-27DE7035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A869-954D-43B4-BE0F-6F57C439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D26D-162D-49B4-BD68-5406209E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E8AE-D651-46AD-B972-35D24C11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41E6-A08B-4876-BE78-94297CF6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59E2-AA42-4EB6-B292-2492D55B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87D9-48A6-49A7-B758-B5C9C6B4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65EF-5909-4A75-9325-952F863E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6E28-3056-4206-A329-B4FB7389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0CA7-9C2B-4CFE-8A97-1F14661EC0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7C57-6650-460F-A68B-280703C6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A086-2CE3-40BF-B60A-2994F4BB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6A9D1-C74C-4DA0-8C53-8B2016C6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C84E-F837-45A2-8937-AAA54267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D51E1-F579-418B-BBFF-111B988F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77A8-0262-4134-ACFB-3157FCBA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A2BA0-75A9-48B2-BCBF-F7E36DDE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415DA-2205-437E-A031-3F0E2A13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AD711-762E-45EC-99D4-072F385F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20FC0-33C7-428E-AE8C-F3279A81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DFA01-1F73-4752-ABBB-FB029F34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E911C-78B6-4FB1-9A79-DC0583DE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38BE-96BE-419A-9E08-DEC94CF7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9BA2A-B98A-4A71-966D-B0AE6336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755A-1755-47DE-A77E-A93B1CD2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BA883-2BF8-42D3-A051-5B39D41A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10D6D-4570-4C02-95DA-45B3A8DF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AC2D2-C08D-4518-AD04-2C2E5185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F3E22-BD1B-4780-BF73-C0B2C3D9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108F4-F440-4E0E-946A-04B0185E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B7BCA-6601-4B9A-B637-E6F8672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D77A5-9530-44AC-A435-7D14C5A3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F0055-704E-499A-AC6E-75C7ABCC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56926-FAF4-4D85-A8A2-CDC8EC0A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6614D-046C-4DF2-9928-43A7D5EF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A723-2D0E-4241-8014-152D200C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CC356-FAD0-4406-ABAC-EEA46309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D9E87-E688-430E-960F-6866EEC0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276CD-66B9-460E-9C9C-EE7AA086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40ED5-741F-44A7-8977-2A67E00F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CD73B-54DF-44AB-97FA-8A982C5A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065BE-0937-4372-AD71-F7780A9B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A2419-6FBB-45A5-996E-A60060E5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AF8BA-EC7E-453B-9E5B-77AECF1F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E4A53-4B4F-4784-A55E-BD9BB94F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DF6B5-5263-4917-B27F-D361D12C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D6E1-3807-4FC0-AF54-10EC4417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2A2A2-C59C-403A-B0E9-18813206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8A9B5-14C7-491F-ABE3-99A5E5CB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247D5-64B5-4C74-BE06-156DB08F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0C3CC-FD6D-49CF-A559-9B595AD3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7AA46-C2D7-43B9-91EF-477F0F05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BE40D-2E0F-46BE-9C30-FCCE501A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00583-D245-4B5D-BC90-4CC730A4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57C7C-93FF-425D-A276-419EE24B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E12E0-3589-4CFD-9D26-9BEC1900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1324D-26C4-4F6A-AD0D-155D907C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74B4-5AAF-47D7-81C7-394B3AED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65D91-EA4A-443F-BFBD-FE195FAA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1C64D-519A-4021-B9EF-1AB78CFB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4FABA-2BCD-43F8-8547-5E0B0EA8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5B8E7-DD80-4C2E-BC8E-A2B557A5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125A4-2FC8-4EBB-8F1B-9F9ED540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16C92-02EA-4D47-947D-09D80BE1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7ECBD-0DB8-4414-B22C-6387DDB4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B29E3-8E43-4AC9-B023-F7F1E859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A8311-4655-446E-8A02-8D2700B4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A19BC-9F4B-4CB1-85C0-B6723794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EB5F5-ED8A-4A47-AC2A-7AB9930F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66008-71ED-4938-9401-609F6566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5BC68-AB04-4212-A3F9-076C1793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C1371-E65D-42ED-8770-3B5BAFED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C3D0D-99C7-45BC-801C-5F68006D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6F1E2-044C-49A7-983D-0DCFD086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A0306-47D4-4C43-A92C-DA87BA5E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9EF18-ADDF-4FF2-B035-5AEDDC2E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47158-F572-4947-9AD3-BA814978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C064B-69E3-494B-B422-33E93BE8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D5ABC-60D7-4413-A650-84461E0E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50840" y="0"/>
            <a:ext cx="2428920" cy="6850080"/>
            <a:chOff x="150840" y="0"/>
            <a:chExt cx="2428920" cy="6850080"/>
          </a:xfrm>
        </p:grpSpPr>
        <p:sp>
          <p:nvSpPr>
            <p:cNvPr id="1" name="Freeform 2"/>
            <p:cNvSpPr/>
            <p:nvPr/>
          </p:nvSpPr>
          <p:spPr>
            <a:xfrm>
              <a:off x="457200" y="0"/>
              <a:ext cx="1114560" cy="532116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5321160"/>
                <a:gd name="textAreaBottom" fmla="*/ 5321520 h 532116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50840" y="0"/>
              <a:ext cx="1109520" cy="526896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5268960"/>
                <a:gd name="textAreaBottom" fmla="*/ 5269320 h 526896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150840" y="5238720"/>
              <a:ext cx="1220760" cy="161136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57200" y="5291280"/>
              <a:ext cx="1487520" cy="1558800"/>
            </a:xfrm>
            <a:custGeom>
              <a:avLst/>
              <a:gdLst>
                <a:gd name="textAreaLeft" fmla="*/ 0 w 1487520"/>
                <a:gd name="textAreaRight" fmla="*/ 1487880 w 1487520"/>
                <a:gd name="textAreaTop" fmla="*/ 0 h 1558800"/>
                <a:gd name="textAreaBottom" fmla="*/ 1559160 h 155880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457200" y="5286240"/>
              <a:ext cx="2122560" cy="1563840"/>
            </a:xfrm>
            <a:custGeom>
              <a:avLst/>
              <a:gdLst>
                <a:gd name="textAreaLeft" fmla="*/ 0 w 2122560"/>
                <a:gd name="textAreaRight" fmla="*/ 2122920 w 21225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150840" y="5238720"/>
              <a:ext cx="1687320" cy="1611360"/>
            </a:xfrm>
            <a:custGeom>
              <a:avLst/>
              <a:gdLst>
                <a:gd name="textAreaLeft" fmla="*/ 0 w 1687320"/>
                <a:gd name="textAreaRight" fmla="*/ 1687680 w 168732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0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0880" cy="31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984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35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2571840" y="5883120"/>
            <a:ext cx="7084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10952280" y="5882760"/>
            <a:ext cx="5428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DF70FF-A701-4D41-B2DD-38FD604A31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41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CEE260-8A18-488F-9F90-83188AC2E37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45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8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9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0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C2CF25-9AEB-448A-A89E-3BA1BC0C6C8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50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24C601-2F92-41BB-A55C-6B96CA08711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ольник 7"/>
          <p:cNvSpPr/>
          <p:nvPr/>
        </p:nvSpPr>
        <p:spPr>
          <a:xfrm rot="21240000">
            <a:off x="797040" y="1004400"/>
            <a:ext cx="576108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Прямоугольник 9"/>
          <p:cNvSpPr/>
          <p:nvPr/>
        </p:nvSpPr>
        <p:spPr>
          <a:xfrm rot="21420000">
            <a:off x="794880" y="998640"/>
            <a:ext cx="576108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55EB38-76EE-4743-BC18-792B3B515D37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58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7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8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39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EB0C55-77A0-4060-AD51-C0464274C59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63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0"/>
          </p:nvPr>
        </p:nvSpPr>
        <p:spPr>
          <a:xfrm>
            <a:off x="5657400" y="6558120"/>
            <a:ext cx="26701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1"/>
          </p:nvPr>
        </p:nvSpPr>
        <p:spPr>
          <a:xfrm>
            <a:off x="609120" y="65559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2"/>
          </p:nvPr>
        </p:nvSpPr>
        <p:spPr>
          <a:xfrm>
            <a:off x="8340840" y="6552720"/>
            <a:ext cx="784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4114FF-900B-4E95-A099-5225EAF9A97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6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3"/>
          </p:nvPr>
        </p:nvSpPr>
        <p:spPr>
          <a:xfrm>
            <a:off x="9732600" y="5882760"/>
            <a:ext cx="1135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sldNum" idx="44"/>
          </p:nvPr>
        </p:nvSpPr>
        <p:spPr>
          <a:xfrm>
            <a:off x="10952280" y="5866920"/>
            <a:ext cx="542880" cy="3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92AFAE-5586-4DDE-8108-8D8014513A7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150840" y="0"/>
            <a:ext cx="2428920" cy="6850080"/>
            <a:chOff x="150840" y="0"/>
            <a:chExt cx="2428920" cy="6850080"/>
          </a:xfrm>
        </p:grpSpPr>
        <p:sp>
          <p:nvSpPr>
            <p:cNvPr id="49" name="Freeform 2"/>
            <p:cNvSpPr/>
            <p:nvPr/>
          </p:nvSpPr>
          <p:spPr>
            <a:xfrm>
              <a:off x="457200" y="0"/>
              <a:ext cx="1114560" cy="532116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5321160"/>
                <a:gd name="textAreaBottom" fmla="*/ 5321520 h 532116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0" name="Freeform 3"/>
            <p:cNvSpPr/>
            <p:nvPr/>
          </p:nvSpPr>
          <p:spPr>
            <a:xfrm>
              <a:off x="150840" y="0"/>
              <a:ext cx="1109520" cy="526896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5268960"/>
                <a:gd name="textAreaBottom" fmla="*/ 5269320 h 526896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150840" y="5238720"/>
              <a:ext cx="1220760" cy="161136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457200" y="5291280"/>
              <a:ext cx="1487520" cy="1558800"/>
            </a:xfrm>
            <a:custGeom>
              <a:avLst/>
              <a:gdLst>
                <a:gd name="textAreaLeft" fmla="*/ 0 w 1487520"/>
                <a:gd name="textAreaRight" fmla="*/ 1487880 w 1487520"/>
                <a:gd name="textAreaTop" fmla="*/ 0 h 1558800"/>
                <a:gd name="textAreaBottom" fmla="*/ 1559160 h 155880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457200" y="5286240"/>
              <a:ext cx="2122560" cy="1563840"/>
            </a:xfrm>
            <a:custGeom>
              <a:avLst/>
              <a:gdLst>
                <a:gd name="textAreaLeft" fmla="*/ 0 w 2122560"/>
                <a:gd name="textAreaRight" fmla="*/ 2122920 w 21225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150840" y="5238720"/>
              <a:ext cx="1687320" cy="1611360"/>
            </a:xfrm>
            <a:custGeom>
              <a:avLst/>
              <a:gdLst>
                <a:gd name="textAreaLeft" fmla="*/ 0 w 1687320"/>
                <a:gd name="textAreaRight" fmla="*/ 1687680 w 168732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55" name="Text Box 8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0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0880" cy="31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984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732600" y="5882760"/>
            <a:ext cx="1135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571840" y="5883120"/>
            <a:ext cx="7084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10952280" y="5882760"/>
            <a:ext cx="5428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3BAB0D-0E18-405E-918A-AF5C900443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"/>
          <p:cNvGrpSpPr/>
          <p:nvPr/>
        </p:nvGrpSpPr>
        <p:grpSpPr>
          <a:xfrm>
            <a:off x="150840" y="0"/>
            <a:ext cx="2428920" cy="6850080"/>
            <a:chOff x="150840" y="0"/>
            <a:chExt cx="2428920" cy="6850080"/>
          </a:xfrm>
        </p:grpSpPr>
        <p:sp>
          <p:nvSpPr>
            <p:cNvPr id="99" name="Freeform 2"/>
            <p:cNvSpPr/>
            <p:nvPr/>
          </p:nvSpPr>
          <p:spPr>
            <a:xfrm>
              <a:off x="457200" y="0"/>
              <a:ext cx="1114560" cy="532116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5321160"/>
                <a:gd name="textAreaBottom" fmla="*/ 5321520 h 532116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0" name="Freeform 3"/>
            <p:cNvSpPr/>
            <p:nvPr/>
          </p:nvSpPr>
          <p:spPr>
            <a:xfrm>
              <a:off x="150840" y="0"/>
              <a:ext cx="1109520" cy="526896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5268960"/>
                <a:gd name="textAreaBottom" fmla="*/ 5269320 h 526896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1" name="Freeform 4"/>
            <p:cNvSpPr/>
            <p:nvPr/>
          </p:nvSpPr>
          <p:spPr>
            <a:xfrm>
              <a:off x="150840" y="5238720"/>
              <a:ext cx="1220760" cy="161136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2" name="Freeform 5"/>
            <p:cNvSpPr/>
            <p:nvPr/>
          </p:nvSpPr>
          <p:spPr>
            <a:xfrm>
              <a:off x="457200" y="5291280"/>
              <a:ext cx="1487520" cy="1558800"/>
            </a:xfrm>
            <a:custGeom>
              <a:avLst/>
              <a:gdLst>
                <a:gd name="textAreaLeft" fmla="*/ 0 w 1487520"/>
                <a:gd name="textAreaRight" fmla="*/ 1487880 w 1487520"/>
                <a:gd name="textAreaTop" fmla="*/ 0 h 1558800"/>
                <a:gd name="textAreaBottom" fmla="*/ 1559160 h 155880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3" name="Freeform 6"/>
            <p:cNvSpPr/>
            <p:nvPr/>
          </p:nvSpPr>
          <p:spPr>
            <a:xfrm>
              <a:off x="457200" y="5286240"/>
              <a:ext cx="2122560" cy="1563840"/>
            </a:xfrm>
            <a:custGeom>
              <a:avLst/>
              <a:gdLst>
                <a:gd name="textAreaLeft" fmla="*/ 0 w 2122560"/>
                <a:gd name="textAreaRight" fmla="*/ 2122920 w 21225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4" name="Freeform 7"/>
            <p:cNvSpPr/>
            <p:nvPr/>
          </p:nvSpPr>
          <p:spPr>
            <a:xfrm>
              <a:off x="150840" y="5238720"/>
              <a:ext cx="1687320" cy="1611360"/>
            </a:xfrm>
            <a:custGeom>
              <a:avLst/>
              <a:gdLst>
                <a:gd name="textAreaLeft" fmla="*/ 0 w 1687320"/>
                <a:gd name="textAreaRight" fmla="*/ 1687680 w 168732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0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0880" cy="31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984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5"/>
          </p:nvPr>
        </p:nvSpPr>
        <p:spPr>
          <a:xfrm>
            <a:off x="9732600" y="5882760"/>
            <a:ext cx="1135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571840" y="5883120"/>
            <a:ext cx="7084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428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F8D1C6-D929-4212-96F0-7D1BECD48B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14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FE1EEB-A899-4087-8F6E-7FD46ABD9B9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Прямоугольник 7"/>
          <p:cNvGrpSpPr/>
          <p:nvPr/>
        </p:nvGrpSpPr>
        <p:grpSpPr>
          <a:xfrm>
            <a:off x="3548160" y="-6480"/>
            <a:ext cx="8650080" cy="6870960"/>
            <a:chOff x="3548160" y="-6480"/>
            <a:chExt cx="8650080" cy="6870960"/>
          </a:xfrm>
        </p:grpSpPr>
        <p:pic>
          <p:nvPicPr>
            <p:cNvPr id="19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548160" y="-6480"/>
              <a:ext cx="865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556080" y="0"/>
              <a:ext cx="863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95" name="Прямая соединительная линия 9"/>
          <p:cNvSpPr/>
          <p:nvPr/>
        </p:nvSpPr>
        <p:spPr>
          <a:xfrm flipV="1">
            <a:off x="35560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7829280" y="6558120"/>
            <a:ext cx="26701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759120" y="6557760"/>
            <a:ext cx="3905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1050876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56F49C-086C-4766-94F8-220CB96CEC6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23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6E8917-3160-4D5F-B171-A0C604FDF7C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28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6298920" y="6555960"/>
            <a:ext cx="267012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2314080" y="6555960"/>
            <a:ext cx="3861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8980560" y="6554520"/>
            <a:ext cx="784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56EA45-A309-4D2E-8A23-F7D0A585425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32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4DF860-AE5E-4507-B80D-66038BA482C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37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E52BF1-DBCF-4760-B5CF-411F3FD36C7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1"/>
          <p:cNvSpPr/>
          <p:nvPr/>
        </p:nvSpPr>
        <p:spPr>
          <a:xfrm>
            <a:off x="1200240" y="1484280"/>
            <a:ext cx="85741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ДЕЙСТВИЯ В ВОЛЕЙБОЛЕ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0" name="Text Box 2"/>
          <p:cNvSpPr/>
          <p:nvPr/>
        </p:nvSpPr>
        <p:spPr>
          <a:xfrm>
            <a:off x="4944960" y="4581360"/>
            <a:ext cx="69883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полнил студен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 группы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линзер Вячеслав Игоревич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Rectangle 1" descr=""/>
          <p:cNvPicPr/>
          <p:nvPr/>
        </p:nvPicPr>
        <p:blipFill>
          <a:blip r:embed="rId2"/>
          <a:stretch/>
        </p:blipFill>
        <p:spPr>
          <a:xfrm>
            <a:off x="738360" y="2273400"/>
            <a:ext cx="1027080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1"/>
          <p:cNvSpPr/>
          <p:nvPr/>
        </p:nvSpPr>
        <p:spPr>
          <a:xfrm>
            <a:off x="1498680" y="450720"/>
            <a:ext cx="10018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Цель проект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своить и совершенствовать технические действия игры в волейбол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1"/>
          <p:cNvSpPr/>
          <p:nvPr/>
        </p:nvSpPr>
        <p:spPr>
          <a:xfrm>
            <a:off x="1650960" y="366840"/>
            <a:ext cx="1044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Arial"/>
              </a:rPr>
              <a:t>Задачи проекта: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формировать понятие об игре Волейбол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овершенствовать технику пройденных элементов в игровой обстановке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оспитывать интерес к игре, взаимопомощ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1"/>
          <p:cNvSpPr/>
          <p:nvPr/>
        </p:nvSpPr>
        <p:spPr>
          <a:xfrm>
            <a:off x="1484280" y="442800"/>
            <a:ext cx="10018800" cy="53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ные задачи технической подготовки спортсмена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увеличение объёма и разнообразия двигательных умений и навыков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тижение высокой стабильности и рациональной вариативности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ледовательное превращение освоенных приёмов в целесообразные и эффективные соревновательные действия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усовершенствование структуры двигательных действий, их динамики и кинематики с учётом индивидуальных особенностей спортсменов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ышение надёжности и результативности технических действий спортсмена в экстремальных соревновательных условиях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1"/>
          <p:cNvSpPr/>
          <p:nvPr/>
        </p:nvSpPr>
        <p:spPr>
          <a:xfrm>
            <a:off x="1484280" y="360360"/>
            <a:ext cx="1001880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Занимающиеся должны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зучить варианты выполнения прие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учиться ориентироваться в обстановке и оценивать е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олнять прием в условиях противодействия (условного и безусловного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ути усложнения условий выполнения приема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ключение факторов отвлекающих внимание; изменение характера перемещений и амплитуды движений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5" name=""/>
          <p:cNvGraphicFramePr/>
          <p:nvPr/>
        </p:nvGraphicFramePr>
        <p:xfrm>
          <a:off x="1511280" y="360360"/>
          <a:ext cx="10514160" cy="5621400"/>
        </p:xfrm>
        <a:graphic>
          <a:graphicData uri="http://schemas.openxmlformats.org/drawingml/2006/table">
            <a:tbl>
              <a:tblPr/>
              <a:tblGrid>
                <a:gridCol w="5254560"/>
                <a:gridCol w="5259600"/>
              </a:tblGrid>
              <a:tr h="1116000">
                <a:tc>
                  <a:txBody>
                    <a:bodyPr lIns="90000" rIns="90000" tIns="32544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Спортивно-массовая раб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32544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Физкультурно-оздоровительная раб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4505400">
                <a:tc>
                  <a:txBody>
                    <a:bodyPr lIns="90000" rIns="90000" tIns="3042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 Турнир по волейболу (8-9 кл.)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 Презеденские состязания (7-8 кл.)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 Первенство школы по ГТО среди 7-9 к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3254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 Подвижные игры на переменах у 7 кл.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 Игры на внимание у 6 к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Rectangle 1" descr=""/>
          <p:cNvPicPr/>
          <p:nvPr/>
        </p:nvPicPr>
        <p:blipFill>
          <a:blip r:embed="rId2"/>
          <a:stretch/>
        </p:blipFill>
        <p:spPr>
          <a:xfrm>
            <a:off x="1279440" y="255600"/>
            <a:ext cx="10229760" cy="176832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2"/>
          <p:cNvSpPr/>
          <p:nvPr/>
        </p:nvSpPr>
        <p:spPr>
          <a:xfrm rot="1440000">
            <a:off x="4298760" y="1795320"/>
            <a:ext cx="579240" cy="1079640"/>
          </a:xfrm>
          <a:prstGeom prst="downArrow">
            <a:avLst>
              <a:gd name="adj1" fmla="val 50000"/>
              <a:gd name="adj2" fmla="val 46597"/>
            </a:avLst>
          </a:prstGeom>
          <a:solidFill>
            <a:srgbClr val="99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2590920" y="2952720"/>
            <a:ext cx="3744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стоятельное тренировочное занятие по теме: «Развитие ручной ловкости для учащихся 7 кл.»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9" name="AutoShape 4"/>
          <p:cNvSpPr/>
          <p:nvPr/>
        </p:nvSpPr>
        <p:spPr>
          <a:xfrm rot="20280000">
            <a:off x="8034480" y="1792080"/>
            <a:ext cx="556920" cy="1122120"/>
          </a:xfrm>
          <a:prstGeom prst="downArrow">
            <a:avLst>
              <a:gd name="adj1" fmla="val 50000"/>
              <a:gd name="adj2" fmla="val 50372"/>
            </a:avLst>
          </a:prstGeom>
          <a:solidFill>
            <a:srgbClr val="99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7415280" y="3132000"/>
            <a:ext cx="2376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кторина «Спорт и МЫ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Rectangle 1" descr=""/>
          <p:cNvPicPr/>
          <p:nvPr/>
        </p:nvPicPr>
        <p:blipFill>
          <a:blip r:embed="rId2"/>
          <a:stretch/>
        </p:blipFill>
        <p:spPr>
          <a:xfrm>
            <a:off x="1255680" y="-79200"/>
            <a:ext cx="10844280" cy="80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2" name=""/>
          <p:cNvGraphicFramePr/>
          <p:nvPr/>
        </p:nvGraphicFramePr>
        <p:xfrm>
          <a:off x="144360" y="647640"/>
          <a:ext cx="11953800" cy="6178680"/>
        </p:xfrm>
        <a:graphic>
          <a:graphicData uri="http://schemas.openxmlformats.org/drawingml/2006/table">
            <a:tbl>
              <a:tblPr/>
              <a:tblGrid>
                <a:gridCol w="416160"/>
                <a:gridCol w="3068640"/>
                <a:gridCol w="4340160"/>
                <a:gridCol w="1236600"/>
                <a:gridCol w="2892240"/>
              </a:tblGrid>
              <a:tr h="40248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ы работ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ок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тственны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06632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знакомление с расписанием трениров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явление медицинских противопоказаний у дете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седа с родителям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кетирован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нтябр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итель физкультуры (тренер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58032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Познакомимся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крытое занят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итель физкультуры (тренер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58032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Поддержи свой класс красиво!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урс (изготовление плакатов, атрибутов своими руками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97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ительский комит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40248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Я техничен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актикум (по техническим действиям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97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тель физкультуры (тренер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58032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Буду лучше всех!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дивидуальные консультации по подготовке домашнего зад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97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тель физкультуры (тренер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40248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Возможности вашего ребёнка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седа с детьми и родителям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вра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97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тель физкультуры (тренер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58032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А мы готовимся!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вместная физкультурно-оздоровительная спортивная деятельность родителей с детьм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р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97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ительский комитет и учитель физкультуры (тренер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88848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Подготовка полным ходом!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Самый технический класс по волейболу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товыставк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мейные соревн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пре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97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ительский комит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тель физкультуры (тренер), администрац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71064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Вот такие мы молодцы!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Подведём итоги за год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формление стенда об итогах соревнован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седа с родителями и детьм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97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ительский комит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тель физкультуры (тренер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3" name=""/>
          <p:cNvGraphicFramePr/>
          <p:nvPr/>
        </p:nvGraphicFramePr>
        <p:xfrm>
          <a:off x="1871640" y="1440000"/>
          <a:ext cx="10136160" cy="4954320"/>
        </p:xfrm>
        <a:graphic>
          <a:graphicData uri="http://schemas.openxmlformats.org/drawingml/2006/table">
            <a:tbl>
              <a:tblPr/>
              <a:tblGrid>
                <a:gridCol w="816120"/>
                <a:gridCol w="6262560"/>
                <a:gridCol w="1684440"/>
                <a:gridCol w="1373040"/>
              </a:tblGrid>
              <a:tr h="87300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льч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воч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80820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жняя прямая подача с расстояния 6 м от сетк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кол-во удачных попыток из 10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-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-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0820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онглирование мячом на собой верхней передачей (кол-во раз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-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0820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онглирование мячом на собой нижней передачей (кол-во раз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06956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ямой нападающий удар после подбрасыва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яча партнёром через сетку высотой 180 см (кол-во удачных попыток из 10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-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-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8788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дача мяча сверху двумя руками, стоя у стен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се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се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pic>
        <p:nvPicPr>
          <p:cNvPr id="734" name="Rectangle 84" descr=""/>
          <p:cNvPicPr/>
          <p:nvPr/>
        </p:nvPicPr>
        <p:blipFill>
          <a:blip r:embed="rId2"/>
          <a:stretch/>
        </p:blipFill>
        <p:spPr>
          <a:xfrm>
            <a:off x="1341360" y="66600"/>
            <a:ext cx="106189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3T17:08:43Z</dcterms:created>
  <dc:creator>Пользователь Windows</dc:creator>
  <dc:description/>
  <dc:language>en-US</dc:language>
  <cp:lastModifiedBy>User</cp:lastModifiedBy>
  <dcterms:modified xsi:type="dcterms:W3CDTF">2019-05-15T15:49:30Z</dcterms:modified>
  <cp:revision>12</cp:revision>
  <dc:subject/>
  <dc:title>ТЕХНИЧЕСКИЕ ДЕЙСТВИЯ В ВОЛЕЙБОЛЕ</dc:title>
</cp:coreProperties>
</file>