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022-4F7B-4601-936A-FE961BE2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ABD-A89A-473F-AAE8-187AC9DC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A2E-FE29-4500-9935-5F568BF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C0E-55D5-4B8C-BCB0-000137A1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FC5-A637-4C0C-867A-01DCD44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778-58E1-4197-B2AD-13B336D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0E4-958C-48C6-B945-85501BD5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75B-B5DB-4EC7-859B-D817C305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DF4-5B64-4AF2-91AB-B0F64D38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0C8-D3CF-45D5-AFE8-E480DD8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EEE-74CF-4FC1-92EF-2AB1D9D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69A-DBEB-4097-A71F-30AAE97E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872-0C58-4E7C-BE0E-38A7DCC8B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684360" y="3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83  Красносель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-252360" y="4221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воспитател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цова Надежд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енко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755640" y="5805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 Петербур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 Чего Начинается Родина.mp3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332000" y="2781360"/>
            <a:ext cx="1368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ой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3419640" y="2924280"/>
            <a:ext cx="1428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ом  -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364000" y="2781360"/>
            <a:ext cx="21052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!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IMG_0128"/>
          <p:cNvPicPr/>
          <p:nvPr/>
        </p:nvPicPr>
        <p:blipFill>
          <a:blip r:embed="rId1"/>
          <a:stretch/>
        </p:blipFill>
        <p:spPr>
          <a:xfrm>
            <a:off x="971640" y="836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MG_0114"/>
          <p:cNvPicPr/>
          <p:nvPr/>
        </p:nvPicPr>
        <p:blipFill>
          <a:blip r:embed="rId2"/>
          <a:stretch/>
        </p:blipFill>
        <p:spPr>
          <a:xfrm>
            <a:off x="5076720" y="1557360"/>
            <a:ext cx="2952720" cy="374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DSC00888"/>
          <p:cNvPicPr/>
          <p:nvPr/>
        </p:nvPicPr>
        <p:blipFill>
          <a:blip r:embed="rId3"/>
          <a:stretch/>
        </p:blipFill>
        <p:spPr>
          <a:xfrm>
            <a:off x="1042920" y="3500280"/>
            <a:ext cx="2952720" cy="2637000"/>
          </a:xfrm>
          <a:prstGeom prst="rect">
            <a:avLst/>
          </a:prstGeom>
          <a:ln w="0">
            <a:noFill/>
          </a:ln>
        </p:spPr>
      </p:pic>
    </p:spTree>
  </p:cSld>
  <p:transition advTm="1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й район – Красносельский рай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IMG_0072"/>
          <p:cNvPicPr/>
          <p:nvPr/>
        </p:nvPicPr>
        <p:blipFill>
          <a:blip r:embed="rId1"/>
          <a:stretch/>
        </p:blipFill>
        <p:spPr>
          <a:xfrm>
            <a:off x="971640" y="1484280"/>
            <a:ext cx="3168720" cy="2330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073"/>
          <p:cNvPicPr/>
          <p:nvPr/>
        </p:nvPicPr>
        <p:blipFill>
          <a:blip r:embed="rId2"/>
          <a:stretch/>
        </p:blipFill>
        <p:spPr>
          <a:xfrm>
            <a:off x="4932360" y="1484280"/>
            <a:ext cx="3201840" cy="233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G_0074"/>
          <p:cNvPicPr/>
          <p:nvPr/>
        </p:nvPicPr>
        <p:blipFill>
          <a:blip r:embed="rId3"/>
          <a:stretch/>
        </p:blipFill>
        <p:spPr>
          <a:xfrm>
            <a:off x="971640" y="400536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00834"/>
          <p:cNvPicPr/>
          <p:nvPr/>
        </p:nvPicPr>
        <p:blipFill>
          <a:blip r:embed="rId4"/>
          <a:stretch/>
        </p:blipFill>
        <p:spPr>
          <a:xfrm>
            <a:off x="5003640" y="400536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«Никто не забыт и  ничто не забыт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1640" y="1267920"/>
            <a:ext cx="40402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Ленингра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род Ленинград построил Пётр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фашист хотел его отнять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енинградскую блокаду люди выстояли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должны об этом знат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обов Дмитрий 3 «А» кл., гимназия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DSC00845"/>
          <p:cNvPicPr/>
          <p:nvPr/>
        </p:nvPicPr>
        <p:blipFill>
          <a:blip r:embed="rId1"/>
          <a:stretch/>
        </p:blipFill>
        <p:spPr>
          <a:xfrm>
            <a:off x="1042920" y="1557360"/>
            <a:ext cx="309744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SC00847"/>
          <p:cNvPicPr/>
          <p:nvPr/>
        </p:nvPicPr>
        <p:blipFill>
          <a:blip r:embed="rId2"/>
          <a:stretch/>
        </p:blipFill>
        <p:spPr>
          <a:xfrm>
            <a:off x="1042920" y="3933720"/>
            <a:ext cx="309744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SC00851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 advTm="1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ародные промыс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IMG_0092"/>
          <p:cNvPicPr/>
          <p:nvPr/>
        </p:nvPicPr>
        <p:blipFill>
          <a:blip r:embed="rId1"/>
          <a:stretch/>
        </p:blipFill>
        <p:spPr>
          <a:xfrm>
            <a:off x="1023840" y="1600200"/>
            <a:ext cx="290844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SC00923"/>
          <p:cNvPicPr/>
          <p:nvPr/>
        </p:nvPicPr>
        <p:blipFill>
          <a:blip r:embed="rId2"/>
          <a:stretch/>
        </p:blipFill>
        <p:spPr>
          <a:xfrm>
            <a:off x="5210280" y="3938760"/>
            <a:ext cx="29098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0911"/>
          <p:cNvPicPr/>
          <p:nvPr/>
        </p:nvPicPr>
        <p:blipFill>
          <a:blip r:embed="rId3"/>
          <a:stretch/>
        </p:blipFill>
        <p:spPr>
          <a:xfrm>
            <a:off x="1028880" y="393372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2920" y="206064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авилась Россия чудо-мастер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рево и глину в сказку превращ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асками и кистью красоту твори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оему искусству молодых уч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ои 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IMG_0123"/>
          <p:cNvPicPr/>
          <p:nvPr/>
        </p:nvPicPr>
        <p:blipFill>
          <a:blip r:embed="rId1"/>
          <a:stretch/>
        </p:blipFill>
        <p:spPr>
          <a:xfrm>
            <a:off x="611280" y="1844640"/>
            <a:ext cx="3816360" cy="391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284360" y="2060640"/>
            <a:ext cx="442764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 меня теперь есть Друг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анный и верный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 него я как без рук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откровенно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ы гуляем во дворе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село играем,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оро в школу в сентябре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месте зашаг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используемой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9120" y="169992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ариков А.Д. Растите детей патриотами: книга для воспитателя детского сда. – М.: Просвещение,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валева Г.А. Воспитывая маленького гражданина. - М.: Аркти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научить детей любить Родину. Пособие для реализации государственной программы «Патриотическое воспитание граждан Российской Федерации на 2001-2005 год». – М.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ханеева М.Д. Нравственно-патриотическое воспитание детей старшего дошкольного возраста. – М.: Аркти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овьева Е.В. Гражданское воспитание в дошкольном возрасте: Методическое письмо. // Приложение к журналу «Обруч». – 2004.- №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ическая диагностика как инструмент познания и понимания ребенка дошкольного возраста. // Научно-методическое пособие. – Кафедра дошкольной педагогики РГПУ им. А.И. Герцена. – 2008. –  ч.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 у старших дошкольников: Кн. Для воспитателей дет.сада/ Р.С.Буре и др.; Под ред. А.М. Виноградовой. – М.: Просвещение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ая действительность и духовно-нравственное воспитание детей в дошкольных образовательных учреждениях: - Казань, РИЦ "Школа"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арод, который не знает свое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истории,- презренен и легкомыслен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.М. Карам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…я не знаю ничего более  близ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е, чем наши простые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ди, и ничего более прекрасн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м наша зем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.Г. Паустовский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im3-tub-ru.yandex.net/i?id=115182220-62-72&amp;n=21"/>
          <p:cNvPicPr/>
          <p:nvPr/>
        </p:nvPicPr>
        <p:blipFill>
          <a:blip r:embed="rId1"/>
          <a:stretch/>
        </p:blipFill>
        <p:spPr>
          <a:xfrm>
            <a:off x="324000" y="4548240"/>
            <a:ext cx="2016000" cy="200340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Актуальность и обоснование выбранной 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представленного педагогического опыта обоснована модернизацией  российской системы образования, ориентированной на вхождение в мировое образовательное пространство и воспитание гражданина, ответственного за судьбу своего Отечества. В условиях нестабильности экономического и социального развития, смены идеологий, правового нигилизма, гражданской инфантильности ключевой становится проблема воспитания гражданственности подрастающе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3"/>
          <p:cNvSpPr/>
          <p:nvPr/>
        </p:nvSpPr>
        <p:spPr>
          <a:xfrm>
            <a:off x="3851280" y="5589720"/>
            <a:ext cx="1368360" cy="1008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психолого-педагогических исследований, педагогической практики показывает, что препятствием, затрудняющим процесс развития основ гражданственности и патриотизма у детей дошкольного возраста является не только недостаточность научно обоснованной, теоретической базы в этом направлении, неизученность начальной ступени формирования ребенка как гражданина, непонимание значимости развития гражданских чувств, но и неумение педагогов применять адекватные формы этой работы в современных условиях. Практика остро нуждается в технологических разработках данного во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4"/>
          <p:cNvSpPr/>
          <p:nvPr/>
        </p:nvSpPr>
        <p:spPr>
          <a:xfrm>
            <a:off x="3995640" y="5589720"/>
            <a:ext cx="1368360" cy="1008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ель и задачи представленного опы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979560"/>
            <a:ext cx="85075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lvl="1" marL="334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– воспитание дошкольника - патриота через знакомство с народным искусством и традициями, участия в народных праздниках. Воспитывать гордость за свой народ, уважать прошлое и настоя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щать детей к познанию культурных традиций через творческую, познавательно – исследовательск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овать развитию у ребенка чувства осознанности себя как части большого этноса, выражать свою собственную субкуль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у детей чувство любви к родному краю, своей малой родине на основе приобщения к родной природе, культуре и тради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 детей познавательные процессы (восприятие, память, внимание, воображение, мышление) и мыслительные операции (анализ, синтез, сравнение, обобщение) посредством специальных игр 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im3-tub-ru.yandex.net/i?id=115182220-62-72&amp;n=21"/>
          <p:cNvPicPr/>
          <p:nvPr/>
        </p:nvPicPr>
        <p:blipFill>
          <a:blip r:embed="rId1"/>
          <a:stretch/>
        </p:blipFill>
        <p:spPr>
          <a:xfrm>
            <a:off x="8028000" y="1739880"/>
            <a:ext cx="1116000" cy="11080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4358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 выше обозначенными задачами нами были реализованы следующ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iagram 3"/>
          <p:cNvGrpSpPr/>
          <p:nvPr/>
        </p:nvGrpSpPr>
        <p:grpSpPr>
          <a:xfrm>
            <a:off x="888120" y="1500840"/>
            <a:ext cx="7511400" cy="5048640"/>
            <a:chOff x="888120" y="1500840"/>
            <a:chExt cx="7511400" cy="504864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834640" y="3394800"/>
              <a:ext cx="902880" cy="31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888120" y="2445840"/>
              <a:ext cx="2088000" cy="1262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Я СТР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838600" y="4341600"/>
              <a:ext cx="902160" cy="315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888120" y="4339800"/>
              <a:ext cx="2088000" cy="1262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РОД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МЫС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646880" y="4657680"/>
              <a:ext cx="0" cy="629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3600000" y="5287320"/>
              <a:ext cx="2087280" cy="126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ШИ ПИС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549760" y="4339800"/>
              <a:ext cx="902880" cy="313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6311520" y="4339800"/>
              <a:ext cx="2088000" cy="1262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ЕННЫЕ СБО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6"/>
            <p:cNvSpPr/>
            <p:nvPr/>
          </p:nvSpPr>
          <p:spPr>
            <a:xfrm flipV="1">
              <a:off x="5546880" y="3393000"/>
              <a:ext cx="902160" cy="315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311520" y="2445840"/>
              <a:ext cx="2088000" cy="1262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Й РАЙ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4643640" y="2763360"/>
              <a:ext cx="0" cy="63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3600000" y="1500840"/>
              <a:ext cx="2087280" cy="1262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Я  СТОЛИЦ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40"/>
            <p:cNvSpPr/>
            <p:nvPr/>
          </p:nvSpPr>
          <p:spPr>
            <a:xfrm>
              <a:off x="3600000" y="3394800"/>
              <a:ext cx="2087280" cy="1262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ОЙ ДОМ РОСС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Моя родина – 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DSC00850"/>
          <p:cNvPicPr/>
          <p:nvPr/>
        </p:nvPicPr>
        <p:blipFill>
          <a:blip r:embed="rId1"/>
          <a:stretch/>
        </p:blipFill>
        <p:spPr>
          <a:xfrm>
            <a:off x="1079640" y="39783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SC00880"/>
          <p:cNvPicPr/>
          <p:nvPr/>
        </p:nvPicPr>
        <p:blipFill>
          <a:blip r:embed="rId2"/>
          <a:stretch/>
        </p:blipFill>
        <p:spPr>
          <a:xfrm>
            <a:off x="5003640" y="1630440"/>
            <a:ext cx="313236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SC00889"/>
          <p:cNvPicPr/>
          <p:nvPr/>
        </p:nvPicPr>
        <p:blipFill>
          <a:blip r:embed="rId3"/>
          <a:stretch/>
        </p:blipFill>
        <p:spPr>
          <a:xfrm>
            <a:off x="5076720" y="3938760"/>
            <a:ext cx="3043440" cy="2187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68360" y="141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Россия – это такая страна, которой можно нанести поражение, но которую нельзя победи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.Пик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толица -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24000" y="3933360"/>
            <a:ext cx="40402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ладимир Бори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родов не перече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 Париж, и Лондон е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м, Венеция, Берл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на, Токио, Пекин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родов великих, слав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дных, шумных, ярких са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дивительных... и всё 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сть один — всего дорож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ород, близкий и род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т, что нарекли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_0109"/>
          <p:cNvPicPr/>
          <p:nvPr/>
        </p:nvPicPr>
        <p:blipFill>
          <a:blip r:embed="rId1"/>
          <a:stretch/>
        </p:blipFill>
        <p:spPr>
          <a:xfrm>
            <a:off x="1019160" y="1413000"/>
            <a:ext cx="32655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IMG_0125"/>
          <p:cNvPicPr/>
          <p:nvPr/>
        </p:nvPicPr>
        <p:blipFill>
          <a:blip r:embed="rId2"/>
          <a:stretch/>
        </p:blipFill>
        <p:spPr>
          <a:xfrm>
            <a:off x="1042920" y="3933720"/>
            <a:ext cx="3241800" cy="244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MG_0110"/>
          <p:cNvPicPr/>
          <p:nvPr/>
        </p:nvPicPr>
        <p:blipFill>
          <a:blip r:embed="rId3"/>
          <a:stretch/>
        </p:blipFill>
        <p:spPr>
          <a:xfrm>
            <a:off x="4859280" y="1413000"/>
            <a:ext cx="3384720" cy="2303280"/>
          </a:xfrm>
          <a:prstGeom prst="rect">
            <a:avLst/>
          </a:prstGeom>
          <a:ln w="0">
            <a:noFill/>
          </a:ln>
        </p:spPr>
      </p:pic>
      <p:pic>
        <p:nvPicPr>
          <p:cNvPr id="83" name="кваша обрезанный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SC00893"/>
          <p:cNvPicPr/>
          <p:nvPr/>
        </p:nvPicPr>
        <p:blipFill>
          <a:blip r:embed="rId1"/>
          <a:stretch/>
        </p:blipFill>
        <p:spPr>
          <a:xfrm>
            <a:off x="1042920" y="1628640"/>
            <a:ext cx="3024360" cy="218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SC00882"/>
          <p:cNvPicPr/>
          <p:nvPr/>
        </p:nvPicPr>
        <p:blipFill>
          <a:blip r:embed="rId2"/>
          <a:stretch/>
        </p:blipFill>
        <p:spPr>
          <a:xfrm>
            <a:off x="971640" y="4076640"/>
            <a:ext cx="30956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DSC00891"/>
          <p:cNvPicPr/>
          <p:nvPr/>
        </p:nvPicPr>
        <p:blipFill>
          <a:blip r:embed="rId3"/>
          <a:stretch/>
        </p:blipFill>
        <p:spPr>
          <a:xfrm>
            <a:off x="5148360" y="393372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468360" y="4888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ой город – Санкт - Петер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03360" y="1773360"/>
            <a:ext cx="4040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очень любим город свой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яет солнце над Невой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дожди стучат в окно –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го мы любим все равно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ы в этом городе живем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он растет, и мы растем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М.Борис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09:16Z</dcterms:created>
  <dc:creator>CompQ</dc:creator>
  <dc:description/>
  <dc:language>en-US</dc:language>
  <cp:lastModifiedBy>Пользователь</cp:lastModifiedBy>
  <dcterms:modified xsi:type="dcterms:W3CDTF">2019-05-14T21:28:21Z</dcterms:modified>
  <cp:revision>67</cp:revision>
  <dc:subject/>
  <dc:title>Мой дом Россия</dc:title>
</cp:coreProperties>
</file>