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447-597B-4CFD-874C-E364AD31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4BB-F20D-40A7-8A3E-C381ED5D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F14-CAA9-42EA-91FB-5D8DA063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7CB-87CD-400F-829C-057AA809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A36-1C8A-46AB-B7B3-F2E261C5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026-6C6E-4938-B858-628730FA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90C-77CE-42DB-97FD-85652B7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035-55CD-40E7-89CC-9728FE69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DE5-448E-4C35-99A0-CCA8F51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C55-E651-4B64-B17B-5F541577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1F4-DDAE-49C9-98A4-D92C8815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A24-CD93-4FCD-8A23-EEBEC50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6C8-CA2B-4012-A351-8E3C3BA4A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БДОУ № 39 общеразвивающего вида с приоритетным осуществлением физического развития детей Красносельского района г. Санкт – Петер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 образовательной деятельности по художественно - эстетическому развитию на тему:«Котёнок» из холодного фар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\старшая группа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и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провела воспитатель группы №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икова Ольга Александ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кт – 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лядно-дидактический материал (картинки «солнышко», силуэт «котёнка», картина «Кошка с котятами» из серии «Домашние животные» (автор С.А. Веретенников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лодный фарфор, доска для лепки, стеки, бисер, салфетки для рук, бумажная салфетка, прово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ное 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репить представления детей о домашних животных, об особенностях их внешнего вид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детей с материалом холодный фарфор и техникой лепки из н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детей, их творческие способности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нетрадиционным техникам художественно – эстетическ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ь детей достигать выразительной передачи формы, изображение мелких детали объ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 непосредственно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. Организационный мо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руппу проходят дети и подходят к игровой зоне.  Педагог предлагает детям отгадать загад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гнул спину он дуг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яукал. Кто такой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янулся сладко –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и вся зага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альчиковая гимнастика «Кош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, два, три, четыре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ользящие удары ладонями друг о друг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ашем доме кошки ж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очередно выдвигают вперед то одну руку , то другу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и с мячиком играл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единяют пальцы рук над голо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и молоко лак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носят ладошки «блюдца» к лицу и языком имитируют лак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и коготки точил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гко царапают коле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шек сереньких ловил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лопок ладошкам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ZD34dbZy7v8"/>
          <p:cNvPicPr/>
          <p:nvPr/>
        </p:nvPicPr>
        <p:blipFill>
          <a:blip r:embed="rId1"/>
          <a:stretch/>
        </p:blipFill>
        <p:spPr>
          <a:xfrm>
            <a:off x="4952880" y="3962520"/>
            <a:ext cx="3249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Ребята, посмотрите на эту картину. Кошка — домашнее животное, она привязана к своему дому, своим хозяевам, любит тепло и уют. Если кошка сыта, здорова и в хорошем настроении, она ласково мурлычет, а если кошка сердится, то выпускает коготки — царапки», которые прячутся в мягких лапках. Кошка — очень чистоплотное животное. Любит умывать свою пушистую мордочку и шёрст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ята, а рядом с кошкой кого вы видите? Правильно, котят. Они очень озор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ят играть и еще сп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ча заходит к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а: Здравствуйте ребята! Меня зовут Мур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а: Я такая несчастная кошка, у меня случилась беда, пропали мои детки, котятки. Помогите мне пожалуйста их отыс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Что случилос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а: Оставила я деток дома, сама пошла за молоком, а их не гд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Поможем Мурке отыскать своих котят? Тогда давайте мы сейчас поиграем. Они могут нас услышать и прибежать 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ческая пауза «Кот Антип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т Антипка жил у н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тали, руки на поя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тавал с лежанки в 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тянулись, руки вверх - вдо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ва на кухне крал сосис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вороты вправо-влево, ладонь ребром приставлена ко лб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ри сметану ел из мис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клоны туловища вперед, руки на поя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 четыре умывал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клоны головы к плечам вправо-вле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ять по коврику катал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изгибание туловища волнообраз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шесть хамсу тащил из кад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хи руками перед грудью от себя и к се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емь играл с мышами в пря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хлопки в ладоши спереди и сзад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восемь хитро щурил глаз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сед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вять ел и слушал сказ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ыжки на мест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сять шел к лежанке спат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исесть на корточ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ому что в час вставать. (ходьба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Мы с вами поиграли, отдохнули. Котята нас не услышали. А теперь ребята, пока наша мама кошка спит, давайте слепим для неё маленьких котят. Присаживайтесь, пожалуйста, на свои места, вас там ждёт одно интересно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актическ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ываю готового котёнка: ребята, хотите слепить такого же котёнка? Я сейчас вам покажу, как это делается. Вот у меня большой кусочек холодного фарфора. Я отрываю от него кусочек поменьше – это будет голова нашего котёнка Теперь я отрываю от большого куска кусочек ещё меньше – это будет хвостик нашего котёнка. А из этого оставшегося куска холодного фарфора я буду лепить туловище для нашего котёнка. Я скатаю из этого куска колбаску и согну её в дугу. Затем я беру стек и с двух сторон этой колбаски делаю продольные надрезы – ножки для нашего котёнка. Теперь я их немножко прищипываю. Глазки – бусин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усы – провол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пить вы сегодня будете из необыч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териала, который называется «холод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рфором». В начале прошлого век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гентине придумали особую смесь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курузного крахмала, клея, масл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ицерина, которая стала использов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художественной ле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-WFKnxXnOIc"/>
          <p:cNvPicPr/>
          <p:nvPr/>
        </p:nvPicPr>
        <p:blipFill>
          <a:blip r:embed="rId1"/>
          <a:stretch/>
        </p:blipFill>
        <p:spPr>
          <a:xfrm>
            <a:off x="5029200" y="388620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 смесь получила название — «холодный фарфо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Холодный фарфор» на сегодняшний день 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бсолютно безвредным и удобным для ле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ть с ним могут не только взрослые, но и да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и. При застывании «холодный фарфор» приобрет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вердость, что отличает его от пласти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прежде, чем мы с вами начнем леп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у, давайте разомнем наши пальч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альчиковая гимнастика  «Котёнок шалу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тенок мамочку зовет: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- Мяу-мяу, мяу-мя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(ритмичное соединение одноименных пальцев обеих рук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не напился молока: - Мало-мало, мало-ма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качивание указательными пальцами из стороны в сторон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кормит мама молочком: - Мур-мур-мур, мур-мур-м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ое поглаживание ладонью одной руки тыльную сторону друг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рнется маленьким клубком: - Ур-ур-ур, ур-ур-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ое потирание кулачком о кулач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 с клубочком поиграет. Цап-цап-цап, цап-цап-цап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ое сжимание и разжимание пальцев р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нитку быстро размотает. Ап-ап-ап, ап-ап-ап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ые круговые движения указательных пальцев вокруг друг друг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вайте вспомним правила работы со стеком и материалом для леп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стеком: нельзя размахивать, тыкать, в брать в р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Выбери для работы нужный цвет массы для ле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Обрежь стеком нужное количество массы для ле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огрей кусочек холодный фарфор теплом своих рук, чтобы он стал мяг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По окончании работы хорошо вытри руки сухой мягкой тряпочкой и только потом вымой их с мы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лодцы! А теперь можно приступать к леп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9ULADXD9jN0"/>
          <p:cNvPicPr/>
          <p:nvPr/>
        </p:nvPicPr>
        <p:blipFill>
          <a:blip r:embed="rId1"/>
          <a:stretch/>
        </p:blipFill>
        <p:spPr>
          <a:xfrm>
            <a:off x="457200" y="2743200"/>
            <a:ext cx="309096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er-pOmKbWi0"/>
          <p:cNvPicPr/>
          <p:nvPr/>
        </p:nvPicPr>
        <p:blipFill>
          <a:blip r:embed="rId2"/>
          <a:stretch/>
        </p:blipFill>
        <p:spPr>
          <a:xfrm>
            <a:off x="4952880" y="2743200"/>
            <a:ext cx="3090960" cy="231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X0HGzu8YQu8"/>
          <p:cNvPicPr/>
          <p:nvPr/>
        </p:nvPicPr>
        <p:blipFill>
          <a:blip r:embed="rId3"/>
          <a:stretch/>
        </p:blipFill>
        <p:spPr>
          <a:xfrm>
            <a:off x="2514600" y="4191120"/>
            <a:ext cx="32529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ята, какие замечательные кошки у вас получились. А давайте разбудим нашу  маму кошку и спросим, не это ли её пропавшие котята? Мурка! Иди к нам, посмотри это не твои озорные, пропавшие котя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рка: Да, мои. Спасибо вам ребята за помощь. До свидания, ребя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Дети, скажите, что нового вы узнали?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Дети делятся своими впечатл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♫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анец «Звероб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iHaDAa82Qs"/>
          <p:cNvPicPr/>
          <p:nvPr/>
        </p:nvPicPr>
        <p:blipFill>
          <a:blip r:embed="rId1"/>
          <a:stretch/>
        </p:blipFill>
        <p:spPr>
          <a:xfrm>
            <a:off x="914400" y="1523880"/>
            <a:ext cx="2763720" cy="207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JKY1Ib--cY"/>
          <p:cNvPicPr/>
          <p:nvPr/>
        </p:nvPicPr>
        <p:blipFill>
          <a:blip r:embed="rId2"/>
          <a:stretch/>
        </p:blipFill>
        <p:spPr>
          <a:xfrm>
            <a:off x="4495680" y="1523880"/>
            <a:ext cx="2764080" cy="20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bvcLVSBfKzs"/>
          <p:cNvPicPr/>
          <p:nvPr/>
        </p:nvPicPr>
        <p:blipFill>
          <a:blip r:embed="rId3"/>
          <a:stretch/>
        </p:blipFill>
        <p:spPr>
          <a:xfrm>
            <a:off x="762120" y="4495680"/>
            <a:ext cx="2763720" cy="2073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repJhWSCJ4"/>
          <p:cNvPicPr/>
          <p:nvPr/>
        </p:nvPicPr>
        <p:blipFill>
          <a:blip r:embed="rId4"/>
          <a:stretch/>
        </p:blipFill>
        <p:spPr>
          <a:xfrm>
            <a:off x="4495680" y="4495680"/>
            <a:ext cx="27640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19-05-15T15:56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