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C10B-3F5E-4EE9-B0D1-3EF0704D7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D5E2-95B6-4D31-B87F-A27056478D69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D2F9-BE49-45CB-9332-E52A96679540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752120"/>
            <a:ext cx="853452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Microsoft Sans Serif"/>
              </a:rPr>
              <a:t>Презентация НОД «Здравствуй, ёжик!»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Microsoft Sans Serif"/>
              </a:rPr>
              <a:t> Средняя группа</a:t>
            </a:r>
            <a:br>
              <a:rPr sz="3600"/>
            </a:br>
            <a:endParaRPr b="0" lang="en-US" sz="36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90720" y="4800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 Алёна Давидовна, воспитатель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609480" y="2286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униципальное  автономное дошкольное образовательное учреждение города Калининграда центр развития ребенка – детский сад №111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89710"/>
                </a:solidFill>
                <a:latin typeface="Microsoft Sans Serif"/>
              </a:rPr>
              <a:t>Программные задачи:</a:t>
            </a:r>
            <a:br>
              <a:rPr sz="4000"/>
            </a:br>
            <a:endParaRPr b="0" lang="en-US" sz="40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126800"/>
            <a:ext cx="6477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Microsoft Sans Serif"/>
              </a:rPr>
              <a:t>продолжать развивать у детей интерес к рисованию с использованием нетрадиционной техники (оттиск вилкой)</a:t>
            </a: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Microsoft Sans Serif"/>
              </a:rPr>
              <a:t>учить детей рисовать ёжика, дополнять рисунок деталями, передавая характерные особенности внешнего вида</a:t>
            </a: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Microsoft Sans Serif"/>
              </a:rPr>
              <a:t>развивать творческое воображение, мышление и любознательность</a:t>
            </a: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Microsoft Sans Serif"/>
              </a:rPr>
              <a:t>воспитывать интерес и бережное отношение к живой природе</a:t>
            </a: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Microsoft Sans Serif"/>
              </a:rPr>
              <a:t>Предварительная работа: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Microsoft Sans Serif"/>
              </a:rPr>
              <a:t>рассматривание иллюстраций с изображением ежа</a:t>
            </a: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Microsoft Sans Serif"/>
              </a:rPr>
              <a:t>чтение художественной литературы: русская народная сказка «Пых», Е.Чарушин «Ёж», И.Акимушкин «Жил-был ёж», В.Росин «Зачем ёжику колючки», В.Бианки «Лесной колобок – колючий бок»</a:t>
            </a: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Microsoft Sans Serif"/>
              </a:rPr>
              <a:t>отгадывание загадок о лесных животных</a:t>
            </a: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Microsoft Sans Serif"/>
              </a:rPr>
              <a:t>дидактические игры «Кто в домике живёт?», «Кто что ест?»</a:t>
            </a: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4495680" y="3352680"/>
            <a:ext cx="411480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5f5f"/>
                </a:solidFill>
                <a:latin typeface="Microsoft Sans Serif"/>
              </a:rPr>
              <a:t>Материалы: альбомные листы с нарисованным контуром еж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5f5f"/>
                </a:solidFill>
                <a:latin typeface="Microsoft Sans Serif"/>
              </a:rPr>
              <a:t>гуашевые краски: серого, чёрного цвет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5f5f"/>
                </a:solidFill>
                <a:latin typeface="Microsoft Sans Serif"/>
              </a:rPr>
              <a:t>одноразовые пластиковые вилки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5f5f"/>
                </a:solidFill>
                <a:latin typeface="Microsoft Sans Serif"/>
              </a:rPr>
              <a:t>ватные палочки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0" y="42670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ade18"/>
                </a:solidFill>
                <a:latin typeface="Microsoft Sans Serif"/>
              </a:rPr>
              <a:t>Материалы: </a:t>
            </a: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</p:txBody>
      </p:sp>
      <p:cxnSp>
        <p:nvCxnSpPr>
          <p:cNvPr id="54" name="Прямая со стрелкой 6"/>
          <p:cNvCxnSpPr/>
          <p:nvPr/>
        </p:nvCxnSpPr>
        <p:spPr>
          <a:xfrm flipH="1">
            <a:off x="3506400" y="3580200"/>
            <a:ext cx="989280" cy="83916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5" name="Прямая со стрелкой 10"/>
          <p:cNvCxnSpPr/>
          <p:nvPr/>
        </p:nvCxnSpPr>
        <p:spPr>
          <a:xfrm flipH="1" flipV="1">
            <a:off x="4495320" y="3656880"/>
            <a:ext cx="153360" cy="11437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6" name="Прямая со стрелкой 13"/>
          <p:cNvCxnSpPr/>
          <p:nvPr/>
        </p:nvCxnSpPr>
        <p:spPr>
          <a:xfrm flipV="1">
            <a:off x="3352320" y="3580920"/>
            <a:ext cx="1296360" cy="99144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152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984ff"/>
                </a:solidFill>
                <a:latin typeface="Microsoft Sans Serif"/>
              </a:rPr>
              <a:t>Ну-ка дети стали в круг</a:t>
            </a:r>
            <a:br>
              <a:rPr sz="3200"/>
            </a:br>
            <a:r>
              <a:rPr b="0" i="1" lang="ru-RU" sz="3200" spc="-1" strike="noStrike">
                <a:solidFill>
                  <a:srgbClr val="0984ff"/>
                </a:solidFill>
                <a:latin typeface="Microsoft Sans Serif"/>
              </a:rPr>
              <a:t>Я твой друг и ты мой друг</a:t>
            </a:r>
            <a:br>
              <a:rPr sz="3200"/>
            </a:br>
            <a:r>
              <a:rPr b="0" i="1" lang="ru-RU" sz="3200" spc="-1" strike="noStrike">
                <a:solidFill>
                  <a:srgbClr val="0984ff"/>
                </a:solidFill>
                <a:latin typeface="Microsoft Sans Serif"/>
              </a:rPr>
              <a:t>Дружно за руки возьмёмся</a:t>
            </a:r>
            <a:br>
              <a:rPr sz="3200"/>
            </a:br>
            <a:r>
              <a:rPr b="0" i="1" lang="ru-RU" sz="3200" spc="-1" strike="noStrike">
                <a:solidFill>
                  <a:srgbClr val="0984ff"/>
                </a:solidFill>
                <a:latin typeface="Microsoft Sans Serif"/>
              </a:rPr>
              <a:t>И друг другу улыбнёмся.</a:t>
            </a:r>
            <a:br>
              <a:rPr sz="3200"/>
            </a:b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58" name="Picture 4" descr="C:\Users\LENOVO\Desktop\Новая папка (2)\IMG_1198-15-05-19-06-05.jpg"/>
          <p:cNvPicPr/>
          <p:nvPr/>
        </p:nvPicPr>
        <p:blipFill>
          <a:blip r:embed="rId1"/>
          <a:stretch/>
        </p:blipFill>
        <p:spPr>
          <a:xfrm>
            <a:off x="1905120" y="2286000"/>
            <a:ext cx="5587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Microsoft Sans Serif"/>
              </a:rPr>
              <a:t>Показ презентации: фото ежей. Рассказ воспитателя от имени ёжика об образе жизни, внешнем виде, питании и повадках. 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60" name="Picture 4" descr="C:\Users\LENOVO\Desktop\IMG_1094-15-05-19-01-59.jpg"/>
          <p:cNvPicPr/>
          <p:nvPr/>
        </p:nvPicPr>
        <p:blipFill>
          <a:blip r:embed="rId1"/>
          <a:stretch/>
        </p:blipFill>
        <p:spPr>
          <a:xfrm>
            <a:off x="1143000" y="1828800"/>
            <a:ext cx="3143160" cy="4191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:\Users\LENOVO\Desktop\IMG_1108-15-05-19-02-22.jpg"/>
          <p:cNvPicPr/>
          <p:nvPr/>
        </p:nvPicPr>
        <p:blipFill>
          <a:blip r:embed="rId2"/>
          <a:stretch/>
        </p:blipFill>
        <p:spPr>
          <a:xfrm>
            <a:off x="5257800" y="1752480"/>
            <a:ext cx="3143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792468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Microsoft Sans Serif"/>
              </a:rPr>
              <a:t>Физминутка: «Ёж с ежатами»</a:t>
            </a:r>
            <a:br>
              <a:rPr sz="2000"/>
            </a:br>
            <a:r>
              <a:rPr b="1" lang="ru-RU" sz="2000" spc="-1" strike="noStrike">
                <a:solidFill>
                  <a:srgbClr val="00b050"/>
                </a:solidFill>
                <a:latin typeface="Microsoft Sans Serif"/>
              </a:rPr>
              <a:t>Под огромною сосной,</a:t>
            </a:r>
            <a:br>
              <a:rPr sz="2000"/>
            </a:br>
            <a:r>
              <a:rPr b="1" lang="ru-RU" sz="2000" spc="-1" strike="noStrike">
                <a:solidFill>
                  <a:srgbClr val="00b050"/>
                </a:solidFill>
                <a:latin typeface="Microsoft Sans Serif"/>
              </a:rPr>
              <a:t>На полянке на лесной,</a:t>
            </a:r>
            <a:br>
              <a:rPr sz="2000"/>
            </a:br>
            <a:r>
              <a:rPr b="1" lang="ru-RU" sz="2000" spc="-1" strike="noStrike">
                <a:solidFill>
                  <a:srgbClr val="00b050"/>
                </a:solidFill>
                <a:latin typeface="Microsoft Sans Serif"/>
              </a:rPr>
              <a:t>Куча листьев, где лежит,</a:t>
            </a:r>
            <a:br>
              <a:rPr sz="2000"/>
            </a:br>
            <a:r>
              <a:rPr b="1" lang="ru-RU" sz="2000" spc="-1" strike="noStrike">
                <a:solidFill>
                  <a:srgbClr val="00b050"/>
                </a:solidFill>
                <a:latin typeface="Microsoft Sans Serif"/>
              </a:rPr>
              <a:t>Ёж с ежатами бежит.</a:t>
            </a:r>
            <a:br>
              <a:rPr sz="2000"/>
            </a:b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63" name="Picture 4" descr="C:\Users\LENOVO\Desktop\Новая папка (2)\IMG_1203-15-05-19-06-05.jpg"/>
          <p:cNvPicPr/>
          <p:nvPr/>
        </p:nvPicPr>
        <p:blipFill>
          <a:blip r:embed="rId1"/>
          <a:stretch/>
        </p:blipFill>
        <p:spPr>
          <a:xfrm>
            <a:off x="1981080" y="2438280"/>
            <a:ext cx="5588280" cy="419112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5"/>
          <p:cNvSpPr/>
          <p:nvPr/>
        </p:nvSpPr>
        <p:spPr>
          <a:xfrm>
            <a:off x="2819520" y="228600"/>
            <a:ext cx="5790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Мы вокруг всё оглядим,</a:t>
            </a:r>
            <a:br>
              <a:rPr sz="2000"/>
            </a:b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На пенёчках посидим.</a:t>
            </a:r>
            <a:br>
              <a:rPr sz="2000"/>
            </a:b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А потом все дружно спляшем,</a:t>
            </a:r>
            <a:br>
              <a:rPr sz="2000"/>
            </a:b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Вот так ручками помашем.</a:t>
            </a:r>
            <a:br>
              <a:rPr sz="2000"/>
            </a:b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Помахали, покружились</a:t>
            </a:r>
            <a:br>
              <a:rPr sz="2000"/>
            </a:b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И домой заторопились.</a:t>
            </a:r>
            <a:br>
              <a:rPr sz="2000"/>
            </a:b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Microsoft Sans Serif"/>
              </a:rPr>
              <a:t>Нетрадиционная техника рисования.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66" name="Picture 2" descr="C:\Users\LENOVO\Desktop\Новая папка (3)\IMG_1150-15-05-19-01-59.jpg"/>
          <p:cNvPicPr/>
          <p:nvPr/>
        </p:nvPicPr>
        <p:blipFill>
          <a:blip r:embed="rId1"/>
          <a:stretch/>
        </p:blipFill>
        <p:spPr>
          <a:xfrm>
            <a:off x="762120" y="251460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:\Users\LENOVO\Desktop\Новая папка (3)\IMG_1149-15-05-19-01-59.jpg"/>
          <p:cNvPicPr/>
          <p:nvPr/>
        </p:nvPicPr>
        <p:blipFill>
          <a:blip r:embed="rId2"/>
          <a:stretch/>
        </p:blipFill>
        <p:spPr>
          <a:xfrm>
            <a:off x="4724280" y="1676520"/>
            <a:ext cx="3276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Microsoft Sans Serif"/>
              </a:rPr>
              <a:t>Пальчиковая гимнастика «Ежик»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Microsoft Sans Serif"/>
              </a:rPr>
              <a:t>Добрый ежик, добрый еж                     </a:t>
            </a:r>
            <a:r>
              <a:rPr b="1" i="1" lang="ru-RU" sz="1600" spc="-1" strike="noStrike">
                <a:solidFill>
                  <a:srgbClr val="c00000"/>
                </a:solidFill>
                <a:latin typeface="Microsoft Sans Serif"/>
              </a:rPr>
              <a:t>дети крутят кулачки перед собой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Microsoft Sans Serif"/>
              </a:rPr>
              <a:t>На клубочек он похож.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Microsoft Sans Serif"/>
              </a:rPr>
              <a:t>У ежа иголки                                         </a:t>
            </a:r>
            <a:r>
              <a:rPr b="1" i="1" lang="ru-RU" sz="1600" spc="-1" strike="noStrike">
                <a:solidFill>
                  <a:srgbClr val="c00000"/>
                </a:solidFill>
                <a:latin typeface="Microsoft Sans Serif"/>
              </a:rPr>
              <a:t>дети сжимают и разжимают пальцы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Microsoft Sans Serif"/>
              </a:rPr>
              <a:t>Очень, очень колкие.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Microsoft Sans Serif"/>
              </a:rPr>
              <a:t>Ежик, ежик, чудачек,                            </a:t>
            </a:r>
            <a:r>
              <a:rPr b="1" i="1" lang="ru-RU" sz="1600" spc="-1" strike="noStrike">
                <a:solidFill>
                  <a:srgbClr val="c00000"/>
                </a:solidFill>
                <a:latin typeface="Microsoft Sans Serif"/>
              </a:rPr>
              <a:t>дети прячут кулачки за спинку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Microsoft Sans Serif"/>
              </a:rPr>
              <a:t>Где ты прячешься дружок?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Microsoft Sans Serif"/>
              </a:rPr>
              <a:t>Покажи иголки                                      </a:t>
            </a:r>
            <a:r>
              <a:rPr b="1" i="1" lang="ru-RU" sz="1600" spc="-1" strike="noStrike">
                <a:solidFill>
                  <a:srgbClr val="c00000"/>
                </a:solidFill>
                <a:latin typeface="Microsoft Sans Serif"/>
              </a:rPr>
              <a:t>дети сжимают и разжимают пальцы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Microsoft Sans Serif"/>
              </a:rPr>
              <a:t>Очень, очень колкие.</a:t>
            </a:r>
            <a:br>
              <a:rPr sz="1600"/>
            </a:br>
            <a:endParaRPr b="0" lang="en-US" sz="16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3143160" cy="4190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:\Users\LENOVO\Desktop\Новая папка (2)\IMG_1205-15-05-19-06-05.jpg"/>
          <p:cNvPicPr/>
          <p:nvPr/>
        </p:nvPicPr>
        <p:blipFill>
          <a:blip r:embed="rId2"/>
          <a:stretch/>
        </p:blipFill>
        <p:spPr>
          <a:xfrm>
            <a:off x="4800600" y="2362320"/>
            <a:ext cx="31431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2af08"/>
                </a:solidFill>
                <a:latin typeface="Microsoft Sans Serif"/>
              </a:rPr>
              <a:t>Спасибо за внимание!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72" name="Picture 2" descr="C:\Users\LENOVO\Desktop\21163382.gif"/>
          <p:cNvPicPr/>
          <p:nvPr/>
        </p:nvPicPr>
        <p:blipFill>
          <a:blip r:embed="rId1"/>
          <a:stretch/>
        </p:blipFill>
        <p:spPr>
          <a:xfrm>
            <a:off x="3124080" y="2590920"/>
            <a:ext cx="28195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LENOVO</cp:lastModifiedBy>
  <dcterms:modified xsi:type="dcterms:W3CDTF">2019-05-15T16:46:24Z</dcterms:modified>
  <cp:revision>293</cp:revision>
  <dc:subject/>
  <dc:title>Name of presentation</dc:title>
</cp:coreProperties>
</file>