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AD70-4DC3-4717-9B80-31EDF4556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8C75-8535-422A-BA13-CD2C8F487A4E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716C-DA50-4D89-B62E-F337A5104A9C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icrosoft Sans Serif"/>
              </a:rPr>
              <a:t>Презентация НОД «Здравствуй, ёжик!»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Microsoft Sans Serif"/>
              </a:rPr>
              <a:t> Средняя группа</a:t>
            </a:r>
            <a:br>
              <a:rPr sz="3600"/>
            </a:br>
            <a:endParaRPr b="0" lang="en-US" sz="36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 Алёна Давидовна, воспитатель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609480" y="228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униципальное  автономное дошкольное образовательное учреждение города Калининграда центр развития ребенка – детский сад №111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89710"/>
                </a:solidFill>
                <a:latin typeface="Microsoft Sans Serif"/>
              </a:rPr>
              <a:t>Программные задачи:</a:t>
            </a:r>
            <a:br>
              <a:rPr sz="4000"/>
            </a:b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12680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продолжать развивать у детей интерес к рисованию с использованием нетрадиционной техники (оттиск вилкой)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учить детей рисовать ёжика, дополнять рисунок деталями, передавая характерные особенности внешнего вида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развивать творческое воображение, мышление и любознательность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воспитывать интерес и бережное отношение к живой природе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icrosoft Sans Serif"/>
              </a:rPr>
              <a:t>Предварительная работа: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рассматривание иллюстраций с изображением ежа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чтение художественной литературы: русская народная сказка «Пых», Е.Чарушин «Ёж», И.Акимушкин «Жил-был ёж», В.Росин «Зачем ёжику колючки», В.Бианки «Лесной колобок – колючий бок»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отгадывание загадок о лесных животных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дидактические игры «Кто в домике живёт?», «Кто что ест?»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4495680" y="3352680"/>
            <a:ext cx="4114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Microsoft Sans Serif"/>
              </a:rPr>
              <a:t>Материалы: альбомные листы с нарисованным контуром еж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Microsoft Sans Serif"/>
              </a:rPr>
              <a:t>гуашевые краски: серого, чёрного цве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Microsoft Sans Serif"/>
              </a:rPr>
              <a:t>одноразовые пластиковые вилк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Microsoft Sans Serif"/>
              </a:rPr>
              <a:t>ватные палочк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0" y="4267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de18"/>
                </a:solidFill>
                <a:latin typeface="Microsoft Sans Serif"/>
              </a:rPr>
              <a:t>Материалы: 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cxnSp>
        <p:nvCxnSpPr>
          <p:cNvPr id="54" name="Прямая со стрелкой 6"/>
          <p:cNvCxnSpPr/>
          <p:nvPr/>
        </p:nvCxnSpPr>
        <p:spPr>
          <a:xfrm flipH="1">
            <a:off x="3506400" y="3580200"/>
            <a:ext cx="989280" cy="839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" name="Прямая со стрелкой 10"/>
          <p:cNvCxnSpPr/>
          <p:nvPr/>
        </p:nvCxnSpPr>
        <p:spPr>
          <a:xfrm flipH="1" flipV="1">
            <a:off x="4495320" y="3656880"/>
            <a:ext cx="153360" cy="11437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" name="Прямая со стрелкой 13"/>
          <p:cNvCxnSpPr/>
          <p:nvPr/>
        </p:nvCxnSpPr>
        <p:spPr>
          <a:xfrm flipV="1">
            <a:off x="3352320" y="3580920"/>
            <a:ext cx="1296360" cy="99144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984ff"/>
                </a:solidFill>
                <a:latin typeface="Microsoft Sans Serif"/>
              </a:rPr>
              <a:t>Ну-ка дети стали в круг</a:t>
            </a:r>
            <a:br>
              <a:rPr sz="3200"/>
            </a:br>
            <a:r>
              <a:rPr b="0" i="1" lang="ru-RU" sz="3200" spc="-1" strike="noStrike">
                <a:solidFill>
                  <a:srgbClr val="0984ff"/>
                </a:solidFill>
                <a:latin typeface="Microsoft Sans Serif"/>
              </a:rPr>
              <a:t>Я твой друг и ты мой друг</a:t>
            </a:r>
            <a:br>
              <a:rPr sz="3200"/>
            </a:br>
            <a:r>
              <a:rPr b="0" i="1" lang="ru-RU" sz="3200" spc="-1" strike="noStrike">
                <a:solidFill>
                  <a:srgbClr val="0984ff"/>
                </a:solidFill>
                <a:latin typeface="Microsoft Sans Serif"/>
              </a:rPr>
              <a:t>Дружно за руки возьмёмся</a:t>
            </a:r>
            <a:br>
              <a:rPr sz="3200"/>
            </a:br>
            <a:r>
              <a:rPr b="0" i="1" lang="ru-RU" sz="3200" spc="-1" strike="noStrike">
                <a:solidFill>
                  <a:srgbClr val="0984ff"/>
                </a:solidFill>
                <a:latin typeface="Microsoft Sans Serif"/>
              </a:rPr>
              <a:t>И друг другу улыбнёмся.</a:t>
            </a:r>
            <a:br>
              <a:rPr sz="3200"/>
            </a:b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8" name="Picture 4" descr="C:\Users\LENOVO\Desktop\Новая папка (2)\IMG_1198-15-05-19-06-05.jpg"/>
          <p:cNvPicPr/>
          <p:nvPr/>
        </p:nvPicPr>
        <p:blipFill>
          <a:blip r:embed="rId1"/>
          <a:stretch/>
        </p:blipFill>
        <p:spPr>
          <a:xfrm>
            <a:off x="1905120" y="228600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Microsoft Sans Serif"/>
              </a:rPr>
              <a:t>Показ презентации: фото ежей. Рассказ воспитателя от имени ёжика об образе жизни, внешнем виде, питании и повадках. 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0" name="Picture 4" descr="C:\Users\LENOVO\Desktop\IMG_1094-15-05-19-01-59.jpg"/>
          <p:cNvPicPr/>
          <p:nvPr/>
        </p:nvPicPr>
        <p:blipFill>
          <a:blip r:embed="rId1"/>
          <a:stretch/>
        </p:blipFill>
        <p:spPr>
          <a:xfrm>
            <a:off x="1143000" y="182880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LENOVO\Desktop\IMG_1108-15-05-19-02-22.jpg"/>
          <p:cNvPicPr/>
          <p:nvPr/>
        </p:nvPicPr>
        <p:blipFill>
          <a:blip r:embed="rId2"/>
          <a:stretch/>
        </p:blipFill>
        <p:spPr>
          <a:xfrm>
            <a:off x="5257800" y="175248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icrosoft Sans Serif"/>
              </a:rPr>
              <a:t>Физминутка: «Ёж с ежатами»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Microsoft Sans Serif"/>
              </a:rPr>
              <a:t>Под огромною сосной,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Microsoft Sans Serif"/>
              </a:rPr>
              <a:t>На полянке на лесной,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Microsoft Sans Serif"/>
              </a:rPr>
              <a:t>Куча листьев, где лежит,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Microsoft Sans Serif"/>
              </a:rPr>
              <a:t>Ёж с ежатами бежит.</a:t>
            </a:r>
            <a:br>
              <a:rPr sz="2000"/>
            </a:b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3" name="Picture 4" descr="C:\Users\LENOVO\Desktop\Новая папка (2)\IMG_1203-15-05-19-06-05.jpg"/>
          <p:cNvPicPr/>
          <p:nvPr/>
        </p:nvPicPr>
        <p:blipFill>
          <a:blip r:embed="rId1"/>
          <a:stretch/>
        </p:blipFill>
        <p:spPr>
          <a:xfrm>
            <a:off x="1981080" y="2438280"/>
            <a:ext cx="558828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2819520" y="228600"/>
            <a:ext cx="5790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Мы вокруг всё оглядим,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 пенёчках посидим.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А потом все дружно спляшем,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Вот так ручками помашем.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махали, покружились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И домой заторопились.</a:t>
            </a:r>
            <a:br>
              <a:rPr sz="2000"/>
            </a:b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Microsoft Sans Serif"/>
              </a:rPr>
              <a:t>Нетрадиционная техника рисования.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6" name="Picture 2" descr="C:\Users\LENOVO\Desktop\Новая папка (3)\IMG_1150-15-05-19-01-59.jpg"/>
          <p:cNvPicPr/>
          <p:nvPr/>
        </p:nvPicPr>
        <p:blipFill>
          <a:blip r:embed="rId1"/>
          <a:stretch/>
        </p:blipFill>
        <p:spPr>
          <a:xfrm>
            <a:off x="762120" y="25146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LENOVO\Desktop\Новая папка (3)\IMG_1149-15-05-19-01-59.jpg"/>
          <p:cNvPicPr/>
          <p:nvPr/>
        </p:nvPicPr>
        <p:blipFill>
          <a:blip r:embed="rId2"/>
          <a:stretch/>
        </p:blipFill>
        <p:spPr>
          <a:xfrm>
            <a:off x="4724280" y="167652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Пальчиковая гимнастика «Ежик»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Добрый ежик, добрый еж                     </a:t>
            </a:r>
            <a:r>
              <a:rPr b="1" i="1" lang="ru-RU" sz="1600" spc="-1" strike="noStrike">
                <a:solidFill>
                  <a:srgbClr val="c00000"/>
                </a:solidFill>
                <a:latin typeface="Microsoft Sans Serif"/>
              </a:rPr>
              <a:t>дети крутят кулачки перед собой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На клубочек он похож.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У ежа иголки                                         </a:t>
            </a:r>
            <a:r>
              <a:rPr b="1" i="1" lang="ru-RU" sz="1600" spc="-1" strike="noStrike">
                <a:solidFill>
                  <a:srgbClr val="c00000"/>
                </a:solidFill>
                <a:latin typeface="Microsoft Sans Serif"/>
              </a:rPr>
              <a:t>дети сжимают и разжимают пальцы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Очень, очень колкие.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Ежик, ежик, чудачек,                            </a:t>
            </a:r>
            <a:r>
              <a:rPr b="1" i="1" lang="ru-RU" sz="1600" spc="-1" strike="noStrike">
                <a:solidFill>
                  <a:srgbClr val="c00000"/>
                </a:solidFill>
                <a:latin typeface="Microsoft Sans Serif"/>
              </a:rPr>
              <a:t>дети прячут кулачки за спинку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Где ты прячешься дружок?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Покажи иголки                                      </a:t>
            </a:r>
            <a:r>
              <a:rPr b="1" i="1" lang="ru-RU" sz="1600" spc="-1" strike="noStrike">
                <a:solidFill>
                  <a:srgbClr val="c00000"/>
                </a:solidFill>
                <a:latin typeface="Microsoft Sans Serif"/>
              </a:rPr>
              <a:t>дети сжимают и разжимают пальцы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Очень, очень колкие.</a:t>
            </a:r>
            <a:br>
              <a:rPr sz="1600"/>
            </a:br>
            <a:endParaRPr b="0" lang="en-US" sz="16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143160" cy="419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LENOVO\Desktop\Новая папка (2)\IMG_1205-15-05-19-06-05.jpg"/>
          <p:cNvPicPr/>
          <p:nvPr/>
        </p:nvPicPr>
        <p:blipFill>
          <a:blip r:embed="rId2"/>
          <a:stretch/>
        </p:blipFill>
        <p:spPr>
          <a:xfrm>
            <a:off x="4800600" y="2362320"/>
            <a:ext cx="3143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af08"/>
                </a:solidFill>
                <a:latin typeface="Microsoft Sans Serif"/>
              </a:rPr>
              <a:t>Спасибо за внимание!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2" name="Picture 2" descr="C:\Users\LENOVO\Desktop\21163382.gif"/>
          <p:cNvPicPr/>
          <p:nvPr/>
        </p:nvPicPr>
        <p:blipFill>
          <a:blip r:embed="rId1"/>
          <a:stretch/>
        </p:blipFill>
        <p:spPr>
          <a:xfrm>
            <a:off x="3124080" y="2590920"/>
            <a:ext cx="2819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LENOVO</cp:lastModifiedBy>
  <dcterms:modified xsi:type="dcterms:W3CDTF">2019-05-15T16:46:24Z</dcterms:modified>
  <cp:revision>293</cp:revision>
  <dc:subject/>
  <dc:title>Name of presentation</dc:title>
</cp:coreProperties>
</file>