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AutoShape 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312920" y="1027080"/>
            <a:ext cx="4930560" cy="36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288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12920" y="102708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98" name="Text Box 2"/>
          <p:cNvSpPr/>
          <p:nvPr/>
        </p:nvSpPr>
        <p:spPr>
          <a:xfrm>
            <a:off x="1170000" y="5086440"/>
            <a:ext cx="5226120" cy="41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12920" y="102708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100" name="Text Box 2"/>
          <p:cNvSpPr/>
          <p:nvPr/>
        </p:nvSpPr>
        <p:spPr>
          <a:xfrm>
            <a:off x="1170000" y="5086440"/>
            <a:ext cx="5226120" cy="41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312920" y="102708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102" name="Text Box 2"/>
          <p:cNvSpPr/>
          <p:nvPr/>
        </p:nvSpPr>
        <p:spPr>
          <a:xfrm>
            <a:off x="1170000" y="5086440"/>
            <a:ext cx="5226120" cy="41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312920" y="102708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104" name="Text Box 2"/>
          <p:cNvSpPr/>
          <p:nvPr/>
        </p:nvSpPr>
        <p:spPr>
          <a:xfrm>
            <a:off x="1170000" y="5086440"/>
            <a:ext cx="5226120" cy="41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2FE94-ED6E-4F85-83C0-A76DB850E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0880" y="4587480"/>
            <a:ext cx="860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747B9-2C55-4B27-91CC-F26C018D6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0880" y="4587480"/>
            <a:ext cx="4199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587480"/>
            <a:ext cx="4199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59511-6EDC-4F44-B7C6-C8DF81913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277092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50760" y="2101320"/>
            <a:ext cx="277092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60640" y="2101320"/>
            <a:ext cx="277092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0880" y="4587480"/>
            <a:ext cx="277092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50760" y="4587480"/>
            <a:ext cx="277092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60640" y="4587480"/>
            <a:ext cx="277092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C9CC8-62BF-4C26-B3D7-4E5E2B9ED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740880" y="2101320"/>
            <a:ext cx="8605800" cy="47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47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740880" y="555120"/>
            <a:ext cx="86058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740880" y="4587480"/>
            <a:ext cx="4199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0880" y="2101320"/>
            <a:ext cx="8605800" cy="47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69E8A-1E87-4925-ACB8-B5C798F9E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150520" y="4587480"/>
            <a:ext cx="4199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740880" y="4587480"/>
            <a:ext cx="860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740880" y="4587480"/>
            <a:ext cx="860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740880" y="4587480"/>
            <a:ext cx="4199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150520" y="4587480"/>
            <a:ext cx="4199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277092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650760" y="2101320"/>
            <a:ext cx="277092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560640" y="2101320"/>
            <a:ext cx="277092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740880" y="4587480"/>
            <a:ext cx="277092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650760" y="4587480"/>
            <a:ext cx="277092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560640" y="4587480"/>
            <a:ext cx="277092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47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7951E-90B2-4169-8CD3-9B5BC2C95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27F81-6E29-4204-8581-FAD8B5FEE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2ABD7-EA55-42E5-B201-200F120FF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0880" y="555120"/>
            <a:ext cx="86058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72EC1-56AE-4B85-9F27-FBC03FBFC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0880" y="4587480"/>
            <a:ext cx="4199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DFEEC-703F-4642-AB1C-2E2B21EA4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587480"/>
            <a:ext cx="4199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6BD96-D8E5-4377-81A5-A765BAEDE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0880" y="4587480"/>
            <a:ext cx="860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701C3-96D3-4167-9FA8-D11A16FA9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84EC6C6-C12B-4EAD-ABC9-9951AB10E265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1"/>
          <p:cNvSpPr/>
          <p:nvPr/>
        </p:nvSpPr>
        <p:spPr>
          <a:xfrm>
            <a:off x="404640" y="1893960"/>
            <a:ext cx="9674280" cy="5665680"/>
          </a:xfrm>
          <a:prstGeom prst="roundRect">
            <a:avLst>
              <a:gd name="adj" fmla="val 28"/>
            </a:avLst>
          </a:prstGeom>
          <a:solidFill>
            <a:srgbClr val="dddddd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40880" y="2101320"/>
            <a:ext cx="8605800" cy="47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AutoShape 4"/>
          <p:cNvSpPr/>
          <p:nvPr/>
        </p:nvSpPr>
        <p:spPr>
          <a:xfrm>
            <a:off x="0" y="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5"/>
          <p:cNvSpPr/>
          <p:nvPr/>
        </p:nvSpPr>
        <p:spPr>
          <a:xfrm>
            <a:off x="0" y="238140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6"/>
          <p:cNvSpPr/>
          <p:nvPr/>
        </p:nvSpPr>
        <p:spPr>
          <a:xfrm>
            <a:off x="0" y="116856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36720" y="53820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333333"/>
                </a:solidFill>
                <a:latin typeface="Arial"/>
              </a:rPr>
              <a:t>Издательство «Просвещение»</a:t>
            </a:r>
            <a:endParaRPr b="1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522440" y="1717200"/>
            <a:ext cx="733248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Физическая культура для учащихся 1-11 классов под редакцией В.И. Лях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360000" y="360360"/>
            <a:ext cx="9504360" cy="15112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430200" indent="-32400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Целью  программы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по физической культуре является формирование у учащихся начальной школы основ здорового образа жизни, развитие творческой самостоятельности посредством освоения двигательной деятельности.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2" descr=""/>
          <p:cNvPicPr/>
          <p:nvPr/>
        </p:nvPicPr>
        <p:blipFill>
          <a:blip r:embed="rId1"/>
          <a:stretch/>
        </p:blipFill>
        <p:spPr>
          <a:xfrm>
            <a:off x="576360" y="2131920"/>
            <a:ext cx="2160360" cy="26924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3" descr=""/>
          <p:cNvPicPr/>
          <p:nvPr/>
        </p:nvPicPr>
        <p:blipFill>
          <a:blip r:embed="rId2"/>
          <a:stretch/>
        </p:blipFill>
        <p:spPr>
          <a:xfrm>
            <a:off x="5040360" y="2082960"/>
            <a:ext cx="2297160" cy="28130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4" descr=""/>
          <p:cNvPicPr/>
          <p:nvPr/>
        </p:nvPicPr>
        <p:blipFill>
          <a:blip r:embed="rId3"/>
          <a:stretch/>
        </p:blipFill>
        <p:spPr>
          <a:xfrm>
            <a:off x="2879640" y="4603680"/>
            <a:ext cx="2016360" cy="24526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"/>
          <p:cNvPicPr/>
          <p:nvPr/>
        </p:nvPicPr>
        <p:blipFill>
          <a:blip r:embed="rId4"/>
          <a:stretch/>
        </p:blipFill>
        <p:spPr>
          <a:xfrm>
            <a:off x="7632720" y="4535640"/>
            <a:ext cx="2120760" cy="280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215640" y="144360"/>
            <a:ext cx="9575640" cy="71517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431640" indent="0">
              <a:lnSpc>
                <a:spcPct val="93000"/>
              </a:lnSpc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Реализация данной цели связана с решением следующих образовательных задач: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220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совершенствование жизненно важных навыков и умений в ходьбе, прыжках, сазаньи, метании;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220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обучение физическим упражнениям из таких видов спорта, как гимнастика, легкая атлетика, а также подвижным играм и техническим действиям спортивных игр, входящих в школьную программу;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220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развитие основных физических качеств: силы, быстроты, выносливости, координации движений, гибкости;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220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формирование общих представлений о физической культуре, ее значении в жизни человека, укреплении здоровья, физическом развитии и физической подготовленности;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220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развитие интереса к самостоятельным занятиям физическими упражнениями, утренней гимнастикой, физминутками и подвижными играми;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220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обучение простейшим способам контроля за физической нагрузкой, отдельным показателям физического развития и физической подготовленности.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333333"/>
                </a:solidFill>
                <a:latin typeface="Arial"/>
              </a:rPr>
              <a:t>Основные отличия и преимущества программы физического воспитания В. И. Ляха</a:t>
            </a:r>
            <a:endParaRPr b="1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90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162"/>
              </a:spcBef>
              <a:spcAft>
                <a:spcPts val="1162"/>
              </a:spcAft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Комплексный подход;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Bef>
                <a:spcPts val="1162"/>
              </a:spcBef>
              <a:spcAft>
                <a:spcPts val="1162"/>
              </a:spcAft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Наличие базовой и вариативной части;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Bef>
                <a:spcPts val="1162"/>
              </a:spcBef>
              <a:spcAft>
                <a:spcPts val="1162"/>
              </a:spcAft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озможность использования для 2-х и 3-х уроков физкультуры в неделю;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Bef>
                <a:spcPts val="1162"/>
              </a:spcBef>
              <a:spcAft>
                <a:spcPts val="1162"/>
              </a:spcAft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одробное описание содержания и методов физического воспитания как для урочной, так и внеклассной работы;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Bef>
                <a:spcPts val="1162"/>
              </a:spcBef>
              <a:spcAft>
                <a:spcPts val="1162"/>
              </a:spcAft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Удобная форма изложения материала, позволяющая легко планировать работу.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12T16:53:23Z</dcterms:created>
  <dc:creator/>
  <dc:description/>
  <dc:language>en-US</dc:language>
  <cp:lastModifiedBy>User</cp:lastModifiedBy>
  <dcterms:modified xsi:type="dcterms:W3CDTF">2019-05-15T13:57:36Z</dcterms:modified>
  <cp:revision>1</cp:revision>
  <dc:subject/>
  <dc:title>Издательство «Просвещение»</dc:title>
</cp:coreProperties>
</file>