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98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0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2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4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1FE-6670-41C5-96A2-17A3D725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91A-C6E3-46E0-988F-1BBB448B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5C4-85E2-4298-ABE6-2D487398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6C2-9238-4F4F-86FC-8F2B81CD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CCD-F995-4E8C-8BAA-6933EA32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4BD-BD2A-49B5-9F2A-ECB45249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19E-4A75-4B7B-9561-3FBB02AD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49C-BF79-4F7B-B96A-316DDCF4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466-F5BD-4600-9EFB-2CA3F99F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775-3598-4A43-804C-0F3BFE2D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58B-C699-4E36-A169-3CA8302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738-0451-4730-BD87-E0F52F7C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CC49C3-570C-4263-BED7-5842FADDDC9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5382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Издательство «Просвещение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2440" y="1717200"/>
            <a:ext cx="7332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зическая культура для учащихся 1-11 классов под редакцией В.И. Лях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60000" y="360360"/>
            <a:ext cx="9504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ю  програм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о физической культуре является формирование у учащихся начальной школы основ здорового образа жизни, развитие творческой самостоятельности посредством освоения двигательной деятельност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76360" y="2131920"/>
            <a:ext cx="2160360" cy="2692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040360" y="2082960"/>
            <a:ext cx="2297160" cy="2813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2879640" y="4603680"/>
            <a:ext cx="2016360" cy="24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7632720" y="4535640"/>
            <a:ext cx="21207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5640" y="144360"/>
            <a:ext cx="9575640" cy="7151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лизация данной цели связана с решением следующих образовательных задач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жизненно важных навыков и умений в ходьбе, прыжках, сазаньи, метани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учение физическим упражнениям из таких видов спорта, как гимнастика, легкая атлетика, а также подвижным играм и техническим действиям спортивных игр, входящих в школьную программу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тие основных физических качеств: силы, быстроты, выносливости, координации движений, гибкост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ирование общих представлений о физической культуре, ее значении в жизни человека, укреплении здоровья, физическом развитии и физической подготовленност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тие интереса к самостоятельным занятиям физическими упражнениями, утренней гимнастикой, физминутками и подвижными играм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учение простейшим способам контроля за физической нагрузкой, отдельным показателям физического развития и физической подготовлен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Arial"/>
              </a:rPr>
              <a:t>Основные отличия и преимущества программы физического воспитания В. И. Ляха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ксный подход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личие базовой и вариативной ча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ожность использования для 2-х и 3-х уроков физкультуры в неделю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робное описание содержания и методов физического воспитания как для урочной, так и внеклассной работы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добная форма изложения материала, позволяющая легко планировать работу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3:23Z</dcterms:created>
  <dc:creator/>
  <dc:description/>
  <dc:language>en-US</dc:language>
  <cp:lastModifiedBy>User</cp:lastModifiedBy>
  <dcterms:modified xsi:type="dcterms:W3CDTF">2019-05-15T13:57:36Z</dcterms:modified>
  <cp:revision>1</cp:revision>
  <dc:subject/>
  <dc:title>Издательство «Просвещение»</dc:title>
</cp:coreProperties>
</file>