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056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98" name="Text Box 2"/>
          <p:cNvSpPr/>
          <p:nvPr/>
        </p:nvSpPr>
        <p:spPr>
          <a:xfrm>
            <a:off x="117000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00" name="Text Box 2"/>
          <p:cNvSpPr/>
          <p:nvPr/>
        </p:nvSpPr>
        <p:spPr>
          <a:xfrm>
            <a:off x="117000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02" name="Text Box 2"/>
          <p:cNvSpPr/>
          <p:nvPr/>
        </p:nvSpPr>
        <p:spPr>
          <a:xfrm>
            <a:off x="117000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04" name="Text Box 2"/>
          <p:cNvSpPr/>
          <p:nvPr/>
        </p:nvSpPr>
        <p:spPr>
          <a:xfrm>
            <a:off x="117000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F530-D75F-4F77-886A-BFCED6266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9D63-F989-4607-8837-F8A0DBD3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5450-195A-4DD5-A9C3-3138A0455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076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064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0324-51E1-4181-8C6D-2AB1D67B5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40880" y="555120"/>
            <a:ext cx="86058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F767-9C24-4FBC-8462-2146699F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4088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5076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6064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571B-A176-495E-AD40-B8E26BE9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4A20-3C19-414B-ADCB-F0B2830B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AA65-FD1F-4FCC-B4A8-5F7970C9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555120"/>
            <a:ext cx="86058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F3A6-54AD-47B8-B42C-8382E530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6350-9BD3-46C4-928F-EF42674B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90D3-E58A-4AF6-BFC8-9D3F7018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5FE7-C7EB-46D1-8D0E-F0E3B4B2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69BB0A1-9A21-4AB5-AAB5-0E2BF551458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36720" y="5382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33333"/>
                </a:solidFill>
                <a:latin typeface="Arial"/>
              </a:rPr>
              <a:t>Издательство «Просвещение»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522440" y="1717200"/>
            <a:ext cx="73324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изическая культура для учащихся 1-11 классов под редакцией В.И. Лях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60000" y="360360"/>
            <a:ext cx="950436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020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Целью  программы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по физической культуре является формирование у учащихся начальной школы основ здорового образа жизни, развитие творческой самостоятельности посредством освоения двигательной деятельности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576360" y="2131920"/>
            <a:ext cx="2160360" cy="2692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5040360" y="2082960"/>
            <a:ext cx="2297160" cy="2813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3"/>
          <a:stretch/>
        </p:blipFill>
        <p:spPr>
          <a:xfrm>
            <a:off x="2879640" y="4603680"/>
            <a:ext cx="2016360" cy="2452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4"/>
          <a:stretch/>
        </p:blipFill>
        <p:spPr>
          <a:xfrm>
            <a:off x="7632720" y="4535640"/>
            <a:ext cx="2120760" cy="28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15640" y="144360"/>
            <a:ext cx="9575640" cy="7151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ализация данной цели связана с решением следующих образовательных задач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вершенствование жизненно важных навыков и умений в ходьбе, прыжках, сазаньи, метании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бучение физическим упражнениям из таких видов спорта, как гимнастика, легкая атлетика, а также подвижным играм и техническим действиям спортивных игр, входящих в школьную программу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звитие основных физических качеств: силы, быстроты, выносливости, координации движений, гибкости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ормирование общих представлений о физической культуре, ее значении в жизни человека, укреплении здоровья, физическом развитии и физической подготовленности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звитие интереса к самостоятельным занятиям физическими упражнениями, утренней гимнастикой, физминутками и подвижными играми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бучение простейшим способам контроля за физической нагрузкой, отдельным показателям физического развития и физической подготовленности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333333"/>
                </a:solidFill>
                <a:latin typeface="Arial"/>
              </a:rPr>
              <a:t>Основные отличия и преимущества программы физического воспитания В. И. Ляха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162"/>
              </a:spcBef>
              <a:spcAft>
                <a:spcPts val="1162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мплексный подход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1162"/>
              </a:spcBef>
              <a:spcAft>
                <a:spcPts val="1162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личие базовой и вариативной части;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1162"/>
              </a:spcBef>
              <a:spcAft>
                <a:spcPts val="1162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озможность использования для 2-х и 3-х уроков физкультуры в неделю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1162"/>
              </a:spcBef>
              <a:spcAft>
                <a:spcPts val="1162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дробное описание содержания и методов физического воспитания как для урочной, так и внеклассной работы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1162"/>
              </a:spcBef>
              <a:spcAft>
                <a:spcPts val="1162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добная форма изложения материала, позволяющая легко планировать работу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2T16:53:23Z</dcterms:created>
  <dc:creator/>
  <dc:description/>
  <dc:language>en-US</dc:language>
  <cp:lastModifiedBy>User</cp:lastModifiedBy>
  <dcterms:modified xsi:type="dcterms:W3CDTF">2019-05-15T13:57:36Z</dcterms:modified>
  <cp:revision>1</cp:revision>
  <dc:subject/>
  <dc:title>Издательство «Просвещение»</dc:title>
</cp:coreProperties>
</file>