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BDF-AABD-4F22-9EEF-E1DEB340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F22-C862-4066-8418-733CE14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57E-9316-40AE-B1DC-D6B651A2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0C0-DE76-4744-88A1-3891C2C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0A6-AFA9-413C-8CAC-22E9EE08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804-3F0A-4399-8A73-77D33E59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EE6-0866-4558-B192-E7CDB802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201-6FD4-4427-9683-EE0DC597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A28-101F-4C7B-A0D7-708C6EB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1F4-B250-4A15-9388-2C85FA7E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C70-4996-49A6-A68D-30E3D44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E1E-1054-41F4-9CAF-7D24C79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28CA-5816-4B86-A03C-C766FCC5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sites.google.com/site/sanktpeterburgdetskijsad39/" TargetMode="External"/><Relationship Id="rId2" Type="http://schemas.openxmlformats.org/officeDocument/2006/relationships/hyperlink" Target="https://sites.google.com/site/sanktpeterburgdetskijsad39/" TargetMode="External"/><Relationship Id="rId3" Type="http://schemas.openxmlformats.org/officeDocument/2006/relationships/hyperlink" Target="https://sites.google.com/site/sanktpeterburgdetskijsad39/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Государственное бюджетное дошкольное образовательное учреждение детский сад № 39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общеразвивающего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вида с приоритетным осуществлением деятельности по физическому развитию детей Красносельского района Санкт-Петербурга</a:t>
            </a:r>
            <a:r>
              <a:rPr b="1" lang="ru-RU" sz="1800" spc="-1" strike="noStrike" u="sng">
                <a:solidFill>
                  <a:srgbClr val="009999"/>
                </a:solidFill>
                <a:uFillTx/>
                <a:latin typeface="Times New Roman"/>
              </a:rPr>
              <a:t>.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«Словарик устаревш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л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537372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ста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викова Ольга Александр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50920" y="3429000"/>
            <a:ext cx="1455840" cy="151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35280" y="3429000"/>
            <a:ext cx="2152800" cy="153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40360" y="3429000"/>
            <a:ext cx="1368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994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278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7943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0876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8500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88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8091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80876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77708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943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54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6582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886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791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40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994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882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94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518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51032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76592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8170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13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7994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806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1344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343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7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199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8824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8026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5T06:36:01Z</dcterms:created>
  <dc:creator>moon_road</dc:creator>
  <dc:description/>
  <dc:language>en-US</dc:language>
  <cp:lastModifiedBy>Serg</cp:lastModifiedBy>
  <dcterms:modified xsi:type="dcterms:W3CDTF">2014-06-05T19:37:19Z</dcterms:modified>
  <cp:revision>6</cp:revision>
  <dc:subject/>
  <dc:title>Слайд 1</dc:title>
</cp:coreProperties>
</file>