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3F0-D39C-4B83-BA9E-805A65A6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367-E2FA-4E41-B3B2-ACC1E74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966-14FD-49FB-8C67-AD7DB754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55E-9924-4639-A893-DDB9ED23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69A-7622-48FC-B77F-428C1A13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1D8-E910-49AF-A65E-C15058C0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59A-1351-4B11-9A9B-CE79311F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5D0-C9C0-4FA8-9234-1AC0E244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503-7771-44E7-BC06-9D350E2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10E-F89C-4D15-A8EB-70BE87D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45B-8212-409B-8047-2AAB7B7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D58-99B6-4F65-921B-2E37E85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D6C-FEA4-44EF-A6E6-09379F26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sanktpeterburgdetskijsad39/" TargetMode="External"/><Relationship Id="rId2" Type="http://schemas.openxmlformats.org/officeDocument/2006/relationships/hyperlink" Target="https://sites.google.com/site/sanktpeterburgdetskijsad39/" TargetMode="External"/><Relationship Id="rId3" Type="http://schemas.openxmlformats.org/officeDocument/2006/relationships/hyperlink" Target="https://sites.google.com/site/sanktpeterburgdetskijsad39/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Государственное бюджетное дошкольное образовательное учреждение детский сад № 39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общеразвивающего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вида с приоритетным осуществлением деятельности по физическому развитию детей Красносельского района Санкт-Петербурга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</a:rPr>
              <a:t>.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Словарик устаревш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л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53737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викова Ольга Александр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50920" y="3429000"/>
            <a:ext cx="145584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35280" y="3429000"/>
            <a:ext cx="215280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1368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994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78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943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0876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8500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88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091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0876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943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4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658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88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91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40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994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882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94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518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51032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7659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170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13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7994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806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1344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343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7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199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882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026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6:36:01Z</dcterms:created>
  <dc:creator>moon_road</dc:creator>
  <dc:description/>
  <dc:language>en-US</dc:language>
  <cp:lastModifiedBy>Serg</cp:lastModifiedBy>
  <dcterms:modified xsi:type="dcterms:W3CDTF">2014-06-05T19:37:19Z</dcterms:modified>
  <cp:revision>6</cp:revision>
  <dc:subject/>
  <dc:title>Слайд 1</dc:title>
</cp:coreProperties>
</file>