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0D2-B055-4FCF-8BE5-AA32335F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C10-5517-41EC-BF05-825F5790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40D-6797-4EF2-AB54-2D392397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C89-CEB4-4925-8308-19A41138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750-395A-4BA4-8845-03957DF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736-B1A6-4EC8-ABD2-E342D5B7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515-B858-4A4E-9784-C0ED2D09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1E0-5D3C-4848-8980-353E715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BF5-E19C-40E3-BE7B-A020EEC7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01D-9265-41A1-A931-5E3DF6D4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832-0BD2-4925-9502-053786FF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381-2F99-4CB6-9617-57DE2E38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6BFE-1E4A-42AC-8534-187850B59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Развитие речи детей дошкольного возраста через театрализованную деятельность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0" y="2071440"/>
            <a:ext cx="4038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Презентацию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Душкина Галина Александров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tar7"/>
          <p:cNvPicPr/>
          <p:nvPr/>
        </p:nvPicPr>
        <p:blipFill>
          <a:blip r:embed="rId1"/>
          <a:stretch/>
        </p:blipFill>
        <p:spPr>
          <a:xfrm>
            <a:off x="262728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mask20"/>
          <p:cNvPicPr/>
          <p:nvPr/>
        </p:nvPicPr>
        <p:blipFill>
          <a:blip r:embed="rId2"/>
          <a:stretch/>
        </p:blipFill>
        <p:spPr>
          <a:xfrm>
            <a:off x="714240" y="250020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Театр – дети -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84360" y="177336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стреча за  круглым сто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ечера вопросов и от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ни открытых дв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Дни добрых д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Почтовый ящик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076720" y="1700280"/>
            <a:ext cx="3456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здание буклетов и брошю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ставка кни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дивидуальны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ос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ставка фотограф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отовыставки с расс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ворческие совместные выставки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апки-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be0e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проделанной работе дети  стали более сознательно пользоваться языковыми средствами при передаче своих мыслей и в различных ситуациях речевого общения, повысилась речевая активность, появился живой интерес к самостоятельному познанию и размышлени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этого в любых видах деятельности дети получают эмоциональный подъём, проявляют позитивные качества характера такие как: находчивость, взаимопомощь, смелость, умение сопереживать, умение работать в коллективе, силу воли, целеустремленность, эстетические потребности личности, излучают энергию, бодрость, любят творческие задания, с удовольствием участвуют в театральных постановках, кукольных спектаклях, играх - драматизац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театрализованной деятельности на развитие речи детей неоспоримо. Театрализованная деятельность – один из самых эффективных способов развития речи и проявления их творческих способностей, а также та деятельность, в которой наиболее ярко проявляется принцип обучения: учить играя. С помощью театрализованных занятий можно решать практически все задачи программы развития речи. И наряду с основными методами и приемами речевого развития детей можно и нужно использовать  богатейший материал словесного творчества наро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нный привлекательным замыслом театральной постановки ребенок учится многому, учится тому, как навыки, полученные в театральной игре можно использовать в повседневной жи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Мероприятия с педагогами в дошкольном учрежд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Чем хороши театрализованные игры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методической литературы и альбома по теме «Виды театров» и ее 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Кукольный театр: кукла в руках взрослого, кукла в руках ребе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фотовыставки «Юные актер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858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, к сожалению, отмечается увеличение количества детей, имеющих нарушения речи. А ясная и правильная речь - это залог продуктивного общения, уверенности, успеш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ая деятельность – это самый распространённый вид детского творчества. Она близка и понятна ребёнку, глубоко лежит в его природе и находит своё отстранение стихийно, потому что связана с игрой. Всякую свою выдумку, впечатления из окружающей жизни ребёнку хочется выложить в живые образы и действия. Входя в образ, он играет любые роли, стараясь подражать тому, что видит и что его заинтересовало, и, получая огромное эмоциональное насла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озникла идея - создания системы педагогических мероприятий по развитию речи детей дошкольного возраста  через театрализован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23200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1356840"/>
            <a:ext cx="77724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ИЗЛАГАТЬ СВОИ МЫСЛИ СВЯЗНО, ПОСЛЕДОВАТЕЛЬНО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ГРАММАТИЧЕСКИЙ, ЛЕКСИЧЕСКИЙ СТРОЙ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ВЫКИ АКТИВНОЙ, РАЗГОВОРНОЙ, ОБРАЗНОЙ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ДИАЛОГИЧЕСКУЮ, МОНОЛОГИЧЕСКУЮ РЕЧЬ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СОВЕРШЕНСТВОВАТЬ ХУДОЖЕСТВЕННО – РЕЧЕВЫЕ ИСПОЛНИТЕЛЬСКИЕ НАВЫКИ ДЕТЕЙ В РАЗНЫХ ВИДАХ ТЕАТРАЛИЗОВАННОЙ ДЕЯТЕЛЬНОСТ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ВЫРАЗИТЕЛЬНУЮ, ИНТОНАЦИОННУЮ СТОРОНЫ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ЯТЬ ЛИТЕРАТУРНЫЙ ЗАПАС ДЕТЕЙ ЗА СЧЕТ ИНСЦЕНИРОВКИ, ДРАМАТИЗАЦИИ СКАЗОК, РАССКАЗОВ, ПОСЛОВИЦ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ТКОСТЬ  К ХУДОЖЕСТВЕННОМУ СЛОВУ, ЗАЧИТЫВАТЬ ОТРЫВКИ С НАИБОЛЕЕ ЯРКИМИ ОПИСАНИ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ВОПЛОЩАТЬ УСЛЫШАННОЕ В ИНСЦЕНИРОВКАХ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Творческие методы и приё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я система обучения (схемы, алгоритмы, мнемотаблицы и условные обозначения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«проживан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й и доказатель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 (диалоговое общение, ролевые инсценировки, игры-драматизации, сюжетно-ролевые игры, чтение по книге или наизусть, рассказывание, творческое рассказывание, заучивание наизусть, описа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творческого поис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ильм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аудиоза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е рис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е и индивидуальное п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методы рисования и апплик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ж из сказ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терап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796000" y="3500280"/>
            <a:ext cx="33480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одержание деятельности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говорки и скор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еские этю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ческие этю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( с использованием зонта сказочных воспоми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во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напряжение и расслабление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имитацию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активизацию словарного за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интонационную 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формирование разговор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отбивание 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речев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ловами и без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д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с гер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эпиз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ание сказок, потешек, сти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театрализова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96000" y="4259160"/>
            <a:ext cx="316872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Методическое обеспе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680" y="7855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граммно-методического обеспечения позволил отобрать и систематизировать программно-методические средства, позволяющие решить задачи речевого развития детей. Появился программно-методический комплект, который включает  в себя использование программ, учебно-наглядных пособий, пособий для детей, периодических изданий, учебно-методических пособий, ТС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зд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игр и упражнений: «Развитие речевого дыхания», «Скороговорки и чистоговорки», «Играем пальчиками и развиваем речь», «Сказки оживают», «Фольклорные произведения», «Сказки к театрам», «Театральные иг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а мнемо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формле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а  передвижка  «Мир театр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репортажи: «Кошкин дом», «Новогодние развлечения», «Играем в сказк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ля родител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родителей: «Домашний кукольный театр», «Живые камни», «Расскажи детям сказку», буклеты, консультации, Разработки родительских собраний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дметно – развивающая сре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огащения предметно – развивающей среды в группе был разработан и реализован проект  с участием родителей «Сказка своими руками»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изготовлены  персонажи сказок и атрибуты к ним из раз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дети на основе готовых кукольных театров продолжают разыгрывать сказки, составлять интересные и необычные рассказы, меняя героев и обстанов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ы разные виды ши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20190506_161054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иды театров используемые в раб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11280" y="1052640"/>
            <a:ext cx="331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чат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к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ьчик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фланелеграф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юмирова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ал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:\фото для гр №14\20190506_160600.jpg"/>
          <p:cNvPicPr/>
          <p:nvPr/>
        </p:nvPicPr>
        <p:blipFill>
          <a:blip r:embed="rId1"/>
          <a:stretch/>
        </p:blipFill>
        <p:spPr>
          <a:xfrm>
            <a:off x="3286080" y="114300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D:\фото для гр №14\20190506_160324.jpg"/>
          <p:cNvPicPr/>
          <p:nvPr/>
        </p:nvPicPr>
        <p:blipFill>
          <a:blip r:embed="rId2"/>
          <a:stretch/>
        </p:blipFill>
        <p:spPr>
          <a:xfrm>
            <a:off x="1285920" y="335772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ком\Desktop\20190506_160207.jpg"/>
          <p:cNvPicPr/>
          <p:nvPr/>
        </p:nvPicPr>
        <p:blipFill>
          <a:blip r:embed="rId3"/>
          <a:stretch/>
        </p:blipFill>
        <p:spPr>
          <a:xfrm>
            <a:off x="5643720" y="21420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ком\Desktop\20190506_160802.jpg"/>
          <p:cNvPicPr/>
          <p:nvPr/>
        </p:nvPicPr>
        <p:blipFill>
          <a:blip r:embed="rId4"/>
          <a:stretch/>
        </p:blipFill>
        <p:spPr>
          <a:xfrm>
            <a:off x="5572080" y="3357720"/>
            <a:ext cx="2857680" cy="307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28:46Z</dcterms:created>
  <dc:creator>Admin</dc:creator>
  <dc:description/>
  <dc:language>en-US</dc:language>
  <cp:lastModifiedBy>ком</cp:lastModifiedBy>
  <dcterms:modified xsi:type="dcterms:W3CDTF">2019-05-15T13:39:26Z</dcterms:modified>
  <cp:revision>70</cp:revision>
  <dc:subject/>
  <dc:title>МДОУ центр развития ребенка -детский сад № 63 «Аистенок» Комитет образования администрации города Тамбова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430000000000010243100207f6000400038000</vt:lpwstr>
  </property>
</Properties>
</file>