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B6D-24AF-4F4D-8BAF-0CA812B0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02A-5DA9-4F36-97F5-5005C763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603-0F03-4F65-BA53-E9E402FF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2D1-BC51-4560-A740-2C37250B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948-A6E9-4D69-8F9E-22555F55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592-B6BD-4611-821F-5578CDE5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DC4-A4A2-439F-9069-6EDEDFDA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08B-EC70-4E85-A620-C81E63AC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3F3-DA16-47A4-AFF4-012FD77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8F7-E140-4DF9-B7D3-6AA8F0D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1BE-9918-4D29-BCE8-445FA3C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BAE-9A9A-4B50-8C9C-BA5C7816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C4FD-A257-40A6-984F-5A3DECD11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Развитие речи детей дошкольного возраста через театрализованную деятельность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0" y="2071440"/>
            <a:ext cx="40384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entury Gothic"/>
              </a:rPr>
              <a:t>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Презентацию 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entury Gothic"/>
              </a:rPr>
              <a:t>Душкина Галина Александров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tar7"/>
          <p:cNvPicPr/>
          <p:nvPr/>
        </p:nvPicPr>
        <p:blipFill>
          <a:blip r:embed="rId1"/>
          <a:stretch/>
        </p:blipFill>
        <p:spPr>
          <a:xfrm>
            <a:off x="2627280" y="5300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mask20"/>
          <p:cNvPicPr/>
          <p:nvPr/>
        </p:nvPicPr>
        <p:blipFill>
          <a:blip r:embed="rId2"/>
          <a:stretch/>
        </p:blipFill>
        <p:spPr>
          <a:xfrm>
            <a:off x="714240" y="2500200"/>
            <a:ext cx="2540160" cy="16509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Театр – дети - 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5400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84360" y="177336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Родительские соб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стреча за  круглым сто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ечера вопросов и от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ни открытых двер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Дни добрых де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Почтовый ящик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076720" y="1700280"/>
            <a:ext cx="3456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здание буклетов и брошю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ыставка кни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ндивидуальные 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ос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ыставка фотограф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отовыставки с расс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ворческие совместные выставки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апки-рекомен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be0e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проделанной работе дети  стали более сознательно пользоваться языковыми средствами при передаче своих мыслей и в различных ситуациях речевого общения, повысилась речевая активность, появился живой интерес к самостоятельному познанию и размышлению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этого в любых видах деятельности дети получают эмоциональный подъём, проявляют позитивные качества характера такие как: находчивость, взаимопомощь, смелость, умение сопереживать, умение работать в коллективе, силу воли, целеустремленность, эстетические потребности личности, излучают энергию, бодрость, любят творческие задания, с удовольствием участвуют в театральных постановках, кукольных спектаклях, играх - драматизац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театрализованной деятельности на развитие речи детей неоспоримо. Театрализованная деятельность – один из самых эффективных способов развития речи и проявления их творческих способностей, а также та деятельность, в которой наиболее ярко проявляется принцип обучения: учить играя. С помощью театрализованных занятий можно решать практически все задачи программы развития речи. И наряду с основными методами и приемами речевого развития детей можно и нужно использовать  богатейший материал словесного творчества народ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ченный привлекательным замыслом театральной постановки ребенок учится многому, учится тому, как навыки, полученные в театральной игре можно использовать в повседневной жи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Мероприятия с педагогами в дошкольном учрежд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«Чем хороши театрализованные игры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методической литературы и альбома по теме «Виды театров» и ее презент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«Кукольный театр: кукла в руках взрослого, кукла в руках ребен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фотовыставки «Юные актер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85840" y="2854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, к сожалению, отмечается увеличение количества детей, имеющих нарушения речи. А ясная и правильная речь - это залог продуктивного общения, уверенности, успеш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ьная деятельность – это самый распространённый вид детского творчества. Она близка и понятна ребёнку, глубоко лежит в его природе и находит своё отстранение стихийно, потому что связана с игрой. Всякую свою выдумку, впечатления из окружающей жизни ребёнку хочется выложить в живые образы и действия. Входя в образ, он играет любые роли, стараясь подражать тому, что видит и что его заинтересовало, и, получая огромное эмоциональное наслаж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возникла идея - создания системы педагогических мероприятий по развитию речи детей дошкольного возраста  через театрализован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223200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1356840"/>
            <a:ext cx="77724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ИЗЛАГАТЬ СВОИ МЫСЛИ СВЯЗНО, ПОСЛЕДОВАТЕЛЬНО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ГРАММАТИЧЕСКИЙ, ЛЕКСИЧЕСКИЙ СТРОЙ РЕЧ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НАВЫКИ АКТИВНОЙ, РАЗГОВОРНОЙ, ОБРАЗНОЙ РЕЧ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ЗВИВАТЬ ДИАЛОГИЧЕСКУЮ, МОНОЛОГИЧЕСКУЮ РЕЧЬ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СОВЕРШЕНСТВОВАТЬ ХУДОЖЕСТВЕННО – РЕЧЕВЫЕ ИСПОЛНИТЕЛЬСКИЕ НАВЫКИ ДЕТЕЙ В РАЗНЫХ ВИДАХ ТЕАТРАЛИЗОВАННОЙ ДЕЯТЕЛЬНОСТ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ЗВИВАТЬ ВЫРАЗИТЕЛЬНУЮ, ИНТОНАЦИОННУЮ СТОРОНЫ РЕЧ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ЯТЬ ЛИТЕРАТУРНЫЙ ЗАПАС ДЕТЕЙ ЗА СЧЕТ ИНСЦЕНИРОВКИ, ДРАМАТИЗАЦИИ СКАЗОК, РАССКАЗОВ, ПОСЛОВИЦ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ЧУТКОСТЬ  К ХУДОЖЕСТВЕННОМУ СЛОВУ, ЗАЧИТЫВАТЬ ОТРЫВКИ С НАИБОЛЕЕ ЯРКИМИ ОПИСАНИЯМ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МЕЛКУЮ МОТОРИКУ РУК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Е ВОПЛОЩАТЬ УСЛЫШАННОЕ В ИНСЦЕНИРОВКАХ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Творческие методы и приё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ая система обучения (схемы, алгоритмы, мнемотаблицы и условные обозначения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«проживани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й и доказательст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 (диалоговое общение, ролевые инсценировки, игры-драматизации, сюжетно-ролевые игры, чтение по книге или наизусть, рассказывание, творческое рассказывание, заучивание наизусть, описа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творческого поис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фильм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ние аудиозапис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е рис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вое и индивидуальное п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е методы рисования и апплик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аж из сказо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отерап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796000" y="3500280"/>
            <a:ext cx="334800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одержание деятельности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говорки и скор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еские этю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ческие этю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( с использованием зонта сказочных воспоми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вооб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напряжение и расслабление мыш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имитацию 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активизацию словарного зап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интонационную 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формирование разговор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отбивание ри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речев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 словами и без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вод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с геро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грывание эпиз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ание сказок, потешек, сти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 театрализова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796000" y="4259160"/>
            <a:ext cx="316872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Методическое обеспе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680" y="7855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рограммно-методического обеспечения позволил отобрать и систематизировать программно-методические средства, позволяющие решить задачи речевого развития детей. Появился программно-методический комплект, который включает  в себя использование программ, учебно-наглядных пособий, пособий для детей, периодических изданий, учебно-методических пособий, ТС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зда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игр и упражнений: «Развитие речевого дыхания», «Скороговорки и чистоговорки», «Играем пальчиками и развиваем речь», «Сказки оживают», «Фольклорные произведения», «Сказки к театрам», «Театральные игр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а мнемо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формле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а  передвижка  «Мир театр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репортажи: «Кошкин дом», «Новогодние развлечения», «Играем в сказк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ля родител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родителей: «Домашний кукольный театр», «Живые камни», «Расскажи детям сказку», буклеты, консультации, Разработки родительских собраний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едметно – развивающая сре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огащения предметно – развивающей среды в группе был разработан и реализован проект  с участием родителей «Сказка своими руками»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изготовлены  персонажи сказок и атрибуты к ним из разн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дети на основе готовых кукольных театров продолжают разыгрывать сказки, составлять интересные и необычные рассказы, меняя героев и обстанов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ы разные виды ши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4" descr="20190506_161054.jpg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Виды театров используемые в рабо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11280" y="1052640"/>
            <a:ext cx="331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чат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к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ьчик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фланелеграф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тюмирова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алоч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:\фото для гр №14\20190506_160600.jpg"/>
          <p:cNvPicPr/>
          <p:nvPr/>
        </p:nvPicPr>
        <p:blipFill>
          <a:blip r:embed="rId1"/>
          <a:stretch/>
        </p:blipFill>
        <p:spPr>
          <a:xfrm>
            <a:off x="3286080" y="114300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1285920" y="21420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D:\фото для гр №14\20190506_160324.jpg"/>
          <p:cNvPicPr/>
          <p:nvPr/>
        </p:nvPicPr>
        <p:blipFill>
          <a:blip r:embed="rId2"/>
          <a:stretch/>
        </p:blipFill>
        <p:spPr>
          <a:xfrm>
            <a:off x="1285920" y="3357720"/>
            <a:ext cx="2786040" cy="292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Users\ком\Desktop\20190506_160207.jpg"/>
          <p:cNvPicPr/>
          <p:nvPr/>
        </p:nvPicPr>
        <p:blipFill>
          <a:blip r:embed="rId3"/>
          <a:stretch/>
        </p:blipFill>
        <p:spPr>
          <a:xfrm>
            <a:off x="5643720" y="214200"/>
            <a:ext cx="2643120" cy="2714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ком\Desktop\20190506_160802.jpg"/>
          <p:cNvPicPr/>
          <p:nvPr/>
        </p:nvPicPr>
        <p:blipFill>
          <a:blip r:embed="rId4"/>
          <a:stretch/>
        </p:blipFill>
        <p:spPr>
          <a:xfrm>
            <a:off x="5572080" y="3357720"/>
            <a:ext cx="2857680" cy="307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28:46Z</dcterms:created>
  <dc:creator>Admin</dc:creator>
  <dc:description/>
  <dc:language>en-US</dc:language>
  <cp:lastModifiedBy>ком</cp:lastModifiedBy>
  <dcterms:modified xsi:type="dcterms:W3CDTF">2019-05-15T13:39:26Z</dcterms:modified>
  <cp:revision>70</cp:revision>
  <dc:subject/>
  <dc:title>МДОУ центр развития ребенка -детский сад № 63 «Аистенок» Комитет образования администрации города Тамбова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430000000000010243100207f6000400038000</vt:lpwstr>
  </property>
</Properties>
</file>