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525-FC25-404F-8183-0FCE1811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535-5A19-42F4-BBC7-650F5E8A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7EC-168C-4E34-BA6D-C64C5FBC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03F-2AFB-47CD-8A1B-FA41445B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68D-030F-44C5-9754-48C2ED99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00C-BC8A-4840-BF79-7B8C9D9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DAB-189C-4965-8CD4-050E368B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CC4-7972-47C8-A5C2-7F6A407D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80E-CC4C-4C1C-B5A9-E769566B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410-DF29-4242-A9A6-F45FB6C6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9F9-6F72-42B7-9DC6-92141EB8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603-3E27-41D7-BE4F-9183C046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989E-B0C5-4FFB-836B-4C80991F5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2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3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3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4.png"/><Relationship Id="rId29" Type="http://schemas.openxmlformats.org/officeDocument/2006/relationships/image" Target="../media/image13.png"/><Relationship Id="rId30" Type="http://schemas.openxmlformats.org/officeDocument/2006/relationships/image" Target="../media/image11.png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2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3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3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4.png"/><Relationship Id="rId29" Type="http://schemas.openxmlformats.org/officeDocument/2006/relationships/image" Target="../media/image13.png"/><Relationship Id="rId30" Type="http://schemas.openxmlformats.org/officeDocument/2006/relationships/image" Target="../media/image11.png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1692360" y="119700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1979640" y="2349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214720" y="928800"/>
            <a:ext cx="59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Занимательные задани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929680" y="535788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ванова Ф.В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У СОШ №4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43040" y="785520"/>
            <a:ext cx="750096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еди  9 одинаков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 вид  монет  есть  одна  фальшивая.  Она  легче  настоящей. Как  её  определить тремя  взвеши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з  гир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28480" y="999720"/>
            <a:ext cx="7257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стница  состоит  из  12  ступеней.  Юля  встала  на  6  ступеньку  снизу,  а  Дима  -  на  6  ступеньку  сверху.  На  одной  ступеньке  стоят  дети? Докажи отв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лабиринты для детей"/>
          <p:cNvPicPr/>
          <p:nvPr/>
        </p:nvPicPr>
        <p:blipFill>
          <a:blip r:embed="rId2"/>
          <a:stretch/>
        </p:blipFill>
        <p:spPr>
          <a:xfrm>
            <a:off x="1143000" y="214200"/>
            <a:ext cx="6500880" cy="6608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1857240" y="42876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л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3643200" y="50004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иш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5500800" y="500040"/>
            <a:ext cx="92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л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с палоч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ерите 4 палочки так, чтобы осталось 3 равных квад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Группа 14"/>
          <p:cNvGrpSpPr/>
          <p:nvPr/>
        </p:nvGrpSpPr>
        <p:grpSpPr>
          <a:xfrm>
            <a:off x="2500200" y="3429000"/>
            <a:ext cx="4572000" cy="1143000"/>
            <a:chOff x="2500200" y="3429000"/>
            <a:chExt cx="4572000" cy="1143000"/>
          </a:xfrm>
        </p:grpSpPr>
        <p:sp>
          <p:nvSpPr>
            <p:cNvPr id="157" name="Прямоугольник 9"/>
            <p:cNvSpPr/>
            <p:nvPr/>
          </p:nvSpPr>
          <p:spPr>
            <a:xfrm>
              <a:off x="2500200" y="3429000"/>
              <a:ext cx="914400" cy="1143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рямоугольник 10"/>
            <p:cNvSpPr/>
            <p:nvPr/>
          </p:nvSpPr>
          <p:spPr>
            <a:xfrm>
              <a:off x="3443400" y="3429000"/>
              <a:ext cx="972360" cy="1143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Прямоугольник 11"/>
            <p:cNvSpPr/>
            <p:nvPr/>
          </p:nvSpPr>
          <p:spPr>
            <a:xfrm>
              <a:off x="4416120" y="3429000"/>
              <a:ext cx="914400" cy="1143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12"/>
            <p:cNvSpPr/>
            <p:nvPr/>
          </p:nvSpPr>
          <p:spPr>
            <a:xfrm>
              <a:off x="5330520" y="3429000"/>
              <a:ext cx="914400" cy="1143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13"/>
            <p:cNvSpPr/>
            <p:nvPr/>
          </p:nvSpPr>
          <p:spPr>
            <a:xfrm>
              <a:off x="6157800" y="3429000"/>
              <a:ext cx="914400" cy="1143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5840" y="549000"/>
            <a:ext cx="885816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ша,   Игорь,   Боря   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ся   занимались  спортом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 -  плаванием,  другой  -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гом,  третий  -  прыжками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вёртый  -  коньками.  Кт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м  видом  спорта  занималс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 Вася  не  катался  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ьках,  Боря  не  плавал  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 катался  на  коньках,  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ша  бег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56840" y="274320"/>
            <a:ext cx="6929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 с палоч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ложите две палочки так, чтобы получилось 5 равных квадр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11"/>
          <p:cNvGrpSpPr/>
          <p:nvPr/>
        </p:nvGrpSpPr>
        <p:grpSpPr>
          <a:xfrm>
            <a:off x="3643200" y="3571920"/>
            <a:ext cx="2571840" cy="2143080"/>
            <a:chOff x="3643200" y="3571920"/>
            <a:chExt cx="2571840" cy="2143080"/>
          </a:xfrm>
        </p:grpSpPr>
        <p:sp>
          <p:nvSpPr>
            <p:cNvPr id="48" name="Прямоугольник 3"/>
            <p:cNvSpPr/>
            <p:nvPr/>
          </p:nvSpPr>
          <p:spPr>
            <a:xfrm>
              <a:off x="3643200" y="3571920"/>
              <a:ext cx="771480" cy="10206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оугольник 4"/>
            <p:cNvSpPr/>
            <p:nvPr/>
          </p:nvSpPr>
          <p:spPr>
            <a:xfrm>
              <a:off x="3643200" y="4694400"/>
              <a:ext cx="771480" cy="10206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оугольник 5"/>
            <p:cNvSpPr/>
            <p:nvPr/>
          </p:nvSpPr>
          <p:spPr>
            <a:xfrm>
              <a:off x="5443560" y="4694400"/>
              <a:ext cx="771480" cy="10206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рямоугольник 6"/>
            <p:cNvSpPr/>
            <p:nvPr/>
          </p:nvSpPr>
          <p:spPr>
            <a:xfrm>
              <a:off x="5443560" y="3571920"/>
              <a:ext cx="771480" cy="10206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рямая соединительная линия 8"/>
            <p:cNvSpPr/>
            <p:nvPr/>
          </p:nvSpPr>
          <p:spPr>
            <a:xfrm>
              <a:off x="4500360" y="4592520"/>
              <a:ext cx="942840" cy="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http://allforchildren.ru/ex/dif/dif01.gif"/>
          <p:cNvPicPr/>
          <p:nvPr/>
        </p:nvPicPr>
        <p:blipFill>
          <a:blip r:embed="rId1"/>
          <a:stretch/>
        </p:blipFill>
        <p:spPr>
          <a:xfrm>
            <a:off x="1571760" y="0"/>
            <a:ext cx="52149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6786720" y="0"/>
            <a:ext cx="235728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йдите отличия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14200" y="285840"/>
            <a:ext cx="8929800" cy="640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лабиринты для детей"/>
          <p:cNvPicPr/>
          <p:nvPr/>
        </p:nvPicPr>
        <p:blipFill>
          <a:blip r:embed="rId2"/>
          <a:stretch/>
        </p:blipFill>
        <p:spPr>
          <a:xfrm>
            <a:off x="1928880" y="285840"/>
            <a:ext cx="54291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57862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Нарисуйте недостающую фигу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071800" y="1508040"/>
            <a:ext cx="521496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олумбово яйц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71400" y="1599840"/>
            <a:ext cx="65005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 фигуру Чебура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:\картинки\Картинки с аним\c6aad6abc112037e33cf671aee1d382b[1].gif"/>
          <p:cNvPicPr/>
          <p:nvPr/>
        </p:nvPicPr>
        <p:blipFill>
          <a:blip r:embed="rId1"/>
          <a:stretch/>
        </p:blipFill>
        <p:spPr>
          <a:xfrm>
            <a:off x="3786120" y="2928960"/>
            <a:ext cx="2252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http://baby-scool.narod.ru/media/games/geometr/img/kolumb/kolumb_13.jpg"/>
          <p:cNvPicPr/>
          <p:nvPr/>
        </p:nvPicPr>
        <p:blipFill>
          <a:blip r:embed="rId2"/>
          <a:stretch/>
        </p:blipFill>
        <p:spPr>
          <a:xfrm>
            <a:off x="1857240" y="214200"/>
            <a:ext cx="5715000" cy="6215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928960" y="71424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лумбово  яйцо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4"/>
          <p:cNvSpPr/>
          <p:nvPr/>
        </p:nvSpPr>
        <p:spPr>
          <a:xfrm>
            <a:off x="0" y="0"/>
            <a:ext cx="9144000" cy="607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1584360" cy="1417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7"/>
          <p:cNvSpPr/>
          <p:nvPr/>
        </p:nvSpPr>
        <p:spPr>
          <a:xfrm>
            <a:off x="0" y="607212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Book Antiqua"/>
              </a:rPr>
              <a:t>Как тремя прямыми отделить кроликов от моркови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8000"/>
                </a:solidFill>
                <a:latin typeface="Book Antiqua"/>
              </a:rPr>
              <a:t>Задача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7786800" y="0"/>
            <a:ext cx="115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0" spc="-1" strike="noStrike">
                <a:solidFill>
                  <a:srgbClr val="ff0000"/>
                </a:solidFill>
                <a:latin typeface="Book Antiqua"/>
              </a:rPr>
              <a:t>?</a:t>
            </a:r>
            <a:endParaRPr b="0" i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23"/>
          <p:cNvGrpSpPr/>
          <p:nvPr/>
        </p:nvGrpSpPr>
        <p:grpSpPr>
          <a:xfrm>
            <a:off x="395280" y="714240"/>
            <a:ext cx="8569440" cy="5295960"/>
            <a:chOff x="395280" y="714240"/>
            <a:chExt cx="8569440" cy="5295960"/>
          </a:xfrm>
        </p:grpSpPr>
        <p:graphicFrame>
          <p:nvGraphicFramePr>
            <p:cNvPr id="76" name="Object 2"/>
            <p:cNvGraphicFramePr/>
            <p:nvPr/>
          </p:nvGraphicFramePr>
          <p:xfrm>
            <a:off x="395280" y="836280"/>
            <a:ext cx="180000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5280" y="836280"/>
                      <a:ext cx="180000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8" name="Группа 22"/>
            <p:cNvGrpSpPr/>
            <p:nvPr/>
          </p:nvGrpSpPr>
          <p:grpSpPr>
            <a:xfrm>
              <a:off x="468000" y="714240"/>
              <a:ext cx="8496720" cy="5295960"/>
              <a:chOff x="468000" y="714240"/>
              <a:chExt cx="8496720" cy="5295960"/>
            </a:xfrm>
          </p:grpSpPr>
          <p:graphicFrame>
            <p:nvGraphicFramePr>
              <p:cNvPr id="79" name="Object 4"/>
              <p:cNvGraphicFramePr/>
              <p:nvPr/>
            </p:nvGraphicFramePr>
            <p:xfrm>
              <a:off x="4284360" y="4003200"/>
              <a:ext cx="1727280" cy="1604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0" name="Object 4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284360" y="4003200"/>
                        <a:ext cx="1727280" cy="16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1" name="Picture 5" descr=""/>
              <p:cNvPicPr/>
              <p:nvPr/>
            </p:nvPicPr>
            <p:blipFill>
              <a:blip r:embed="rId6"/>
              <a:stretch/>
            </p:blipFill>
            <p:spPr>
              <a:xfrm>
                <a:off x="6227640" y="714240"/>
                <a:ext cx="1727280" cy="16048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82" name="Object 6"/>
              <p:cNvGraphicFramePr/>
              <p:nvPr/>
            </p:nvGraphicFramePr>
            <p:xfrm>
              <a:off x="468000" y="4227480"/>
              <a:ext cx="914400" cy="14137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3" name="Object 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68000" y="422748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4" name="Object 7"/>
              <p:cNvGraphicFramePr/>
              <p:nvPr/>
            </p:nvGraphicFramePr>
            <p:xfrm>
              <a:off x="2050560" y="3854880"/>
              <a:ext cx="914400" cy="14137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5" name="Object 7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050560" y="385488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6" name="Object 8"/>
              <p:cNvGraphicFramePr/>
              <p:nvPr/>
            </p:nvGraphicFramePr>
            <p:xfrm>
              <a:off x="4284360" y="2284560"/>
              <a:ext cx="914400" cy="1413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7" name="Object 8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284360" y="228456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" name="Object 9"/>
              <p:cNvGraphicFramePr/>
              <p:nvPr/>
            </p:nvGraphicFramePr>
            <p:xfrm>
              <a:off x="3419280" y="714240"/>
              <a:ext cx="914400" cy="14137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89" name="Object 9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419280" y="71424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" name="Object 10"/>
              <p:cNvGraphicFramePr/>
              <p:nvPr/>
            </p:nvGraphicFramePr>
            <p:xfrm>
              <a:off x="6948720" y="3180960"/>
              <a:ext cx="914400" cy="14137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1" name="Object 1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948720" y="318096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" name="Object 11"/>
              <p:cNvGraphicFramePr/>
              <p:nvPr/>
            </p:nvGraphicFramePr>
            <p:xfrm>
              <a:off x="7740720" y="3032640"/>
              <a:ext cx="914400" cy="1413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93" name="Object 11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740720" y="303264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4" name="Object 12"/>
              <p:cNvGraphicFramePr/>
              <p:nvPr/>
            </p:nvGraphicFramePr>
            <p:xfrm>
              <a:off x="6156360" y="4227480"/>
              <a:ext cx="914400" cy="141372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95" name="Object 12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156360" y="422748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6" name="Object 13"/>
              <p:cNvGraphicFramePr/>
              <p:nvPr/>
            </p:nvGraphicFramePr>
            <p:xfrm>
              <a:off x="7885440" y="4527360"/>
              <a:ext cx="914400" cy="14137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97" name="Object 13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885440" y="452736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8" name="Object 14"/>
              <p:cNvGraphicFramePr/>
              <p:nvPr/>
            </p:nvGraphicFramePr>
            <p:xfrm>
              <a:off x="5508720" y="2358720"/>
              <a:ext cx="1224000" cy="102960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99" name="Object 14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5508720" y="2358720"/>
                        <a:ext cx="1224000" cy="102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0" name="Object 15"/>
              <p:cNvGraphicFramePr/>
              <p:nvPr/>
            </p:nvGraphicFramePr>
            <p:xfrm>
              <a:off x="1763280" y="1986120"/>
              <a:ext cx="1439640" cy="121284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01" name="Object 15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1763280" y="1986120"/>
                        <a:ext cx="1439640" cy="121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2" name="Object 16"/>
              <p:cNvGraphicFramePr/>
              <p:nvPr/>
            </p:nvGraphicFramePr>
            <p:xfrm>
              <a:off x="2916000" y="4675680"/>
              <a:ext cx="1584360" cy="13345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03" name="Object 16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2916000" y="4675680"/>
                        <a:ext cx="1584360" cy="133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4" name="Picture 18" descr=""/>
              <p:cNvPicPr/>
              <p:nvPr/>
            </p:nvPicPr>
            <p:blipFill>
              <a:blip r:embed="rId29"/>
              <a:stretch/>
            </p:blipFill>
            <p:spPr>
              <a:xfrm>
                <a:off x="7740720" y="1986120"/>
                <a:ext cx="1224000" cy="102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25" descr=""/>
              <p:cNvPicPr/>
              <p:nvPr/>
            </p:nvPicPr>
            <p:blipFill>
              <a:blip r:embed="rId30"/>
              <a:stretch/>
            </p:blipFill>
            <p:spPr>
              <a:xfrm>
                <a:off x="4500360" y="789840"/>
                <a:ext cx="1727280" cy="160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" name="AutoShape 26">
            <a:hlinkClick r:id="rId3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24"/>
          <p:cNvSpPr/>
          <p:nvPr/>
        </p:nvSpPr>
        <p:spPr>
          <a:xfrm>
            <a:off x="0" y="0"/>
            <a:ext cx="9144000" cy="607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395280" y="836640"/>
          <a:ext cx="180036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180036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1584360" cy="14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4"/>
          <p:cNvGraphicFramePr/>
          <p:nvPr/>
        </p:nvGraphicFramePr>
        <p:xfrm>
          <a:off x="4284720" y="4076640"/>
          <a:ext cx="1727280" cy="154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4076640"/>
                    <a:ext cx="172728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5" descr=""/>
          <p:cNvPicPr/>
          <p:nvPr/>
        </p:nvPicPr>
        <p:blipFill>
          <a:blip r:embed="rId6"/>
          <a:stretch/>
        </p:blipFill>
        <p:spPr>
          <a:xfrm>
            <a:off x="6227640" y="907920"/>
            <a:ext cx="1727280" cy="15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6"/>
          <p:cNvGraphicFramePr/>
          <p:nvPr/>
        </p:nvGraphicFramePr>
        <p:xfrm>
          <a:off x="468360" y="4292640"/>
          <a:ext cx="914400" cy="13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4292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7"/>
          <p:cNvGraphicFramePr/>
          <p:nvPr/>
        </p:nvGraphicFramePr>
        <p:xfrm>
          <a:off x="2050920" y="3933720"/>
          <a:ext cx="914400" cy="136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393372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8"/>
          <p:cNvGraphicFramePr/>
          <p:nvPr/>
        </p:nvGraphicFramePr>
        <p:xfrm>
          <a:off x="4284720" y="2421000"/>
          <a:ext cx="914400" cy="13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242100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9"/>
          <p:cNvGraphicFramePr/>
          <p:nvPr/>
        </p:nvGraphicFramePr>
        <p:xfrm>
          <a:off x="3419640" y="907920"/>
          <a:ext cx="914400" cy="136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19640" y="90792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6948360" y="3284640"/>
          <a:ext cx="914400" cy="1361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3284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1"/>
          <p:cNvGraphicFramePr/>
          <p:nvPr/>
        </p:nvGraphicFramePr>
        <p:xfrm>
          <a:off x="7740720" y="3141720"/>
          <a:ext cx="914400" cy="1361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5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314172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2"/>
          <p:cNvGraphicFramePr/>
          <p:nvPr/>
        </p:nvGraphicFramePr>
        <p:xfrm>
          <a:off x="6156360" y="4292640"/>
          <a:ext cx="914400" cy="1361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7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56360" y="4292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3"/>
          <p:cNvGraphicFramePr/>
          <p:nvPr/>
        </p:nvGraphicFramePr>
        <p:xfrm>
          <a:off x="7885080" y="4581360"/>
          <a:ext cx="914400" cy="1362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9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85080" y="458136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4"/>
          <p:cNvGraphicFramePr/>
          <p:nvPr/>
        </p:nvGraphicFramePr>
        <p:xfrm>
          <a:off x="5508720" y="2492280"/>
          <a:ext cx="1224000" cy="992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1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08720" y="2492280"/>
                    <a:ext cx="12240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5"/>
          <p:cNvGraphicFramePr/>
          <p:nvPr/>
        </p:nvGraphicFramePr>
        <p:xfrm>
          <a:off x="1763640" y="2133720"/>
          <a:ext cx="1440000" cy="1168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3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63640" y="2133720"/>
                    <a:ext cx="144000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6"/>
          <p:cNvGraphicFramePr/>
          <p:nvPr/>
        </p:nvGraphicFramePr>
        <p:xfrm>
          <a:off x="2916360" y="4724280"/>
          <a:ext cx="1584360" cy="1285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5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16360" y="4724280"/>
                    <a:ext cx="15843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17"/>
          <p:cNvSpPr/>
          <p:nvPr/>
        </p:nvSpPr>
        <p:spPr>
          <a:xfrm>
            <a:off x="0" y="600084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Book Antiqua"/>
              </a:rPr>
              <a:t>Как тремя прямыми отделить кроликов от моркови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9"/>
          <a:stretch/>
        </p:blipFill>
        <p:spPr>
          <a:xfrm>
            <a:off x="7740720" y="2133720"/>
            <a:ext cx="1224000" cy="992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241128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 Antiqua"/>
              </a:rPr>
              <a:t>Ответ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2916000" y="1268280"/>
            <a:ext cx="431640" cy="475308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4427640" y="1125360"/>
            <a:ext cx="1873080" cy="48247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 flipH="1">
            <a:off x="610920" y="2997360"/>
            <a:ext cx="8281800" cy="143964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5" descr=""/>
          <p:cNvPicPr/>
          <p:nvPr/>
        </p:nvPicPr>
        <p:blipFill>
          <a:blip r:embed="rId30"/>
          <a:stretch/>
        </p:blipFill>
        <p:spPr>
          <a:xfrm>
            <a:off x="4500720" y="981000"/>
            <a:ext cx="1726920" cy="15462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26">
            <a:hlinkClick r:id="rId3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Фаина</cp:lastModifiedBy>
  <dcterms:modified xsi:type="dcterms:W3CDTF">2019-05-15T18:51:08Z</dcterms:modified>
  <cp:revision>36</cp:revision>
  <dc:subject/>
  <dc:title>Слайд 1</dc:title>
</cp:coreProperties>
</file>