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-360" y="81252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dt" idx="22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1AE73-14C2-48B3-B60F-93BD1DB901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12010-A279-4668-B21F-9144CA0575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95F58-E36F-4ADF-8BFA-F00879454B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0F3C4-442F-455F-B274-2AC5FC675C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7BA49-4FB2-4320-AEC9-9FB8DC9F2E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764DC-644D-47D2-8AA0-87FA6D628C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B62C1-6220-47B0-AAC7-A125F65BD1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C8C90-91CF-4723-92D0-CC698441D7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74A65-58D1-40AA-85E4-47FF5BD6F0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907-74F3-4B96-872C-7D9552E8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4C4-2C7C-47E3-82A9-900EB591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2D9-F91D-4FD3-9B5F-6140F5C9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665-DE71-4AD0-BEC5-A1EC9E6E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95AE-3476-498D-A936-60C2ECFC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584A-F6BC-4F82-8C85-5E029BE3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5F26-49A7-44BE-A981-E5B239CB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B102-9744-4E30-AE8E-A379EC49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B152-80B5-43BB-A76C-ABE212C6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C4DE-6405-47A4-B0F4-29D913EB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1145-7198-4192-9233-F4A822BE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747-57AA-4D54-B445-BDDAFA4C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F3C2-0A28-4515-BB28-16A91849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508A-DAD2-4C2B-81F0-FB974A5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A181-DCD5-4202-8C89-20D33201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0AFE-C5AA-44B8-9070-40DA6CAF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CDC-D5F4-4633-B93D-2BDFDA03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94E7-37CE-437C-943E-6F719577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6E957-4788-466F-B419-D0A54521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31DF-0560-4697-9CD6-96C4CD00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D2FF-AD77-4DAB-9F21-0E931FFC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38AC-252C-4D8D-8AA5-1CC10B2C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4D2-3251-48EB-AD2F-F7BBFBA6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1A25-B415-40F5-A51A-D1C33C66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826B-254C-47D0-B616-40E8581D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DD12-F5D5-47D4-9F88-3800D672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7DF8-6403-4C4B-9F53-8EE88D05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6E9E-B381-4F8F-A8EE-EFC7532C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3E09-8DBB-4966-B594-DBC13D65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983D-5E78-48E0-B008-A4AA721D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3002-12A2-431E-8224-742FB347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C151-D4F6-4063-A66B-00E84C02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241D-A08F-4ED6-88CB-DA0F91E7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381-7822-4328-97FD-D6E992A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2F63-8549-4BE8-A19F-89AA80CE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37D3-4511-4597-9FBE-0A1F9A00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7E97-2D73-4759-8663-D4F8355A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B3DE-B796-4844-ACE5-C11F08C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5B993-B153-47CE-893D-47E01A6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F934-0230-41B4-A915-C58F934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EB38F-926D-4A40-8C59-BA2F85AE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0A151-4359-4630-BA6E-EF47EA9B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C5ECC-FFF0-4BD0-827F-5B8D14EA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65F9D-4EC6-4905-8E0D-A2D07DCF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159-8298-4AAC-AA76-B860F66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58D6-01E5-472F-8AAC-C2124665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8A909-F38B-440A-8260-B16F996E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49AB-1C57-4ECE-AA37-2CCB9ACB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6FD6B-D54D-4A90-BC7D-2033814E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C93E-B1CB-4BBB-BE81-C0DF7CEF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880E1-813F-468A-8531-B615642E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9F65D-86A4-4233-92D6-06CDDC1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5A08-BAAA-47C9-A6FF-EDEDF96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7A13-2B6B-41B7-9BC2-E9CEB309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69551-277B-451B-A5CD-B76D1EFF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50D-15FE-4C6F-A877-C2AFB007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31CAC-9BB9-46C8-B6AA-E9DAEE01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129FC-8096-4B58-A648-816EF4B1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34F78-5E1E-4217-932C-A06328A0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0BB23-EFB2-4A22-B8DE-94EFBBBE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357A5-D217-48D6-AB43-95566927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5D53C-D7A5-4C16-854B-800AF5A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86385-71C6-4AD2-9799-23E08CA6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65EB9-88CF-4F36-9AC3-DA2B2F02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33FBA-A6AA-4F30-BFB9-A16BAC4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41199-2943-4AEC-955F-C01144B1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567-C25A-4AF1-A79B-09856AC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B817-DADB-4EAD-93BB-7D62C0B6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864A-DC61-4A96-8BB4-761FC6C5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9573E-EACD-49CB-965C-6C7BCE99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645BF-C411-4C38-9CF4-57E8FBB5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1FCEA-5441-4A4D-87EC-A919FEE4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BC3C9-A05D-47ED-830E-E7FB2414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B76CC-7D85-43C4-ADFB-9723A921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4B635-7D9B-4FCA-9D7D-D178B654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73539-7AC4-44D9-BB36-BDCF54EA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3BF98-14B2-48DC-9782-44EA4E4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2AB-ECE2-4018-B738-217C016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91175-DED2-4C9F-A5EC-A7B7497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13215-A267-407D-9FCF-391B0D43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4668C-C850-4E7E-9B70-9BBBE519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A14DD-2F12-414F-A548-1E8366A6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27E68-D628-4EE5-BBED-87ABB0BE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083-861E-4A8E-A34C-887295A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F31FF8-080B-420C-8FEE-4FD3EA01BF5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57200" y="476280"/>
            <a:ext cx="9167760" cy="6057720"/>
            <a:chOff x="457200" y="476280"/>
            <a:chExt cx="9167760" cy="605772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60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98600" y="515880"/>
              <a:ext cx="9083520" cy="59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A56B35-06FB-49AB-9736-7BFAEEAC6282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57200" y="476280"/>
            <a:ext cx="9167760" cy="3436920"/>
            <a:chOff x="457200" y="476280"/>
            <a:chExt cx="9167760" cy="343692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07960" y="523800"/>
              <a:ext cx="9064800" cy="33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907AA0-7C55-4109-AD0E-8C9A88467F02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57200" y="476280"/>
            <a:ext cx="9167760" cy="4797360"/>
            <a:chOff x="457200" y="476280"/>
            <a:chExt cx="9167760" cy="479736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90680" y="507960"/>
              <a:ext cx="9099360" cy="47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1375AA-CF12-40FB-A537-A95D0A0DE5EA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F08B61-C133-4711-B4A1-734CB3F2394F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7056360" y="477720"/>
            <a:ext cx="2562480" cy="4788000"/>
          </a:xfrm>
          <a:custGeom>
            <a:avLst/>
            <a:gdLst>
              <a:gd name="textAreaLeft" fmla="*/ 0 w 2562480"/>
              <a:gd name="textAreaRight" fmla="*/ 2541960 w 2562480"/>
              <a:gd name="textAreaTop" fmla="*/ 0 h 4788000"/>
              <a:gd name="textAreaBottom" fmla="*/ 4788360 h 4788000"/>
            </a:gdLst>
            <a:ahLst/>
            <a:rect l="textAreaLeft" t="textAreaTop" r="textAreaRight" b="textAreaBottom"/>
            <a:pathLst>
              <a:path w="2562716" h="4787794">
                <a:moveTo>
                  <a:pt x="0" y="0"/>
                </a:moveTo>
                <a:lnTo>
                  <a:pt x="2492293" y="0"/>
                </a:lnTo>
                <a:lnTo>
                  <a:pt x="2492293" y="0"/>
                </a:lnTo>
                <a:arcTo wR="70423" hR="70423" stAng="-5400000" swAng="5400000"/>
                <a:lnTo>
                  <a:pt x="2562716" y="4787794"/>
                </a:lnTo>
                <a:lnTo>
                  <a:pt x="0" y="4787794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7C3D3F-3769-4CB4-B28C-7CD5EEE7DA29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Скругленный прямоугольник 6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Скругленный прямоугольник 8"/>
          <p:cNvGrpSpPr/>
          <p:nvPr/>
        </p:nvGrpSpPr>
        <p:grpSpPr>
          <a:xfrm>
            <a:off x="457200" y="476280"/>
            <a:ext cx="9167760" cy="6057720"/>
            <a:chOff x="457200" y="476280"/>
            <a:chExt cx="9167760" cy="6057720"/>
          </a:xfrm>
        </p:grpSpPr>
        <p:pic>
          <p:nvPicPr>
            <p:cNvPr id="26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60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98600" y="515880"/>
              <a:ext cx="9083520" cy="59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4462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71665E-103C-4A1B-B7FC-067C8AD884C4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248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Verdana"/>
              </a:rPr>
              <a:t>Актуальность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2920" y="2087280"/>
            <a:ext cx="9070920" cy="40654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8000" bIns="50400" anchor="t">
            <a:normAutofit/>
          </a:bodyPr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здоровье школьников относится к приоритетным направлениям в сфере образов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увеличение числа учеников, имеющих различные функциональные отклонения в состоянии здоровь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снижение двигательной активности школьник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физическая культура может компенсировать отрицательные я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76000" y="57600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4120" bIns="50400" anchor="t">
            <a:normAutofit/>
          </a:bodyPr>
          <a:p>
            <a:pPr marL="343080" indent="-339840">
              <a:lnSpc>
                <a:spcPct val="94000"/>
              </a:lnSpc>
              <a:spcBef>
                <a:spcPts val="275"/>
              </a:spcBef>
              <a:spcAft>
                <a:spcPts val="153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Здоровьесберегающие образовательные технологии –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это многие из знакомых большинству педагогов психолого-педагогические приемы, методы, технологии, которые не наносят прямого или косвенного вреда здоровью учащих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484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Основные мероприятия здоровьесберегающей деятельности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8000" bIns="50400" anchor="t">
            <a:normAutofit/>
          </a:bodyPr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организация физкультурно-оздоровительных и спортивно-массовых мероприяти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реализация системы просветительской работы с учениками по формированию у учащихся культуры отношения к своему здоровь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повышение уровня образованности в области физической культуры, спорта и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формирование у школьников устойчивого интереса и потребности в регулярных занятиях физической культурой и спортом и навыков здорового образа жиз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2920" y="291600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1240" bIns="50400" anchor="b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доровьесберегающие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на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ках физической культу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Образовательная направленнос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9280" y="1590480"/>
            <a:ext cx="5759280" cy="43844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8000" bIns="50400" anchor="t">
            <a:normAutofit/>
          </a:bodyPr>
          <a:p>
            <a:pPr marL="431640" indent="-320400">
              <a:lnSpc>
                <a:spcPct val="84000"/>
              </a:lnSpc>
              <a:spcBef>
                <a:spcPts val="587"/>
              </a:spcBef>
              <a:spcAft>
                <a:spcPts val="2112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Обучение по темам: Лёгкая атлетика, лыжный спорт, баскетбол, волейбол, футбол, гимнастик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84000"/>
              </a:lnSpc>
              <a:spcBef>
                <a:spcPts val="587"/>
              </a:spcBef>
              <a:spcAft>
                <a:spcPts val="2112"/>
              </a:spcAft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использование принципа наглядности, постепенности, доступности нагрузки с учётом возрастных особенностей учащихс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84000"/>
              </a:lnSpc>
              <a:spcBef>
                <a:spcPts val="587"/>
              </a:spcBef>
              <a:spcAft>
                <a:spcPts val="2112"/>
              </a:spcAft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использование методики чередования интенсивности и релаксации в обуче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84000"/>
              </a:lnSpc>
              <a:spcBef>
                <a:spcPts val="587"/>
              </a:spcBef>
              <a:spcAft>
                <a:spcPts val="2112"/>
              </a:spcAft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учёт физической подготовленности детей и развития физических качест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90000"/>
              </a:lnSpc>
              <a:spcBef>
                <a:spcPts val="587"/>
              </a:spcBef>
              <a:spcAft>
                <a:spcPts val="2112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576360" y="1871640"/>
            <a:ext cx="3240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3080" y="-1447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Оздоровительная направленнос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08000" y="154764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0" bIns="50400" anchor="t">
            <a:normAutofit/>
          </a:bodyPr>
          <a:p>
            <a:pPr marL="431640" indent="-320400">
              <a:lnSpc>
                <a:spcPct val="84000"/>
              </a:lnSpc>
              <a:spcBef>
                <a:spcPts val="275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Защита от влияния неблагоприятных условий внешней среды, а также ТБ, проверка инвентаря и оборудов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131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Укрепление здоровья (развитие и укрепление дыхательной, сердечно-сосудистой, мышечной, нервной  систем). Создание условий для нормальной работы всех органов и систем организм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131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Повышение сопротивляемости организма к неблагоприятным условиям путём закалив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131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Взаимосвязь с медицинским персоналом и использование их методи-ческих рекомендаций (распределение школьников на медицинские  группы: основная, подготовительная, специальная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65000"/>
              </a:lnSpc>
              <a:spcBef>
                <a:spcPts val="275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Воспитательная направленнос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18920" y="1763280"/>
            <a:ext cx="8497800" cy="45896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50400" bIns="50400" anchor="t">
            <a:normAutofit/>
          </a:bodyPr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Учет психологических особенностей учащихся согласно их возрастным особенностям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создание эмоционально- положительного фона в обучении и общении (спортивные, подвижные игры и игровые упражнения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стимулирование мотивации на успешность в обучении, оказание поддержки и помощи ребенку в выполнении упражне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развитие речи, психических процессов (восприятие, внимание, представление, мышление, память, воображение), а также умственных способностей (наблюдение, сравнение, обобщение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получение знаний в различных видах 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31640" y="971280"/>
            <a:ext cx="9071280" cy="57243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35280" bIns="50400" anchor="t">
            <a:normAutofit/>
          </a:bodyPr>
          <a:p>
            <a:pPr marL="343080" indent="-339840" algn="ctr">
              <a:spcBef>
                <a:spcPts val="275"/>
              </a:spcBef>
              <a:spcAft>
                <a:spcPts val="153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Здоровьесберегающие технологии, должны, несомненно, использоваться в процессе оздоровления школьник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5:51:26Z</dcterms:created>
  <dc:creator>Евгения Косенковкина</dc:creator>
  <dc:description/>
  <dc:language>en-US</dc:language>
  <cp:lastModifiedBy>User</cp:lastModifiedBy>
  <dcterms:modified xsi:type="dcterms:W3CDTF">2019-05-15T16:08:17Z</dcterms:modified>
  <cp:revision>2</cp:revision>
  <dc:subject/>
  <dc:title>Здоровьесберегающие технологии на уроках физической культуры</dc:title>
</cp:coreProperties>
</file>