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-360" y="81252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dt" idx="22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3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24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B96F8-9B2D-4BC7-B4C8-C7DB384E4A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1E110-AF1C-4B81-A64D-0005ACECA5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64B00-2B74-441A-AE5C-545096D1C7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8565D-CBA7-471D-A160-99A2FE382F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EC91A-391B-4767-AE53-D3E2DD8203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EBF7E-5089-4D34-8D85-A26F75B619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CE73E-5D7E-4398-8368-29A56353F5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87B5F-6A8B-47BE-B264-84576C76FC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2777D-6E59-4941-B694-4AF785E5C8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0" y="81288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785A-051A-47B7-9F24-CDB06377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3723-2739-4E39-9B3A-06232E8E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8F1-3E72-4CD9-803F-D3CB6961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04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5532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3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04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5532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EF4-A2E3-4ADF-B1FA-47D4862F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B44F-3FA4-463D-B12D-26889B06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6A22-BBE4-4578-AF59-8BE75E51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E29F-7F0E-4E06-A693-D8122D15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7E47-E446-4622-9865-C594F993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2771-4A24-488A-BDAF-53496C17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53680" y="5495760"/>
            <a:ext cx="902340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2CDE-9865-47BB-AFDF-F23F3C1E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3138-16E3-4BAB-8E0A-4272CED0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F87E-2C42-45F8-AF04-FEDA8B13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4FEF-3560-48FE-BC79-7BC92B37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526C-310E-4D32-9B95-C13A2127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A29C-29FB-4C24-A9C7-770BAB0F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FB1F-A1B4-4290-8FC1-CE80BF54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04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5532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53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04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5532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2746-884F-4D1A-8589-0DC0DB4A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8F804-46B8-43C1-B7D4-EBC5770A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7D288-8BDF-4373-A97E-AC02DB3E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D045-4C07-467B-9608-A4055821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05C54-EB57-4918-96FC-9B96E9FC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2D0F3-9809-4E9F-8ED2-0B7E91E5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C289-5838-4633-B10F-3C9DE428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53680" y="5495760"/>
            <a:ext cx="902340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6883B-A61B-4FF7-A169-D45D0A94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BD3C6-B29F-4296-B309-372FC232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EA4DE-A0A5-4E82-8E47-7DF4C1DC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89C29-B63B-4C0B-8B43-03731AD7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73553-76C7-42E7-AFAA-506869D8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F654E-4926-41F7-8B1D-0D420FA1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04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65532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53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04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65532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19E7D-FF76-4C8E-9428-A77A0BA9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BF926-04B7-47BD-ABEC-C0990C12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6DEF6-02FE-4777-B47C-1B2FCC36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A7DC2-A67B-4D0E-835B-A784C0C9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073C-ADC4-4657-B19A-51605624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D56EF-0891-4EBC-A7DA-D7A8825C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9CD5E-21FC-46CE-8785-D08CB176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53680" y="5495760"/>
            <a:ext cx="902340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648B8-BFC1-4018-BE66-64F4B75E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77E48-E52F-439C-A106-21426BDF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3EEF5-61B3-44FD-A39B-FA41A17A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112BF-49ED-4CDA-AD38-A11CCDA9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E60E0-9DC5-42B7-A8C0-136FEAC9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6A071-18E9-4C65-BEF6-DAECE026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04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5532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53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04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65532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C7F84-1A6D-4F66-AC3B-64AF7805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5D55A-8B23-4FB8-8FC2-AD61CD40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D94-38BE-4693-A065-C7FCDE17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43BE9-D676-4503-B71F-CC84B41E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6B40D-6B24-48E3-937A-64C2EF2D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7F40F-243C-4BB0-A4AD-FC5567FB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4A64B-92D7-4EAD-AE6A-7B410255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553680" y="5495760"/>
            <a:ext cx="902340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73246-7A9D-463C-BC4F-057C93DC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7E23E-3397-43A1-B3E1-396ABDD1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4F5FA-F8B2-41A4-B065-B42DC322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2415D-1AC6-4F7C-9036-FC37D295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6FF0F-E14D-489B-A6F8-C62F710F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0C39D-793A-4E52-BD81-80A88D72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53680" y="5495760"/>
            <a:ext cx="902340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F6D-2ED9-4FA2-8E71-D055E898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04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5532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53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04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65532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6EA77-3040-4D11-A4C7-17C5277A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8A139-0426-46AF-9F32-255A9036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EAA16-2E5F-40A4-B139-E4A3AD62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F4E60-9AF4-4919-8E77-E40C11C2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4B73E-3082-4E7D-A2E9-22C886E3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DE1B5-1825-4DDE-B3B8-C311EA08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53680" y="5495760"/>
            <a:ext cx="902340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17D2C-EBA9-4F77-B61B-89867E8E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1AB53-A862-40A5-939E-0AC2A3C6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07929-49D9-4B65-8C97-0BC13FFB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25312-75FC-41FB-854A-54B2FC54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D81-3CF3-42C5-9305-5816667E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A135F-D14F-4C81-8E14-31B7F6B5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7D894-0CF1-41CC-8DEE-0EF19F35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04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65532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53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04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65532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203CE-6515-4528-BEE7-2AC7A947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07EA5-433F-44D1-945B-EDD8D153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3B2A2-6963-4FB4-9D7F-BF224431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65F1D-00C6-46F7-954F-6DD60339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D36C6-CCBB-4FB3-B9D9-0AC8A65C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CAB20-A6F3-46F7-B257-6AB4D649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553680" y="5495760"/>
            <a:ext cx="9023400" cy="53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0F30D-766C-4B7F-B3BD-95E3DD09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8E89B-21FC-414B-B81F-A755F14A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3A1-3857-4298-B007-E5921E11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20329-1ACF-490E-AF15-EE88D181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8E6E3-6E40-4237-9180-926A2DD4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16948-7F26-4863-87DA-0F29EEF9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177520" y="299520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E6976-7F30-4E22-9529-236DEFC9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60468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655320" y="58392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53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60468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655320" y="2995200"/>
            <a:ext cx="29052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ACCC1-3AA4-45FA-B653-7C09E102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368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7520" y="583920"/>
            <a:ext cx="440316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3680" y="2995200"/>
            <a:ext cx="9023400" cy="22017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6BA7-5D4E-4436-9725-0B210268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06DC3F-8E02-4F65-B5A2-39887FD26CD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6"/>
          <p:cNvSpPr/>
          <p:nvPr/>
        </p:nvSpPr>
        <p:spPr>
          <a:xfrm>
            <a:off x="336600" y="363600"/>
            <a:ext cx="9405720" cy="68292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Скругленный прямоугольник 8"/>
          <p:cNvGrpSpPr/>
          <p:nvPr/>
        </p:nvGrpSpPr>
        <p:grpSpPr>
          <a:xfrm>
            <a:off x="457200" y="476280"/>
            <a:ext cx="9167760" cy="6057720"/>
            <a:chOff x="457200" y="476280"/>
            <a:chExt cx="9167760" cy="6057720"/>
          </a:xfrm>
        </p:grpSpPr>
        <p:pic>
          <p:nvPicPr>
            <p:cNvPr id="4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57200" y="476280"/>
              <a:ext cx="9167760" cy="60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98600" y="515880"/>
              <a:ext cx="9083520" cy="59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-22068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20016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28600" indent="-1998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09760" indent="-20016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161960" y="673740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683400" y="6737400"/>
            <a:ext cx="2519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202680" y="6737400"/>
            <a:ext cx="5047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7B148D-6518-4B7B-959B-9B74895C700C}" type="slidenum">
              <a:rPr b="0" lang="ru-RU" sz="11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9"/>
          <p:cNvSpPr/>
          <p:nvPr/>
        </p:nvSpPr>
        <p:spPr>
          <a:xfrm>
            <a:off x="336600" y="363600"/>
            <a:ext cx="9405720" cy="68292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Скругленный прямоугольник 10"/>
          <p:cNvGrpSpPr/>
          <p:nvPr/>
        </p:nvGrpSpPr>
        <p:grpSpPr>
          <a:xfrm>
            <a:off x="457200" y="476280"/>
            <a:ext cx="9167760" cy="3436920"/>
            <a:chOff x="457200" y="476280"/>
            <a:chExt cx="9167760" cy="3436920"/>
          </a:xfrm>
        </p:grpSpPr>
        <p:pic>
          <p:nvPicPr>
            <p:cNvPr id="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57200" y="476280"/>
              <a:ext cx="9167760" cy="34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507960" y="523800"/>
              <a:ext cx="9064800" cy="33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-22068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20016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28600" indent="-1998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09760" indent="-20016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161960" y="673740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683400" y="6737400"/>
            <a:ext cx="2519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9202680" y="6737400"/>
            <a:ext cx="5047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D76187-7187-4E54-820A-7991C9C1BC65}" type="slidenum">
              <a:rPr b="0" lang="ru-RU" sz="11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9"/>
          <p:cNvSpPr/>
          <p:nvPr/>
        </p:nvSpPr>
        <p:spPr>
          <a:xfrm>
            <a:off x="336600" y="363600"/>
            <a:ext cx="9405720" cy="68292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Скругленный прямоугольник 10"/>
          <p:cNvGrpSpPr/>
          <p:nvPr/>
        </p:nvGrpSpPr>
        <p:grpSpPr>
          <a:xfrm>
            <a:off x="457200" y="476280"/>
            <a:ext cx="9167760" cy="4797360"/>
            <a:chOff x="457200" y="476280"/>
            <a:chExt cx="9167760" cy="4797360"/>
          </a:xfrm>
        </p:grpSpPr>
        <p:pic>
          <p:nvPicPr>
            <p:cNvPr id="1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57200" y="476280"/>
              <a:ext cx="916776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90680" y="507960"/>
              <a:ext cx="9099360" cy="47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-22068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20016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28600" indent="-1998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09760" indent="-20016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161960" y="673740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683400" y="6737400"/>
            <a:ext cx="2519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9202680" y="6737400"/>
            <a:ext cx="5047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BD8E69-6DA9-4E2F-A25F-4CA048A0A100}" type="slidenum">
              <a:rPr b="0" lang="ru-RU" sz="11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кругленный прямоугольник 9"/>
          <p:cNvSpPr/>
          <p:nvPr/>
        </p:nvSpPr>
        <p:spPr>
          <a:xfrm>
            <a:off x="336600" y="363600"/>
            <a:ext cx="9405720" cy="68292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-22068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20016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28600" indent="-1998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09760" indent="-20016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161960" y="673740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6683400" y="6737400"/>
            <a:ext cx="2519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202680" y="6737400"/>
            <a:ext cx="5047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3A85EC-3AF1-4C9F-A482-DE4EEC4E8E91}" type="slidenum">
              <a:rPr b="0" lang="ru-RU" sz="11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Скругленный прямоугольник 9"/>
          <p:cNvSpPr/>
          <p:nvPr/>
        </p:nvSpPr>
        <p:spPr>
          <a:xfrm>
            <a:off x="336600" y="363600"/>
            <a:ext cx="9405720" cy="68292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с одним скругленным углом 10"/>
          <p:cNvSpPr/>
          <p:nvPr/>
        </p:nvSpPr>
        <p:spPr>
          <a:xfrm>
            <a:off x="7056360" y="477720"/>
            <a:ext cx="2562480" cy="4788000"/>
          </a:xfrm>
          <a:custGeom>
            <a:avLst/>
            <a:gdLst>
              <a:gd name="textAreaLeft" fmla="*/ 0 w 2562480"/>
              <a:gd name="textAreaRight" fmla="*/ 2541960 w 2562480"/>
              <a:gd name="textAreaTop" fmla="*/ 0 h 4788000"/>
              <a:gd name="textAreaBottom" fmla="*/ 4788360 h 4788000"/>
            </a:gdLst>
            <a:ahLst/>
            <a:rect l="textAreaLeft" t="textAreaTop" r="textAreaRight" b="textAreaBottom"/>
            <a:pathLst>
              <a:path w="2562716" h="4787794">
                <a:moveTo>
                  <a:pt x="0" y="0"/>
                </a:moveTo>
                <a:lnTo>
                  <a:pt x="2492293" y="0"/>
                </a:lnTo>
                <a:lnTo>
                  <a:pt x="2492293" y="0"/>
                </a:lnTo>
                <a:arcTo wR="70423" hR="70423" stAng="-5400000" swAng="5400000"/>
                <a:lnTo>
                  <a:pt x="2562716" y="4787794"/>
                </a:lnTo>
                <a:lnTo>
                  <a:pt x="0" y="4787794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-22068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20016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28600" indent="-1998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09760" indent="-20016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161960" y="673740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683400" y="6737400"/>
            <a:ext cx="2519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202680" y="6737400"/>
            <a:ext cx="5047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C2D853-F93F-4725-A163-18153407354E}" type="slidenum">
              <a:rPr b="0" lang="ru-RU" sz="11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Скругленный прямоугольник 6"/>
          <p:cNvSpPr/>
          <p:nvPr/>
        </p:nvSpPr>
        <p:spPr>
          <a:xfrm>
            <a:off x="336600" y="363600"/>
            <a:ext cx="9405720" cy="68292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Скругленный прямоугольник 8"/>
          <p:cNvGrpSpPr/>
          <p:nvPr/>
        </p:nvGrpSpPr>
        <p:grpSpPr>
          <a:xfrm>
            <a:off x="457200" y="476280"/>
            <a:ext cx="9167760" cy="6057720"/>
            <a:chOff x="457200" y="476280"/>
            <a:chExt cx="9167760" cy="6057720"/>
          </a:xfrm>
        </p:grpSpPr>
        <p:pic>
          <p:nvPicPr>
            <p:cNvPr id="26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57200" y="476280"/>
              <a:ext cx="9167760" cy="60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98600" y="515880"/>
              <a:ext cx="9083520" cy="59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53680" y="5495760"/>
            <a:ext cx="9023400" cy="1159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553680" y="583920"/>
            <a:ext cx="9023400" cy="46162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00800" bIns="50400" anchor="t">
            <a:normAutofit/>
          </a:bodyPr>
          <a:p>
            <a:pPr marL="291960" indent="-2919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3360" indent="-22068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20016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28600" indent="-1998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09760" indent="-20016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09760" indent="-20016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4462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8CB00A-2A1B-47E1-930A-7704FC6C171D}" type="slidenum">
              <a:rPr b="0" lang="ru-RU" sz="11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248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Verdana"/>
              </a:rPr>
              <a:t>Актуальность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2920" y="2087280"/>
            <a:ext cx="9070920" cy="406548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8000" bIns="50400" anchor="t">
            <a:normAutofit/>
          </a:bodyPr>
          <a:p>
            <a:pPr marL="428760" indent="-324000">
              <a:lnSpc>
                <a:spcPct val="94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здоровье школьников относится к приоритетным направлениям в сфере образов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8760" indent="-324000">
              <a:lnSpc>
                <a:spcPct val="94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увеличение числа учеников, имеющих различные функциональные отклонения в состоянии здоровь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8760" indent="-324000">
              <a:lnSpc>
                <a:spcPct val="94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снижение двигательной активности школьник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8760" indent="-324000">
              <a:lnSpc>
                <a:spcPct val="94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физическая культура может компенсировать отрицательные яв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576000" y="57600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24120" bIns="50400" anchor="t">
            <a:normAutofit/>
          </a:bodyPr>
          <a:p>
            <a:pPr marL="343080" indent="-339840">
              <a:lnSpc>
                <a:spcPct val="94000"/>
              </a:lnSpc>
              <a:spcBef>
                <a:spcPts val="275"/>
              </a:spcBef>
              <a:spcAft>
                <a:spcPts val="153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Здоровьесберегающие образовательные технологии –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</a:rPr>
              <a:t>это многие из знакомых большинству педагогов психолого-педагогические приемы, методы, технологии, которые не наносят прямого или косвенного вреда здоровью учащихс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484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Verdana"/>
              </a:rPr>
              <a:t>Основные мероприятия здоровьесберегающей деятельности 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8000" bIns="50400" anchor="t">
            <a:normAutofit/>
          </a:bodyPr>
          <a:p>
            <a:pPr marL="428760" indent="-324000">
              <a:lnSpc>
                <a:spcPct val="94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организация физкультурно-оздоровительных и спортивно-массовых мероприяти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8760" indent="-324000">
              <a:lnSpc>
                <a:spcPct val="94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реализация системы просветительской работы с учениками по формированию у учащихся культуры отношения к своему здоровью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8760" indent="-324000">
              <a:lnSpc>
                <a:spcPct val="94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повышение уровня образованности в области физической культуры, спорта и здорового образа жизн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8760" indent="-324000">
              <a:lnSpc>
                <a:spcPct val="94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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</a:rPr>
              <a:t>формирование у школьников устойчивого интереса и потребности в регулярных занятиях физической культурой и спортом и навыков здорового образа жизн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8760" indent="-32400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2920" y="291600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1240" bIns="50400" anchor="b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доровьесберегающие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на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роках физической культу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Verdana"/>
              </a:rPr>
              <a:t>Образовательная направленность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959280" y="1590480"/>
            <a:ext cx="5759280" cy="438444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18000" bIns="50400" anchor="t">
            <a:normAutofit/>
          </a:bodyPr>
          <a:p>
            <a:pPr marL="431640" indent="-320400">
              <a:lnSpc>
                <a:spcPct val="84000"/>
              </a:lnSpc>
              <a:spcBef>
                <a:spcPts val="587"/>
              </a:spcBef>
              <a:spcAft>
                <a:spcPts val="2112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Verdana"/>
              </a:rPr>
              <a:t>Обучение по темам: Лёгкая атлетика, лыжный спорт, баскетбол, волейбол, футбол, гимнастика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0400">
              <a:lnSpc>
                <a:spcPct val="84000"/>
              </a:lnSpc>
              <a:spcBef>
                <a:spcPts val="587"/>
              </a:spcBef>
              <a:spcAft>
                <a:spcPts val="2112"/>
              </a:spcAft>
              <a:buClr>
                <a:srgbClr val="f07f09"/>
              </a:buClr>
              <a:buSzPct val="45000"/>
              <a:buFont typeface="Wingdings" charset="2"/>
              <a:buChar char="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Verdana"/>
              </a:rPr>
              <a:t>использование принципа наглядности, постепенности, доступности нагрузки с учётом возрастных особенностей учащихс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0400">
              <a:lnSpc>
                <a:spcPct val="84000"/>
              </a:lnSpc>
              <a:spcBef>
                <a:spcPts val="587"/>
              </a:spcBef>
              <a:spcAft>
                <a:spcPts val="2112"/>
              </a:spcAft>
              <a:buClr>
                <a:srgbClr val="f07f09"/>
              </a:buClr>
              <a:buSzPct val="45000"/>
              <a:buFont typeface="Wingdings" charset="2"/>
              <a:buChar char="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Verdana"/>
              </a:rPr>
              <a:t>использование методики чередования интенсивности и релаксации в обуче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0400">
              <a:lnSpc>
                <a:spcPct val="84000"/>
              </a:lnSpc>
              <a:spcBef>
                <a:spcPts val="587"/>
              </a:spcBef>
              <a:spcAft>
                <a:spcPts val="2112"/>
              </a:spcAft>
              <a:buClr>
                <a:srgbClr val="f07f09"/>
              </a:buClr>
              <a:buSzPct val="45000"/>
              <a:buFont typeface="Wingdings" charset="2"/>
              <a:buChar char="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ff"/>
                </a:solidFill>
                <a:latin typeface="Verdana"/>
              </a:rPr>
              <a:t>учёт физической подготовленности детей и развития физических качеств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0400">
              <a:lnSpc>
                <a:spcPct val="90000"/>
              </a:lnSpc>
              <a:spcBef>
                <a:spcPts val="587"/>
              </a:spcBef>
              <a:spcAft>
                <a:spcPts val="2112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576360" y="1871640"/>
            <a:ext cx="324000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3080" y="-14472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Verdana"/>
              </a:rPr>
              <a:t>Оздоровительная направленность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008000" y="1547640"/>
            <a:ext cx="8136000" cy="460872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0" bIns="50400" anchor="t">
            <a:normAutofit/>
          </a:bodyPr>
          <a:p>
            <a:pPr marL="431640" indent="-320400">
              <a:lnSpc>
                <a:spcPct val="84000"/>
              </a:lnSpc>
              <a:spcBef>
                <a:spcPts val="275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Verdana"/>
              </a:rPr>
              <a:t>Защита от влияния неблагоприятных условий внешней среды, а также ТБ, проверка инвентаря и оборудова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0400">
              <a:lnSpc>
                <a:spcPct val="131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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Verdana"/>
              </a:rPr>
              <a:t>Укрепление здоровья (развитие и укрепление дыхательной, сердечно-сосудистой, мышечной, нервной  систем). Создание условий для нормальной работы всех органов и систем организма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0400">
              <a:lnSpc>
                <a:spcPct val="131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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Verdana"/>
              </a:rPr>
              <a:t>Повышение сопротивляемости организма к неблагоприятным условиям путём закалива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0400">
              <a:lnSpc>
                <a:spcPct val="131000"/>
              </a:lnSpc>
              <a:spcBef>
                <a:spcPts val="275"/>
              </a:spcBef>
              <a:buClr>
                <a:srgbClr val="f07f09"/>
              </a:buClr>
              <a:buSzPct val="45000"/>
              <a:buFont typeface="Wingdings" charset="2"/>
              <a:buChar char="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Verdana"/>
              </a:rPr>
              <a:t>Взаимосвязь с медицинским персоналом и использование их методи-ческих рекомендаций (распределение школьников на медицинские  группы: основная, подготовительная, специальная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1640" indent="-320400">
              <a:lnSpc>
                <a:spcPct val="65000"/>
              </a:lnSpc>
              <a:spcBef>
                <a:spcPts val="275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Verdana"/>
              </a:rPr>
              <a:t>Воспитательная направленность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718920" y="1763280"/>
            <a:ext cx="8497800" cy="458964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50400" bIns="50400" anchor="t">
            <a:normAutofit/>
          </a:bodyPr>
          <a:p>
            <a:pPr marL="216000" indent="-216000" algn="just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f07f09"/>
              </a:buClr>
              <a:buSzPct val="45000"/>
              <a:buFont typeface="Wingdings" charset="2"/>
              <a:buChar char="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Учет психологических особенностей учащихся согласно их возрастным особенностям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6000" indent="-216000" algn="just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f07f09"/>
              </a:buClr>
              <a:buSzPct val="45000"/>
              <a:buFont typeface="Wingdings" charset="2"/>
              <a:buChar char="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создание эмоционально- положительного фона в обучении и общении (спортивные, подвижные игры и игровые упражнения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6000" indent="-216000" algn="just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f07f09"/>
              </a:buClr>
              <a:buSzPct val="45000"/>
              <a:buFont typeface="Wingdings" charset="2"/>
              <a:buChar char="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стимулирование мотивации на успешность в обучении, оказание поддержки и помощи ребенку в выполнении упражнен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6000" indent="-216000" algn="just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f07f09"/>
              </a:buClr>
              <a:buSzPct val="45000"/>
              <a:buFont typeface="Wingdings" charset="2"/>
              <a:buChar char="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развитие речи, психических процессов (восприятие, внимание, представление, мышление, память, воображение), а также умственных способностей (наблюдение, сравнение, обобщение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6000" indent="-216000" algn="just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f07f09"/>
              </a:buClr>
              <a:buSzPct val="45000"/>
              <a:buFont typeface="Wingdings" charset="2"/>
              <a:buChar char="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получение знаний в различных видах спортивно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31640" y="971280"/>
            <a:ext cx="9071280" cy="5724360"/>
          </a:xfrm>
          <a:prstGeom prst="rect">
            <a:avLst/>
          </a:prstGeom>
          <a:noFill/>
          <a:ln w="0">
            <a:noFill/>
          </a:ln>
        </p:spPr>
        <p:txBody>
          <a:bodyPr lIns="201600" rIns="100800" tIns="35280" bIns="50400" anchor="t">
            <a:normAutofit/>
          </a:bodyPr>
          <a:p>
            <a:pPr marL="343080" indent="-339840" algn="ctr">
              <a:spcBef>
                <a:spcPts val="275"/>
              </a:spcBef>
              <a:spcAft>
                <a:spcPts val="153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Здоровьесберегающие технологии, должны, несомненно, использоваться в процессе оздоровления школьников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5:51:26Z</dcterms:created>
  <dc:creator>Евгения Косенковкина</dc:creator>
  <dc:description/>
  <dc:language>en-US</dc:language>
  <cp:lastModifiedBy>User</cp:lastModifiedBy>
  <dcterms:modified xsi:type="dcterms:W3CDTF">2019-05-15T16:08:17Z</dcterms:modified>
  <cp:revision>2</cp:revision>
  <dc:subject/>
  <dc:title>Здоровьесберегающие технологии на уроках физической культуры</dc:title>
</cp:coreProperties>
</file>