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B469-5CB8-48E7-B8B9-47D619D53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0844-1AB4-42C4-8D20-5BB6E18C9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1F41-28C0-46DB-9A1C-7C6688A0B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EDCB-E948-4066-847A-E1BEB36E4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1DB95-61F8-4393-A961-CA11E4027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FD326-9B59-4F6E-98DE-54175A85B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73152-00EB-4873-B06A-901FED333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D5003-4E5F-4FA8-A51B-14C248490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9758D-0F01-4EAF-95A4-097300C78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01999-91A0-455C-B172-80F7A26B6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32BFE-47D6-4071-AB97-DE3C41A4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CA1A-022B-48B8-8D5C-C4E6E5A92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2B336-660B-4E37-92CE-6D3DC479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B5F51-153F-4C73-B1EC-28220353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413C1-0B1E-41C4-B499-1CB5BDD03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8962B-499E-4B38-AA4F-7DFD9E0CC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8C8EB-5F6E-4413-AE0A-8C49B3AEF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F5C6-D1FA-4F28-9746-EE705E63A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43D8-C488-4871-91A8-8FCC4975F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D9E4-A12A-4C35-B7EB-86C91B563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10BF-0A18-40FF-93DE-A046F0378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8728-45FF-4482-8C10-02E764CF6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6B88-FF55-4458-B843-19BF7879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4E1E-E367-41DB-9730-2D10D2DA8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f1d3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f1d3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f1d3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f1d3b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f1d3b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8F450-EBEC-4286-8189-40EC05DFF29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33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f1d3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f1d3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f1d3b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f1d3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f1d3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f1d3b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33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577FE-F889-4755-A16D-18E7DD3A835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3300"/>
                </a:solidFill>
                <a:latin typeface="Arial"/>
              </a:rPr>
              <a:t>История возникновения и развития волейбола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pic>
        <p:nvPicPr>
          <p:cNvPr id="96" name="Picture 4" descr="stock-vector-kids-playing-volleyball-89624227"/>
          <p:cNvPicPr/>
          <p:nvPr/>
        </p:nvPicPr>
        <p:blipFill>
          <a:blip r:embed="rId1"/>
          <a:srcRect l="0" t="0" r="0" b="11813"/>
          <a:stretch/>
        </p:blipFill>
        <p:spPr>
          <a:xfrm>
            <a:off x="1258920" y="2637000"/>
            <a:ext cx="3816360" cy="356364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5651640" y="5589720"/>
            <a:ext cx="311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полнила : Круткова  Ал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3300"/>
                </a:solidFill>
                <a:latin typeface="Arial"/>
              </a:rPr>
              <a:t>Правила игры в волейбол</a:t>
            </a: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лейбол коллективная иг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ль игры: ударами рук направить мяч на сторону соперников и там приземли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тч состоит из 5 партий, а они – из эпизодов, в любом из них разыгрывается очко. Выигрывает партию команда набравшая 25 очков. В матче побеждает команда, которая одолела соперников в 3 партиях из 5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1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709308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3300"/>
                </a:solidFill>
                <a:latin typeface="Arial"/>
              </a:rPr>
              <a:t>Почему я люблю волейбол?</a:t>
            </a: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4280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мире очень много видов спорта, и все они отличаются друг от друга. Ведь движение - это жизнь. Если хочешь быть здоровым, то надо дружить со спортом. Спортом можно заниматься профессионально и просто для себя. Человек может выбрать по-своему усмотрению любой вид спор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981000"/>
            <a:ext cx="83628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663300"/>
                </a:solidFill>
                <a:latin typeface="Arial"/>
              </a:rPr>
              <a:t>Цель:</a:t>
            </a:r>
            <a:br>
              <a:rPr sz="3800"/>
            </a:br>
            <a:r>
              <a:rPr b="0" lang="ru-RU" sz="3800" spc="-1" strike="noStrike">
                <a:solidFill>
                  <a:srgbClr val="663300"/>
                </a:solidFill>
                <a:latin typeface="Arial"/>
              </a:rPr>
              <a:t>-знакомство с истоками развития игры в волейбол;</a:t>
            </a:r>
            <a:br>
              <a:rPr sz="3800"/>
            </a:br>
            <a:r>
              <a:rPr b="0" lang="ru-RU" sz="3800" spc="-1" strike="noStrike">
                <a:solidFill>
                  <a:srgbClr val="663300"/>
                </a:solidFill>
                <a:latin typeface="Arial"/>
              </a:rPr>
              <a:t>-знакомство с правилами игры в волейбол;</a:t>
            </a:r>
            <a:br>
              <a:rPr sz="3800"/>
            </a:br>
            <a:r>
              <a:rPr b="0" lang="ru-RU" sz="3800" spc="-1" strike="noStrike">
                <a:solidFill>
                  <a:srgbClr val="663300"/>
                </a:solidFill>
                <a:latin typeface="Arial"/>
              </a:rPr>
              <a:t>-привитие любви к игре  волейбол</a:t>
            </a: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3300"/>
                </a:solidFill>
                <a:latin typeface="Arial"/>
              </a:rPr>
              <a:t>Изобретатель волейбола</a:t>
            </a: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5329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олейбо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один из самых популярных в мире видов спорта. Родина волейбола – Соединенные Штаты Америки. Новую игру изобрел в 1895г.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Вильям Морга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руководитель физического воспита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9" descr="x_9afa1429"/>
          <p:cNvPicPr/>
          <p:nvPr/>
        </p:nvPicPr>
        <p:blipFill>
          <a:blip r:embed="rId1"/>
          <a:stretch/>
        </p:blipFill>
        <p:spPr>
          <a:xfrm>
            <a:off x="5796000" y="1628640"/>
            <a:ext cx="281628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663300"/>
                </a:solidFill>
                <a:latin typeface="Arial"/>
              </a:rPr>
              <a:t>Волейбол - Олимпийский вид спорта</a:t>
            </a:r>
            <a:endParaRPr b="0" lang="en-US" sz="3400" spc="-1" strike="noStrike">
              <a:solidFill>
                <a:srgbClr val="663300"/>
              </a:solidFill>
              <a:latin typeface="Arial"/>
            </a:endParaRPr>
          </a:p>
        </p:txBody>
      </p:sp>
      <p:pic>
        <p:nvPicPr>
          <p:cNvPr id="105" name="Picture 8" descr="2706092"/>
          <p:cNvPicPr/>
          <p:nvPr/>
        </p:nvPicPr>
        <p:blipFill>
          <a:blip r:embed="rId1"/>
          <a:srcRect l="10693" t="18701" r="10849" b="19708"/>
          <a:stretch/>
        </p:blipFill>
        <p:spPr>
          <a:xfrm>
            <a:off x="1403280" y="1989000"/>
            <a:ext cx="667548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663300"/>
                </a:solidFill>
                <a:latin typeface="Arial"/>
              </a:rPr>
              <a:t>Международная Федерация волейбола (ФИВБ) </a:t>
            </a:r>
            <a:endParaRPr b="0" lang="en-US" sz="3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апреле 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1947 г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Париже на первом конгрессе по волейболу было принято решение о создании Международной федерации волейбола (ФИВБ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2" descr=""/>
          <p:cNvPicPr/>
          <p:nvPr/>
        </p:nvPicPr>
        <p:blipFill>
          <a:blip r:embed="rId1"/>
          <a:stretch/>
        </p:blipFill>
        <p:spPr>
          <a:xfrm>
            <a:off x="971640" y="3357720"/>
            <a:ext cx="665784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3300"/>
                </a:solidFill>
                <a:latin typeface="Arial"/>
              </a:rPr>
              <a:t>Волейбол в СССР</a:t>
            </a: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лейбол  в шутку называли -  «игрой актеров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http://dic.academic.ru/pictures/wiki/files/80/PikiWiki_Israel_3963_Gan-Shmuel_sg5-_28.jpg"/>
          <p:cNvPicPr/>
          <p:nvPr/>
        </p:nvPicPr>
        <p:blipFill>
          <a:blip r:embed="rId1"/>
          <a:stretch/>
        </p:blipFill>
        <p:spPr>
          <a:xfrm>
            <a:off x="2195640" y="2476440"/>
            <a:ext cx="525600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3300"/>
                </a:solidFill>
                <a:latin typeface="Arial"/>
              </a:rPr>
              <a:t>Волейбольная площадка</a:t>
            </a:r>
            <a:endParaRPr b="0" lang="en-US" sz="4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42451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axPSIP7QnSo"/>
          <p:cNvPicPr/>
          <p:nvPr/>
        </p:nvPicPr>
        <p:blipFill>
          <a:blip r:embed="rId1"/>
          <a:stretch/>
        </p:blipFill>
        <p:spPr>
          <a:xfrm>
            <a:off x="1332000" y="1374840"/>
            <a:ext cx="7416720" cy="47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3300"/>
                </a:solidFill>
                <a:latin typeface="Arial"/>
              </a:rPr>
              <a:t>Волейбольный мяч</a:t>
            </a:r>
            <a:endParaRPr b="0" lang="en-US" sz="3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лейбольный мяч состоит из шести панелей кожи (естественной или искусственной), натянутой вокруг каркас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siatkowka-wektor_11-40926"/>
          <p:cNvPicPr/>
          <p:nvPr/>
        </p:nvPicPr>
        <p:blipFill>
          <a:blip r:embed="rId1"/>
          <a:stretch/>
        </p:blipFill>
        <p:spPr>
          <a:xfrm>
            <a:off x="611280" y="1628640"/>
            <a:ext cx="403848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6T15:10:03Z</dcterms:created>
  <dc:creator>Артём</dc:creator>
  <dc:description/>
  <dc:language>en-US</dc:language>
  <cp:lastModifiedBy>сервер</cp:lastModifiedBy>
  <dcterms:modified xsi:type="dcterms:W3CDTF">2019-03-23T08:29:02Z</dcterms:modified>
  <cp:revision>15</cp:revision>
  <dc:subject/>
  <dc:title>История возникновения и развитие волейбола</dc:title>
</cp:coreProperties>
</file>