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B78-4205-405E-AB04-75529B19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372-B865-41B1-A978-0AEF26B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430-9D1F-4C76-9AEA-2BF9211E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CD3-78D8-4301-ADDE-6AE5AD6C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C91-F949-4E08-AA28-A473D47C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825-9B9E-4D5C-BF7F-167DB22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7AC3-35DE-4E08-9062-BFD5A64B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0D40-187D-415B-BEC3-A4E15DD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377-FA7D-44D2-B5B3-35A936F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D326-BBFB-40A4-81CB-BF85830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7401-FB37-4552-BCD2-8EA3198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147-7630-4984-ADDF-E522BB4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D286-A2A2-41F5-906B-BBFC47B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6999-7317-4A4A-B8CA-A772DFF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0ABF-2343-49C4-89DF-8BDF5598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E9C-B356-4AF0-BA14-F1F2D0C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75A0-519C-4EC6-BB38-AE2BB059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B15-164C-4162-A734-13B3110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088-9519-49C5-99B0-AA68753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705-710C-4FDC-B7B9-861B2EB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7F8-70BA-4390-84AC-45BC448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34-2D4E-4E6D-B165-ED0D363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FFC-6360-493E-8DB4-C70E463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F17-7530-4743-B016-1A84596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44FA-D147-4FA2-BBF4-265D5B704A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0EE8-40A9-44DD-B63B-72FC1582E9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История возникновения и развития волейбол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96" name="Picture 4" descr="stock-vector-kids-playing-volleyball-89624227"/>
          <p:cNvPicPr/>
          <p:nvPr/>
        </p:nvPicPr>
        <p:blipFill>
          <a:blip r:embed="rId1"/>
          <a:srcRect l="0" t="0" r="0" b="11813"/>
          <a:stretch/>
        </p:blipFill>
        <p:spPr>
          <a:xfrm>
            <a:off x="1258920" y="2637000"/>
            <a:ext cx="3816360" cy="35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651640" y="5589720"/>
            <a:ext cx="31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: Круткова  А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Правила игры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ейбол коллективная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игры: ударами рук направить мяч на сторону соперников и там призем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ч состоит из 5 партий, а они – из эпизодов, в любом из них разыгрывается очко. Выигрывает партию команда набравшая 25 очков. В матче побеждает команда, которая одолела соперников в 3 партиях из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Почему я люблю волейбол?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28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ире очень много видов спорта, и все они отличаются друг от друга. Ведь движение - это жизнь. Если хочешь быть здоровым, то надо дружить со спортом. Спортом можно заниматься профессионально и просто для себя. Человек может выбрать по-своему усмотрению любой вид 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Arial"/>
              </a:rPr>
              <a:t>Цель: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знакомство с истоками развития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знакомство с правилами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привитие любви к игре 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Изобретатель волейбола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532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лейбо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ин из самых популярных в мире видов спорта. Родина волейбола – Соединенные Штаты Америки. Новую игру изобрел в 1895г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льям Морг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уководитель физического 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x_9afa1429"/>
          <p:cNvPicPr/>
          <p:nvPr/>
        </p:nvPicPr>
        <p:blipFill>
          <a:blip r:embed="rId1"/>
          <a:stretch/>
        </p:blipFill>
        <p:spPr>
          <a:xfrm>
            <a:off x="5796000" y="1628640"/>
            <a:ext cx="28162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Волейбол - Олимпийский вид спорта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5" name="Picture 8" descr="2706092"/>
          <p:cNvPicPr/>
          <p:nvPr/>
        </p:nvPicPr>
        <p:blipFill>
          <a:blip r:embed="rId1"/>
          <a:srcRect l="10693" t="18701" r="10849" b="19708"/>
          <a:stretch/>
        </p:blipFill>
        <p:spPr>
          <a:xfrm>
            <a:off x="1403280" y="1989000"/>
            <a:ext cx="6675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Международная Федерация волейбола (ФИВБ) 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преле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947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ариже на первом конгрессе по волейболу было принято решение о создании Международной федерации волейбола (ФИВБ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6657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Волейбол в СССР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ейбол  в шутку называли -  «игрой актеро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ttp://dic.academic.ru/pictures/wiki/files/80/PikiWiki_Israel_3963_Gan-Shmuel_sg5-_28.jpg"/>
          <p:cNvPicPr/>
          <p:nvPr/>
        </p:nvPicPr>
        <p:blipFill>
          <a:blip r:embed="rId1"/>
          <a:stretch/>
        </p:blipFill>
        <p:spPr>
          <a:xfrm>
            <a:off x="2195640" y="2476440"/>
            <a:ext cx="525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Волейбольная площадка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5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axPSIP7QnSo"/>
          <p:cNvPicPr/>
          <p:nvPr/>
        </p:nvPicPr>
        <p:blipFill>
          <a:blip r:embed="rId1"/>
          <a:stretch/>
        </p:blipFill>
        <p:spPr>
          <a:xfrm>
            <a:off x="1332000" y="1374840"/>
            <a:ext cx="7416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Волейбольный мяч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ейбольный мяч состоит из шести панелей кожи (естественной или искусственной), натянутой вокруг карк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atkowka-wektor_11-40926"/>
          <p:cNvPicPr/>
          <p:nvPr/>
        </p:nvPicPr>
        <p:blipFill>
          <a:blip r:embed="rId1"/>
          <a:stretch/>
        </p:blipFill>
        <p:spPr>
          <a:xfrm>
            <a:off x="611280" y="162864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5:10:03Z</dcterms:created>
  <dc:creator>Артём</dc:creator>
  <dc:description/>
  <dc:language>en-US</dc:language>
  <cp:lastModifiedBy>сервер</cp:lastModifiedBy>
  <dcterms:modified xsi:type="dcterms:W3CDTF">2019-03-23T08:29:02Z</dcterms:modified>
  <cp:revision>15</cp:revision>
  <dc:subject/>
  <dc:title>История возникновения и развитие волейбола</dc:title>
</cp:coreProperties>
</file>