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36.png" ContentType="image/png"/>
  <Override PartName="/ppt/media/image44.png" ContentType="image/png"/>
  <Override PartName="/ppt/media/image43.png" ContentType="image/png"/>
  <Override PartName="/ppt/media/image45.jpeg" ContentType="image/jpeg"/>
  <Override PartName="/ppt/media/image5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3.png" ContentType="image/png"/>
  <Override PartName="/ppt/media/image28.gif" ContentType="image/gif"/>
  <Override PartName="/ppt/media/image32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56EC-B846-4B1F-874F-7FDA4F02F2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6709-DC86-466F-B1FB-B4E0973EB0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8F33-2508-4B1D-A501-DA0A165FAB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0F7B-C3E9-4BF0-8D15-22434F8BC7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460E-4651-4A99-B4EC-065452210B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95C0-3BCF-41E9-A93D-86A0F265AF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EA3C-4BBE-4919-AC87-2EDC4A47CE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848D-D4DB-45D8-8BCC-55D1ED6DCE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06E8-32FC-41F9-8892-36B6BB9953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2CA8-231B-483F-8C43-20D8E3C625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F0D8-41E3-46D3-860B-FB3AF751D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AF9-A113-4A0A-992D-21446F9A8A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E490-ADF2-41F5-9642-02A757AE5A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36FD-023B-4CA0-A090-337B9622EE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367B-6026-414D-A939-D935318477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B2A5-FC2F-4764-B5C6-843EC50532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2CD6-F7D2-437A-943C-D113BE985B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877C-3A18-49E4-90EC-104E78D547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37F3-14E0-473C-B8D5-176A193FD5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4426-CDAE-479F-B86B-06E8F99EB4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B99A-E145-48DF-B96E-514D050808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ED05-1263-40A7-B5DF-3315558DC5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32F0-9ECA-47F0-BB1D-DDC8580350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90F0-8EDC-40A4-A2A7-B0A015D23A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5DDD-1F45-40CD-A229-E36F27A223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2EA7-D412-457F-BCDA-DBA01B3D8E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5481-4F6D-472E-91EF-5168A1CB4A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8E11-FEC5-4009-A501-6216BF6427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A4E-00D8-4DDF-94FB-BC02FD61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AB1-6180-4EEB-BC61-5EAC168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41E-C49C-466E-961A-F4C99A96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E35-9CC7-41E4-9DB2-968D2528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7A3-0FE4-4B66-BB66-D3288709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7B2-CE91-4CD5-B3C1-5D21F5E5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8971-D0EC-4351-9CDC-95057161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008-2B68-40E3-A312-7A98FBC7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3CF-87B4-4F80-BB06-CD6006E1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B26-0EF5-4424-B60E-2624AB18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D39-6CE2-47DB-9EF6-0407E7FD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50A4-34B3-4383-B355-BF2586EB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6491-0601-43B7-87F3-9EFD6E60C0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Использование анимаци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3" descr="blur text tutorial 9"/>
          <p:cNvPicPr/>
          <p:nvPr/>
        </p:nvPicPr>
        <p:blipFill>
          <a:blip r:embed="rId1"/>
          <a:stretch/>
        </p:blipFill>
        <p:spPr>
          <a:xfrm>
            <a:off x="1523880" y="333360"/>
            <a:ext cx="4608720" cy="2303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blur text tutorial 10"/>
          <p:cNvPicPr/>
          <p:nvPr/>
        </p:nvPicPr>
        <p:blipFill>
          <a:blip r:embed="rId2"/>
          <a:stretch/>
        </p:blipFill>
        <p:spPr>
          <a:xfrm>
            <a:off x="1523880" y="2276640"/>
            <a:ext cx="4519800" cy="2160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blur text tutorial 11"/>
          <p:cNvPicPr/>
          <p:nvPr/>
        </p:nvPicPr>
        <p:blipFill>
          <a:blip r:embed="rId3"/>
          <a:stretch/>
        </p:blipFill>
        <p:spPr>
          <a:xfrm>
            <a:off x="1523880" y="4365720"/>
            <a:ext cx="4554720" cy="2276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blur text tutorial 12"/>
          <p:cNvPicPr/>
          <p:nvPr/>
        </p:nvPicPr>
        <p:blipFill>
          <a:blip r:embed="rId4"/>
          <a:stretch/>
        </p:blipFill>
        <p:spPr>
          <a:xfrm>
            <a:off x="6311880" y="907920"/>
            <a:ext cx="25210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нежный штор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snow storm tutorial 1"/>
          <p:cNvPicPr/>
          <p:nvPr/>
        </p:nvPicPr>
        <p:blipFill>
          <a:blip r:embed="rId1"/>
          <a:stretch/>
        </p:blipFill>
        <p:spPr>
          <a:xfrm>
            <a:off x="2495520" y="1413000"/>
            <a:ext cx="5567400" cy="280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snow storm tutorial 2"/>
          <p:cNvPicPr/>
          <p:nvPr/>
        </p:nvPicPr>
        <p:blipFill>
          <a:blip r:embed="rId2"/>
          <a:stretch/>
        </p:blipFill>
        <p:spPr>
          <a:xfrm>
            <a:off x="2567160" y="4076640"/>
            <a:ext cx="54734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snow storm tutorial 3"/>
          <p:cNvPicPr/>
          <p:nvPr/>
        </p:nvPicPr>
        <p:blipFill>
          <a:blip r:embed="rId1"/>
          <a:stretch/>
        </p:blipFill>
        <p:spPr>
          <a:xfrm>
            <a:off x="3143160" y="404640"/>
            <a:ext cx="4689720" cy="2997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snow storm tutorial 4"/>
          <p:cNvPicPr/>
          <p:nvPr/>
        </p:nvPicPr>
        <p:blipFill>
          <a:blip r:embed="rId2"/>
          <a:stretch/>
        </p:blipFill>
        <p:spPr>
          <a:xfrm>
            <a:off x="3071880" y="3645000"/>
            <a:ext cx="4863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snow storm tutorial 5"/>
          <p:cNvPicPr/>
          <p:nvPr/>
        </p:nvPicPr>
        <p:blipFill>
          <a:blip r:embed="rId1"/>
          <a:stretch/>
        </p:blipFill>
        <p:spPr>
          <a:xfrm>
            <a:off x="1523880" y="2276640"/>
            <a:ext cx="5940720" cy="29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snow storm tutorial 6"/>
          <p:cNvPicPr/>
          <p:nvPr/>
        </p:nvPicPr>
        <p:blipFill>
          <a:blip r:embed="rId2"/>
          <a:stretch/>
        </p:blipFill>
        <p:spPr>
          <a:xfrm>
            <a:off x="6978600" y="1268280"/>
            <a:ext cx="36892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snow storm tutorial 7"/>
          <p:cNvPicPr/>
          <p:nvPr/>
        </p:nvPicPr>
        <p:blipFill>
          <a:blip r:embed="rId1"/>
          <a:stretch/>
        </p:blipFill>
        <p:spPr>
          <a:xfrm>
            <a:off x="3216240" y="404640"/>
            <a:ext cx="4749840" cy="2592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snow storm tutorial 8"/>
          <p:cNvPicPr/>
          <p:nvPr/>
        </p:nvPicPr>
        <p:blipFill>
          <a:blip r:embed="rId2"/>
          <a:stretch/>
        </p:blipFill>
        <p:spPr>
          <a:xfrm>
            <a:off x="2855880" y="3284640"/>
            <a:ext cx="599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нимированные спецэффекты на Userba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1992240" y="1628640"/>
            <a:ext cx="7559640" cy="432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359160" y="2200320"/>
            <a:ext cx="38894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2567160" y="1125360"/>
            <a:ext cx="6219720" cy="3743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1523880" y="5157720"/>
            <a:ext cx="88218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2927520" y="260280"/>
            <a:ext cx="5141880" cy="37227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792600" y="4437000"/>
            <a:ext cx="3333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2782800" y="1989000"/>
            <a:ext cx="56008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6024600" y="2924280"/>
            <a:ext cx="2286000" cy="2241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359160" y="1341360"/>
            <a:ext cx="216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нимация облак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clouds animation tutorial 1"/>
          <p:cNvPicPr/>
          <p:nvPr/>
        </p:nvPicPr>
        <p:blipFill>
          <a:blip r:embed="rId1"/>
          <a:stretch/>
        </p:blipFill>
        <p:spPr>
          <a:xfrm>
            <a:off x="2567160" y="1341360"/>
            <a:ext cx="5995800" cy="3024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clouds animation tutorial 2"/>
          <p:cNvPicPr/>
          <p:nvPr/>
        </p:nvPicPr>
        <p:blipFill>
          <a:blip r:embed="rId2"/>
          <a:stretch/>
        </p:blipFill>
        <p:spPr>
          <a:xfrm>
            <a:off x="1847880" y="4581360"/>
            <a:ext cx="8767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1847880" y="765000"/>
            <a:ext cx="7967520" cy="4557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287880" y="1628640"/>
            <a:ext cx="5072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Анимированные спецэффекты на Userbar *"/>
          <p:cNvPicPr/>
          <p:nvPr/>
        </p:nvPicPr>
        <p:blipFill>
          <a:blip r:embed="rId1"/>
          <a:stretch/>
        </p:blipFill>
        <p:spPr>
          <a:xfrm>
            <a:off x="2135160" y="1844640"/>
            <a:ext cx="6707160" cy="384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Анимированные спецэффекты на Userbar *"/>
          <p:cNvPicPr/>
          <p:nvPr/>
        </p:nvPicPr>
        <p:blipFill>
          <a:blip r:embed="rId2"/>
          <a:stretch/>
        </p:blipFill>
        <p:spPr>
          <a:xfrm>
            <a:off x="3143160" y="2708280"/>
            <a:ext cx="48672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нимационная подпис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2135160" y="1628640"/>
            <a:ext cx="309708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Стильная анимационная подпись *"/>
          <p:cNvPicPr/>
          <p:nvPr/>
        </p:nvPicPr>
        <p:blipFill>
          <a:blip r:embed="rId2"/>
          <a:stretch/>
        </p:blipFill>
        <p:spPr>
          <a:xfrm>
            <a:off x="5808600" y="1628640"/>
            <a:ext cx="269892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Стильная анимационная подпись *"/>
          <p:cNvPicPr/>
          <p:nvPr/>
        </p:nvPicPr>
        <p:blipFill>
          <a:blip r:embed="rId3"/>
          <a:stretch/>
        </p:blipFill>
        <p:spPr>
          <a:xfrm>
            <a:off x="3503520" y="3490920"/>
            <a:ext cx="39610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3432240" y="765000"/>
            <a:ext cx="49338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3792600" y="274680"/>
            <a:ext cx="36720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1919160" y="1916280"/>
            <a:ext cx="3592800" cy="20174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Стильная анимационная подпись *"/>
          <p:cNvPicPr/>
          <p:nvPr/>
        </p:nvPicPr>
        <p:blipFill>
          <a:blip r:embed="rId2"/>
          <a:stretch/>
        </p:blipFill>
        <p:spPr>
          <a:xfrm>
            <a:off x="5591160" y="1916280"/>
            <a:ext cx="3740040" cy="20174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Стильная анимационная подпись *"/>
          <p:cNvPicPr/>
          <p:nvPr/>
        </p:nvPicPr>
        <p:blipFill>
          <a:blip r:embed="rId3"/>
          <a:stretch/>
        </p:blipFill>
        <p:spPr>
          <a:xfrm>
            <a:off x="1919160" y="4076640"/>
            <a:ext cx="3686400" cy="1873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Стильная анимационная подпись *"/>
          <p:cNvPicPr/>
          <p:nvPr/>
        </p:nvPicPr>
        <p:blipFill>
          <a:blip r:embed="rId4"/>
          <a:stretch/>
        </p:blipFill>
        <p:spPr>
          <a:xfrm>
            <a:off x="5591160" y="4076640"/>
            <a:ext cx="3529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1919160" y="404640"/>
            <a:ext cx="7340760" cy="1974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Стильная анимационная подпись *"/>
          <p:cNvPicPr/>
          <p:nvPr/>
        </p:nvPicPr>
        <p:blipFill>
          <a:blip r:embed="rId2"/>
          <a:stretch/>
        </p:blipFill>
        <p:spPr>
          <a:xfrm>
            <a:off x="4008600" y="2421000"/>
            <a:ext cx="3527280" cy="20556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Стильная анимационная подпись *"/>
          <p:cNvPicPr/>
          <p:nvPr/>
        </p:nvPicPr>
        <p:blipFill>
          <a:blip r:embed="rId3"/>
          <a:stretch/>
        </p:blipFill>
        <p:spPr>
          <a:xfrm>
            <a:off x="3432240" y="4483080"/>
            <a:ext cx="43354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Стильная анимационная подпись *"/>
          <p:cNvPicPr/>
          <p:nvPr/>
        </p:nvPicPr>
        <p:blipFill>
          <a:blip r:embed="rId1"/>
          <a:stretch/>
        </p:blipFill>
        <p:spPr>
          <a:xfrm>
            <a:off x="2927520" y="2133720"/>
            <a:ext cx="5202000" cy="1247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Стильная анимационная подпись *"/>
          <p:cNvPicPr/>
          <p:nvPr/>
        </p:nvPicPr>
        <p:blipFill>
          <a:blip r:embed="rId2"/>
          <a:stretch/>
        </p:blipFill>
        <p:spPr>
          <a:xfrm>
            <a:off x="2927520" y="4076640"/>
            <a:ext cx="53290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clouds animation tutorial 3"/>
          <p:cNvPicPr/>
          <p:nvPr/>
        </p:nvPicPr>
        <p:blipFill>
          <a:blip r:embed="rId1"/>
          <a:stretch/>
        </p:blipFill>
        <p:spPr>
          <a:xfrm>
            <a:off x="2424240" y="333360"/>
            <a:ext cx="642276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clouds animation tutorial 4"/>
          <p:cNvPicPr/>
          <p:nvPr/>
        </p:nvPicPr>
        <p:blipFill>
          <a:blip r:embed="rId2"/>
          <a:stretch/>
        </p:blipFill>
        <p:spPr>
          <a:xfrm>
            <a:off x="3432240" y="3500280"/>
            <a:ext cx="41720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clouds animation tutorial 5"/>
          <p:cNvPicPr/>
          <p:nvPr/>
        </p:nvPicPr>
        <p:blipFill>
          <a:blip r:embed="rId1"/>
          <a:stretch/>
        </p:blipFill>
        <p:spPr>
          <a:xfrm>
            <a:off x="3000240" y="189000"/>
            <a:ext cx="5402520" cy="2663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clouds animation tutorial 6"/>
          <p:cNvPicPr/>
          <p:nvPr/>
        </p:nvPicPr>
        <p:blipFill>
          <a:blip r:embed="rId2"/>
          <a:stretch/>
        </p:blipFill>
        <p:spPr>
          <a:xfrm>
            <a:off x="1774800" y="2708280"/>
            <a:ext cx="75121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clouds animation tutorial 7"/>
          <p:cNvPicPr/>
          <p:nvPr/>
        </p:nvPicPr>
        <p:blipFill>
          <a:blip r:embed="rId1"/>
          <a:srcRect l="0" t="11108" r="0" b="0"/>
          <a:stretch/>
        </p:blipFill>
        <p:spPr>
          <a:xfrm>
            <a:off x="2855880" y="0"/>
            <a:ext cx="545940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clouds animation tutorial 8"/>
          <p:cNvPicPr/>
          <p:nvPr/>
        </p:nvPicPr>
        <p:blipFill>
          <a:blip r:embed="rId2"/>
          <a:stretch/>
        </p:blipFill>
        <p:spPr>
          <a:xfrm>
            <a:off x="3071880" y="2938320"/>
            <a:ext cx="4392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Анимация размытия текс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blur text tutorial 1"/>
          <p:cNvPicPr/>
          <p:nvPr/>
        </p:nvPicPr>
        <p:blipFill>
          <a:blip r:embed="rId1"/>
          <a:stretch/>
        </p:blipFill>
        <p:spPr>
          <a:xfrm>
            <a:off x="2855880" y="1413000"/>
            <a:ext cx="4896000" cy="244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blur text tutorial 2"/>
          <p:cNvPicPr/>
          <p:nvPr/>
        </p:nvPicPr>
        <p:blipFill>
          <a:blip r:embed="rId2"/>
          <a:stretch/>
        </p:blipFill>
        <p:spPr>
          <a:xfrm>
            <a:off x="2855880" y="3933720"/>
            <a:ext cx="489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blur text tutorial 3"/>
          <p:cNvPicPr/>
          <p:nvPr/>
        </p:nvPicPr>
        <p:blipFill>
          <a:blip r:embed="rId1"/>
          <a:stretch/>
        </p:blipFill>
        <p:spPr>
          <a:xfrm>
            <a:off x="3071880" y="765000"/>
            <a:ext cx="4986360" cy="2492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blur text tutorial 4"/>
          <p:cNvPicPr/>
          <p:nvPr/>
        </p:nvPicPr>
        <p:blipFill>
          <a:blip r:embed="rId2"/>
          <a:stretch/>
        </p:blipFill>
        <p:spPr>
          <a:xfrm>
            <a:off x="3648240" y="3500280"/>
            <a:ext cx="372096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blur text tutorial 5"/>
          <p:cNvPicPr/>
          <p:nvPr/>
        </p:nvPicPr>
        <p:blipFill>
          <a:blip r:embed="rId1"/>
          <a:stretch/>
        </p:blipFill>
        <p:spPr>
          <a:xfrm>
            <a:off x="1523880" y="2276640"/>
            <a:ext cx="4370400" cy="1944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blur text tutorial 6"/>
          <p:cNvPicPr/>
          <p:nvPr/>
        </p:nvPicPr>
        <p:blipFill>
          <a:blip r:embed="rId2"/>
          <a:stretch/>
        </p:blipFill>
        <p:spPr>
          <a:xfrm>
            <a:off x="6167520" y="1557360"/>
            <a:ext cx="338436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blur text tutorial 7"/>
          <p:cNvPicPr/>
          <p:nvPr/>
        </p:nvPicPr>
        <p:blipFill>
          <a:blip r:embed="rId1"/>
          <a:stretch/>
        </p:blipFill>
        <p:spPr>
          <a:xfrm>
            <a:off x="2927520" y="1125360"/>
            <a:ext cx="494964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blur text tutorial 8"/>
          <p:cNvPicPr/>
          <p:nvPr/>
        </p:nvPicPr>
        <p:blipFill>
          <a:blip r:embed="rId2"/>
          <a:stretch/>
        </p:blipFill>
        <p:spPr>
          <a:xfrm>
            <a:off x="3792600" y="3860640"/>
            <a:ext cx="3066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6:45:07Z</dcterms:created>
  <dc:creator>Штенников</dc:creator>
  <dc:description/>
  <dc:language>en-US</dc:language>
  <cp:lastModifiedBy>Пользователь Windows</cp:lastModifiedBy>
  <dcterms:modified xsi:type="dcterms:W3CDTF">2019-05-16T14:09:55Z</dcterms:modified>
  <cp:revision>11</cp:revision>
  <dc:subject/>
  <dc:title>photoshop</dc:title>
</cp:coreProperties>
</file>