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EA88-8A02-46F6-8D6C-6AAA4CCB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F8EC-CC5A-4A48-85D5-740EA0E6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D5C5-6D1D-4E2E-867D-F18D1C024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DA19-8EF6-4E84-9585-856B440D3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AA1C-F9FF-48A6-A61E-915A7FD2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8F95-E650-456C-8579-FD452C5A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157D-40CA-4884-A0D4-47EF530C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CA22-161D-450D-BC84-8BB93826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F55F-2425-4578-8A15-CFE7837D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BD7D-94AF-45A3-8790-DE5B3547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E017-7B53-4EC9-9054-253A9377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F0A8-5A9F-4BD7-B30E-90052C82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B279-B9DC-45A1-9914-B110D16348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ÐÐ°ÑÑÐ¸Ð½ÐºÐ¸ Ð¿Ð¾ Ð·Ð°Ð¿ÑÐ¾ÑÑ ÑÑÐ¾Ðº Ð»Ð¸ÑÐµÑÐ°ÑÑÑÐ½Ð¾Ð³Ð¾ ÑÑÐµÐ½Ð¸Ñ 3 ÐºÐ»Ð°ÑÑ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ÐÐ°ÑÑÐ¸Ð½ÐºÐ¸ Ð¿Ð¾ Ð·Ð°Ð¿ÑÐ¾ÑÑ ÑÐ¾Ð½ Ð´Ð»Ñ Ð¿ÑÐµÐ·ÐµÐ½ÑÐ°ÑÐ¸Ð¸ Ð¿Ð¾ ÑÑÐµÐ½Ð¸Ñ Ð¿ÑÐ¾ Ð¶Ð¸Ð²Ð¾ÑÐ½ÑÑ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2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2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чевая разминка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1628640"/>
            <a:ext cx="914400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ушка кукушонку купила капюшон.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ел кукушонок капюшон,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 капюшоне он смешон! 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ÐÐ°ÑÑÐ¸Ð½ÐºÐ¸ Ð¿Ð¾ Ð·Ð°Ð¿ÑÐ¾ÑÑ ÑÐ¾Ð½ Ð´Ð»Ñ Ð¿ÑÐµÐ·ÐµÐ½ÑÐ°ÑÐ¸Ð¸ Ð¿Ð¾ ÑÑÐµÐ½Ð¸Ñ Ð¿ÑÐ¾ Ð¶Ð¸Ð²Ð¾ÑÐ½ÑÑ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2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2040" y="765000"/>
            <a:ext cx="916308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нЕ лексАрдоанван ланБги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Заголовок 1"/>
          <p:cNvSpPr/>
          <p:nvPr/>
        </p:nvSpPr>
        <p:spPr>
          <a:xfrm>
            <a:off x="0" y="2384280"/>
            <a:ext cx="9163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ШУКУК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"/>
          <p:cNvPicPr/>
          <p:nvPr/>
        </p:nvPicPr>
        <p:blipFill>
          <a:blip r:embed="rId2"/>
          <a:stretch/>
        </p:blipFill>
        <p:spPr>
          <a:xfrm>
            <a:off x="0" y="1052640"/>
            <a:ext cx="9015480" cy="936360"/>
          </a:xfrm>
          <a:prstGeom prst="rect">
            <a:avLst/>
          </a:prstGeom>
          <a:ln w="0">
            <a:noFill/>
          </a:ln>
        </p:spPr>
      </p:pic>
      <p:sp>
        <p:nvSpPr>
          <p:cNvPr id="49" name="Заголовок 1"/>
          <p:cNvSpPr/>
          <p:nvPr/>
        </p:nvSpPr>
        <p:spPr>
          <a:xfrm>
            <a:off x="33480" y="3767040"/>
            <a:ext cx="9161280" cy="17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ТОК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2427120" y="2492280"/>
            <a:ext cx="4307040" cy="1152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4"/>
          <a:stretch/>
        </p:blipFill>
        <p:spPr>
          <a:xfrm>
            <a:off x="2468520" y="3933720"/>
            <a:ext cx="42242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ÐÐ°ÑÑÐ¸Ð½ÐºÐ¸ Ð¿Ð¾ Ð·Ð°Ð¿ÑÐ¾ÑÑ ÑÐ¾Ð½ Ð´Ð»Ñ Ð¿ÑÐµÐ·ÐµÐ½ÑÐ°ÑÐ¸Ð¸ Ð¿Ð¾ ÑÑÐµÐ½Ð¸Ñ Ð¿ÑÐ¾ Ð¶Ð¸Ð²Ð¾ÑÐ½ÑÑ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724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Заголовок 1"/>
          <p:cNvSpPr/>
          <p:nvPr/>
        </p:nvSpPr>
        <p:spPr>
          <a:xfrm>
            <a:off x="-19080" y="1484280"/>
            <a:ext cx="91630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на Александровна Благинина «Кукушка», «Котенок».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-11160" y="270036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-19080" y="4170240"/>
            <a:ext cx="9163080" cy="24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ся с творчеством Е.А. Благининой и со стихотворениями «Кукушка», «Котенок».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32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ÐÐ°ÑÑÐ¸Ð½ÐºÐ¸ Ð¿Ð¾ Ð·Ð°Ð¿ÑÐ¾ÑÑ ÑÐ¾Ð½ Ð´Ð»Ñ Ð¿ÑÐµÐ·ÐµÐ½ÑÐ°ÑÐ¸Ð¸ Ð¿Ð¾ ÑÑÐµÐ½Ð¸Ñ Ð¿ÑÐ¾ Ð¶Ð¸Ð²Ð¾ÑÐ½ÑÑ"/>
          <p:cNvPicPr/>
          <p:nvPr/>
        </p:nvPicPr>
        <p:blipFill>
          <a:blip r:embed="rId1"/>
          <a:stretch/>
        </p:blipFill>
        <p:spPr>
          <a:xfrm>
            <a:off x="0" y="0"/>
            <a:ext cx="9163080" cy="6872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ÐÐ°ÑÑÐ¸Ð½ÐºÐ¸ Ð¿Ð¾ Ð·Ð°Ð¿ÑÐ¾ÑÑ ÑÐ±Ð¾ÑÐ½Ð¸Ðº ÑÐ¾ÑÐ¾ÐºÐ° Ð±ÐµÐ»Ð¾Ð±Ð¾ÐºÐ° Ð±Ð»Ð°Ð³Ð¸Ð½Ð¸Ð½Ð°"/>
          <p:cNvPicPr/>
          <p:nvPr/>
        </p:nvPicPr>
        <p:blipFill>
          <a:blip r:embed="rId2"/>
          <a:stretch/>
        </p:blipFill>
        <p:spPr>
          <a:xfrm>
            <a:off x="0" y="1125360"/>
            <a:ext cx="3240000" cy="4186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ÐÐ°ÑÑÐ¸Ð½ÐºÐ¸ Ð¿Ð¾ Ð·Ð°Ð¿ÑÐ¾ÑÑ ÑÐ±Ð¾ÑÐ½Ð¸Ðº Ð¾Ð³Ð¾Ð½ÐµÐº ÑÐ»Ð°Ð³Ð¸Ð½Ð¸Ð½Ð°"/>
          <p:cNvPicPr/>
          <p:nvPr/>
        </p:nvPicPr>
        <p:blipFill>
          <a:blip r:embed="rId3"/>
          <a:stretch/>
        </p:blipFill>
        <p:spPr>
          <a:xfrm>
            <a:off x="6048360" y="1125360"/>
            <a:ext cx="3095640" cy="4186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ÐÐ°ÑÑÐ¸Ð½ÐºÐ¸ Ð¿Ð¾ Ð·Ð°Ð¿ÑÐ¾ÑÑ ÑÐ±Ð¾ÑÐ½Ð¸Ðº ÑÐ°Ð´ÑÐ³Ð° Ð±Ð»Ð°Ð³Ð¸Ð½Ð¸Ð½Ð°"/>
          <p:cNvPicPr/>
          <p:nvPr/>
        </p:nvPicPr>
        <p:blipFill>
          <a:blip r:embed="rId4"/>
          <a:stretch/>
        </p:blipFill>
        <p:spPr>
          <a:xfrm>
            <a:off x="3016080" y="1123920"/>
            <a:ext cx="313056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ÐÐ°ÑÑÐ¸Ð½ÐºÐ¸ Ð¿Ð¾ Ð·Ð°Ð¿ÑÐ¾ÑÑ ÑÐ¾Ð½ Ð´Ð»Ñ Ð¿ÑÐµÐ·ÐµÐ½ÑÐ°ÑÐ¸Ð¸ Ð¿Ð¾ ÑÑÐµÐ½Ð¸Ñ Ð¿ÑÐ¾ Ð¶Ð¸Ð²Ð¾ÑÐ½ÑÑ"/>
          <p:cNvPicPr/>
          <p:nvPr/>
        </p:nvPicPr>
        <p:blipFill>
          <a:blip r:embed="rId1"/>
          <a:stretch/>
        </p:blipFill>
        <p:spPr>
          <a:xfrm>
            <a:off x="0" y="0"/>
            <a:ext cx="9163080" cy="6872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ÐÐ°ÑÑÐ¸Ð½ÐºÐ¸ Ð¿Ð¾ Ð·Ð°Ð¿ÑÐ¾ÑÑ Ð´Ð¾Ð¼Ð°ÑÐ½ÐµÐµ Ð·Ð°Ð´Ð°Ð½Ð¸Ðµ"/>
          <p:cNvPicPr/>
          <p:nvPr/>
        </p:nvPicPr>
        <p:blipFill>
          <a:blip r:embed="rId2"/>
          <a:stretch/>
        </p:blipFill>
        <p:spPr>
          <a:xfrm>
            <a:off x="657360" y="404640"/>
            <a:ext cx="7848360" cy="1838520"/>
          </a:xfrm>
          <a:prstGeom prst="rect">
            <a:avLst/>
          </a:prstGeom>
          <a:ln w="0">
            <a:noFill/>
          </a:ln>
        </p:spPr>
      </p:pic>
      <p:sp>
        <p:nvSpPr>
          <p:cNvPr id="64" name="Заголовок 1"/>
          <p:cNvSpPr/>
          <p:nvPr/>
        </p:nvSpPr>
        <p:spPr>
          <a:xfrm>
            <a:off x="250920" y="332748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120-121подготовить выразительное чтение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ÐÐ°ÑÑÐ¸Ð½ÐºÐ¸ Ð¿Ð¾ Ð·Ð°Ð¿ÑÐ¾ÑÑ ÑÐ¾Ð½ Ð´Ð»Ñ Ð¿ÑÐµÐ·ÐµÐ½ÑÐ°ÑÐ¸Ð¸ Ð¿Ð¾ ÑÑÐµÐ½Ð¸Ñ Ð¿ÑÐ¾ Ð¶Ð¸Ð²Ð¾ÑÐ½ÑÑ"/>
          <p:cNvPicPr/>
          <p:nvPr/>
        </p:nvPicPr>
        <p:blipFill>
          <a:blip r:embed="rId1"/>
          <a:stretch/>
        </p:blipFill>
        <p:spPr>
          <a:xfrm>
            <a:off x="0" y="0"/>
            <a:ext cx="9163080" cy="6872400"/>
          </a:xfrm>
          <a:prstGeom prst="rect">
            <a:avLst/>
          </a:prstGeom>
          <a:ln w="0">
            <a:noFill/>
          </a:ln>
        </p:spPr>
      </p:pic>
      <p:sp>
        <p:nvSpPr>
          <p:cNvPr id="66" name="Заголовок 1"/>
          <p:cNvSpPr/>
          <p:nvPr/>
        </p:nvSpPr>
        <p:spPr>
          <a:xfrm>
            <a:off x="20520" y="836640"/>
            <a:ext cx="9144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на уроке мне понравилось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знал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вызывал у меня чувства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делал вывод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ÐÐ°ÑÑÐ¸Ð½ÐºÐ¸ Ð¿Ð¾ Ð·Ð°Ð¿ÑÐ¾ÑÑ ÐºÐ¾ÑÐµÐ½Ð¾Ðº ÐºÐ°ÑÑÐ¸Ð½ÐºÐ° Ð´Ð»Ñ Ð´ÐµÑÐµÐ¹"/>
          <p:cNvPicPr/>
          <p:nvPr/>
        </p:nvPicPr>
        <p:blipFill>
          <a:blip r:embed="rId2"/>
          <a:stretch/>
        </p:blipFill>
        <p:spPr>
          <a:xfrm>
            <a:off x="6443640" y="3222720"/>
            <a:ext cx="244944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6T15:59:14Z</dcterms:created>
  <dc:creator>Анна Евшина</dc:creator>
  <dc:description/>
  <dc:language>en-US</dc:language>
  <cp:lastModifiedBy>Анна Евшина</cp:lastModifiedBy>
  <dcterms:modified xsi:type="dcterms:W3CDTF">2019-04-07T12:15:19Z</dcterms:modified>
  <cp:revision>3</cp:revision>
  <dc:subject/>
  <dc:title>Презентация PowerPoint</dc:title>
</cp:coreProperties>
</file>