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643-71BE-4918-BFC5-CC7285D2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148-0EAE-4F2D-8B4C-33014BF5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5ED-9232-49B4-A0FC-8EC588EE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18-21DA-490E-8D11-512D9A86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9B3-3DA7-46EB-9074-F381AC72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54A-34DD-460A-89EA-5C38F1D9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BE0-58EC-431B-8BD4-FD952CD7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F74-2EB9-4320-875C-55B9B08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CBD-4134-4E4D-B2A1-60216994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FB5-38F1-46FF-BB94-6FEBF15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69C-A1E3-4BB0-A9CE-E1CA53A9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3B1-5FB1-49DE-8D98-EB0B8537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6597-6B2D-4360-94B6-CBADD74CC4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Ð°ÑÑÐ¸Ð½ÐºÐ¸ Ð¿Ð¾ Ð·Ð°Ð¿ÑÐ¾ÑÑ ÑÑÐ¾Ðº Ð»Ð¸ÑÐµÑÐ°ÑÑÑÐ½Ð¾Ð³Ð¾ ÑÑÐµÐ½Ð¸Ñ 3 ÐºÐ»Ð°ÑÑ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ая размин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 кукушонку купила капюшон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л кукушонок капюшон,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капюшоне он смешон!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2040" y="765000"/>
            <a:ext cx="9163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Е лексАрдоанван ланБги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0" y="2384280"/>
            <a:ext cx="9163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ШУКУ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0" y="1052640"/>
            <a:ext cx="9015480" cy="93636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33480" y="3767040"/>
            <a:ext cx="91612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ТО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27120" y="2492280"/>
            <a:ext cx="430704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4"/>
          <a:stretch/>
        </p:blipFill>
        <p:spPr>
          <a:xfrm>
            <a:off x="2468520" y="3933720"/>
            <a:ext cx="42242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-19080" y="1484280"/>
            <a:ext cx="916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Александровна Благинина «Кукушка», «Котенок»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-11160" y="270036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-19080" y="4170240"/>
            <a:ext cx="916308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творчеством Е.А. Благининой и со стихотворениями «Кукушка», «Котенок»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ÐÐ°ÑÑÐ¸Ð½ÐºÐ¸ Ð¿Ð¾ Ð·Ð°Ð¿ÑÐ¾ÑÑ ÑÐ±Ð¾ÑÐ½Ð¸Ðº ÑÐ¾ÑÐ¾ÐºÐ° Ð±ÐµÐ»Ð¾Ð±Ð¾ÐºÐ° Ð±Ð»Ð°Ð³Ð¸Ð½Ð¸Ð½Ð°"/>
          <p:cNvPicPr/>
          <p:nvPr/>
        </p:nvPicPr>
        <p:blipFill>
          <a:blip r:embed="rId2"/>
          <a:stretch/>
        </p:blipFill>
        <p:spPr>
          <a:xfrm>
            <a:off x="0" y="1125360"/>
            <a:ext cx="3240000" cy="418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ÐÐ°ÑÑÐ¸Ð½ÐºÐ¸ Ð¿Ð¾ Ð·Ð°Ð¿ÑÐ¾ÑÑ ÑÐ±Ð¾ÑÐ½Ð¸Ðº Ð¾Ð³Ð¾Ð½ÐµÐº ÑÐ»Ð°Ð³Ð¸Ð½Ð¸Ð½Ð°"/>
          <p:cNvPicPr/>
          <p:nvPr/>
        </p:nvPicPr>
        <p:blipFill>
          <a:blip r:embed="rId3"/>
          <a:stretch/>
        </p:blipFill>
        <p:spPr>
          <a:xfrm>
            <a:off x="6048360" y="1125360"/>
            <a:ext cx="3095640" cy="418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ÐÐ°ÑÑÐ¸Ð½ÐºÐ¸ Ð¿Ð¾ Ð·Ð°Ð¿ÑÐ¾ÑÑ ÑÐ±Ð¾ÑÐ½Ð¸Ðº ÑÐ°Ð´ÑÐ³Ð° Ð±Ð»Ð°Ð³Ð¸Ð½Ð¸Ð½Ð°"/>
          <p:cNvPicPr/>
          <p:nvPr/>
        </p:nvPicPr>
        <p:blipFill>
          <a:blip r:embed="rId4"/>
          <a:stretch/>
        </p:blipFill>
        <p:spPr>
          <a:xfrm>
            <a:off x="3016080" y="1123920"/>
            <a:ext cx="31305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ÐÐ°ÑÑÐ¸Ð½ÐºÐ¸ Ð¿Ð¾ Ð·Ð°Ð¿ÑÐ¾ÑÑ Ð´Ð¾Ð¼Ð°ÑÐ½ÐµÐµ Ð·Ð°Ð´Ð°Ð½Ð¸Ðµ"/>
          <p:cNvPicPr/>
          <p:nvPr/>
        </p:nvPicPr>
        <p:blipFill>
          <a:blip r:embed="rId2"/>
          <a:stretch/>
        </p:blipFill>
        <p:spPr>
          <a:xfrm>
            <a:off x="657360" y="404640"/>
            <a:ext cx="7848360" cy="183852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250920" y="332748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20-121подготовить выразительное чтение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205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не понравилос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вызывал у меня чувства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делал вывод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ÐÐ°ÑÑÐ¸Ð½ÐºÐ¸ Ð¿Ð¾ Ð·Ð°Ð¿ÑÐ¾ÑÑ ÐºÐ¾ÑÐµÐ½Ð¾Ðº ÐºÐ°ÑÑÐ¸Ð½ÐºÐ° Ð´Ð»Ñ Ð´ÐµÑÐµÐ¹"/>
          <p:cNvPicPr/>
          <p:nvPr/>
        </p:nvPicPr>
        <p:blipFill>
          <a:blip r:embed="rId2"/>
          <a:stretch/>
        </p:blipFill>
        <p:spPr>
          <a:xfrm>
            <a:off x="6443640" y="3222720"/>
            <a:ext cx="2449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Анна Евшина</cp:lastModifiedBy>
  <dcterms:modified xsi:type="dcterms:W3CDTF">2019-04-07T12:15:19Z</dcterms:modified>
  <cp:revision>3</cp:revision>
  <dc:subject/>
  <dc:title>Презентация PowerPoint</dc:title>
</cp:coreProperties>
</file>