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1E05-C81E-4035-981A-1FB85C12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509B-152C-46F7-8301-8A408C5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E809-416F-41C1-A03F-5A768243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8BFD-CA7B-428D-B797-80633B0C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05A3-E373-442C-A27A-5DFCB21F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DA8C-46CB-4DA8-AFB8-31FEB94C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BD79-F0AD-407A-865E-DA51075F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0D53-AAF9-4723-869C-8BE580C1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A322-713E-44A7-A168-A2DF9027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B60-6378-49B7-962C-257ADBDA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E1E2-2624-487F-8648-4BD0281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3605-A1BA-4E48-824D-D9D2335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C415-E34C-493B-A7FD-A9993D9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7C1-DCBF-4632-8EB3-B9775B0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0807-6374-4C4B-99D1-5D9AFBFD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248-8377-4A44-90D9-5F1E37BD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640-02A9-46F2-A8EA-BDD79DDB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907E-0EBE-4AE4-9A2A-CCDCB26C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0C19-8EAD-4325-8765-3D64D16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5312-5EA7-4F18-AB5F-3F8582EA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E6EC-DA1C-4C60-855B-02BC936F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503E-1562-46D5-9FC5-7B6A90D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C588-F8BC-4047-A9E2-B5018A5C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3BED-B282-47E2-A9FA-277439D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EBA9-A0E3-4C49-926C-6BF86AA01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23C8-330E-4699-A208-B522E9FE2E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ехника безопасности на занятиях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о лыжной подготовк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3" descr="39601047"/>
          <p:cNvPicPr/>
          <p:nvPr/>
        </p:nvPicPr>
        <p:blipFill>
          <a:blip r:embed="rId1"/>
          <a:stretch/>
        </p:blipFill>
        <p:spPr>
          <a:xfrm>
            <a:off x="3995640" y="3693960"/>
            <a:ext cx="51483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9. При занятиях следует обязательно надеть теплое белье из натуральных (не синтетических) тканей, а на руки - вареж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DSC01555"/>
          <p:cNvPicPr/>
          <p:nvPr/>
        </p:nvPicPr>
        <p:blipFill>
          <a:blip r:embed="rId1"/>
          <a:stretch/>
        </p:blipFill>
        <p:spPr>
          <a:xfrm>
            <a:off x="4067280" y="3002040"/>
            <a:ext cx="5076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0. Запрещается заниматься без головного убора. Следует надеть спортивную шапочку, прикрывающую уш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7" descr="ski_cap_FH55_l"/>
          <p:cNvPicPr/>
          <p:nvPr/>
        </p:nvPicPr>
        <p:blipFill>
          <a:blip r:embed="rId1"/>
          <a:stretch/>
        </p:blipFill>
        <p:spPr>
          <a:xfrm>
            <a:off x="5462640" y="2332080"/>
            <a:ext cx="368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1. Надо проверить исправность лыжного инвентаря, развязать лыжи до выхода на улицу. Выйдя на улицу, следует не спешить вставать на лыжи, а дать им остыть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наче на них образуется корка льда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которая будет препятствовать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кольжен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5" descr="04f9bc9f8b50af2e87d2747abbd81334_600"/>
          <p:cNvPicPr/>
          <p:nvPr/>
        </p:nvPicPr>
        <p:blipFill>
          <a:blip r:embed="rId1"/>
          <a:stretch/>
        </p:blipFill>
        <p:spPr>
          <a:xfrm>
            <a:off x="6276960" y="2581200"/>
            <a:ext cx="2867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2. В случае опоздания на занятие лыжной подготовкой надо предупредить учителя о своем приходе, чтобы он знал точное количество занимающихся. Не уходить с занятий без разрешения учите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8" descr="grisha_lyzhi"/>
          <p:cNvPicPr/>
          <p:nvPr/>
        </p:nvPicPr>
        <p:blipFill>
          <a:blip r:embed="rId1"/>
          <a:stretch/>
        </p:blipFill>
        <p:spPr>
          <a:xfrm>
            <a:off x="4064040" y="3530520"/>
            <a:ext cx="50799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 Владение правильной техникой выполнения упражнений - лучшая профилактика травматизма. Поэтому следует внимательно слушать объяснения учителя, стараться правильно и точно выполнять упражнен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8" descr="416612-2665384-317-238"/>
          <p:cNvPicPr/>
          <p:nvPr/>
        </p:nvPicPr>
        <p:blipFill>
          <a:blip r:embed="rId1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4. Обязательно выполнять правила поведения на лыжне. При передвижении на лыжах по дистанции соблюдать интервал 3-4 м. При спусках не выставлять вперед лыжные палки. Если возникла необходимость в быстрой остановке, приседая, падать на бок (обязательно держа при этом палки сзад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8" descr="ski_1"/>
          <p:cNvPicPr/>
          <p:nvPr/>
        </p:nvPicPr>
        <p:blipFill>
          <a:blip r:embed="rId1"/>
          <a:stretch/>
        </p:blipFill>
        <p:spPr>
          <a:xfrm>
            <a:off x="5796000" y="4165560"/>
            <a:ext cx="3348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5. После спуска не останавливаться у подножия склона, помня, что за тобой следуют другие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8" descr="26734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6. Не пересекать лыжню, по которой передвигаются спускающиеся со склона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5" descr="615696173_1829569010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7. Не наступать на пятки лыж при обго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picture"/>
          <p:cNvPicPr/>
          <p:nvPr/>
        </p:nvPicPr>
        <p:blipFill>
          <a:blip r:embed="rId1"/>
          <a:stretch/>
        </p:blipFill>
        <p:spPr>
          <a:xfrm>
            <a:off x="2843280" y="2130480"/>
            <a:ext cx="63007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8. Категорически  запрещается  использовать  лыжные палки для осаливания во время подвижных игр и эстафет: это можно делать только рук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Безымянный"/>
          <p:cNvPicPr/>
          <p:nvPr/>
        </p:nvPicPr>
        <p:blipFill>
          <a:blip r:embed="rId1"/>
          <a:stretch/>
        </p:blipFill>
        <p:spPr>
          <a:xfrm>
            <a:off x="3708360" y="3044880"/>
            <a:ext cx="54356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. Лыжи должны быть подобраны по росту занимающегося и находиться в исправном состоянии(неисправностями считаются: трещины, сколы, поломки носка или пятки лыж, деформация скользящей поверхност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22" descr="42597471_1"/>
          <p:cNvPicPr/>
          <p:nvPr/>
        </p:nvPicPr>
        <p:blipFill>
          <a:blip r:embed="rId1"/>
          <a:stretch/>
        </p:blipFill>
        <p:spPr>
          <a:xfrm>
            <a:off x="684360" y="3664080"/>
            <a:ext cx="84596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9. При обгоне не толкаться, не задевать соперника палкам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8" descr="17152_20060224141935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0. Спускаться с определенной учителем высоты и в указанном направлени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5" descr="1"/>
          <p:cNvPicPr/>
          <p:nvPr/>
        </p:nvPicPr>
        <p:blipFill>
          <a:blip r:embed="rId1"/>
          <a:stretch/>
        </p:blipFill>
        <p:spPr>
          <a:xfrm>
            <a:off x="6286680" y="2533680"/>
            <a:ext cx="2857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1. При побелении или потере чувствительности кожи ушей, носа, щек следует немедленно сделать растирание. Сначала растереть (до порозовения) кожу по соседству, а затем на самом отмороженном участке. Делать это нужно сухой рукой, а не снегом, так как в последнем случае можно повредить кожу и занести инфекц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90197fab5bdb8266bce268ac808d239d1"/>
          <p:cNvPicPr/>
          <p:nvPr/>
        </p:nvPicPr>
        <p:blipFill>
          <a:blip r:embed="rId1"/>
          <a:stretch/>
        </p:blipFill>
        <p:spPr>
          <a:xfrm>
            <a:off x="5972040" y="4476600"/>
            <a:ext cx="3171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2. Нельзя раздеваться во время передвижения на лыжах по дистанции(это приведет к простуде). Лучше снять лишнюю одежду до начала занят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5" descr="men_1"/>
          <p:cNvPicPr/>
          <p:nvPr/>
        </p:nvPicPr>
        <p:blipFill>
          <a:blip r:embed="rId1"/>
          <a:stretch/>
        </p:blipFill>
        <p:spPr>
          <a:xfrm>
            <a:off x="6013440" y="2332080"/>
            <a:ext cx="313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3. Перед входом в помещение счистить снег с лыж, а зайдя в помещение, связать их вмест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5" descr="DSC02737_enl"/>
          <p:cNvPicPr/>
          <p:nvPr/>
        </p:nvPicPr>
        <p:blipFill>
          <a:blip r:embed="rId1"/>
          <a:stretch/>
        </p:blipFill>
        <p:spPr>
          <a:xfrm>
            <a:off x="5803920" y="233208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4. В случае неожиданного плохого самочувствия или каких-либо других непредвиденных ситуаций немедленно поставить в известность учител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5" descr="t88"/>
          <p:cNvPicPr/>
          <p:nvPr/>
        </p:nvPicPr>
        <p:blipFill>
          <a:blip r:embed="rId1"/>
          <a:stretch/>
        </p:blipFill>
        <p:spPr>
          <a:xfrm>
            <a:off x="4952880" y="3048120"/>
            <a:ext cx="4191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5. Сразу после занятий по лыжной подготовке не пить холодную воду, чтобы не заболело горло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5" descr="19538304"/>
          <p:cNvPicPr/>
          <p:nvPr/>
        </p:nvPicPr>
        <p:blipFill>
          <a:blip r:embed="rId1"/>
          <a:stretch/>
        </p:blipFill>
        <p:spPr>
          <a:xfrm>
            <a:off x="4745160" y="2971800"/>
            <a:ext cx="439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snow-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 Крепления должны быть отрегулированы так чтобы можно было без посторонней помощи прикреплять к лыжам ботинки или валенк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7" descr="okta-5639"/>
          <p:cNvPicPr/>
          <p:nvPr/>
        </p:nvPicPr>
        <p:blipFill>
          <a:blip r:embed="rId1"/>
          <a:stretch/>
        </p:blipFill>
        <p:spPr>
          <a:xfrm>
            <a:off x="3851280" y="2819520"/>
            <a:ext cx="529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. Палки, подобранные по росту, должны иметь наконечник и регулируемой длины ремень для кисти ру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5" descr="593_800"/>
          <p:cNvPicPr/>
          <p:nvPr/>
        </p:nvPicPr>
        <p:blipFill>
          <a:blip r:embed="rId1"/>
          <a:stretch/>
        </p:blipFill>
        <p:spPr>
          <a:xfrm>
            <a:off x="2124000" y="2179800"/>
            <a:ext cx="70200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. Лыжные ботинки должны быть подобраны по размеру: тесная или очень свободная обувь может привести к потертостям или травме голеностопного сустава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Fischer-Combi-5000"/>
          <p:cNvPicPr/>
          <p:nvPr/>
        </p:nvPicPr>
        <p:blipFill>
          <a:blip r:embed="rId1"/>
          <a:stretch/>
        </p:blipFill>
        <p:spPr>
          <a:xfrm>
            <a:off x="5091120" y="2332080"/>
            <a:ext cx="405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. Не зашнуровывать ботинки слишком туго и не обвязывать шнурки вокруг голени  - из-за этого ухудшается кровообращение и ноги быстрее мерзнут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MOTOP-SHOWBALL"/>
          <p:cNvPicPr/>
          <p:nvPr/>
        </p:nvPicPr>
        <p:blipFill>
          <a:blip r:embed="rId1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. После занятий надо обязательно просушить ботинки: ходьба в сырой обуви приводит к потертостям. Ни в коем случае нельзя сушить ботинки на батарее отопления или печке: от этого они становятся жесткими и коробятс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prodam_lyzhnye_botinki_16384125_1_F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7. Надевать обувь лучше на два носка (хлопчатобумажный и шерстяной). Носки должны быть сухим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5" descr="_________________491c2fc6076e2"/>
          <p:cNvPicPr/>
          <p:nvPr/>
        </p:nvPicPr>
        <p:blipFill>
          <a:blip r:embed="rId1"/>
          <a:stretch/>
        </p:blipFill>
        <p:spPr>
          <a:xfrm>
            <a:off x="5857920" y="233208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8. Одежда на занятиях лыжной подготовкой должна защищать от холода и ветра, быть легкой, удобной, не сковывающей движений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4565468"/>
          <p:cNvPicPr/>
          <p:nvPr/>
        </p:nvPicPr>
        <p:blipFill>
          <a:blip r:embed="rId1"/>
          <a:stretch/>
        </p:blipFill>
        <p:spPr>
          <a:xfrm>
            <a:off x="2627280" y="2509920"/>
            <a:ext cx="65167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1:23:23Z</dcterms:created>
  <dc:creator>user</dc:creator>
  <dc:description/>
  <dc:language>en-US</dc:language>
  <cp:lastModifiedBy>Андрей</cp:lastModifiedBy>
  <dcterms:modified xsi:type="dcterms:W3CDTF">2018-03-29T17:46:14Z</dcterms:modified>
  <cp:revision>14</cp:revision>
  <dc:subject/>
  <dc:title>Правила безопасности на занятиях лыжной подготовк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