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C757-9B1C-450C-9086-62520A33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662C-4F9F-4CDB-90BF-0CE8E950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076C-92F9-4093-BAA9-45588CB0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0204-76CB-42EC-95C2-24FDD1F6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00D7-E7BD-49C7-82E7-9201F35C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8E44-4FDB-47ED-BD74-BB3FB1D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5090-9800-4085-8AEF-C0BCF67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4494-1C9D-40BD-B286-11C6517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D2B3-9A12-4171-B7F5-7419B7DE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52DC-6A09-4EB6-9402-5521EDCE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705A-90E6-4901-84A6-8BCA1270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02DE-CD4C-43D8-AC94-B21AAE4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8373-7111-46A4-B7A0-156B36B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47B7-731C-4E6A-8D3F-E8F4566B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13F1-DEB6-414E-BBF5-570AB0A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608-A5E2-4E2B-B4CA-6E8E4C71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425-A37A-4E0D-8834-1B1F7D59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2031-9ED7-49C1-A14D-5C5C119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748E-CE63-4236-92C8-F1776FA8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F2A6-5099-4114-9DC4-2DC3C513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8E98-9666-4366-8358-386CD9DA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9355-BAEB-4EC2-9081-E1593B8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8780-5A56-4163-9A50-4058B08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29E9-DD51-487D-9B04-4E3F003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2FAD-DBF0-4F31-9DAA-A7DA36AF1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D4A2-1A02-418A-8714-C9EC1EC74D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ехника безопасности на занятиях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о лыжной подготовк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3" descr="39601047"/>
          <p:cNvPicPr/>
          <p:nvPr/>
        </p:nvPicPr>
        <p:blipFill>
          <a:blip r:embed="rId1"/>
          <a:stretch/>
        </p:blipFill>
        <p:spPr>
          <a:xfrm>
            <a:off x="3995640" y="3693960"/>
            <a:ext cx="51483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9. При занятиях следует обязательно надеть теплое белье из натуральных (не синтетических) тканей, а на руки - вареж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DSC01555"/>
          <p:cNvPicPr/>
          <p:nvPr/>
        </p:nvPicPr>
        <p:blipFill>
          <a:blip r:embed="rId1"/>
          <a:stretch/>
        </p:blipFill>
        <p:spPr>
          <a:xfrm>
            <a:off x="4067280" y="3002040"/>
            <a:ext cx="5076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0. Запрещается заниматься без головного убора. Следует надеть спортивную шапочку, прикрывающую уш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7" descr="ski_cap_FH55_l"/>
          <p:cNvPicPr/>
          <p:nvPr/>
        </p:nvPicPr>
        <p:blipFill>
          <a:blip r:embed="rId1"/>
          <a:stretch/>
        </p:blipFill>
        <p:spPr>
          <a:xfrm>
            <a:off x="5462640" y="2332080"/>
            <a:ext cx="368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1. Надо проверить исправность лыжного инвентаря, развязать лыжи до выхода на улицу. Выйдя на улицу, следует не спешить вставать на лыжи, а дать им остыть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наче на них образуется корка льда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которая будет препятствовать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кольжен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5" descr="04f9bc9f8b50af2e87d2747abbd81334_600"/>
          <p:cNvPicPr/>
          <p:nvPr/>
        </p:nvPicPr>
        <p:blipFill>
          <a:blip r:embed="rId1"/>
          <a:stretch/>
        </p:blipFill>
        <p:spPr>
          <a:xfrm>
            <a:off x="6276960" y="2581200"/>
            <a:ext cx="2867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2. В случае опоздания на занятие лыжной подготовкой надо предупредить учителя о своем приходе, чтобы он знал точное количество занимающихся. Не уходить с занятий без разрешения учите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8" descr="grisha_lyzhi"/>
          <p:cNvPicPr/>
          <p:nvPr/>
        </p:nvPicPr>
        <p:blipFill>
          <a:blip r:embed="rId1"/>
          <a:stretch/>
        </p:blipFill>
        <p:spPr>
          <a:xfrm>
            <a:off x="4064040" y="3530520"/>
            <a:ext cx="50799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 Владение правильной техникой выполнения упражнений - лучшая профилактика травматизма. Поэтому следует внимательно слушать объяснения учителя, стараться правильно и точно выполнять упражнен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8" descr="416612-2665384-317-238"/>
          <p:cNvPicPr/>
          <p:nvPr/>
        </p:nvPicPr>
        <p:blipFill>
          <a:blip r:embed="rId1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4. Обязательно выполнять правила поведения на лыжне. При передвижении на лыжах по дистанции соблюдать интервал 3-4 м. При спусках не выставлять вперед лыжные палки. Если возникла необходимость в быстрой остановке, приседая, падать на бок (обязательно держа при этом палки сзад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8" descr="ski_1"/>
          <p:cNvPicPr/>
          <p:nvPr/>
        </p:nvPicPr>
        <p:blipFill>
          <a:blip r:embed="rId1"/>
          <a:stretch/>
        </p:blipFill>
        <p:spPr>
          <a:xfrm>
            <a:off x="5796000" y="4165560"/>
            <a:ext cx="3348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5. После спуска не останавливаться у подножия склона, помня, что за тобой следуют другие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8" descr="26734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6. Не пересекать лыжню, по которой передвигаются спускающиеся со склона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5" descr="615696173_1829569010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7. Не наступать на пятки лыж при обго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5" descr="picture"/>
          <p:cNvPicPr/>
          <p:nvPr/>
        </p:nvPicPr>
        <p:blipFill>
          <a:blip r:embed="rId1"/>
          <a:stretch/>
        </p:blipFill>
        <p:spPr>
          <a:xfrm>
            <a:off x="2843280" y="2130480"/>
            <a:ext cx="63007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8. Категорически  запрещается  использовать  лыжные палки для осаливания во время подвижных игр и эстафет: это можно делать только рук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5" descr="Безымянный"/>
          <p:cNvPicPr/>
          <p:nvPr/>
        </p:nvPicPr>
        <p:blipFill>
          <a:blip r:embed="rId1"/>
          <a:stretch/>
        </p:blipFill>
        <p:spPr>
          <a:xfrm>
            <a:off x="3708360" y="3044880"/>
            <a:ext cx="54356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. Лыжи должны быть подобраны по росту занимающегося и находиться в исправном состоянии(неисправностями считаются: трещины, сколы, поломки носка или пятки лыж, деформация скользящей поверхност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22" descr="42597471_1"/>
          <p:cNvPicPr/>
          <p:nvPr/>
        </p:nvPicPr>
        <p:blipFill>
          <a:blip r:embed="rId1"/>
          <a:stretch/>
        </p:blipFill>
        <p:spPr>
          <a:xfrm>
            <a:off x="684360" y="3664080"/>
            <a:ext cx="84596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9. При обгоне не толкаться, не задевать соперника палкам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8" descr="17152_20060224141935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0. Спускаться с определенной учителем высоты и в указанном направлени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5" descr="1"/>
          <p:cNvPicPr/>
          <p:nvPr/>
        </p:nvPicPr>
        <p:blipFill>
          <a:blip r:embed="rId1"/>
          <a:stretch/>
        </p:blipFill>
        <p:spPr>
          <a:xfrm>
            <a:off x="6286680" y="2533680"/>
            <a:ext cx="2857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1. При побелении или потере чувствительности кожи ушей, носа, щек следует немедленно сделать растирание. Сначала растереть (до порозовения) кожу по соседству, а затем на самом отмороженном участке. Делать это нужно сухой рукой, а не снегом, так как в последнем случае можно повредить кожу и занести инфекц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90197fab5bdb8266bce268ac808d239d1"/>
          <p:cNvPicPr/>
          <p:nvPr/>
        </p:nvPicPr>
        <p:blipFill>
          <a:blip r:embed="rId1"/>
          <a:stretch/>
        </p:blipFill>
        <p:spPr>
          <a:xfrm>
            <a:off x="5972040" y="4476600"/>
            <a:ext cx="3171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2. Нельзя раздеваться во время передвижения на лыжах по дистанции(это приведет к простуде). Лучше снять лишнюю одежду до начала занят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5" descr="men_1"/>
          <p:cNvPicPr/>
          <p:nvPr/>
        </p:nvPicPr>
        <p:blipFill>
          <a:blip r:embed="rId1"/>
          <a:stretch/>
        </p:blipFill>
        <p:spPr>
          <a:xfrm>
            <a:off x="6013440" y="2332080"/>
            <a:ext cx="313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3. Перед входом в помещение счистить снег с лыж, а зайдя в помещение, связать их вмест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5" descr="DSC02737_enl"/>
          <p:cNvPicPr/>
          <p:nvPr/>
        </p:nvPicPr>
        <p:blipFill>
          <a:blip r:embed="rId1"/>
          <a:stretch/>
        </p:blipFill>
        <p:spPr>
          <a:xfrm>
            <a:off x="5803920" y="233208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4. В случае неожиданного плохого самочувствия или каких-либо других непредвиденных ситуаций немедленно поставить в известность учител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5" descr="t88"/>
          <p:cNvPicPr/>
          <p:nvPr/>
        </p:nvPicPr>
        <p:blipFill>
          <a:blip r:embed="rId1"/>
          <a:stretch/>
        </p:blipFill>
        <p:spPr>
          <a:xfrm>
            <a:off x="4952880" y="3048120"/>
            <a:ext cx="4191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5. Сразу после занятий по лыжной подготовке не пить холодную воду, чтобы не заболело горло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5" descr="19538304"/>
          <p:cNvPicPr/>
          <p:nvPr/>
        </p:nvPicPr>
        <p:blipFill>
          <a:blip r:embed="rId1"/>
          <a:stretch/>
        </p:blipFill>
        <p:spPr>
          <a:xfrm>
            <a:off x="4745160" y="2971800"/>
            <a:ext cx="439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snow-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 Крепления должны быть отрегулированы так чтобы можно было без посторонней помощи прикреплять к лыжам ботинки или валенк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7" descr="okta-5639"/>
          <p:cNvPicPr/>
          <p:nvPr/>
        </p:nvPicPr>
        <p:blipFill>
          <a:blip r:embed="rId1"/>
          <a:stretch/>
        </p:blipFill>
        <p:spPr>
          <a:xfrm>
            <a:off x="3851280" y="2819520"/>
            <a:ext cx="529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. Палки, подобранные по росту, должны иметь наконечник и регулируемой длины ремень для кисти ру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5" descr="593_800"/>
          <p:cNvPicPr/>
          <p:nvPr/>
        </p:nvPicPr>
        <p:blipFill>
          <a:blip r:embed="rId1"/>
          <a:stretch/>
        </p:blipFill>
        <p:spPr>
          <a:xfrm>
            <a:off x="2124000" y="2179800"/>
            <a:ext cx="70200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. Лыжные ботинки должны быть подобраны по размеру: тесная или очень свободная обувь может привести к потертостям или травме голеностопного сустава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Fischer-Combi-5000"/>
          <p:cNvPicPr/>
          <p:nvPr/>
        </p:nvPicPr>
        <p:blipFill>
          <a:blip r:embed="rId1"/>
          <a:stretch/>
        </p:blipFill>
        <p:spPr>
          <a:xfrm>
            <a:off x="5091120" y="2332080"/>
            <a:ext cx="405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. Не зашнуровывать ботинки слишком туго и не обвязывать шнурки вокруг голени  - из-за этого ухудшается кровообращение и ноги быстрее мерзнут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MOTOP-SHOWBALL"/>
          <p:cNvPicPr/>
          <p:nvPr/>
        </p:nvPicPr>
        <p:blipFill>
          <a:blip r:embed="rId1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. После занятий надо обязательно просушить ботинки: ходьба в сырой обуви приводит к потертостям. Ни в коем случае нельзя сушить ботинки на батарее отопления или печке: от этого они становятся жесткими и коробятс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5" descr="prodam_lyzhnye_botinki_16384125_1_F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7. Надевать обувь лучше на два носка (хлопчатобумажный и шерстяной). Носки должны быть сухим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5" descr="_________________491c2fc6076e2"/>
          <p:cNvPicPr/>
          <p:nvPr/>
        </p:nvPicPr>
        <p:blipFill>
          <a:blip r:embed="rId1"/>
          <a:stretch/>
        </p:blipFill>
        <p:spPr>
          <a:xfrm>
            <a:off x="5857920" y="233208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8. Одежда на занятиях лыжной подготовкой должна защищать от холода и ветра, быть легкой, удобной, не сковывающей движений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5" descr="4565468"/>
          <p:cNvPicPr/>
          <p:nvPr/>
        </p:nvPicPr>
        <p:blipFill>
          <a:blip r:embed="rId1"/>
          <a:stretch/>
        </p:blipFill>
        <p:spPr>
          <a:xfrm>
            <a:off x="2627280" y="2509920"/>
            <a:ext cx="65167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1:23:23Z</dcterms:created>
  <dc:creator>user</dc:creator>
  <dc:description/>
  <dc:language>en-US</dc:language>
  <cp:lastModifiedBy>Андрей</cp:lastModifiedBy>
  <dcterms:modified xsi:type="dcterms:W3CDTF">2018-03-29T17:46:14Z</dcterms:modified>
  <cp:revision>14</cp:revision>
  <dc:subject/>
  <dc:title>Правила безопасности на занятиях лыжной подготовк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